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digipot.net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056520" y="115920"/>
            <a:ext cx="709920" cy="382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5320" y="6643800"/>
            <a:ext cx="287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©2013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igipot.net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All rights reserve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7862760" y="233280"/>
            <a:ext cx="1711440" cy="1528920"/>
            <a:chOff x="7862760" y="233280"/>
            <a:chExt cx="1711440" cy="1528920"/>
          </a:xfrm>
        </p:grpSpPr>
        <p:grpSp>
          <p:nvGrpSpPr>
            <p:cNvPr id="39" name=""/>
            <p:cNvGrpSpPr/>
            <p:nvPr/>
          </p:nvGrpSpPr>
          <p:grpSpPr>
            <a:xfrm>
              <a:off x="7883640" y="252360"/>
              <a:ext cx="1670040" cy="1490760"/>
              <a:chOff x="7883640" y="252360"/>
              <a:chExt cx="1670040" cy="1490760"/>
            </a:xfrm>
          </p:grpSpPr>
          <p:sp>
            <p:nvSpPr>
              <p:cNvPr id="40" name=""/>
              <p:cNvSpPr/>
              <p:nvPr/>
            </p:nvSpPr>
            <p:spPr>
              <a:xfrm>
                <a:off x="7883640" y="25236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8602560" y="638280"/>
                <a:ext cx="231840" cy="1035000"/>
                <a:chOff x="8602560" y="638280"/>
                <a:chExt cx="231840" cy="103500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8651880" y="1538280"/>
                  <a:ext cx="135000" cy="135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33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602560" y="638280"/>
                  <a:ext cx="231840" cy="855720"/>
                </a:xfrm>
                <a:custGeom>
                  <a:avLst/>
                  <a:gdLst/>
                  <a:ahLst/>
                  <a:rect l="l" t="t" r="r" b="b"/>
                  <a:pathLst>
                    <a:path w="146" h="567">
                      <a:moveTo>
                        <a:pt x="58" y="0"/>
                      </a:moveTo>
                      <a:lnTo>
                        <a:pt x="86" y="0"/>
                      </a:lnTo>
                      <a:lnTo>
                        <a:pt x="120" y="8"/>
                      </a:lnTo>
                      <a:lnTo>
                        <a:pt x="137" y="26"/>
                      </a:lnTo>
                      <a:lnTo>
                        <a:pt x="146" y="58"/>
                      </a:lnTo>
                      <a:lnTo>
                        <a:pt x="143" y="81"/>
                      </a:lnTo>
                      <a:lnTo>
                        <a:pt x="86" y="567"/>
                      </a:lnTo>
                      <a:lnTo>
                        <a:pt x="58" y="567"/>
                      </a:lnTo>
                      <a:lnTo>
                        <a:pt x="1" y="81"/>
                      </a:lnTo>
                      <a:lnTo>
                        <a:pt x="0" y="58"/>
                      </a:lnTo>
                      <a:lnTo>
                        <a:pt x="8" y="29"/>
                      </a:lnTo>
                      <a:lnTo>
                        <a:pt x="29" y="10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" name=""/>
            <p:cNvSpPr/>
            <p:nvPr/>
          </p:nvSpPr>
          <p:spPr>
            <a:xfrm>
              <a:off x="7862760" y="233280"/>
              <a:ext cx="1711440" cy="1528920"/>
            </a:xfrm>
            <a:custGeom>
              <a:avLst/>
              <a:gdLst/>
              <a:ahLst/>
              <a:rect l="l" t="t" r="r" b="b"/>
              <a:pathLst>
                <a:path w="1078" h="963">
                  <a:moveTo>
                    <a:pt x="49" y="936"/>
                  </a:moveTo>
                  <a:lnTo>
                    <a:pt x="539" y="935"/>
                  </a:lnTo>
                  <a:lnTo>
                    <a:pt x="539" y="963"/>
                  </a:lnTo>
                  <a:lnTo>
                    <a:pt x="29" y="963"/>
                  </a:lnTo>
                  <a:cubicBezTo>
                    <a:pt x="29" y="963"/>
                    <a:pt x="10" y="952"/>
                    <a:pt x="0" y="935"/>
                  </a:cubicBezTo>
                  <a:cubicBezTo>
                    <a:pt x="0" y="921"/>
                    <a:pt x="0" y="907"/>
                    <a:pt x="0" y="907"/>
                  </a:cubicBezTo>
                  <a:lnTo>
                    <a:pt x="511" y="28"/>
                  </a:lnTo>
                  <a:cubicBezTo>
                    <a:pt x="511" y="28"/>
                    <a:pt x="519" y="1"/>
                    <a:pt x="539" y="0"/>
                  </a:cubicBezTo>
                  <a:cubicBezTo>
                    <a:pt x="562" y="0"/>
                    <a:pt x="567" y="28"/>
                    <a:pt x="567" y="28"/>
                  </a:cubicBezTo>
                  <a:lnTo>
                    <a:pt x="1078" y="907"/>
                  </a:lnTo>
                  <a:cubicBezTo>
                    <a:pt x="1078" y="907"/>
                    <a:pt x="1078" y="921"/>
                    <a:pt x="1078" y="935"/>
                  </a:cubicBezTo>
                  <a:cubicBezTo>
                    <a:pt x="1068" y="955"/>
                    <a:pt x="1049" y="963"/>
                    <a:pt x="1049" y="963"/>
                  </a:cubicBezTo>
                  <a:lnTo>
                    <a:pt x="539" y="963"/>
                  </a:lnTo>
                  <a:lnTo>
                    <a:pt x="539" y="935"/>
                  </a:lnTo>
                  <a:lnTo>
                    <a:pt x="1024" y="936"/>
                  </a:lnTo>
                  <a:lnTo>
                    <a:pt x="1044" y="930"/>
                  </a:lnTo>
                  <a:lnTo>
                    <a:pt x="1048" y="918"/>
                  </a:lnTo>
                  <a:lnTo>
                    <a:pt x="1044" y="907"/>
                  </a:lnTo>
                  <a:lnTo>
                    <a:pt x="550" y="49"/>
                  </a:lnTo>
                  <a:cubicBezTo>
                    <a:pt x="550" y="49"/>
                    <a:pt x="547" y="40"/>
                    <a:pt x="538" y="37"/>
                  </a:cubicBezTo>
                  <a:cubicBezTo>
                    <a:pt x="526" y="42"/>
                    <a:pt x="526" y="52"/>
                    <a:pt x="526" y="52"/>
                  </a:cubicBezTo>
                  <a:lnTo>
                    <a:pt x="40" y="900"/>
                  </a:lnTo>
                  <a:lnTo>
                    <a:pt x="34" y="910"/>
                  </a:lnTo>
                  <a:lnTo>
                    <a:pt x="34" y="925"/>
                  </a:lnTo>
                  <a:lnTo>
                    <a:pt x="49" y="936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5977080" y="235080"/>
            <a:ext cx="1711080" cy="1528560"/>
            <a:chOff x="5977080" y="235080"/>
            <a:chExt cx="1711080" cy="1528560"/>
          </a:xfrm>
        </p:grpSpPr>
        <p:sp>
          <p:nvSpPr>
            <p:cNvPr id="46" name=""/>
            <p:cNvSpPr/>
            <p:nvPr/>
          </p:nvSpPr>
          <p:spPr>
            <a:xfrm>
              <a:off x="5997600" y="254160"/>
              <a:ext cx="1670040" cy="1490400"/>
            </a:xfrm>
            <a:custGeom>
              <a:avLst/>
              <a:gdLst/>
              <a:ahLst/>
              <a:rect l="l" t="t" r="r" b="b"/>
              <a:pathLst>
                <a:path w="1078" h="963">
                  <a:moveTo>
                    <a:pt x="0" y="935"/>
                  </a:moveTo>
                  <a:lnTo>
                    <a:pt x="0" y="907"/>
                  </a:lnTo>
                  <a:lnTo>
                    <a:pt x="511" y="28"/>
                  </a:lnTo>
                  <a:lnTo>
                    <a:pt x="539" y="0"/>
                  </a:lnTo>
                  <a:lnTo>
                    <a:pt x="567" y="28"/>
                  </a:lnTo>
                  <a:lnTo>
                    <a:pt x="1078" y="907"/>
                  </a:lnTo>
                  <a:lnTo>
                    <a:pt x="1078" y="935"/>
                  </a:lnTo>
                  <a:lnTo>
                    <a:pt x="1049" y="963"/>
                  </a:lnTo>
                  <a:lnTo>
                    <a:pt x="29" y="963"/>
                  </a:lnTo>
                  <a:lnTo>
                    <a:pt x="0" y="93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77080" y="235080"/>
              <a:ext cx="1711080" cy="1528560"/>
            </a:xfrm>
            <a:custGeom>
              <a:avLst/>
              <a:gdLst/>
              <a:ahLst/>
              <a:rect l="l" t="t" r="r" b="b"/>
              <a:pathLst>
                <a:path w="1078" h="963">
                  <a:moveTo>
                    <a:pt x="49" y="936"/>
                  </a:moveTo>
                  <a:lnTo>
                    <a:pt x="539" y="935"/>
                  </a:lnTo>
                  <a:lnTo>
                    <a:pt x="539" y="963"/>
                  </a:lnTo>
                  <a:lnTo>
                    <a:pt x="29" y="963"/>
                  </a:lnTo>
                  <a:cubicBezTo>
                    <a:pt x="29" y="963"/>
                    <a:pt x="10" y="952"/>
                    <a:pt x="0" y="935"/>
                  </a:cubicBezTo>
                  <a:cubicBezTo>
                    <a:pt x="0" y="921"/>
                    <a:pt x="0" y="907"/>
                    <a:pt x="0" y="907"/>
                  </a:cubicBezTo>
                  <a:lnTo>
                    <a:pt x="511" y="28"/>
                  </a:lnTo>
                  <a:cubicBezTo>
                    <a:pt x="511" y="28"/>
                    <a:pt x="519" y="1"/>
                    <a:pt x="539" y="0"/>
                  </a:cubicBezTo>
                  <a:cubicBezTo>
                    <a:pt x="562" y="0"/>
                    <a:pt x="567" y="28"/>
                    <a:pt x="567" y="28"/>
                  </a:cubicBezTo>
                  <a:lnTo>
                    <a:pt x="1078" y="907"/>
                  </a:lnTo>
                  <a:cubicBezTo>
                    <a:pt x="1078" y="907"/>
                    <a:pt x="1078" y="921"/>
                    <a:pt x="1078" y="935"/>
                  </a:cubicBezTo>
                  <a:cubicBezTo>
                    <a:pt x="1068" y="955"/>
                    <a:pt x="1049" y="963"/>
                    <a:pt x="1049" y="963"/>
                  </a:cubicBezTo>
                  <a:lnTo>
                    <a:pt x="539" y="963"/>
                  </a:lnTo>
                  <a:lnTo>
                    <a:pt x="539" y="935"/>
                  </a:lnTo>
                  <a:lnTo>
                    <a:pt x="1024" y="936"/>
                  </a:lnTo>
                  <a:lnTo>
                    <a:pt x="1044" y="930"/>
                  </a:lnTo>
                  <a:lnTo>
                    <a:pt x="1048" y="918"/>
                  </a:lnTo>
                  <a:lnTo>
                    <a:pt x="1044" y="907"/>
                  </a:lnTo>
                  <a:lnTo>
                    <a:pt x="550" y="49"/>
                  </a:lnTo>
                  <a:cubicBezTo>
                    <a:pt x="550" y="49"/>
                    <a:pt x="547" y="40"/>
                    <a:pt x="538" y="37"/>
                  </a:cubicBezTo>
                  <a:cubicBezTo>
                    <a:pt x="526" y="42"/>
                    <a:pt x="526" y="52"/>
                    <a:pt x="526" y="52"/>
                  </a:cubicBezTo>
                  <a:lnTo>
                    <a:pt x="40" y="900"/>
                  </a:lnTo>
                  <a:lnTo>
                    <a:pt x="34" y="910"/>
                  </a:lnTo>
                  <a:lnTo>
                    <a:pt x="34" y="925"/>
                  </a:lnTo>
                  <a:lnTo>
                    <a:pt x="49" y="9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6716880" y="638280"/>
              <a:ext cx="231480" cy="1035000"/>
              <a:chOff x="6716880" y="638280"/>
              <a:chExt cx="231480" cy="1035000"/>
            </a:xfrm>
          </p:grpSpPr>
          <p:sp>
            <p:nvSpPr>
              <p:cNvPr id="49" name=""/>
              <p:cNvSpPr/>
              <p:nvPr/>
            </p:nvSpPr>
            <p:spPr>
              <a:xfrm>
                <a:off x="6765840" y="1538280"/>
                <a:ext cx="134640" cy="135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16880" y="638280"/>
                <a:ext cx="231480" cy="855720"/>
              </a:xfrm>
              <a:custGeom>
                <a:avLst/>
                <a:gdLst/>
                <a:ahLst/>
                <a:rect l="l" t="t" r="r" b="b"/>
                <a:pathLst>
                  <a:path w="146" h="567">
                    <a:moveTo>
                      <a:pt x="58" y="0"/>
                    </a:moveTo>
                    <a:lnTo>
                      <a:pt x="86" y="0"/>
                    </a:lnTo>
                    <a:lnTo>
                      <a:pt x="120" y="8"/>
                    </a:lnTo>
                    <a:lnTo>
                      <a:pt x="137" y="26"/>
                    </a:lnTo>
                    <a:lnTo>
                      <a:pt x="146" y="58"/>
                    </a:lnTo>
                    <a:lnTo>
                      <a:pt x="143" y="81"/>
                    </a:lnTo>
                    <a:lnTo>
                      <a:pt x="86" y="567"/>
                    </a:lnTo>
                    <a:lnTo>
                      <a:pt x="58" y="567"/>
                    </a:lnTo>
                    <a:lnTo>
                      <a:pt x="1" y="81"/>
                    </a:lnTo>
                    <a:lnTo>
                      <a:pt x="0" y="58"/>
                    </a:lnTo>
                    <a:lnTo>
                      <a:pt x="8" y="29"/>
                    </a:lnTo>
                    <a:lnTo>
                      <a:pt x="29" y="1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" name=""/>
          <p:cNvGrpSpPr/>
          <p:nvPr/>
        </p:nvGrpSpPr>
        <p:grpSpPr>
          <a:xfrm>
            <a:off x="4111560" y="252360"/>
            <a:ext cx="1711440" cy="1528920"/>
            <a:chOff x="4111560" y="252360"/>
            <a:chExt cx="1711440" cy="1528920"/>
          </a:xfrm>
        </p:grpSpPr>
        <p:sp>
          <p:nvSpPr>
            <p:cNvPr id="52" name=""/>
            <p:cNvSpPr/>
            <p:nvPr/>
          </p:nvSpPr>
          <p:spPr>
            <a:xfrm>
              <a:off x="4132440" y="271440"/>
              <a:ext cx="1670040" cy="1490760"/>
            </a:xfrm>
            <a:custGeom>
              <a:avLst/>
              <a:gdLst/>
              <a:ahLst/>
              <a:rect l="l" t="t" r="r" b="b"/>
              <a:pathLst>
                <a:path w="1078" h="963">
                  <a:moveTo>
                    <a:pt x="0" y="935"/>
                  </a:moveTo>
                  <a:lnTo>
                    <a:pt x="0" y="907"/>
                  </a:lnTo>
                  <a:lnTo>
                    <a:pt x="511" y="28"/>
                  </a:lnTo>
                  <a:lnTo>
                    <a:pt x="539" y="0"/>
                  </a:lnTo>
                  <a:lnTo>
                    <a:pt x="567" y="28"/>
                  </a:lnTo>
                  <a:lnTo>
                    <a:pt x="1078" y="907"/>
                  </a:lnTo>
                  <a:lnTo>
                    <a:pt x="1078" y="935"/>
                  </a:lnTo>
                  <a:lnTo>
                    <a:pt x="1049" y="963"/>
                  </a:lnTo>
                  <a:lnTo>
                    <a:pt x="29" y="963"/>
                  </a:lnTo>
                  <a:lnTo>
                    <a:pt x="0" y="935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11560" y="252360"/>
              <a:ext cx="1711440" cy="1528920"/>
            </a:xfrm>
            <a:custGeom>
              <a:avLst/>
              <a:gdLst/>
              <a:ahLst/>
              <a:rect l="l" t="t" r="r" b="b"/>
              <a:pathLst>
                <a:path w="1078" h="963">
                  <a:moveTo>
                    <a:pt x="49" y="936"/>
                  </a:moveTo>
                  <a:lnTo>
                    <a:pt x="539" y="935"/>
                  </a:lnTo>
                  <a:lnTo>
                    <a:pt x="539" y="963"/>
                  </a:lnTo>
                  <a:lnTo>
                    <a:pt x="29" y="963"/>
                  </a:lnTo>
                  <a:cubicBezTo>
                    <a:pt x="29" y="963"/>
                    <a:pt x="10" y="952"/>
                    <a:pt x="0" y="935"/>
                  </a:cubicBezTo>
                  <a:cubicBezTo>
                    <a:pt x="0" y="921"/>
                    <a:pt x="0" y="907"/>
                    <a:pt x="0" y="907"/>
                  </a:cubicBezTo>
                  <a:lnTo>
                    <a:pt x="511" y="28"/>
                  </a:lnTo>
                  <a:cubicBezTo>
                    <a:pt x="511" y="28"/>
                    <a:pt x="519" y="1"/>
                    <a:pt x="539" y="0"/>
                  </a:cubicBezTo>
                  <a:cubicBezTo>
                    <a:pt x="562" y="0"/>
                    <a:pt x="567" y="28"/>
                    <a:pt x="567" y="28"/>
                  </a:cubicBezTo>
                  <a:lnTo>
                    <a:pt x="1078" y="907"/>
                  </a:lnTo>
                  <a:cubicBezTo>
                    <a:pt x="1078" y="907"/>
                    <a:pt x="1078" y="921"/>
                    <a:pt x="1078" y="935"/>
                  </a:cubicBezTo>
                  <a:cubicBezTo>
                    <a:pt x="1068" y="955"/>
                    <a:pt x="1049" y="963"/>
                    <a:pt x="1049" y="963"/>
                  </a:cubicBezTo>
                  <a:lnTo>
                    <a:pt x="539" y="963"/>
                  </a:lnTo>
                  <a:lnTo>
                    <a:pt x="539" y="935"/>
                  </a:lnTo>
                  <a:lnTo>
                    <a:pt x="1024" y="936"/>
                  </a:lnTo>
                  <a:lnTo>
                    <a:pt x="1044" y="930"/>
                  </a:lnTo>
                  <a:lnTo>
                    <a:pt x="1048" y="918"/>
                  </a:lnTo>
                  <a:lnTo>
                    <a:pt x="1044" y="907"/>
                  </a:lnTo>
                  <a:lnTo>
                    <a:pt x="550" y="49"/>
                  </a:lnTo>
                  <a:cubicBezTo>
                    <a:pt x="550" y="49"/>
                    <a:pt x="547" y="40"/>
                    <a:pt x="538" y="37"/>
                  </a:cubicBezTo>
                  <a:cubicBezTo>
                    <a:pt x="526" y="42"/>
                    <a:pt x="526" y="52"/>
                    <a:pt x="526" y="52"/>
                  </a:cubicBezTo>
                  <a:lnTo>
                    <a:pt x="40" y="900"/>
                  </a:lnTo>
                  <a:lnTo>
                    <a:pt x="34" y="910"/>
                  </a:lnTo>
                  <a:lnTo>
                    <a:pt x="34" y="925"/>
                  </a:lnTo>
                  <a:lnTo>
                    <a:pt x="49" y="9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4851360" y="638280"/>
              <a:ext cx="231840" cy="1035000"/>
              <a:chOff x="4851360" y="638280"/>
              <a:chExt cx="231840" cy="1035000"/>
            </a:xfrm>
          </p:grpSpPr>
          <p:sp>
            <p:nvSpPr>
              <p:cNvPr id="55" name=""/>
              <p:cNvSpPr/>
              <p:nvPr/>
            </p:nvSpPr>
            <p:spPr>
              <a:xfrm>
                <a:off x="4898880" y="1538280"/>
                <a:ext cx="135000" cy="135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851360" y="638280"/>
                <a:ext cx="231840" cy="855720"/>
              </a:xfrm>
              <a:custGeom>
                <a:avLst/>
                <a:gdLst/>
                <a:ahLst/>
                <a:rect l="l" t="t" r="r" b="b"/>
                <a:pathLst>
                  <a:path w="146" h="567">
                    <a:moveTo>
                      <a:pt x="58" y="0"/>
                    </a:moveTo>
                    <a:lnTo>
                      <a:pt x="86" y="0"/>
                    </a:lnTo>
                    <a:lnTo>
                      <a:pt x="120" y="8"/>
                    </a:lnTo>
                    <a:lnTo>
                      <a:pt x="137" y="26"/>
                    </a:lnTo>
                    <a:lnTo>
                      <a:pt x="146" y="58"/>
                    </a:lnTo>
                    <a:lnTo>
                      <a:pt x="143" y="81"/>
                    </a:lnTo>
                    <a:lnTo>
                      <a:pt x="86" y="567"/>
                    </a:lnTo>
                    <a:lnTo>
                      <a:pt x="58" y="567"/>
                    </a:lnTo>
                    <a:lnTo>
                      <a:pt x="1" y="81"/>
                    </a:lnTo>
                    <a:lnTo>
                      <a:pt x="0" y="58"/>
                    </a:lnTo>
                    <a:lnTo>
                      <a:pt x="8" y="29"/>
                    </a:lnTo>
                    <a:lnTo>
                      <a:pt x="29" y="1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2220840" y="258840"/>
            <a:ext cx="1711440" cy="1528560"/>
            <a:chOff x="2220840" y="258840"/>
            <a:chExt cx="1711440" cy="1528560"/>
          </a:xfrm>
        </p:grpSpPr>
        <p:sp>
          <p:nvSpPr>
            <p:cNvPr id="58" name=""/>
            <p:cNvSpPr/>
            <p:nvPr/>
          </p:nvSpPr>
          <p:spPr>
            <a:xfrm>
              <a:off x="2241720" y="277920"/>
              <a:ext cx="1670040" cy="1490400"/>
            </a:xfrm>
            <a:custGeom>
              <a:avLst/>
              <a:gdLst/>
              <a:ahLst/>
              <a:rect l="l" t="t" r="r" b="b"/>
              <a:pathLst>
                <a:path w="1078" h="963">
                  <a:moveTo>
                    <a:pt x="0" y="935"/>
                  </a:moveTo>
                  <a:lnTo>
                    <a:pt x="0" y="907"/>
                  </a:lnTo>
                  <a:lnTo>
                    <a:pt x="511" y="28"/>
                  </a:lnTo>
                  <a:lnTo>
                    <a:pt x="539" y="0"/>
                  </a:lnTo>
                  <a:lnTo>
                    <a:pt x="567" y="28"/>
                  </a:lnTo>
                  <a:lnTo>
                    <a:pt x="1078" y="907"/>
                  </a:lnTo>
                  <a:lnTo>
                    <a:pt x="1078" y="935"/>
                  </a:lnTo>
                  <a:lnTo>
                    <a:pt x="1049" y="963"/>
                  </a:lnTo>
                  <a:lnTo>
                    <a:pt x="29" y="963"/>
                  </a:lnTo>
                  <a:lnTo>
                    <a:pt x="0" y="93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20840" y="258840"/>
              <a:ext cx="1711440" cy="1528560"/>
            </a:xfrm>
            <a:custGeom>
              <a:avLst/>
              <a:gdLst/>
              <a:ahLst/>
              <a:rect l="l" t="t" r="r" b="b"/>
              <a:pathLst>
                <a:path w="1078" h="963">
                  <a:moveTo>
                    <a:pt x="49" y="936"/>
                  </a:moveTo>
                  <a:lnTo>
                    <a:pt x="539" y="935"/>
                  </a:lnTo>
                  <a:lnTo>
                    <a:pt x="539" y="963"/>
                  </a:lnTo>
                  <a:lnTo>
                    <a:pt x="29" y="963"/>
                  </a:lnTo>
                  <a:cubicBezTo>
                    <a:pt x="29" y="963"/>
                    <a:pt x="10" y="952"/>
                    <a:pt x="0" y="935"/>
                  </a:cubicBezTo>
                  <a:cubicBezTo>
                    <a:pt x="0" y="921"/>
                    <a:pt x="0" y="907"/>
                    <a:pt x="0" y="907"/>
                  </a:cubicBezTo>
                  <a:lnTo>
                    <a:pt x="511" y="28"/>
                  </a:lnTo>
                  <a:cubicBezTo>
                    <a:pt x="511" y="28"/>
                    <a:pt x="519" y="1"/>
                    <a:pt x="539" y="0"/>
                  </a:cubicBezTo>
                  <a:cubicBezTo>
                    <a:pt x="562" y="0"/>
                    <a:pt x="567" y="28"/>
                    <a:pt x="567" y="28"/>
                  </a:cubicBezTo>
                  <a:lnTo>
                    <a:pt x="1078" y="907"/>
                  </a:lnTo>
                  <a:cubicBezTo>
                    <a:pt x="1078" y="907"/>
                    <a:pt x="1078" y="921"/>
                    <a:pt x="1078" y="935"/>
                  </a:cubicBezTo>
                  <a:cubicBezTo>
                    <a:pt x="1068" y="955"/>
                    <a:pt x="1049" y="963"/>
                    <a:pt x="1049" y="963"/>
                  </a:cubicBezTo>
                  <a:lnTo>
                    <a:pt x="539" y="963"/>
                  </a:lnTo>
                  <a:lnTo>
                    <a:pt x="539" y="935"/>
                  </a:lnTo>
                  <a:lnTo>
                    <a:pt x="1024" y="936"/>
                  </a:lnTo>
                  <a:lnTo>
                    <a:pt x="1044" y="930"/>
                  </a:lnTo>
                  <a:lnTo>
                    <a:pt x="1048" y="918"/>
                  </a:lnTo>
                  <a:lnTo>
                    <a:pt x="1044" y="907"/>
                  </a:lnTo>
                  <a:lnTo>
                    <a:pt x="550" y="49"/>
                  </a:lnTo>
                  <a:cubicBezTo>
                    <a:pt x="550" y="49"/>
                    <a:pt x="547" y="40"/>
                    <a:pt x="538" y="37"/>
                  </a:cubicBezTo>
                  <a:cubicBezTo>
                    <a:pt x="526" y="42"/>
                    <a:pt x="526" y="52"/>
                    <a:pt x="526" y="52"/>
                  </a:cubicBezTo>
                  <a:lnTo>
                    <a:pt x="40" y="900"/>
                  </a:lnTo>
                  <a:lnTo>
                    <a:pt x="34" y="910"/>
                  </a:lnTo>
                  <a:lnTo>
                    <a:pt x="34" y="925"/>
                  </a:lnTo>
                  <a:lnTo>
                    <a:pt x="49" y="9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2960640" y="638280"/>
              <a:ext cx="231840" cy="1035000"/>
              <a:chOff x="2960640" y="638280"/>
              <a:chExt cx="231840" cy="1035000"/>
            </a:xfrm>
          </p:grpSpPr>
          <p:sp>
            <p:nvSpPr>
              <p:cNvPr id="61" name=""/>
              <p:cNvSpPr/>
              <p:nvPr/>
            </p:nvSpPr>
            <p:spPr>
              <a:xfrm>
                <a:off x="3008160" y="1538280"/>
                <a:ext cx="135000" cy="135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960640" y="638280"/>
                <a:ext cx="231840" cy="855720"/>
              </a:xfrm>
              <a:custGeom>
                <a:avLst/>
                <a:gdLst/>
                <a:ahLst/>
                <a:rect l="l" t="t" r="r" b="b"/>
                <a:pathLst>
                  <a:path w="146" h="567">
                    <a:moveTo>
                      <a:pt x="58" y="0"/>
                    </a:moveTo>
                    <a:lnTo>
                      <a:pt x="86" y="0"/>
                    </a:lnTo>
                    <a:lnTo>
                      <a:pt x="120" y="8"/>
                    </a:lnTo>
                    <a:lnTo>
                      <a:pt x="137" y="26"/>
                    </a:lnTo>
                    <a:lnTo>
                      <a:pt x="146" y="58"/>
                    </a:lnTo>
                    <a:lnTo>
                      <a:pt x="143" y="81"/>
                    </a:lnTo>
                    <a:lnTo>
                      <a:pt x="86" y="567"/>
                    </a:lnTo>
                    <a:lnTo>
                      <a:pt x="58" y="567"/>
                    </a:lnTo>
                    <a:lnTo>
                      <a:pt x="1" y="81"/>
                    </a:lnTo>
                    <a:lnTo>
                      <a:pt x="0" y="58"/>
                    </a:lnTo>
                    <a:lnTo>
                      <a:pt x="8" y="29"/>
                    </a:lnTo>
                    <a:lnTo>
                      <a:pt x="29" y="1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"/>
          <p:cNvGrpSpPr/>
          <p:nvPr/>
        </p:nvGrpSpPr>
        <p:grpSpPr>
          <a:xfrm>
            <a:off x="330120" y="277920"/>
            <a:ext cx="1711440" cy="1528560"/>
            <a:chOff x="330120" y="277920"/>
            <a:chExt cx="1711440" cy="1528560"/>
          </a:xfrm>
        </p:grpSpPr>
        <p:sp>
          <p:nvSpPr>
            <p:cNvPr id="64" name=""/>
            <p:cNvSpPr/>
            <p:nvPr/>
          </p:nvSpPr>
          <p:spPr>
            <a:xfrm>
              <a:off x="351000" y="297000"/>
              <a:ext cx="1670040" cy="1490400"/>
            </a:xfrm>
            <a:custGeom>
              <a:avLst/>
              <a:gdLst/>
              <a:ahLst/>
              <a:rect l="l" t="t" r="r" b="b"/>
              <a:pathLst>
                <a:path w="1078" h="963">
                  <a:moveTo>
                    <a:pt x="0" y="935"/>
                  </a:moveTo>
                  <a:lnTo>
                    <a:pt x="0" y="907"/>
                  </a:lnTo>
                  <a:lnTo>
                    <a:pt x="511" y="28"/>
                  </a:lnTo>
                  <a:lnTo>
                    <a:pt x="539" y="0"/>
                  </a:lnTo>
                  <a:lnTo>
                    <a:pt x="567" y="28"/>
                  </a:lnTo>
                  <a:lnTo>
                    <a:pt x="1078" y="907"/>
                  </a:lnTo>
                  <a:lnTo>
                    <a:pt x="1078" y="935"/>
                  </a:lnTo>
                  <a:lnTo>
                    <a:pt x="1049" y="963"/>
                  </a:lnTo>
                  <a:lnTo>
                    <a:pt x="29" y="963"/>
                  </a:lnTo>
                  <a:lnTo>
                    <a:pt x="0" y="9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30120" y="277920"/>
              <a:ext cx="1711440" cy="1528560"/>
            </a:xfrm>
            <a:custGeom>
              <a:avLst/>
              <a:gdLst/>
              <a:ahLst/>
              <a:rect l="l" t="t" r="r" b="b"/>
              <a:pathLst>
                <a:path w="1078" h="963">
                  <a:moveTo>
                    <a:pt x="49" y="936"/>
                  </a:moveTo>
                  <a:lnTo>
                    <a:pt x="539" y="935"/>
                  </a:lnTo>
                  <a:lnTo>
                    <a:pt x="539" y="963"/>
                  </a:lnTo>
                  <a:lnTo>
                    <a:pt x="29" y="963"/>
                  </a:lnTo>
                  <a:cubicBezTo>
                    <a:pt x="29" y="963"/>
                    <a:pt x="10" y="952"/>
                    <a:pt x="0" y="935"/>
                  </a:cubicBezTo>
                  <a:cubicBezTo>
                    <a:pt x="0" y="921"/>
                    <a:pt x="0" y="907"/>
                    <a:pt x="0" y="907"/>
                  </a:cubicBezTo>
                  <a:lnTo>
                    <a:pt x="511" y="28"/>
                  </a:lnTo>
                  <a:cubicBezTo>
                    <a:pt x="511" y="28"/>
                    <a:pt x="519" y="1"/>
                    <a:pt x="539" y="0"/>
                  </a:cubicBezTo>
                  <a:cubicBezTo>
                    <a:pt x="562" y="0"/>
                    <a:pt x="567" y="28"/>
                    <a:pt x="567" y="28"/>
                  </a:cubicBezTo>
                  <a:lnTo>
                    <a:pt x="1078" y="907"/>
                  </a:lnTo>
                  <a:cubicBezTo>
                    <a:pt x="1078" y="907"/>
                    <a:pt x="1078" y="921"/>
                    <a:pt x="1078" y="935"/>
                  </a:cubicBezTo>
                  <a:cubicBezTo>
                    <a:pt x="1068" y="955"/>
                    <a:pt x="1049" y="963"/>
                    <a:pt x="1049" y="963"/>
                  </a:cubicBezTo>
                  <a:lnTo>
                    <a:pt x="539" y="963"/>
                  </a:lnTo>
                  <a:lnTo>
                    <a:pt x="539" y="935"/>
                  </a:lnTo>
                  <a:lnTo>
                    <a:pt x="1024" y="936"/>
                  </a:lnTo>
                  <a:lnTo>
                    <a:pt x="1044" y="930"/>
                  </a:lnTo>
                  <a:lnTo>
                    <a:pt x="1048" y="918"/>
                  </a:lnTo>
                  <a:lnTo>
                    <a:pt x="1044" y="907"/>
                  </a:lnTo>
                  <a:lnTo>
                    <a:pt x="550" y="49"/>
                  </a:lnTo>
                  <a:cubicBezTo>
                    <a:pt x="550" y="49"/>
                    <a:pt x="547" y="40"/>
                    <a:pt x="538" y="37"/>
                  </a:cubicBezTo>
                  <a:cubicBezTo>
                    <a:pt x="526" y="42"/>
                    <a:pt x="526" y="52"/>
                    <a:pt x="526" y="52"/>
                  </a:cubicBezTo>
                  <a:lnTo>
                    <a:pt x="40" y="900"/>
                  </a:lnTo>
                  <a:lnTo>
                    <a:pt x="34" y="910"/>
                  </a:lnTo>
                  <a:lnTo>
                    <a:pt x="34" y="925"/>
                  </a:lnTo>
                  <a:lnTo>
                    <a:pt x="49" y="9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069920" y="638280"/>
              <a:ext cx="231840" cy="1035000"/>
              <a:chOff x="1069920" y="638280"/>
              <a:chExt cx="231840" cy="1035000"/>
            </a:xfrm>
          </p:grpSpPr>
          <p:sp>
            <p:nvSpPr>
              <p:cNvPr id="67" name=""/>
              <p:cNvSpPr/>
              <p:nvPr/>
            </p:nvSpPr>
            <p:spPr>
              <a:xfrm>
                <a:off x="1117440" y="1538280"/>
                <a:ext cx="135000" cy="135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069920" y="638280"/>
                <a:ext cx="231840" cy="855720"/>
              </a:xfrm>
              <a:custGeom>
                <a:avLst/>
                <a:gdLst/>
                <a:ahLst/>
                <a:rect l="l" t="t" r="r" b="b"/>
                <a:pathLst>
                  <a:path w="146" h="567">
                    <a:moveTo>
                      <a:pt x="58" y="0"/>
                    </a:moveTo>
                    <a:lnTo>
                      <a:pt x="86" y="0"/>
                    </a:lnTo>
                    <a:lnTo>
                      <a:pt x="120" y="8"/>
                    </a:lnTo>
                    <a:lnTo>
                      <a:pt x="137" y="26"/>
                    </a:lnTo>
                    <a:lnTo>
                      <a:pt x="146" y="58"/>
                    </a:lnTo>
                    <a:lnTo>
                      <a:pt x="143" y="81"/>
                    </a:lnTo>
                    <a:lnTo>
                      <a:pt x="86" y="567"/>
                    </a:lnTo>
                    <a:lnTo>
                      <a:pt x="58" y="567"/>
                    </a:lnTo>
                    <a:lnTo>
                      <a:pt x="1" y="81"/>
                    </a:lnTo>
                    <a:lnTo>
                      <a:pt x="0" y="58"/>
                    </a:lnTo>
                    <a:lnTo>
                      <a:pt x="8" y="29"/>
                    </a:lnTo>
                    <a:lnTo>
                      <a:pt x="29" y="1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" name=""/>
          <p:cNvGrpSpPr/>
          <p:nvPr/>
        </p:nvGrpSpPr>
        <p:grpSpPr>
          <a:xfrm>
            <a:off x="7864560" y="3500280"/>
            <a:ext cx="1709640" cy="1528920"/>
            <a:chOff x="7864560" y="3500280"/>
            <a:chExt cx="1709640" cy="1528920"/>
          </a:xfrm>
        </p:grpSpPr>
        <p:sp>
          <p:nvSpPr>
            <p:cNvPr id="70" name=""/>
            <p:cNvSpPr/>
            <p:nvPr/>
          </p:nvSpPr>
          <p:spPr>
            <a:xfrm>
              <a:off x="7883640" y="3519360"/>
              <a:ext cx="1670040" cy="1490760"/>
            </a:xfrm>
            <a:custGeom>
              <a:avLst/>
              <a:gdLst/>
              <a:ahLst/>
              <a:rect l="l" t="t" r="r" b="b"/>
              <a:pathLst>
                <a:path w="1078" h="963">
                  <a:moveTo>
                    <a:pt x="0" y="935"/>
                  </a:moveTo>
                  <a:lnTo>
                    <a:pt x="0" y="907"/>
                  </a:lnTo>
                  <a:lnTo>
                    <a:pt x="511" y="28"/>
                  </a:lnTo>
                  <a:lnTo>
                    <a:pt x="539" y="0"/>
                  </a:lnTo>
                  <a:lnTo>
                    <a:pt x="567" y="28"/>
                  </a:lnTo>
                  <a:lnTo>
                    <a:pt x="1078" y="907"/>
                  </a:lnTo>
                  <a:lnTo>
                    <a:pt x="1078" y="935"/>
                  </a:lnTo>
                  <a:lnTo>
                    <a:pt x="1049" y="963"/>
                  </a:lnTo>
                  <a:lnTo>
                    <a:pt x="29" y="963"/>
                  </a:lnTo>
                  <a:lnTo>
                    <a:pt x="0" y="935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99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864560" y="3500280"/>
              <a:ext cx="1709640" cy="1528920"/>
            </a:xfrm>
            <a:custGeom>
              <a:avLst/>
              <a:gdLst/>
              <a:ahLst/>
              <a:rect l="l" t="t" r="r" b="b"/>
              <a:pathLst>
                <a:path w="1077" h="963">
                  <a:moveTo>
                    <a:pt x="113" y="878"/>
                  </a:moveTo>
                  <a:lnTo>
                    <a:pt x="539" y="878"/>
                  </a:lnTo>
                  <a:lnTo>
                    <a:pt x="539" y="963"/>
                  </a:lnTo>
                  <a:lnTo>
                    <a:pt x="28" y="963"/>
                  </a:lnTo>
                  <a:lnTo>
                    <a:pt x="0" y="935"/>
                  </a:lnTo>
                  <a:lnTo>
                    <a:pt x="0" y="907"/>
                  </a:lnTo>
                  <a:lnTo>
                    <a:pt x="482" y="28"/>
                  </a:lnTo>
                  <a:lnTo>
                    <a:pt x="510" y="0"/>
                  </a:lnTo>
                  <a:lnTo>
                    <a:pt x="567" y="0"/>
                  </a:lnTo>
                  <a:lnTo>
                    <a:pt x="595" y="28"/>
                  </a:lnTo>
                  <a:lnTo>
                    <a:pt x="1077" y="907"/>
                  </a:lnTo>
                  <a:lnTo>
                    <a:pt x="1077" y="935"/>
                  </a:lnTo>
                  <a:lnTo>
                    <a:pt x="1049" y="963"/>
                  </a:lnTo>
                  <a:lnTo>
                    <a:pt x="539" y="963"/>
                  </a:lnTo>
                  <a:lnTo>
                    <a:pt x="539" y="878"/>
                  </a:lnTo>
                  <a:lnTo>
                    <a:pt x="964" y="878"/>
                  </a:lnTo>
                  <a:lnTo>
                    <a:pt x="539" y="85"/>
                  </a:lnTo>
                  <a:lnTo>
                    <a:pt x="113" y="878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8601120" y="3833640"/>
              <a:ext cx="236520" cy="990360"/>
              <a:chOff x="8601120" y="3833640"/>
              <a:chExt cx="236520" cy="990360"/>
            </a:xfrm>
          </p:grpSpPr>
          <p:sp>
            <p:nvSpPr>
              <p:cNvPr id="73" name=""/>
              <p:cNvSpPr/>
              <p:nvPr/>
            </p:nvSpPr>
            <p:spPr>
              <a:xfrm>
                <a:off x="8641440" y="4664880"/>
                <a:ext cx="158400" cy="159120"/>
              </a:xfrm>
              <a:prstGeom prst="ellipse">
                <a:avLst/>
              </a:pr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601120" y="3833640"/>
                <a:ext cx="236520" cy="792360"/>
              </a:xfrm>
              <a:custGeom>
                <a:avLst/>
                <a:gdLst/>
                <a:ahLst/>
                <a:rect l="l" t="t" r="r" b="b"/>
                <a:pathLst>
                  <a:path w="170" h="567">
                    <a:moveTo>
                      <a:pt x="57" y="567"/>
                    </a:moveTo>
                    <a:lnTo>
                      <a:pt x="114" y="567"/>
                    </a:lnTo>
                    <a:lnTo>
                      <a:pt x="170" y="142"/>
                    </a:lnTo>
                    <a:lnTo>
                      <a:pt x="170" y="85"/>
                    </a:lnTo>
                    <a:lnTo>
                      <a:pt x="158" y="54"/>
                    </a:lnTo>
                    <a:lnTo>
                      <a:pt x="142" y="28"/>
                    </a:lnTo>
                    <a:lnTo>
                      <a:pt x="118" y="8"/>
                    </a:lnTo>
                    <a:lnTo>
                      <a:pt x="85" y="0"/>
                    </a:lnTo>
                    <a:lnTo>
                      <a:pt x="52" y="10"/>
                    </a:lnTo>
                    <a:lnTo>
                      <a:pt x="29" y="28"/>
                    </a:lnTo>
                    <a:lnTo>
                      <a:pt x="12" y="48"/>
                    </a:lnTo>
                    <a:lnTo>
                      <a:pt x="0" y="85"/>
                    </a:lnTo>
                    <a:lnTo>
                      <a:pt x="0" y="142"/>
                    </a:lnTo>
                    <a:lnTo>
                      <a:pt x="57" y="56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" name=""/>
          <p:cNvGrpSpPr/>
          <p:nvPr/>
        </p:nvGrpSpPr>
        <p:grpSpPr>
          <a:xfrm>
            <a:off x="5978520" y="3475080"/>
            <a:ext cx="1709640" cy="1528560"/>
            <a:chOff x="5978520" y="3475080"/>
            <a:chExt cx="1709640" cy="1528560"/>
          </a:xfrm>
        </p:grpSpPr>
        <p:sp>
          <p:nvSpPr>
            <p:cNvPr id="76" name=""/>
            <p:cNvSpPr/>
            <p:nvPr/>
          </p:nvSpPr>
          <p:spPr>
            <a:xfrm>
              <a:off x="5997600" y="3494160"/>
              <a:ext cx="1670040" cy="1490760"/>
            </a:xfrm>
            <a:custGeom>
              <a:avLst/>
              <a:gdLst/>
              <a:ahLst/>
              <a:rect l="l" t="t" r="r" b="b"/>
              <a:pathLst>
                <a:path w="1078" h="963">
                  <a:moveTo>
                    <a:pt x="0" y="935"/>
                  </a:moveTo>
                  <a:lnTo>
                    <a:pt x="0" y="907"/>
                  </a:lnTo>
                  <a:lnTo>
                    <a:pt x="511" y="28"/>
                  </a:lnTo>
                  <a:lnTo>
                    <a:pt x="539" y="0"/>
                  </a:lnTo>
                  <a:lnTo>
                    <a:pt x="567" y="28"/>
                  </a:lnTo>
                  <a:lnTo>
                    <a:pt x="1078" y="907"/>
                  </a:lnTo>
                  <a:lnTo>
                    <a:pt x="1078" y="935"/>
                  </a:lnTo>
                  <a:lnTo>
                    <a:pt x="1049" y="963"/>
                  </a:lnTo>
                  <a:lnTo>
                    <a:pt x="29" y="963"/>
                  </a:lnTo>
                  <a:lnTo>
                    <a:pt x="0" y="93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78520" y="3475080"/>
              <a:ext cx="1709640" cy="1528560"/>
            </a:xfrm>
            <a:custGeom>
              <a:avLst/>
              <a:gdLst/>
              <a:ahLst/>
              <a:rect l="l" t="t" r="r" b="b"/>
              <a:pathLst>
                <a:path w="1077" h="963">
                  <a:moveTo>
                    <a:pt x="113" y="878"/>
                  </a:moveTo>
                  <a:lnTo>
                    <a:pt x="539" y="878"/>
                  </a:lnTo>
                  <a:lnTo>
                    <a:pt x="539" y="963"/>
                  </a:lnTo>
                  <a:lnTo>
                    <a:pt x="28" y="963"/>
                  </a:lnTo>
                  <a:lnTo>
                    <a:pt x="0" y="935"/>
                  </a:lnTo>
                  <a:lnTo>
                    <a:pt x="0" y="907"/>
                  </a:lnTo>
                  <a:lnTo>
                    <a:pt x="482" y="28"/>
                  </a:lnTo>
                  <a:lnTo>
                    <a:pt x="510" y="0"/>
                  </a:lnTo>
                  <a:lnTo>
                    <a:pt x="567" y="0"/>
                  </a:lnTo>
                  <a:lnTo>
                    <a:pt x="595" y="28"/>
                  </a:lnTo>
                  <a:lnTo>
                    <a:pt x="1077" y="907"/>
                  </a:lnTo>
                  <a:lnTo>
                    <a:pt x="1077" y="935"/>
                  </a:lnTo>
                  <a:lnTo>
                    <a:pt x="1049" y="963"/>
                  </a:lnTo>
                  <a:lnTo>
                    <a:pt x="539" y="963"/>
                  </a:lnTo>
                  <a:lnTo>
                    <a:pt x="539" y="878"/>
                  </a:lnTo>
                  <a:lnTo>
                    <a:pt x="964" y="878"/>
                  </a:lnTo>
                  <a:lnTo>
                    <a:pt x="539" y="85"/>
                  </a:lnTo>
                  <a:lnTo>
                    <a:pt x="113" y="8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6715080" y="3833640"/>
              <a:ext cx="236520" cy="990360"/>
              <a:chOff x="6715080" y="3833640"/>
              <a:chExt cx="236520" cy="990360"/>
            </a:xfrm>
          </p:grpSpPr>
          <p:sp>
            <p:nvSpPr>
              <p:cNvPr id="79" name=""/>
              <p:cNvSpPr/>
              <p:nvPr/>
            </p:nvSpPr>
            <p:spPr>
              <a:xfrm>
                <a:off x="6755400" y="4664880"/>
                <a:ext cx="158400" cy="159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715080" y="3833640"/>
                <a:ext cx="236520" cy="792360"/>
              </a:xfrm>
              <a:custGeom>
                <a:avLst/>
                <a:gdLst/>
                <a:ahLst/>
                <a:rect l="l" t="t" r="r" b="b"/>
                <a:pathLst>
                  <a:path w="170" h="567">
                    <a:moveTo>
                      <a:pt x="57" y="567"/>
                    </a:moveTo>
                    <a:lnTo>
                      <a:pt x="114" y="567"/>
                    </a:lnTo>
                    <a:lnTo>
                      <a:pt x="170" y="142"/>
                    </a:lnTo>
                    <a:lnTo>
                      <a:pt x="170" y="85"/>
                    </a:lnTo>
                    <a:lnTo>
                      <a:pt x="158" y="54"/>
                    </a:lnTo>
                    <a:lnTo>
                      <a:pt x="142" y="28"/>
                    </a:lnTo>
                    <a:lnTo>
                      <a:pt x="118" y="8"/>
                    </a:lnTo>
                    <a:lnTo>
                      <a:pt x="85" y="0"/>
                    </a:lnTo>
                    <a:lnTo>
                      <a:pt x="52" y="10"/>
                    </a:lnTo>
                    <a:lnTo>
                      <a:pt x="29" y="28"/>
                    </a:lnTo>
                    <a:lnTo>
                      <a:pt x="12" y="48"/>
                    </a:lnTo>
                    <a:lnTo>
                      <a:pt x="0" y="85"/>
                    </a:lnTo>
                    <a:lnTo>
                      <a:pt x="0" y="142"/>
                    </a:lnTo>
                    <a:lnTo>
                      <a:pt x="57" y="5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" name=""/>
          <p:cNvGrpSpPr/>
          <p:nvPr/>
        </p:nvGrpSpPr>
        <p:grpSpPr>
          <a:xfrm>
            <a:off x="4113360" y="3492360"/>
            <a:ext cx="1709640" cy="1528920"/>
            <a:chOff x="4113360" y="3492360"/>
            <a:chExt cx="1709640" cy="1528920"/>
          </a:xfrm>
        </p:grpSpPr>
        <p:sp>
          <p:nvSpPr>
            <p:cNvPr id="82" name=""/>
            <p:cNvSpPr/>
            <p:nvPr/>
          </p:nvSpPr>
          <p:spPr>
            <a:xfrm>
              <a:off x="4132440" y="3511440"/>
              <a:ext cx="1670040" cy="1490760"/>
            </a:xfrm>
            <a:custGeom>
              <a:avLst/>
              <a:gdLst/>
              <a:ahLst/>
              <a:rect l="l" t="t" r="r" b="b"/>
              <a:pathLst>
                <a:path w="1078" h="963">
                  <a:moveTo>
                    <a:pt x="0" y="935"/>
                  </a:moveTo>
                  <a:lnTo>
                    <a:pt x="0" y="907"/>
                  </a:lnTo>
                  <a:lnTo>
                    <a:pt x="511" y="28"/>
                  </a:lnTo>
                  <a:lnTo>
                    <a:pt x="539" y="0"/>
                  </a:lnTo>
                  <a:lnTo>
                    <a:pt x="567" y="28"/>
                  </a:lnTo>
                  <a:lnTo>
                    <a:pt x="1078" y="907"/>
                  </a:lnTo>
                  <a:lnTo>
                    <a:pt x="1078" y="935"/>
                  </a:lnTo>
                  <a:lnTo>
                    <a:pt x="1049" y="963"/>
                  </a:lnTo>
                  <a:lnTo>
                    <a:pt x="29" y="963"/>
                  </a:lnTo>
                  <a:lnTo>
                    <a:pt x="0" y="935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13360" y="3492360"/>
              <a:ext cx="1709640" cy="1528920"/>
            </a:xfrm>
            <a:custGeom>
              <a:avLst/>
              <a:gdLst/>
              <a:ahLst/>
              <a:rect l="l" t="t" r="r" b="b"/>
              <a:pathLst>
                <a:path w="1077" h="963">
                  <a:moveTo>
                    <a:pt x="113" y="878"/>
                  </a:moveTo>
                  <a:lnTo>
                    <a:pt x="539" y="878"/>
                  </a:lnTo>
                  <a:lnTo>
                    <a:pt x="539" y="963"/>
                  </a:lnTo>
                  <a:lnTo>
                    <a:pt x="28" y="963"/>
                  </a:lnTo>
                  <a:lnTo>
                    <a:pt x="0" y="935"/>
                  </a:lnTo>
                  <a:lnTo>
                    <a:pt x="0" y="907"/>
                  </a:lnTo>
                  <a:lnTo>
                    <a:pt x="482" y="28"/>
                  </a:lnTo>
                  <a:lnTo>
                    <a:pt x="510" y="0"/>
                  </a:lnTo>
                  <a:lnTo>
                    <a:pt x="567" y="0"/>
                  </a:lnTo>
                  <a:lnTo>
                    <a:pt x="595" y="28"/>
                  </a:lnTo>
                  <a:lnTo>
                    <a:pt x="1077" y="907"/>
                  </a:lnTo>
                  <a:lnTo>
                    <a:pt x="1077" y="935"/>
                  </a:lnTo>
                  <a:lnTo>
                    <a:pt x="1049" y="963"/>
                  </a:lnTo>
                  <a:lnTo>
                    <a:pt x="539" y="963"/>
                  </a:lnTo>
                  <a:lnTo>
                    <a:pt x="539" y="878"/>
                  </a:lnTo>
                  <a:lnTo>
                    <a:pt x="964" y="878"/>
                  </a:lnTo>
                  <a:lnTo>
                    <a:pt x="539" y="85"/>
                  </a:lnTo>
                  <a:lnTo>
                    <a:pt x="113" y="8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4849920" y="3833640"/>
              <a:ext cx="236520" cy="990360"/>
              <a:chOff x="4849920" y="3833640"/>
              <a:chExt cx="236520" cy="990360"/>
            </a:xfrm>
          </p:grpSpPr>
          <p:sp>
            <p:nvSpPr>
              <p:cNvPr id="85" name=""/>
              <p:cNvSpPr/>
              <p:nvPr/>
            </p:nvSpPr>
            <p:spPr>
              <a:xfrm>
                <a:off x="4890240" y="4664880"/>
                <a:ext cx="158400" cy="159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849920" y="3833640"/>
                <a:ext cx="236520" cy="792360"/>
              </a:xfrm>
              <a:custGeom>
                <a:avLst/>
                <a:gdLst/>
                <a:ahLst/>
                <a:rect l="l" t="t" r="r" b="b"/>
                <a:pathLst>
                  <a:path w="170" h="567">
                    <a:moveTo>
                      <a:pt x="57" y="567"/>
                    </a:moveTo>
                    <a:lnTo>
                      <a:pt x="114" y="567"/>
                    </a:lnTo>
                    <a:lnTo>
                      <a:pt x="170" y="142"/>
                    </a:lnTo>
                    <a:lnTo>
                      <a:pt x="170" y="85"/>
                    </a:lnTo>
                    <a:lnTo>
                      <a:pt x="158" y="54"/>
                    </a:lnTo>
                    <a:lnTo>
                      <a:pt x="142" y="28"/>
                    </a:lnTo>
                    <a:lnTo>
                      <a:pt x="118" y="8"/>
                    </a:lnTo>
                    <a:lnTo>
                      <a:pt x="85" y="0"/>
                    </a:lnTo>
                    <a:lnTo>
                      <a:pt x="52" y="10"/>
                    </a:lnTo>
                    <a:lnTo>
                      <a:pt x="29" y="28"/>
                    </a:lnTo>
                    <a:lnTo>
                      <a:pt x="12" y="48"/>
                    </a:lnTo>
                    <a:lnTo>
                      <a:pt x="0" y="85"/>
                    </a:lnTo>
                    <a:lnTo>
                      <a:pt x="0" y="142"/>
                    </a:lnTo>
                    <a:lnTo>
                      <a:pt x="57" y="5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2222640" y="3498840"/>
            <a:ext cx="1709640" cy="1528920"/>
            <a:chOff x="2222640" y="3498840"/>
            <a:chExt cx="1709640" cy="1528920"/>
          </a:xfrm>
        </p:grpSpPr>
        <p:sp>
          <p:nvSpPr>
            <p:cNvPr id="88" name=""/>
            <p:cNvSpPr/>
            <p:nvPr/>
          </p:nvSpPr>
          <p:spPr>
            <a:xfrm>
              <a:off x="2241720" y="3521160"/>
              <a:ext cx="1670040" cy="1490400"/>
            </a:xfrm>
            <a:custGeom>
              <a:avLst/>
              <a:gdLst/>
              <a:ahLst/>
              <a:rect l="l" t="t" r="r" b="b"/>
              <a:pathLst>
                <a:path w="1078" h="963">
                  <a:moveTo>
                    <a:pt x="0" y="935"/>
                  </a:moveTo>
                  <a:lnTo>
                    <a:pt x="0" y="907"/>
                  </a:lnTo>
                  <a:lnTo>
                    <a:pt x="511" y="28"/>
                  </a:lnTo>
                  <a:lnTo>
                    <a:pt x="539" y="0"/>
                  </a:lnTo>
                  <a:lnTo>
                    <a:pt x="567" y="28"/>
                  </a:lnTo>
                  <a:lnTo>
                    <a:pt x="1078" y="907"/>
                  </a:lnTo>
                  <a:lnTo>
                    <a:pt x="1078" y="935"/>
                  </a:lnTo>
                  <a:lnTo>
                    <a:pt x="1049" y="963"/>
                  </a:lnTo>
                  <a:lnTo>
                    <a:pt x="29" y="963"/>
                  </a:lnTo>
                  <a:lnTo>
                    <a:pt x="0" y="93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22640" y="3498840"/>
              <a:ext cx="1709640" cy="1528920"/>
            </a:xfrm>
            <a:custGeom>
              <a:avLst/>
              <a:gdLst/>
              <a:ahLst/>
              <a:rect l="l" t="t" r="r" b="b"/>
              <a:pathLst>
                <a:path w="1077" h="963">
                  <a:moveTo>
                    <a:pt x="113" y="878"/>
                  </a:moveTo>
                  <a:lnTo>
                    <a:pt x="539" y="878"/>
                  </a:lnTo>
                  <a:lnTo>
                    <a:pt x="539" y="963"/>
                  </a:lnTo>
                  <a:lnTo>
                    <a:pt x="28" y="963"/>
                  </a:lnTo>
                  <a:lnTo>
                    <a:pt x="0" y="935"/>
                  </a:lnTo>
                  <a:lnTo>
                    <a:pt x="0" y="907"/>
                  </a:lnTo>
                  <a:lnTo>
                    <a:pt x="482" y="28"/>
                  </a:lnTo>
                  <a:lnTo>
                    <a:pt x="510" y="0"/>
                  </a:lnTo>
                  <a:lnTo>
                    <a:pt x="567" y="0"/>
                  </a:lnTo>
                  <a:lnTo>
                    <a:pt x="595" y="28"/>
                  </a:lnTo>
                  <a:lnTo>
                    <a:pt x="1077" y="907"/>
                  </a:lnTo>
                  <a:lnTo>
                    <a:pt x="1077" y="935"/>
                  </a:lnTo>
                  <a:lnTo>
                    <a:pt x="1049" y="963"/>
                  </a:lnTo>
                  <a:lnTo>
                    <a:pt x="539" y="963"/>
                  </a:lnTo>
                  <a:lnTo>
                    <a:pt x="539" y="878"/>
                  </a:lnTo>
                  <a:lnTo>
                    <a:pt x="964" y="878"/>
                  </a:lnTo>
                  <a:lnTo>
                    <a:pt x="539" y="85"/>
                  </a:lnTo>
                  <a:lnTo>
                    <a:pt x="113" y="8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959200" y="3833640"/>
              <a:ext cx="236520" cy="990360"/>
              <a:chOff x="2959200" y="3833640"/>
              <a:chExt cx="236520" cy="990360"/>
            </a:xfrm>
          </p:grpSpPr>
          <p:sp>
            <p:nvSpPr>
              <p:cNvPr id="91" name=""/>
              <p:cNvSpPr/>
              <p:nvPr/>
            </p:nvSpPr>
            <p:spPr>
              <a:xfrm>
                <a:off x="2999520" y="4664880"/>
                <a:ext cx="158400" cy="159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959200" y="3833640"/>
                <a:ext cx="236520" cy="792360"/>
              </a:xfrm>
              <a:custGeom>
                <a:avLst/>
                <a:gdLst/>
                <a:ahLst/>
                <a:rect l="l" t="t" r="r" b="b"/>
                <a:pathLst>
                  <a:path w="170" h="567">
                    <a:moveTo>
                      <a:pt x="57" y="567"/>
                    </a:moveTo>
                    <a:lnTo>
                      <a:pt x="114" y="567"/>
                    </a:lnTo>
                    <a:lnTo>
                      <a:pt x="170" y="142"/>
                    </a:lnTo>
                    <a:lnTo>
                      <a:pt x="170" y="85"/>
                    </a:lnTo>
                    <a:lnTo>
                      <a:pt x="158" y="54"/>
                    </a:lnTo>
                    <a:lnTo>
                      <a:pt x="142" y="28"/>
                    </a:lnTo>
                    <a:lnTo>
                      <a:pt x="118" y="8"/>
                    </a:lnTo>
                    <a:lnTo>
                      <a:pt x="85" y="0"/>
                    </a:lnTo>
                    <a:lnTo>
                      <a:pt x="52" y="10"/>
                    </a:lnTo>
                    <a:lnTo>
                      <a:pt x="29" y="28"/>
                    </a:lnTo>
                    <a:lnTo>
                      <a:pt x="12" y="48"/>
                    </a:lnTo>
                    <a:lnTo>
                      <a:pt x="0" y="85"/>
                    </a:lnTo>
                    <a:lnTo>
                      <a:pt x="0" y="142"/>
                    </a:lnTo>
                    <a:lnTo>
                      <a:pt x="57" y="5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331920" y="3500280"/>
            <a:ext cx="1709640" cy="1528920"/>
            <a:chOff x="331920" y="3500280"/>
            <a:chExt cx="1709640" cy="1528920"/>
          </a:xfrm>
        </p:grpSpPr>
        <p:sp>
          <p:nvSpPr>
            <p:cNvPr id="94" name=""/>
            <p:cNvSpPr/>
            <p:nvPr/>
          </p:nvSpPr>
          <p:spPr>
            <a:xfrm>
              <a:off x="351000" y="3519360"/>
              <a:ext cx="1670040" cy="1490760"/>
            </a:xfrm>
            <a:custGeom>
              <a:avLst/>
              <a:gdLst/>
              <a:ahLst/>
              <a:rect l="l" t="t" r="r" b="b"/>
              <a:pathLst>
                <a:path w="1078" h="963">
                  <a:moveTo>
                    <a:pt x="0" y="935"/>
                  </a:moveTo>
                  <a:lnTo>
                    <a:pt x="0" y="907"/>
                  </a:lnTo>
                  <a:lnTo>
                    <a:pt x="511" y="28"/>
                  </a:lnTo>
                  <a:lnTo>
                    <a:pt x="539" y="0"/>
                  </a:lnTo>
                  <a:lnTo>
                    <a:pt x="567" y="28"/>
                  </a:lnTo>
                  <a:lnTo>
                    <a:pt x="1078" y="907"/>
                  </a:lnTo>
                  <a:lnTo>
                    <a:pt x="1078" y="935"/>
                  </a:lnTo>
                  <a:lnTo>
                    <a:pt x="1049" y="963"/>
                  </a:lnTo>
                  <a:lnTo>
                    <a:pt x="29" y="963"/>
                  </a:lnTo>
                  <a:lnTo>
                    <a:pt x="0" y="9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3500280"/>
              <a:ext cx="1709640" cy="1528920"/>
            </a:xfrm>
            <a:custGeom>
              <a:avLst/>
              <a:gdLst/>
              <a:ahLst/>
              <a:rect l="l" t="t" r="r" b="b"/>
              <a:pathLst>
                <a:path w="1077" h="963">
                  <a:moveTo>
                    <a:pt x="113" y="878"/>
                  </a:moveTo>
                  <a:lnTo>
                    <a:pt x="539" y="878"/>
                  </a:lnTo>
                  <a:lnTo>
                    <a:pt x="539" y="963"/>
                  </a:lnTo>
                  <a:lnTo>
                    <a:pt x="28" y="963"/>
                  </a:lnTo>
                  <a:lnTo>
                    <a:pt x="0" y="935"/>
                  </a:lnTo>
                  <a:lnTo>
                    <a:pt x="0" y="907"/>
                  </a:lnTo>
                  <a:lnTo>
                    <a:pt x="482" y="28"/>
                  </a:lnTo>
                  <a:lnTo>
                    <a:pt x="510" y="0"/>
                  </a:lnTo>
                  <a:lnTo>
                    <a:pt x="567" y="0"/>
                  </a:lnTo>
                  <a:lnTo>
                    <a:pt x="595" y="28"/>
                  </a:lnTo>
                  <a:lnTo>
                    <a:pt x="1077" y="907"/>
                  </a:lnTo>
                  <a:lnTo>
                    <a:pt x="1077" y="935"/>
                  </a:lnTo>
                  <a:lnTo>
                    <a:pt x="1049" y="963"/>
                  </a:lnTo>
                  <a:lnTo>
                    <a:pt x="539" y="963"/>
                  </a:lnTo>
                  <a:lnTo>
                    <a:pt x="539" y="878"/>
                  </a:lnTo>
                  <a:lnTo>
                    <a:pt x="964" y="878"/>
                  </a:lnTo>
                  <a:lnTo>
                    <a:pt x="539" y="85"/>
                  </a:lnTo>
                  <a:lnTo>
                    <a:pt x="113" y="8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068480" y="3833640"/>
              <a:ext cx="236520" cy="990360"/>
              <a:chOff x="1068480" y="3833640"/>
              <a:chExt cx="236520" cy="990360"/>
            </a:xfrm>
          </p:grpSpPr>
          <p:sp>
            <p:nvSpPr>
              <p:cNvPr id="97" name=""/>
              <p:cNvSpPr/>
              <p:nvPr/>
            </p:nvSpPr>
            <p:spPr>
              <a:xfrm>
                <a:off x="1108800" y="4664880"/>
                <a:ext cx="158400" cy="159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068480" y="3833640"/>
                <a:ext cx="236520" cy="792360"/>
              </a:xfrm>
              <a:custGeom>
                <a:avLst/>
                <a:gdLst/>
                <a:ahLst/>
                <a:rect l="l" t="t" r="r" b="b"/>
                <a:pathLst>
                  <a:path w="170" h="567">
                    <a:moveTo>
                      <a:pt x="57" y="567"/>
                    </a:moveTo>
                    <a:lnTo>
                      <a:pt x="114" y="567"/>
                    </a:lnTo>
                    <a:lnTo>
                      <a:pt x="170" y="142"/>
                    </a:lnTo>
                    <a:lnTo>
                      <a:pt x="170" y="85"/>
                    </a:lnTo>
                    <a:lnTo>
                      <a:pt x="158" y="54"/>
                    </a:lnTo>
                    <a:lnTo>
                      <a:pt x="142" y="28"/>
                    </a:lnTo>
                    <a:lnTo>
                      <a:pt x="118" y="8"/>
                    </a:lnTo>
                    <a:lnTo>
                      <a:pt x="85" y="0"/>
                    </a:lnTo>
                    <a:lnTo>
                      <a:pt x="52" y="10"/>
                    </a:lnTo>
                    <a:lnTo>
                      <a:pt x="29" y="28"/>
                    </a:lnTo>
                    <a:lnTo>
                      <a:pt x="12" y="48"/>
                    </a:lnTo>
                    <a:lnTo>
                      <a:pt x="0" y="85"/>
                    </a:lnTo>
                    <a:lnTo>
                      <a:pt x="0" y="142"/>
                    </a:lnTo>
                    <a:lnTo>
                      <a:pt x="57" y="5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7850160" y="1846440"/>
            <a:ext cx="1738440" cy="1538280"/>
            <a:chOff x="7850160" y="1846440"/>
            <a:chExt cx="1738440" cy="1538280"/>
          </a:xfrm>
        </p:grpSpPr>
        <p:sp>
          <p:nvSpPr>
            <p:cNvPr id="100" name=""/>
            <p:cNvSpPr/>
            <p:nvPr/>
          </p:nvSpPr>
          <p:spPr>
            <a:xfrm>
              <a:off x="7883640" y="1870200"/>
              <a:ext cx="1670040" cy="1490400"/>
            </a:xfrm>
            <a:custGeom>
              <a:avLst/>
              <a:gdLst/>
              <a:ahLst/>
              <a:rect l="l" t="t" r="r" b="b"/>
              <a:pathLst>
                <a:path w="1078" h="963">
                  <a:moveTo>
                    <a:pt x="0" y="935"/>
                  </a:moveTo>
                  <a:lnTo>
                    <a:pt x="0" y="907"/>
                  </a:lnTo>
                  <a:lnTo>
                    <a:pt x="511" y="28"/>
                  </a:lnTo>
                  <a:lnTo>
                    <a:pt x="539" y="0"/>
                  </a:lnTo>
                  <a:lnTo>
                    <a:pt x="567" y="28"/>
                  </a:lnTo>
                  <a:lnTo>
                    <a:pt x="1078" y="907"/>
                  </a:lnTo>
                  <a:lnTo>
                    <a:pt x="1078" y="935"/>
                  </a:lnTo>
                  <a:lnTo>
                    <a:pt x="1049" y="963"/>
                  </a:lnTo>
                  <a:lnTo>
                    <a:pt x="29" y="963"/>
                  </a:lnTo>
                  <a:lnTo>
                    <a:pt x="0" y="935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99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850160" y="1846440"/>
              <a:ext cx="1738440" cy="1538280"/>
            </a:xfrm>
            <a:custGeom>
              <a:avLst/>
              <a:gdLst/>
              <a:ahLst/>
              <a:rect l="l" t="t" r="r" b="b"/>
              <a:pathLst>
                <a:path w="1095" h="969">
                  <a:moveTo>
                    <a:pt x="519" y="91"/>
                  </a:moveTo>
                  <a:cubicBezTo>
                    <a:pt x="519" y="91"/>
                    <a:pt x="529" y="64"/>
                    <a:pt x="547" y="62"/>
                  </a:cubicBezTo>
                  <a:cubicBezTo>
                    <a:pt x="564" y="61"/>
                    <a:pt x="575" y="91"/>
                    <a:pt x="575" y="91"/>
                  </a:cubicBezTo>
                  <a:lnTo>
                    <a:pt x="1029" y="913"/>
                  </a:lnTo>
                  <a:lnTo>
                    <a:pt x="547" y="913"/>
                  </a:lnTo>
                  <a:lnTo>
                    <a:pt x="547" y="969"/>
                  </a:lnTo>
                  <a:lnTo>
                    <a:pt x="1057" y="969"/>
                  </a:lnTo>
                  <a:cubicBezTo>
                    <a:pt x="1057" y="969"/>
                    <a:pt x="1075" y="956"/>
                    <a:pt x="1086" y="941"/>
                  </a:cubicBezTo>
                  <a:cubicBezTo>
                    <a:pt x="1095" y="929"/>
                    <a:pt x="1086" y="913"/>
                    <a:pt x="1086" y="913"/>
                  </a:cubicBezTo>
                  <a:lnTo>
                    <a:pt x="604" y="34"/>
                  </a:lnTo>
                  <a:cubicBezTo>
                    <a:pt x="604" y="34"/>
                    <a:pt x="585" y="11"/>
                    <a:pt x="575" y="6"/>
                  </a:cubicBezTo>
                  <a:cubicBezTo>
                    <a:pt x="565" y="1"/>
                    <a:pt x="553" y="1"/>
                    <a:pt x="544" y="1"/>
                  </a:cubicBezTo>
                  <a:cubicBezTo>
                    <a:pt x="535" y="1"/>
                    <a:pt x="528" y="0"/>
                    <a:pt x="519" y="6"/>
                  </a:cubicBezTo>
                  <a:cubicBezTo>
                    <a:pt x="496" y="17"/>
                    <a:pt x="490" y="34"/>
                    <a:pt x="490" y="34"/>
                  </a:cubicBezTo>
                  <a:lnTo>
                    <a:pt x="8" y="913"/>
                  </a:lnTo>
                  <a:cubicBezTo>
                    <a:pt x="8" y="913"/>
                    <a:pt x="0" y="928"/>
                    <a:pt x="8" y="941"/>
                  </a:cubicBezTo>
                  <a:cubicBezTo>
                    <a:pt x="19" y="962"/>
                    <a:pt x="37" y="969"/>
                    <a:pt x="37" y="969"/>
                  </a:cubicBezTo>
                  <a:cubicBezTo>
                    <a:pt x="292" y="969"/>
                    <a:pt x="547" y="969"/>
                    <a:pt x="547" y="969"/>
                  </a:cubicBezTo>
                  <a:lnTo>
                    <a:pt x="547" y="913"/>
                  </a:lnTo>
                  <a:lnTo>
                    <a:pt x="65" y="913"/>
                  </a:lnTo>
                  <a:lnTo>
                    <a:pt x="519" y="91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8602560" y="2214720"/>
              <a:ext cx="231840" cy="1035000"/>
              <a:chOff x="8602560" y="2214720"/>
              <a:chExt cx="231840" cy="1035000"/>
            </a:xfrm>
          </p:grpSpPr>
          <p:sp>
            <p:nvSpPr>
              <p:cNvPr id="103" name=""/>
              <p:cNvSpPr/>
              <p:nvPr/>
            </p:nvSpPr>
            <p:spPr>
              <a:xfrm>
                <a:off x="8651880" y="3114720"/>
                <a:ext cx="135000" cy="135000"/>
              </a:xfrm>
              <a:prstGeom prst="ellipse">
                <a:avLst/>
              </a:pr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602560" y="2214720"/>
                <a:ext cx="231840" cy="855720"/>
              </a:xfrm>
              <a:custGeom>
                <a:avLst/>
                <a:gdLst/>
                <a:ahLst/>
                <a:rect l="l" t="t" r="r" b="b"/>
                <a:pathLst>
                  <a:path w="146" h="567">
                    <a:moveTo>
                      <a:pt x="58" y="0"/>
                    </a:moveTo>
                    <a:lnTo>
                      <a:pt x="86" y="0"/>
                    </a:lnTo>
                    <a:lnTo>
                      <a:pt x="120" y="8"/>
                    </a:lnTo>
                    <a:lnTo>
                      <a:pt x="137" y="26"/>
                    </a:lnTo>
                    <a:lnTo>
                      <a:pt x="146" y="58"/>
                    </a:lnTo>
                    <a:lnTo>
                      <a:pt x="143" y="81"/>
                    </a:lnTo>
                    <a:lnTo>
                      <a:pt x="86" y="567"/>
                    </a:lnTo>
                    <a:lnTo>
                      <a:pt x="58" y="567"/>
                    </a:lnTo>
                    <a:lnTo>
                      <a:pt x="1" y="81"/>
                    </a:lnTo>
                    <a:lnTo>
                      <a:pt x="0" y="58"/>
                    </a:lnTo>
                    <a:lnTo>
                      <a:pt x="8" y="29"/>
                    </a:lnTo>
                    <a:lnTo>
                      <a:pt x="29" y="10"/>
                    </a:lnTo>
                    <a:lnTo>
                      <a:pt x="5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5964120" y="1847880"/>
            <a:ext cx="1738440" cy="1538280"/>
            <a:chOff x="5964120" y="1847880"/>
            <a:chExt cx="1738440" cy="1538280"/>
          </a:xfrm>
        </p:grpSpPr>
        <p:sp>
          <p:nvSpPr>
            <p:cNvPr id="106" name=""/>
            <p:cNvSpPr/>
            <p:nvPr/>
          </p:nvSpPr>
          <p:spPr>
            <a:xfrm>
              <a:off x="5997600" y="1871640"/>
              <a:ext cx="1670040" cy="1490760"/>
            </a:xfrm>
            <a:custGeom>
              <a:avLst/>
              <a:gdLst/>
              <a:ahLst/>
              <a:rect l="l" t="t" r="r" b="b"/>
              <a:pathLst>
                <a:path w="1078" h="963">
                  <a:moveTo>
                    <a:pt x="0" y="935"/>
                  </a:moveTo>
                  <a:lnTo>
                    <a:pt x="0" y="907"/>
                  </a:lnTo>
                  <a:lnTo>
                    <a:pt x="511" y="28"/>
                  </a:lnTo>
                  <a:lnTo>
                    <a:pt x="539" y="0"/>
                  </a:lnTo>
                  <a:lnTo>
                    <a:pt x="567" y="28"/>
                  </a:lnTo>
                  <a:lnTo>
                    <a:pt x="1078" y="907"/>
                  </a:lnTo>
                  <a:lnTo>
                    <a:pt x="1078" y="935"/>
                  </a:lnTo>
                  <a:lnTo>
                    <a:pt x="1049" y="963"/>
                  </a:lnTo>
                  <a:lnTo>
                    <a:pt x="29" y="963"/>
                  </a:lnTo>
                  <a:lnTo>
                    <a:pt x="0" y="93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64120" y="1847880"/>
              <a:ext cx="1738440" cy="1538280"/>
            </a:xfrm>
            <a:custGeom>
              <a:avLst/>
              <a:gdLst/>
              <a:ahLst/>
              <a:rect l="l" t="t" r="r" b="b"/>
              <a:pathLst>
                <a:path w="1095" h="969">
                  <a:moveTo>
                    <a:pt x="519" y="91"/>
                  </a:moveTo>
                  <a:cubicBezTo>
                    <a:pt x="519" y="91"/>
                    <a:pt x="529" y="64"/>
                    <a:pt x="547" y="62"/>
                  </a:cubicBezTo>
                  <a:cubicBezTo>
                    <a:pt x="564" y="61"/>
                    <a:pt x="575" y="91"/>
                    <a:pt x="575" y="91"/>
                  </a:cubicBezTo>
                  <a:lnTo>
                    <a:pt x="1029" y="913"/>
                  </a:lnTo>
                  <a:lnTo>
                    <a:pt x="547" y="913"/>
                  </a:lnTo>
                  <a:lnTo>
                    <a:pt x="547" y="969"/>
                  </a:lnTo>
                  <a:lnTo>
                    <a:pt x="1057" y="969"/>
                  </a:lnTo>
                  <a:cubicBezTo>
                    <a:pt x="1057" y="969"/>
                    <a:pt x="1075" y="956"/>
                    <a:pt x="1086" y="941"/>
                  </a:cubicBezTo>
                  <a:cubicBezTo>
                    <a:pt x="1095" y="929"/>
                    <a:pt x="1086" y="913"/>
                    <a:pt x="1086" y="913"/>
                  </a:cubicBezTo>
                  <a:lnTo>
                    <a:pt x="604" y="34"/>
                  </a:lnTo>
                  <a:cubicBezTo>
                    <a:pt x="604" y="34"/>
                    <a:pt x="585" y="11"/>
                    <a:pt x="575" y="6"/>
                  </a:cubicBezTo>
                  <a:cubicBezTo>
                    <a:pt x="565" y="1"/>
                    <a:pt x="553" y="1"/>
                    <a:pt x="544" y="1"/>
                  </a:cubicBezTo>
                  <a:cubicBezTo>
                    <a:pt x="535" y="1"/>
                    <a:pt x="528" y="0"/>
                    <a:pt x="519" y="6"/>
                  </a:cubicBezTo>
                  <a:cubicBezTo>
                    <a:pt x="496" y="17"/>
                    <a:pt x="490" y="34"/>
                    <a:pt x="490" y="34"/>
                  </a:cubicBezTo>
                  <a:lnTo>
                    <a:pt x="8" y="913"/>
                  </a:lnTo>
                  <a:cubicBezTo>
                    <a:pt x="8" y="913"/>
                    <a:pt x="0" y="928"/>
                    <a:pt x="8" y="941"/>
                  </a:cubicBezTo>
                  <a:cubicBezTo>
                    <a:pt x="19" y="962"/>
                    <a:pt x="37" y="969"/>
                    <a:pt x="37" y="969"/>
                  </a:cubicBezTo>
                  <a:cubicBezTo>
                    <a:pt x="292" y="969"/>
                    <a:pt x="547" y="969"/>
                    <a:pt x="547" y="969"/>
                  </a:cubicBezTo>
                  <a:lnTo>
                    <a:pt x="547" y="913"/>
                  </a:lnTo>
                  <a:lnTo>
                    <a:pt x="65" y="913"/>
                  </a:lnTo>
                  <a:lnTo>
                    <a:pt x="519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6716880" y="2214720"/>
              <a:ext cx="231480" cy="1035000"/>
              <a:chOff x="6716880" y="2214720"/>
              <a:chExt cx="231480" cy="1035000"/>
            </a:xfrm>
          </p:grpSpPr>
          <p:sp>
            <p:nvSpPr>
              <p:cNvPr id="109" name=""/>
              <p:cNvSpPr/>
              <p:nvPr/>
            </p:nvSpPr>
            <p:spPr>
              <a:xfrm>
                <a:off x="6765840" y="3114720"/>
                <a:ext cx="134640" cy="135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716880" y="2214720"/>
                <a:ext cx="231480" cy="855720"/>
              </a:xfrm>
              <a:custGeom>
                <a:avLst/>
                <a:gdLst/>
                <a:ahLst/>
                <a:rect l="l" t="t" r="r" b="b"/>
                <a:pathLst>
                  <a:path w="146" h="567">
                    <a:moveTo>
                      <a:pt x="58" y="0"/>
                    </a:moveTo>
                    <a:lnTo>
                      <a:pt x="86" y="0"/>
                    </a:lnTo>
                    <a:lnTo>
                      <a:pt x="120" y="8"/>
                    </a:lnTo>
                    <a:lnTo>
                      <a:pt x="137" y="26"/>
                    </a:lnTo>
                    <a:lnTo>
                      <a:pt x="146" y="58"/>
                    </a:lnTo>
                    <a:lnTo>
                      <a:pt x="143" y="81"/>
                    </a:lnTo>
                    <a:lnTo>
                      <a:pt x="86" y="567"/>
                    </a:lnTo>
                    <a:lnTo>
                      <a:pt x="58" y="567"/>
                    </a:lnTo>
                    <a:lnTo>
                      <a:pt x="1" y="81"/>
                    </a:lnTo>
                    <a:lnTo>
                      <a:pt x="0" y="58"/>
                    </a:lnTo>
                    <a:lnTo>
                      <a:pt x="8" y="29"/>
                    </a:lnTo>
                    <a:lnTo>
                      <a:pt x="29" y="1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4098960" y="1865160"/>
            <a:ext cx="1738440" cy="1538280"/>
            <a:chOff x="4098960" y="1865160"/>
            <a:chExt cx="1738440" cy="1538280"/>
          </a:xfrm>
        </p:grpSpPr>
        <p:sp>
          <p:nvSpPr>
            <p:cNvPr id="112" name=""/>
            <p:cNvSpPr/>
            <p:nvPr/>
          </p:nvSpPr>
          <p:spPr>
            <a:xfrm>
              <a:off x="4132440" y="1889280"/>
              <a:ext cx="1670040" cy="1490400"/>
            </a:xfrm>
            <a:custGeom>
              <a:avLst/>
              <a:gdLst/>
              <a:ahLst/>
              <a:rect l="l" t="t" r="r" b="b"/>
              <a:pathLst>
                <a:path w="1078" h="963">
                  <a:moveTo>
                    <a:pt x="0" y="935"/>
                  </a:moveTo>
                  <a:lnTo>
                    <a:pt x="0" y="907"/>
                  </a:lnTo>
                  <a:lnTo>
                    <a:pt x="511" y="28"/>
                  </a:lnTo>
                  <a:lnTo>
                    <a:pt x="539" y="0"/>
                  </a:lnTo>
                  <a:lnTo>
                    <a:pt x="567" y="28"/>
                  </a:lnTo>
                  <a:lnTo>
                    <a:pt x="1078" y="907"/>
                  </a:lnTo>
                  <a:lnTo>
                    <a:pt x="1078" y="935"/>
                  </a:lnTo>
                  <a:lnTo>
                    <a:pt x="1049" y="963"/>
                  </a:lnTo>
                  <a:lnTo>
                    <a:pt x="29" y="963"/>
                  </a:lnTo>
                  <a:lnTo>
                    <a:pt x="0" y="935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98960" y="1865160"/>
              <a:ext cx="1738440" cy="1538280"/>
            </a:xfrm>
            <a:custGeom>
              <a:avLst/>
              <a:gdLst/>
              <a:ahLst/>
              <a:rect l="l" t="t" r="r" b="b"/>
              <a:pathLst>
                <a:path w="1095" h="969">
                  <a:moveTo>
                    <a:pt x="519" y="91"/>
                  </a:moveTo>
                  <a:cubicBezTo>
                    <a:pt x="519" y="91"/>
                    <a:pt x="529" y="64"/>
                    <a:pt x="547" y="62"/>
                  </a:cubicBezTo>
                  <a:cubicBezTo>
                    <a:pt x="564" y="61"/>
                    <a:pt x="575" y="91"/>
                    <a:pt x="575" y="91"/>
                  </a:cubicBezTo>
                  <a:lnTo>
                    <a:pt x="1029" y="913"/>
                  </a:lnTo>
                  <a:lnTo>
                    <a:pt x="547" y="913"/>
                  </a:lnTo>
                  <a:lnTo>
                    <a:pt x="547" y="969"/>
                  </a:lnTo>
                  <a:lnTo>
                    <a:pt x="1057" y="969"/>
                  </a:lnTo>
                  <a:cubicBezTo>
                    <a:pt x="1057" y="969"/>
                    <a:pt x="1075" y="956"/>
                    <a:pt x="1086" y="941"/>
                  </a:cubicBezTo>
                  <a:cubicBezTo>
                    <a:pt x="1095" y="929"/>
                    <a:pt x="1086" y="913"/>
                    <a:pt x="1086" y="913"/>
                  </a:cubicBezTo>
                  <a:lnTo>
                    <a:pt x="604" y="34"/>
                  </a:lnTo>
                  <a:cubicBezTo>
                    <a:pt x="604" y="34"/>
                    <a:pt x="585" y="11"/>
                    <a:pt x="575" y="6"/>
                  </a:cubicBezTo>
                  <a:cubicBezTo>
                    <a:pt x="565" y="1"/>
                    <a:pt x="553" y="1"/>
                    <a:pt x="544" y="1"/>
                  </a:cubicBezTo>
                  <a:cubicBezTo>
                    <a:pt x="535" y="1"/>
                    <a:pt x="528" y="0"/>
                    <a:pt x="519" y="6"/>
                  </a:cubicBezTo>
                  <a:cubicBezTo>
                    <a:pt x="496" y="17"/>
                    <a:pt x="490" y="34"/>
                    <a:pt x="490" y="34"/>
                  </a:cubicBezTo>
                  <a:lnTo>
                    <a:pt x="8" y="913"/>
                  </a:lnTo>
                  <a:cubicBezTo>
                    <a:pt x="8" y="913"/>
                    <a:pt x="0" y="928"/>
                    <a:pt x="8" y="941"/>
                  </a:cubicBezTo>
                  <a:cubicBezTo>
                    <a:pt x="19" y="962"/>
                    <a:pt x="37" y="969"/>
                    <a:pt x="37" y="969"/>
                  </a:cubicBezTo>
                  <a:cubicBezTo>
                    <a:pt x="292" y="969"/>
                    <a:pt x="547" y="969"/>
                    <a:pt x="547" y="969"/>
                  </a:cubicBezTo>
                  <a:lnTo>
                    <a:pt x="547" y="913"/>
                  </a:lnTo>
                  <a:lnTo>
                    <a:pt x="65" y="913"/>
                  </a:lnTo>
                  <a:lnTo>
                    <a:pt x="519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4851360" y="2214720"/>
              <a:ext cx="231840" cy="1035000"/>
              <a:chOff x="4851360" y="2214720"/>
              <a:chExt cx="231840" cy="1035000"/>
            </a:xfrm>
          </p:grpSpPr>
          <p:sp>
            <p:nvSpPr>
              <p:cNvPr id="115" name=""/>
              <p:cNvSpPr/>
              <p:nvPr/>
            </p:nvSpPr>
            <p:spPr>
              <a:xfrm>
                <a:off x="4898880" y="3114720"/>
                <a:ext cx="135000" cy="135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851360" y="2214720"/>
                <a:ext cx="231840" cy="855720"/>
              </a:xfrm>
              <a:custGeom>
                <a:avLst/>
                <a:gdLst/>
                <a:ahLst/>
                <a:rect l="l" t="t" r="r" b="b"/>
                <a:pathLst>
                  <a:path w="146" h="567">
                    <a:moveTo>
                      <a:pt x="58" y="0"/>
                    </a:moveTo>
                    <a:lnTo>
                      <a:pt x="86" y="0"/>
                    </a:lnTo>
                    <a:lnTo>
                      <a:pt x="120" y="8"/>
                    </a:lnTo>
                    <a:lnTo>
                      <a:pt x="137" y="26"/>
                    </a:lnTo>
                    <a:lnTo>
                      <a:pt x="146" y="58"/>
                    </a:lnTo>
                    <a:lnTo>
                      <a:pt x="143" y="81"/>
                    </a:lnTo>
                    <a:lnTo>
                      <a:pt x="86" y="567"/>
                    </a:lnTo>
                    <a:lnTo>
                      <a:pt x="58" y="567"/>
                    </a:lnTo>
                    <a:lnTo>
                      <a:pt x="1" y="81"/>
                    </a:lnTo>
                    <a:lnTo>
                      <a:pt x="0" y="58"/>
                    </a:lnTo>
                    <a:lnTo>
                      <a:pt x="8" y="29"/>
                    </a:lnTo>
                    <a:lnTo>
                      <a:pt x="29" y="1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2208240" y="1871640"/>
            <a:ext cx="1738440" cy="1538280"/>
            <a:chOff x="2208240" y="1871640"/>
            <a:chExt cx="1738440" cy="1538280"/>
          </a:xfrm>
        </p:grpSpPr>
        <p:sp>
          <p:nvSpPr>
            <p:cNvPr id="118" name=""/>
            <p:cNvSpPr/>
            <p:nvPr/>
          </p:nvSpPr>
          <p:spPr>
            <a:xfrm>
              <a:off x="2241720" y="1895400"/>
              <a:ext cx="1670040" cy="1490760"/>
            </a:xfrm>
            <a:custGeom>
              <a:avLst/>
              <a:gdLst/>
              <a:ahLst/>
              <a:rect l="l" t="t" r="r" b="b"/>
              <a:pathLst>
                <a:path w="1078" h="963">
                  <a:moveTo>
                    <a:pt x="0" y="935"/>
                  </a:moveTo>
                  <a:lnTo>
                    <a:pt x="0" y="907"/>
                  </a:lnTo>
                  <a:lnTo>
                    <a:pt x="511" y="28"/>
                  </a:lnTo>
                  <a:lnTo>
                    <a:pt x="539" y="0"/>
                  </a:lnTo>
                  <a:lnTo>
                    <a:pt x="567" y="28"/>
                  </a:lnTo>
                  <a:lnTo>
                    <a:pt x="1078" y="907"/>
                  </a:lnTo>
                  <a:lnTo>
                    <a:pt x="1078" y="935"/>
                  </a:lnTo>
                  <a:lnTo>
                    <a:pt x="1049" y="963"/>
                  </a:lnTo>
                  <a:lnTo>
                    <a:pt x="29" y="963"/>
                  </a:lnTo>
                  <a:lnTo>
                    <a:pt x="0" y="93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08240" y="1871640"/>
              <a:ext cx="1738440" cy="1538280"/>
            </a:xfrm>
            <a:custGeom>
              <a:avLst/>
              <a:gdLst/>
              <a:ahLst/>
              <a:rect l="l" t="t" r="r" b="b"/>
              <a:pathLst>
                <a:path w="1095" h="969">
                  <a:moveTo>
                    <a:pt x="519" y="91"/>
                  </a:moveTo>
                  <a:cubicBezTo>
                    <a:pt x="519" y="91"/>
                    <a:pt x="529" y="64"/>
                    <a:pt x="547" y="62"/>
                  </a:cubicBezTo>
                  <a:cubicBezTo>
                    <a:pt x="564" y="61"/>
                    <a:pt x="575" y="91"/>
                    <a:pt x="575" y="91"/>
                  </a:cubicBezTo>
                  <a:lnTo>
                    <a:pt x="1029" y="913"/>
                  </a:lnTo>
                  <a:lnTo>
                    <a:pt x="547" y="913"/>
                  </a:lnTo>
                  <a:lnTo>
                    <a:pt x="547" y="969"/>
                  </a:lnTo>
                  <a:lnTo>
                    <a:pt x="1057" y="969"/>
                  </a:lnTo>
                  <a:cubicBezTo>
                    <a:pt x="1057" y="969"/>
                    <a:pt x="1075" y="956"/>
                    <a:pt x="1086" y="941"/>
                  </a:cubicBezTo>
                  <a:cubicBezTo>
                    <a:pt x="1095" y="929"/>
                    <a:pt x="1086" y="913"/>
                    <a:pt x="1086" y="913"/>
                  </a:cubicBezTo>
                  <a:lnTo>
                    <a:pt x="604" y="34"/>
                  </a:lnTo>
                  <a:cubicBezTo>
                    <a:pt x="604" y="34"/>
                    <a:pt x="585" y="11"/>
                    <a:pt x="575" y="6"/>
                  </a:cubicBezTo>
                  <a:cubicBezTo>
                    <a:pt x="565" y="1"/>
                    <a:pt x="553" y="1"/>
                    <a:pt x="544" y="1"/>
                  </a:cubicBezTo>
                  <a:cubicBezTo>
                    <a:pt x="535" y="1"/>
                    <a:pt x="528" y="0"/>
                    <a:pt x="519" y="6"/>
                  </a:cubicBezTo>
                  <a:cubicBezTo>
                    <a:pt x="496" y="17"/>
                    <a:pt x="490" y="34"/>
                    <a:pt x="490" y="34"/>
                  </a:cubicBezTo>
                  <a:lnTo>
                    <a:pt x="8" y="913"/>
                  </a:lnTo>
                  <a:cubicBezTo>
                    <a:pt x="8" y="913"/>
                    <a:pt x="0" y="928"/>
                    <a:pt x="8" y="941"/>
                  </a:cubicBezTo>
                  <a:cubicBezTo>
                    <a:pt x="19" y="962"/>
                    <a:pt x="37" y="969"/>
                    <a:pt x="37" y="969"/>
                  </a:cubicBezTo>
                  <a:cubicBezTo>
                    <a:pt x="292" y="969"/>
                    <a:pt x="547" y="969"/>
                    <a:pt x="547" y="969"/>
                  </a:cubicBezTo>
                  <a:lnTo>
                    <a:pt x="547" y="913"/>
                  </a:lnTo>
                  <a:lnTo>
                    <a:pt x="65" y="913"/>
                  </a:lnTo>
                  <a:lnTo>
                    <a:pt x="519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2960640" y="2214720"/>
              <a:ext cx="231840" cy="1035000"/>
              <a:chOff x="2960640" y="2214720"/>
              <a:chExt cx="231840" cy="1035000"/>
            </a:xfrm>
          </p:grpSpPr>
          <p:sp>
            <p:nvSpPr>
              <p:cNvPr id="121" name=""/>
              <p:cNvSpPr/>
              <p:nvPr/>
            </p:nvSpPr>
            <p:spPr>
              <a:xfrm>
                <a:off x="3008160" y="3114720"/>
                <a:ext cx="135000" cy="135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960640" y="2214720"/>
                <a:ext cx="231840" cy="855720"/>
              </a:xfrm>
              <a:custGeom>
                <a:avLst/>
                <a:gdLst/>
                <a:ahLst/>
                <a:rect l="l" t="t" r="r" b="b"/>
                <a:pathLst>
                  <a:path w="146" h="567">
                    <a:moveTo>
                      <a:pt x="58" y="0"/>
                    </a:moveTo>
                    <a:lnTo>
                      <a:pt x="86" y="0"/>
                    </a:lnTo>
                    <a:lnTo>
                      <a:pt x="120" y="8"/>
                    </a:lnTo>
                    <a:lnTo>
                      <a:pt x="137" y="26"/>
                    </a:lnTo>
                    <a:lnTo>
                      <a:pt x="146" y="58"/>
                    </a:lnTo>
                    <a:lnTo>
                      <a:pt x="143" y="81"/>
                    </a:lnTo>
                    <a:lnTo>
                      <a:pt x="86" y="567"/>
                    </a:lnTo>
                    <a:lnTo>
                      <a:pt x="58" y="567"/>
                    </a:lnTo>
                    <a:lnTo>
                      <a:pt x="1" y="81"/>
                    </a:lnTo>
                    <a:lnTo>
                      <a:pt x="0" y="58"/>
                    </a:lnTo>
                    <a:lnTo>
                      <a:pt x="8" y="29"/>
                    </a:lnTo>
                    <a:lnTo>
                      <a:pt x="29" y="1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317520" y="1854360"/>
            <a:ext cx="1738440" cy="1550880"/>
            <a:chOff x="317520" y="1854360"/>
            <a:chExt cx="1738440" cy="1550880"/>
          </a:xfrm>
        </p:grpSpPr>
        <p:sp>
          <p:nvSpPr>
            <p:cNvPr id="124" name=""/>
            <p:cNvSpPr/>
            <p:nvPr/>
          </p:nvSpPr>
          <p:spPr>
            <a:xfrm>
              <a:off x="351000" y="1914480"/>
              <a:ext cx="1670040" cy="1490760"/>
            </a:xfrm>
            <a:custGeom>
              <a:avLst/>
              <a:gdLst/>
              <a:ahLst/>
              <a:rect l="l" t="t" r="r" b="b"/>
              <a:pathLst>
                <a:path w="1078" h="963">
                  <a:moveTo>
                    <a:pt x="0" y="935"/>
                  </a:moveTo>
                  <a:lnTo>
                    <a:pt x="0" y="907"/>
                  </a:lnTo>
                  <a:lnTo>
                    <a:pt x="511" y="28"/>
                  </a:lnTo>
                  <a:lnTo>
                    <a:pt x="539" y="0"/>
                  </a:lnTo>
                  <a:lnTo>
                    <a:pt x="567" y="28"/>
                  </a:lnTo>
                  <a:lnTo>
                    <a:pt x="1078" y="907"/>
                  </a:lnTo>
                  <a:lnTo>
                    <a:pt x="1078" y="935"/>
                  </a:lnTo>
                  <a:lnTo>
                    <a:pt x="1049" y="963"/>
                  </a:lnTo>
                  <a:lnTo>
                    <a:pt x="29" y="963"/>
                  </a:lnTo>
                  <a:lnTo>
                    <a:pt x="0" y="9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7520" y="1854360"/>
              <a:ext cx="1738440" cy="1538280"/>
            </a:xfrm>
            <a:custGeom>
              <a:avLst/>
              <a:gdLst/>
              <a:ahLst/>
              <a:rect l="l" t="t" r="r" b="b"/>
              <a:pathLst>
                <a:path w="1095" h="969">
                  <a:moveTo>
                    <a:pt x="519" y="91"/>
                  </a:moveTo>
                  <a:cubicBezTo>
                    <a:pt x="519" y="91"/>
                    <a:pt x="529" y="64"/>
                    <a:pt x="547" y="62"/>
                  </a:cubicBezTo>
                  <a:cubicBezTo>
                    <a:pt x="564" y="61"/>
                    <a:pt x="575" y="91"/>
                    <a:pt x="575" y="91"/>
                  </a:cubicBezTo>
                  <a:lnTo>
                    <a:pt x="1029" y="913"/>
                  </a:lnTo>
                  <a:lnTo>
                    <a:pt x="547" y="913"/>
                  </a:lnTo>
                  <a:lnTo>
                    <a:pt x="547" y="969"/>
                  </a:lnTo>
                  <a:lnTo>
                    <a:pt x="1057" y="969"/>
                  </a:lnTo>
                  <a:cubicBezTo>
                    <a:pt x="1057" y="969"/>
                    <a:pt x="1075" y="956"/>
                    <a:pt x="1086" y="941"/>
                  </a:cubicBezTo>
                  <a:cubicBezTo>
                    <a:pt x="1095" y="929"/>
                    <a:pt x="1086" y="913"/>
                    <a:pt x="1086" y="913"/>
                  </a:cubicBezTo>
                  <a:lnTo>
                    <a:pt x="604" y="34"/>
                  </a:lnTo>
                  <a:cubicBezTo>
                    <a:pt x="604" y="34"/>
                    <a:pt x="585" y="11"/>
                    <a:pt x="575" y="6"/>
                  </a:cubicBezTo>
                  <a:cubicBezTo>
                    <a:pt x="565" y="1"/>
                    <a:pt x="553" y="1"/>
                    <a:pt x="544" y="1"/>
                  </a:cubicBezTo>
                  <a:cubicBezTo>
                    <a:pt x="535" y="1"/>
                    <a:pt x="528" y="0"/>
                    <a:pt x="519" y="6"/>
                  </a:cubicBezTo>
                  <a:cubicBezTo>
                    <a:pt x="496" y="17"/>
                    <a:pt x="490" y="34"/>
                    <a:pt x="490" y="34"/>
                  </a:cubicBezTo>
                  <a:lnTo>
                    <a:pt x="8" y="913"/>
                  </a:lnTo>
                  <a:cubicBezTo>
                    <a:pt x="8" y="913"/>
                    <a:pt x="0" y="928"/>
                    <a:pt x="8" y="941"/>
                  </a:cubicBezTo>
                  <a:cubicBezTo>
                    <a:pt x="19" y="962"/>
                    <a:pt x="37" y="969"/>
                    <a:pt x="37" y="969"/>
                  </a:cubicBezTo>
                  <a:cubicBezTo>
                    <a:pt x="292" y="969"/>
                    <a:pt x="547" y="969"/>
                    <a:pt x="547" y="969"/>
                  </a:cubicBezTo>
                  <a:lnTo>
                    <a:pt x="547" y="913"/>
                  </a:lnTo>
                  <a:lnTo>
                    <a:pt x="65" y="913"/>
                  </a:lnTo>
                  <a:lnTo>
                    <a:pt x="519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069920" y="2214720"/>
              <a:ext cx="231840" cy="1035000"/>
              <a:chOff x="1069920" y="2214720"/>
              <a:chExt cx="231840" cy="1035000"/>
            </a:xfrm>
          </p:grpSpPr>
          <p:sp>
            <p:nvSpPr>
              <p:cNvPr id="127" name=""/>
              <p:cNvSpPr/>
              <p:nvPr/>
            </p:nvSpPr>
            <p:spPr>
              <a:xfrm>
                <a:off x="1117440" y="3114720"/>
                <a:ext cx="135000" cy="135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069920" y="2214720"/>
                <a:ext cx="231840" cy="855720"/>
              </a:xfrm>
              <a:custGeom>
                <a:avLst/>
                <a:gdLst/>
                <a:ahLst/>
                <a:rect l="l" t="t" r="r" b="b"/>
                <a:pathLst>
                  <a:path w="146" h="567">
                    <a:moveTo>
                      <a:pt x="58" y="0"/>
                    </a:moveTo>
                    <a:lnTo>
                      <a:pt x="86" y="0"/>
                    </a:lnTo>
                    <a:lnTo>
                      <a:pt x="120" y="8"/>
                    </a:lnTo>
                    <a:lnTo>
                      <a:pt x="137" y="26"/>
                    </a:lnTo>
                    <a:lnTo>
                      <a:pt x="146" y="58"/>
                    </a:lnTo>
                    <a:lnTo>
                      <a:pt x="143" y="81"/>
                    </a:lnTo>
                    <a:lnTo>
                      <a:pt x="86" y="567"/>
                    </a:lnTo>
                    <a:lnTo>
                      <a:pt x="58" y="567"/>
                    </a:lnTo>
                    <a:lnTo>
                      <a:pt x="1" y="81"/>
                    </a:lnTo>
                    <a:lnTo>
                      <a:pt x="0" y="58"/>
                    </a:lnTo>
                    <a:lnTo>
                      <a:pt x="8" y="29"/>
                    </a:lnTo>
                    <a:lnTo>
                      <a:pt x="29" y="1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" name=""/>
          <p:cNvGrpSpPr/>
          <p:nvPr/>
        </p:nvGrpSpPr>
        <p:grpSpPr>
          <a:xfrm>
            <a:off x="7859880" y="5089680"/>
            <a:ext cx="1719000" cy="1535040"/>
            <a:chOff x="7859880" y="5089680"/>
            <a:chExt cx="1719000" cy="1535040"/>
          </a:xfrm>
        </p:grpSpPr>
        <p:sp>
          <p:nvSpPr>
            <p:cNvPr id="130" name=""/>
            <p:cNvSpPr/>
            <p:nvPr/>
          </p:nvSpPr>
          <p:spPr>
            <a:xfrm>
              <a:off x="7883640" y="5111640"/>
              <a:ext cx="1670040" cy="1490760"/>
            </a:xfrm>
            <a:custGeom>
              <a:avLst/>
              <a:gdLst/>
              <a:ahLst/>
              <a:rect l="l" t="t" r="r" b="b"/>
              <a:pathLst>
                <a:path w="1078" h="963">
                  <a:moveTo>
                    <a:pt x="0" y="935"/>
                  </a:moveTo>
                  <a:lnTo>
                    <a:pt x="0" y="907"/>
                  </a:lnTo>
                  <a:lnTo>
                    <a:pt x="511" y="28"/>
                  </a:lnTo>
                  <a:lnTo>
                    <a:pt x="539" y="0"/>
                  </a:lnTo>
                  <a:lnTo>
                    <a:pt x="567" y="28"/>
                  </a:lnTo>
                  <a:lnTo>
                    <a:pt x="1078" y="907"/>
                  </a:lnTo>
                  <a:lnTo>
                    <a:pt x="1078" y="935"/>
                  </a:lnTo>
                  <a:lnTo>
                    <a:pt x="1049" y="963"/>
                  </a:lnTo>
                  <a:lnTo>
                    <a:pt x="29" y="963"/>
                  </a:lnTo>
                  <a:lnTo>
                    <a:pt x="0" y="935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99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59880" y="5089680"/>
              <a:ext cx="1719000" cy="1535040"/>
            </a:xfrm>
            <a:custGeom>
              <a:avLst/>
              <a:gdLst/>
              <a:ahLst/>
              <a:rect l="l" t="t" r="r" b="b"/>
              <a:pathLst>
                <a:path w="1083" h="967">
                  <a:moveTo>
                    <a:pt x="177" y="851"/>
                  </a:moveTo>
                  <a:lnTo>
                    <a:pt x="184" y="854"/>
                  </a:lnTo>
                  <a:lnTo>
                    <a:pt x="541" y="854"/>
                  </a:lnTo>
                  <a:lnTo>
                    <a:pt x="541" y="967"/>
                  </a:lnTo>
                  <a:lnTo>
                    <a:pt x="30" y="967"/>
                  </a:lnTo>
                  <a:lnTo>
                    <a:pt x="16" y="957"/>
                  </a:lnTo>
                  <a:lnTo>
                    <a:pt x="2" y="939"/>
                  </a:lnTo>
                  <a:lnTo>
                    <a:pt x="0" y="923"/>
                  </a:lnTo>
                  <a:lnTo>
                    <a:pt x="2" y="911"/>
                  </a:lnTo>
                  <a:lnTo>
                    <a:pt x="484" y="32"/>
                  </a:lnTo>
                  <a:lnTo>
                    <a:pt x="493" y="17"/>
                  </a:lnTo>
                  <a:lnTo>
                    <a:pt x="512" y="4"/>
                  </a:lnTo>
                  <a:lnTo>
                    <a:pt x="541" y="0"/>
                  </a:lnTo>
                  <a:lnTo>
                    <a:pt x="569" y="4"/>
                  </a:lnTo>
                  <a:lnTo>
                    <a:pt x="585" y="18"/>
                  </a:lnTo>
                  <a:lnTo>
                    <a:pt x="597" y="32"/>
                  </a:lnTo>
                  <a:lnTo>
                    <a:pt x="1079" y="911"/>
                  </a:lnTo>
                  <a:lnTo>
                    <a:pt x="1083" y="926"/>
                  </a:lnTo>
                  <a:lnTo>
                    <a:pt x="1079" y="939"/>
                  </a:lnTo>
                  <a:lnTo>
                    <a:pt x="1068" y="956"/>
                  </a:lnTo>
                  <a:lnTo>
                    <a:pt x="1051" y="967"/>
                  </a:lnTo>
                  <a:lnTo>
                    <a:pt x="541" y="967"/>
                  </a:lnTo>
                  <a:lnTo>
                    <a:pt x="541" y="854"/>
                  </a:lnTo>
                  <a:lnTo>
                    <a:pt x="895" y="854"/>
                  </a:lnTo>
                  <a:lnTo>
                    <a:pt x="901" y="846"/>
                  </a:lnTo>
                  <a:lnTo>
                    <a:pt x="900" y="839"/>
                  </a:lnTo>
                  <a:lnTo>
                    <a:pt x="550" y="194"/>
                  </a:lnTo>
                  <a:lnTo>
                    <a:pt x="541" y="185"/>
                  </a:lnTo>
                  <a:lnTo>
                    <a:pt x="529" y="194"/>
                  </a:lnTo>
                  <a:lnTo>
                    <a:pt x="178" y="845"/>
                  </a:lnTo>
                  <a:lnTo>
                    <a:pt x="177" y="851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8561520" y="5589720"/>
              <a:ext cx="314280" cy="833400"/>
              <a:chOff x="8561520" y="5589720"/>
              <a:chExt cx="314280" cy="833400"/>
            </a:xfrm>
          </p:grpSpPr>
          <p:sp>
            <p:nvSpPr>
              <p:cNvPr id="133" name=""/>
              <p:cNvSpPr/>
              <p:nvPr/>
            </p:nvSpPr>
            <p:spPr>
              <a:xfrm>
                <a:off x="8628120" y="6242040"/>
                <a:ext cx="181080" cy="181080"/>
              </a:xfrm>
              <a:prstGeom prst="ellipse">
                <a:avLst/>
              </a:pr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561520" y="5589720"/>
                <a:ext cx="314280" cy="630000"/>
              </a:xfrm>
              <a:custGeom>
                <a:avLst/>
                <a:gdLst/>
                <a:ahLst/>
                <a:rect l="l" t="t" r="r" b="b"/>
                <a:pathLst>
                  <a:path w="198" h="368">
                    <a:moveTo>
                      <a:pt x="49" y="368"/>
                    </a:moveTo>
                    <a:lnTo>
                      <a:pt x="149" y="368"/>
                    </a:lnTo>
                    <a:lnTo>
                      <a:pt x="198" y="142"/>
                    </a:lnTo>
                    <a:lnTo>
                      <a:pt x="198" y="85"/>
                    </a:lnTo>
                    <a:lnTo>
                      <a:pt x="186" y="52"/>
                    </a:lnTo>
                    <a:lnTo>
                      <a:pt x="173" y="28"/>
                    </a:lnTo>
                    <a:lnTo>
                      <a:pt x="149" y="9"/>
                    </a:lnTo>
                    <a:lnTo>
                      <a:pt x="124" y="0"/>
                    </a:lnTo>
                    <a:lnTo>
                      <a:pt x="74" y="0"/>
                    </a:lnTo>
                    <a:lnTo>
                      <a:pt x="50" y="10"/>
                    </a:lnTo>
                    <a:lnTo>
                      <a:pt x="25" y="28"/>
                    </a:lnTo>
                    <a:lnTo>
                      <a:pt x="11" y="52"/>
                    </a:lnTo>
                    <a:lnTo>
                      <a:pt x="0" y="85"/>
                    </a:lnTo>
                    <a:lnTo>
                      <a:pt x="0" y="142"/>
                    </a:lnTo>
                    <a:lnTo>
                      <a:pt x="49" y="3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"/>
          <p:cNvGrpSpPr/>
          <p:nvPr/>
        </p:nvGrpSpPr>
        <p:grpSpPr>
          <a:xfrm>
            <a:off x="5973840" y="5091120"/>
            <a:ext cx="1719360" cy="1535040"/>
            <a:chOff x="5973840" y="5091120"/>
            <a:chExt cx="1719360" cy="1535040"/>
          </a:xfrm>
        </p:grpSpPr>
        <p:sp>
          <p:nvSpPr>
            <p:cNvPr id="136" name=""/>
            <p:cNvSpPr/>
            <p:nvPr/>
          </p:nvSpPr>
          <p:spPr>
            <a:xfrm>
              <a:off x="5997600" y="5113440"/>
              <a:ext cx="1670040" cy="1490400"/>
            </a:xfrm>
            <a:custGeom>
              <a:avLst/>
              <a:gdLst/>
              <a:ahLst/>
              <a:rect l="l" t="t" r="r" b="b"/>
              <a:pathLst>
                <a:path w="1078" h="963">
                  <a:moveTo>
                    <a:pt x="0" y="935"/>
                  </a:moveTo>
                  <a:lnTo>
                    <a:pt x="0" y="907"/>
                  </a:lnTo>
                  <a:lnTo>
                    <a:pt x="511" y="28"/>
                  </a:lnTo>
                  <a:lnTo>
                    <a:pt x="539" y="0"/>
                  </a:lnTo>
                  <a:lnTo>
                    <a:pt x="567" y="28"/>
                  </a:lnTo>
                  <a:lnTo>
                    <a:pt x="1078" y="907"/>
                  </a:lnTo>
                  <a:lnTo>
                    <a:pt x="1078" y="935"/>
                  </a:lnTo>
                  <a:lnTo>
                    <a:pt x="1049" y="963"/>
                  </a:lnTo>
                  <a:lnTo>
                    <a:pt x="29" y="963"/>
                  </a:lnTo>
                  <a:lnTo>
                    <a:pt x="0" y="93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73840" y="5091120"/>
              <a:ext cx="1719360" cy="1535040"/>
            </a:xfrm>
            <a:custGeom>
              <a:avLst/>
              <a:gdLst/>
              <a:ahLst/>
              <a:rect l="l" t="t" r="r" b="b"/>
              <a:pathLst>
                <a:path w="1083" h="967">
                  <a:moveTo>
                    <a:pt x="177" y="851"/>
                  </a:moveTo>
                  <a:lnTo>
                    <a:pt x="184" y="854"/>
                  </a:lnTo>
                  <a:lnTo>
                    <a:pt x="541" y="854"/>
                  </a:lnTo>
                  <a:lnTo>
                    <a:pt x="541" y="967"/>
                  </a:lnTo>
                  <a:lnTo>
                    <a:pt x="30" y="967"/>
                  </a:lnTo>
                  <a:lnTo>
                    <a:pt x="16" y="957"/>
                  </a:lnTo>
                  <a:lnTo>
                    <a:pt x="2" y="939"/>
                  </a:lnTo>
                  <a:lnTo>
                    <a:pt x="0" y="923"/>
                  </a:lnTo>
                  <a:lnTo>
                    <a:pt x="2" y="911"/>
                  </a:lnTo>
                  <a:lnTo>
                    <a:pt x="484" y="32"/>
                  </a:lnTo>
                  <a:lnTo>
                    <a:pt x="493" y="17"/>
                  </a:lnTo>
                  <a:lnTo>
                    <a:pt x="512" y="4"/>
                  </a:lnTo>
                  <a:lnTo>
                    <a:pt x="541" y="0"/>
                  </a:lnTo>
                  <a:lnTo>
                    <a:pt x="569" y="4"/>
                  </a:lnTo>
                  <a:lnTo>
                    <a:pt x="585" y="18"/>
                  </a:lnTo>
                  <a:lnTo>
                    <a:pt x="597" y="32"/>
                  </a:lnTo>
                  <a:lnTo>
                    <a:pt x="1079" y="911"/>
                  </a:lnTo>
                  <a:lnTo>
                    <a:pt x="1083" y="926"/>
                  </a:lnTo>
                  <a:lnTo>
                    <a:pt x="1079" y="939"/>
                  </a:lnTo>
                  <a:lnTo>
                    <a:pt x="1068" y="956"/>
                  </a:lnTo>
                  <a:lnTo>
                    <a:pt x="1051" y="967"/>
                  </a:lnTo>
                  <a:lnTo>
                    <a:pt x="541" y="967"/>
                  </a:lnTo>
                  <a:lnTo>
                    <a:pt x="541" y="854"/>
                  </a:lnTo>
                  <a:lnTo>
                    <a:pt x="895" y="854"/>
                  </a:lnTo>
                  <a:lnTo>
                    <a:pt x="901" y="846"/>
                  </a:lnTo>
                  <a:lnTo>
                    <a:pt x="900" y="839"/>
                  </a:lnTo>
                  <a:lnTo>
                    <a:pt x="550" y="194"/>
                  </a:lnTo>
                  <a:lnTo>
                    <a:pt x="541" y="185"/>
                  </a:lnTo>
                  <a:lnTo>
                    <a:pt x="529" y="194"/>
                  </a:lnTo>
                  <a:lnTo>
                    <a:pt x="178" y="845"/>
                  </a:lnTo>
                  <a:lnTo>
                    <a:pt x="177" y="8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6675480" y="5589720"/>
              <a:ext cx="314280" cy="833400"/>
              <a:chOff x="6675480" y="5589720"/>
              <a:chExt cx="314280" cy="833400"/>
            </a:xfrm>
          </p:grpSpPr>
          <p:sp>
            <p:nvSpPr>
              <p:cNvPr id="139" name=""/>
              <p:cNvSpPr/>
              <p:nvPr/>
            </p:nvSpPr>
            <p:spPr>
              <a:xfrm>
                <a:off x="6742080" y="6242040"/>
                <a:ext cx="181080" cy="181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675480" y="5589720"/>
                <a:ext cx="314280" cy="630000"/>
              </a:xfrm>
              <a:custGeom>
                <a:avLst/>
                <a:gdLst/>
                <a:ahLst/>
                <a:rect l="l" t="t" r="r" b="b"/>
                <a:pathLst>
                  <a:path w="198" h="368">
                    <a:moveTo>
                      <a:pt x="49" y="368"/>
                    </a:moveTo>
                    <a:lnTo>
                      <a:pt x="149" y="368"/>
                    </a:lnTo>
                    <a:lnTo>
                      <a:pt x="198" y="142"/>
                    </a:lnTo>
                    <a:lnTo>
                      <a:pt x="198" y="85"/>
                    </a:lnTo>
                    <a:lnTo>
                      <a:pt x="186" y="52"/>
                    </a:lnTo>
                    <a:lnTo>
                      <a:pt x="173" y="28"/>
                    </a:lnTo>
                    <a:lnTo>
                      <a:pt x="149" y="9"/>
                    </a:lnTo>
                    <a:lnTo>
                      <a:pt x="124" y="0"/>
                    </a:lnTo>
                    <a:lnTo>
                      <a:pt x="74" y="0"/>
                    </a:lnTo>
                    <a:lnTo>
                      <a:pt x="50" y="10"/>
                    </a:lnTo>
                    <a:lnTo>
                      <a:pt x="25" y="28"/>
                    </a:lnTo>
                    <a:lnTo>
                      <a:pt x="11" y="52"/>
                    </a:lnTo>
                    <a:lnTo>
                      <a:pt x="0" y="85"/>
                    </a:lnTo>
                    <a:lnTo>
                      <a:pt x="0" y="142"/>
                    </a:lnTo>
                    <a:lnTo>
                      <a:pt x="49" y="3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"/>
          <p:cNvGrpSpPr/>
          <p:nvPr/>
        </p:nvGrpSpPr>
        <p:grpSpPr>
          <a:xfrm>
            <a:off x="4108320" y="5108400"/>
            <a:ext cx="1719360" cy="1535400"/>
            <a:chOff x="4108320" y="5108400"/>
            <a:chExt cx="1719360" cy="1535400"/>
          </a:xfrm>
        </p:grpSpPr>
        <p:sp>
          <p:nvSpPr>
            <p:cNvPr id="142" name=""/>
            <p:cNvSpPr/>
            <p:nvPr/>
          </p:nvSpPr>
          <p:spPr>
            <a:xfrm>
              <a:off x="4132440" y="5130720"/>
              <a:ext cx="1670040" cy="1490760"/>
            </a:xfrm>
            <a:custGeom>
              <a:avLst/>
              <a:gdLst/>
              <a:ahLst/>
              <a:rect l="l" t="t" r="r" b="b"/>
              <a:pathLst>
                <a:path w="1078" h="963">
                  <a:moveTo>
                    <a:pt x="0" y="935"/>
                  </a:moveTo>
                  <a:lnTo>
                    <a:pt x="0" y="907"/>
                  </a:lnTo>
                  <a:lnTo>
                    <a:pt x="511" y="28"/>
                  </a:lnTo>
                  <a:lnTo>
                    <a:pt x="539" y="0"/>
                  </a:lnTo>
                  <a:lnTo>
                    <a:pt x="567" y="28"/>
                  </a:lnTo>
                  <a:lnTo>
                    <a:pt x="1078" y="907"/>
                  </a:lnTo>
                  <a:lnTo>
                    <a:pt x="1078" y="935"/>
                  </a:lnTo>
                  <a:lnTo>
                    <a:pt x="1049" y="963"/>
                  </a:lnTo>
                  <a:lnTo>
                    <a:pt x="29" y="963"/>
                  </a:lnTo>
                  <a:lnTo>
                    <a:pt x="0" y="935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08320" y="5108400"/>
              <a:ext cx="1719360" cy="1535400"/>
            </a:xfrm>
            <a:custGeom>
              <a:avLst/>
              <a:gdLst/>
              <a:ahLst/>
              <a:rect l="l" t="t" r="r" b="b"/>
              <a:pathLst>
                <a:path w="1083" h="967">
                  <a:moveTo>
                    <a:pt x="177" y="851"/>
                  </a:moveTo>
                  <a:lnTo>
                    <a:pt x="184" y="854"/>
                  </a:lnTo>
                  <a:lnTo>
                    <a:pt x="541" y="854"/>
                  </a:lnTo>
                  <a:lnTo>
                    <a:pt x="541" y="967"/>
                  </a:lnTo>
                  <a:lnTo>
                    <a:pt x="30" y="967"/>
                  </a:lnTo>
                  <a:lnTo>
                    <a:pt x="16" y="957"/>
                  </a:lnTo>
                  <a:lnTo>
                    <a:pt x="2" y="939"/>
                  </a:lnTo>
                  <a:lnTo>
                    <a:pt x="0" y="923"/>
                  </a:lnTo>
                  <a:lnTo>
                    <a:pt x="2" y="911"/>
                  </a:lnTo>
                  <a:lnTo>
                    <a:pt x="484" y="32"/>
                  </a:lnTo>
                  <a:lnTo>
                    <a:pt x="493" y="17"/>
                  </a:lnTo>
                  <a:lnTo>
                    <a:pt x="512" y="4"/>
                  </a:lnTo>
                  <a:lnTo>
                    <a:pt x="541" y="0"/>
                  </a:lnTo>
                  <a:lnTo>
                    <a:pt x="569" y="4"/>
                  </a:lnTo>
                  <a:lnTo>
                    <a:pt x="585" y="18"/>
                  </a:lnTo>
                  <a:lnTo>
                    <a:pt x="597" y="32"/>
                  </a:lnTo>
                  <a:lnTo>
                    <a:pt x="1079" y="911"/>
                  </a:lnTo>
                  <a:lnTo>
                    <a:pt x="1083" y="926"/>
                  </a:lnTo>
                  <a:lnTo>
                    <a:pt x="1079" y="939"/>
                  </a:lnTo>
                  <a:lnTo>
                    <a:pt x="1068" y="956"/>
                  </a:lnTo>
                  <a:lnTo>
                    <a:pt x="1051" y="967"/>
                  </a:lnTo>
                  <a:lnTo>
                    <a:pt x="541" y="967"/>
                  </a:lnTo>
                  <a:lnTo>
                    <a:pt x="541" y="854"/>
                  </a:lnTo>
                  <a:lnTo>
                    <a:pt x="895" y="854"/>
                  </a:lnTo>
                  <a:lnTo>
                    <a:pt x="901" y="846"/>
                  </a:lnTo>
                  <a:lnTo>
                    <a:pt x="900" y="839"/>
                  </a:lnTo>
                  <a:lnTo>
                    <a:pt x="550" y="194"/>
                  </a:lnTo>
                  <a:lnTo>
                    <a:pt x="541" y="185"/>
                  </a:lnTo>
                  <a:lnTo>
                    <a:pt x="529" y="194"/>
                  </a:lnTo>
                  <a:lnTo>
                    <a:pt x="178" y="845"/>
                  </a:lnTo>
                  <a:lnTo>
                    <a:pt x="177" y="8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4811760" y="5589720"/>
              <a:ext cx="314280" cy="833400"/>
              <a:chOff x="4811760" y="5589720"/>
              <a:chExt cx="314280" cy="833400"/>
            </a:xfrm>
          </p:grpSpPr>
          <p:sp>
            <p:nvSpPr>
              <p:cNvPr id="145" name=""/>
              <p:cNvSpPr/>
              <p:nvPr/>
            </p:nvSpPr>
            <p:spPr>
              <a:xfrm>
                <a:off x="4878360" y="6242040"/>
                <a:ext cx="181080" cy="181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811760" y="5589720"/>
                <a:ext cx="314280" cy="630000"/>
              </a:xfrm>
              <a:custGeom>
                <a:avLst/>
                <a:gdLst/>
                <a:ahLst/>
                <a:rect l="l" t="t" r="r" b="b"/>
                <a:pathLst>
                  <a:path w="198" h="368">
                    <a:moveTo>
                      <a:pt x="49" y="368"/>
                    </a:moveTo>
                    <a:lnTo>
                      <a:pt x="149" y="368"/>
                    </a:lnTo>
                    <a:lnTo>
                      <a:pt x="198" y="142"/>
                    </a:lnTo>
                    <a:lnTo>
                      <a:pt x="198" y="85"/>
                    </a:lnTo>
                    <a:lnTo>
                      <a:pt x="186" y="52"/>
                    </a:lnTo>
                    <a:lnTo>
                      <a:pt x="173" y="28"/>
                    </a:lnTo>
                    <a:lnTo>
                      <a:pt x="149" y="9"/>
                    </a:lnTo>
                    <a:lnTo>
                      <a:pt x="124" y="0"/>
                    </a:lnTo>
                    <a:lnTo>
                      <a:pt x="74" y="0"/>
                    </a:lnTo>
                    <a:lnTo>
                      <a:pt x="50" y="10"/>
                    </a:lnTo>
                    <a:lnTo>
                      <a:pt x="25" y="28"/>
                    </a:lnTo>
                    <a:lnTo>
                      <a:pt x="11" y="52"/>
                    </a:lnTo>
                    <a:lnTo>
                      <a:pt x="0" y="85"/>
                    </a:lnTo>
                    <a:lnTo>
                      <a:pt x="0" y="142"/>
                    </a:lnTo>
                    <a:lnTo>
                      <a:pt x="49" y="3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"/>
          <p:cNvGrpSpPr/>
          <p:nvPr/>
        </p:nvGrpSpPr>
        <p:grpSpPr>
          <a:xfrm>
            <a:off x="2217600" y="5114880"/>
            <a:ext cx="1719360" cy="1535040"/>
            <a:chOff x="2217600" y="5114880"/>
            <a:chExt cx="1719360" cy="1535040"/>
          </a:xfrm>
        </p:grpSpPr>
        <p:sp>
          <p:nvSpPr>
            <p:cNvPr id="148" name=""/>
            <p:cNvSpPr/>
            <p:nvPr/>
          </p:nvSpPr>
          <p:spPr>
            <a:xfrm>
              <a:off x="2241720" y="5137200"/>
              <a:ext cx="1670040" cy="1490760"/>
            </a:xfrm>
            <a:custGeom>
              <a:avLst/>
              <a:gdLst/>
              <a:ahLst/>
              <a:rect l="l" t="t" r="r" b="b"/>
              <a:pathLst>
                <a:path w="1078" h="963">
                  <a:moveTo>
                    <a:pt x="0" y="935"/>
                  </a:moveTo>
                  <a:lnTo>
                    <a:pt x="0" y="907"/>
                  </a:lnTo>
                  <a:lnTo>
                    <a:pt x="511" y="28"/>
                  </a:lnTo>
                  <a:lnTo>
                    <a:pt x="539" y="0"/>
                  </a:lnTo>
                  <a:lnTo>
                    <a:pt x="567" y="28"/>
                  </a:lnTo>
                  <a:lnTo>
                    <a:pt x="1078" y="907"/>
                  </a:lnTo>
                  <a:lnTo>
                    <a:pt x="1078" y="935"/>
                  </a:lnTo>
                  <a:lnTo>
                    <a:pt x="1049" y="963"/>
                  </a:lnTo>
                  <a:lnTo>
                    <a:pt x="29" y="963"/>
                  </a:lnTo>
                  <a:lnTo>
                    <a:pt x="0" y="93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17600" y="5114880"/>
              <a:ext cx="1719360" cy="1535040"/>
            </a:xfrm>
            <a:custGeom>
              <a:avLst/>
              <a:gdLst/>
              <a:ahLst/>
              <a:rect l="l" t="t" r="r" b="b"/>
              <a:pathLst>
                <a:path w="1083" h="967">
                  <a:moveTo>
                    <a:pt x="177" y="851"/>
                  </a:moveTo>
                  <a:lnTo>
                    <a:pt x="184" y="854"/>
                  </a:lnTo>
                  <a:lnTo>
                    <a:pt x="541" y="854"/>
                  </a:lnTo>
                  <a:lnTo>
                    <a:pt x="541" y="967"/>
                  </a:lnTo>
                  <a:lnTo>
                    <a:pt x="30" y="967"/>
                  </a:lnTo>
                  <a:lnTo>
                    <a:pt x="16" y="957"/>
                  </a:lnTo>
                  <a:lnTo>
                    <a:pt x="2" y="939"/>
                  </a:lnTo>
                  <a:lnTo>
                    <a:pt x="0" y="923"/>
                  </a:lnTo>
                  <a:lnTo>
                    <a:pt x="2" y="911"/>
                  </a:lnTo>
                  <a:lnTo>
                    <a:pt x="484" y="32"/>
                  </a:lnTo>
                  <a:lnTo>
                    <a:pt x="493" y="17"/>
                  </a:lnTo>
                  <a:lnTo>
                    <a:pt x="512" y="4"/>
                  </a:lnTo>
                  <a:lnTo>
                    <a:pt x="541" y="0"/>
                  </a:lnTo>
                  <a:lnTo>
                    <a:pt x="569" y="4"/>
                  </a:lnTo>
                  <a:lnTo>
                    <a:pt x="585" y="18"/>
                  </a:lnTo>
                  <a:lnTo>
                    <a:pt x="597" y="32"/>
                  </a:lnTo>
                  <a:lnTo>
                    <a:pt x="1079" y="911"/>
                  </a:lnTo>
                  <a:lnTo>
                    <a:pt x="1083" y="926"/>
                  </a:lnTo>
                  <a:lnTo>
                    <a:pt x="1079" y="939"/>
                  </a:lnTo>
                  <a:lnTo>
                    <a:pt x="1068" y="956"/>
                  </a:lnTo>
                  <a:lnTo>
                    <a:pt x="1051" y="967"/>
                  </a:lnTo>
                  <a:lnTo>
                    <a:pt x="541" y="967"/>
                  </a:lnTo>
                  <a:lnTo>
                    <a:pt x="541" y="854"/>
                  </a:lnTo>
                  <a:lnTo>
                    <a:pt x="895" y="854"/>
                  </a:lnTo>
                  <a:lnTo>
                    <a:pt x="901" y="846"/>
                  </a:lnTo>
                  <a:lnTo>
                    <a:pt x="900" y="839"/>
                  </a:lnTo>
                  <a:lnTo>
                    <a:pt x="550" y="194"/>
                  </a:lnTo>
                  <a:lnTo>
                    <a:pt x="541" y="185"/>
                  </a:lnTo>
                  <a:lnTo>
                    <a:pt x="529" y="194"/>
                  </a:lnTo>
                  <a:lnTo>
                    <a:pt x="178" y="845"/>
                  </a:lnTo>
                  <a:lnTo>
                    <a:pt x="177" y="8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2921040" y="5589720"/>
              <a:ext cx="314280" cy="833400"/>
              <a:chOff x="2921040" y="5589720"/>
              <a:chExt cx="314280" cy="833400"/>
            </a:xfrm>
          </p:grpSpPr>
          <p:sp>
            <p:nvSpPr>
              <p:cNvPr id="151" name=""/>
              <p:cNvSpPr/>
              <p:nvPr/>
            </p:nvSpPr>
            <p:spPr>
              <a:xfrm>
                <a:off x="2987640" y="6242040"/>
                <a:ext cx="181080" cy="181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921040" y="5589720"/>
                <a:ext cx="314280" cy="630000"/>
              </a:xfrm>
              <a:custGeom>
                <a:avLst/>
                <a:gdLst/>
                <a:ahLst/>
                <a:rect l="l" t="t" r="r" b="b"/>
                <a:pathLst>
                  <a:path w="198" h="368">
                    <a:moveTo>
                      <a:pt x="49" y="368"/>
                    </a:moveTo>
                    <a:lnTo>
                      <a:pt x="149" y="368"/>
                    </a:lnTo>
                    <a:lnTo>
                      <a:pt x="198" y="142"/>
                    </a:lnTo>
                    <a:lnTo>
                      <a:pt x="198" y="85"/>
                    </a:lnTo>
                    <a:lnTo>
                      <a:pt x="186" y="52"/>
                    </a:lnTo>
                    <a:lnTo>
                      <a:pt x="173" y="28"/>
                    </a:lnTo>
                    <a:lnTo>
                      <a:pt x="149" y="9"/>
                    </a:lnTo>
                    <a:lnTo>
                      <a:pt x="124" y="0"/>
                    </a:lnTo>
                    <a:lnTo>
                      <a:pt x="74" y="0"/>
                    </a:lnTo>
                    <a:lnTo>
                      <a:pt x="50" y="10"/>
                    </a:lnTo>
                    <a:lnTo>
                      <a:pt x="25" y="28"/>
                    </a:lnTo>
                    <a:lnTo>
                      <a:pt x="11" y="52"/>
                    </a:lnTo>
                    <a:lnTo>
                      <a:pt x="0" y="85"/>
                    </a:lnTo>
                    <a:lnTo>
                      <a:pt x="0" y="142"/>
                    </a:lnTo>
                    <a:lnTo>
                      <a:pt x="49" y="3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" name=""/>
          <p:cNvGrpSpPr/>
          <p:nvPr/>
        </p:nvGrpSpPr>
        <p:grpSpPr>
          <a:xfrm>
            <a:off x="326880" y="5094360"/>
            <a:ext cx="1719360" cy="1535040"/>
            <a:chOff x="326880" y="5094360"/>
            <a:chExt cx="1719360" cy="1535040"/>
          </a:xfrm>
        </p:grpSpPr>
        <p:sp>
          <p:nvSpPr>
            <p:cNvPr id="154" name=""/>
            <p:cNvSpPr/>
            <p:nvPr/>
          </p:nvSpPr>
          <p:spPr>
            <a:xfrm>
              <a:off x="351000" y="5116680"/>
              <a:ext cx="1670040" cy="1490400"/>
            </a:xfrm>
            <a:custGeom>
              <a:avLst/>
              <a:gdLst/>
              <a:ahLst/>
              <a:rect l="l" t="t" r="r" b="b"/>
              <a:pathLst>
                <a:path w="1078" h="963">
                  <a:moveTo>
                    <a:pt x="0" y="935"/>
                  </a:moveTo>
                  <a:lnTo>
                    <a:pt x="0" y="907"/>
                  </a:lnTo>
                  <a:lnTo>
                    <a:pt x="511" y="28"/>
                  </a:lnTo>
                  <a:lnTo>
                    <a:pt x="539" y="0"/>
                  </a:lnTo>
                  <a:lnTo>
                    <a:pt x="567" y="28"/>
                  </a:lnTo>
                  <a:lnTo>
                    <a:pt x="1078" y="907"/>
                  </a:lnTo>
                  <a:lnTo>
                    <a:pt x="1078" y="935"/>
                  </a:lnTo>
                  <a:lnTo>
                    <a:pt x="1049" y="963"/>
                  </a:lnTo>
                  <a:lnTo>
                    <a:pt x="29" y="963"/>
                  </a:lnTo>
                  <a:lnTo>
                    <a:pt x="0" y="9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6880" y="5094360"/>
              <a:ext cx="1719360" cy="1535040"/>
            </a:xfrm>
            <a:custGeom>
              <a:avLst/>
              <a:gdLst/>
              <a:ahLst/>
              <a:rect l="l" t="t" r="r" b="b"/>
              <a:pathLst>
                <a:path w="1083" h="967">
                  <a:moveTo>
                    <a:pt x="177" y="851"/>
                  </a:moveTo>
                  <a:lnTo>
                    <a:pt x="184" y="854"/>
                  </a:lnTo>
                  <a:lnTo>
                    <a:pt x="541" y="854"/>
                  </a:lnTo>
                  <a:lnTo>
                    <a:pt x="541" y="967"/>
                  </a:lnTo>
                  <a:lnTo>
                    <a:pt x="30" y="967"/>
                  </a:lnTo>
                  <a:lnTo>
                    <a:pt x="16" y="957"/>
                  </a:lnTo>
                  <a:lnTo>
                    <a:pt x="2" y="939"/>
                  </a:lnTo>
                  <a:lnTo>
                    <a:pt x="0" y="923"/>
                  </a:lnTo>
                  <a:lnTo>
                    <a:pt x="2" y="911"/>
                  </a:lnTo>
                  <a:lnTo>
                    <a:pt x="484" y="32"/>
                  </a:lnTo>
                  <a:lnTo>
                    <a:pt x="493" y="17"/>
                  </a:lnTo>
                  <a:lnTo>
                    <a:pt x="512" y="4"/>
                  </a:lnTo>
                  <a:lnTo>
                    <a:pt x="541" y="0"/>
                  </a:lnTo>
                  <a:lnTo>
                    <a:pt x="569" y="4"/>
                  </a:lnTo>
                  <a:lnTo>
                    <a:pt x="585" y="18"/>
                  </a:lnTo>
                  <a:lnTo>
                    <a:pt x="597" y="32"/>
                  </a:lnTo>
                  <a:lnTo>
                    <a:pt x="1079" y="911"/>
                  </a:lnTo>
                  <a:lnTo>
                    <a:pt x="1083" y="926"/>
                  </a:lnTo>
                  <a:lnTo>
                    <a:pt x="1079" y="939"/>
                  </a:lnTo>
                  <a:lnTo>
                    <a:pt x="1068" y="956"/>
                  </a:lnTo>
                  <a:lnTo>
                    <a:pt x="1051" y="967"/>
                  </a:lnTo>
                  <a:lnTo>
                    <a:pt x="541" y="967"/>
                  </a:lnTo>
                  <a:lnTo>
                    <a:pt x="541" y="854"/>
                  </a:lnTo>
                  <a:lnTo>
                    <a:pt x="895" y="854"/>
                  </a:lnTo>
                  <a:lnTo>
                    <a:pt x="901" y="846"/>
                  </a:lnTo>
                  <a:lnTo>
                    <a:pt x="900" y="839"/>
                  </a:lnTo>
                  <a:lnTo>
                    <a:pt x="550" y="194"/>
                  </a:lnTo>
                  <a:lnTo>
                    <a:pt x="541" y="185"/>
                  </a:lnTo>
                  <a:lnTo>
                    <a:pt x="529" y="194"/>
                  </a:lnTo>
                  <a:lnTo>
                    <a:pt x="178" y="845"/>
                  </a:lnTo>
                  <a:lnTo>
                    <a:pt x="177" y="8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1030320" y="5589720"/>
              <a:ext cx="314280" cy="833400"/>
              <a:chOff x="1030320" y="5589720"/>
              <a:chExt cx="314280" cy="833400"/>
            </a:xfrm>
          </p:grpSpPr>
          <p:sp>
            <p:nvSpPr>
              <p:cNvPr id="157" name=""/>
              <p:cNvSpPr/>
              <p:nvPr/>
            </p:nvSpPr>
            <p:spPr>
              <a:xfrm>
                <a:off x="1096920" y="6242040"/>
                <a:ext cx="181080" cy="181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30320" y="5589720"/>
                <a:ext cx="314280" cy="630000"/>
              </a:xfrm>
              <a:custGeom>
                <a:avLst/>
                <a:gdLst/>
                <a:ahLst/>
                <a:rect l="l" t="t" r="r" b="b"/>
                <a:pathLst>
                  <a:path w="198" h="368">
                    <a:moveTo>
                      <a:pt x="49" y="368"/>
                    </a:moveTo>
                    <a:lnTo>
                      <a:pt x="149" y="368"/>
                    </a:lnTo>
                    <a:lnTo>
                      <a:pt x="198" y="142"/>
                    </a:lnTo>
                    <a:lnTo>
                      <a:pt x="198" y="85"/>
                    </a:lnTo>
                    <a:lnTo>
                      <a:pt x="186" y="52"/>
                    </a:lnTo>
                    <a:lnTo>
                      <a:pt x="173" y="28"/>
                    </a:lnTo>
                    <a:lnTo>
                      <a:pt x="149" y="9"/>
                    </a:lnTo>
                    <a:lnTo>
                      <a:pt x="124" y="0"/>
                    </a:lnTo>
                    <a:lnTo>
                      <a:pt x="74" y="0"/>
                    </a:lnTo>
                    <a:lnTo>
                      <a:pt x="50" y="10"/>
                    </a:lnTo>
                    <a:lnTo>
                      <a:pt x="25" y="28"/>
                    </a:lnTo>
                    <a:lnTo>
                      <a:pt x="11" y="52"/>
                    </a:lnTo>
                    <a:lnTo>
                      <a:pt x="0" y="85"/>
                    </a:lnTo>
                    <a:lnTo>
                      <a:pt x="0" y="142"/>
                    </a:lnTo>
                    <a:lnTo>
                      <a:pt x="49" y="3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7862760" y="233280"/>
            <a:ext cx="1711440" cy="1528920"/>
            <a:chOff x="7862760" y="233280"/>
            <a:chExt cx="1711440" cy="1528920"/>
          </a:xfrm>
        </p:grpSpPr>
        <p:grpSp>
          <p:nvGrpSpPr>
            <p:cNvPr id="160" name=""/>
            <p:cNvGrpSpPr/>
            <p:nvPr/>
          </p:nvGrpSpPr>
          <p:grpSpPr>
            <a:xfrm>
              <a:off x="7862760" y="233280"/>
              <a:ext cx="1711440" cy="1528920"/>
              <a:chOff x="7862760" y="233280"/>
              <a:chExt cx="1711440" cy="1528920"/>
            </a:xfrm>
          </p:grpSpPr>
          <p:sp>
            <p:nvSpPr>
              <p:cNvPr id="161" name=""/>
              <p:cNvSpPr/>
              <p:nvPr/>
            </p:nvSpPr>
            <p:spPr>
              <a:xfrm>
                <a:off x="7883640" y="25236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862760" y="233280"/>
                <a:ext cx="1711440" cy="152892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49" y="936"/>
                    </a:moveTo>
                    <a:lnTo>
                      <a:pt x="539" y="935"/>
                    </a:lnTo>
                    <a:lnTo>
                      <a:pt x="539" y="963"/>
                    </a:lnTo>
                    <a:lnTo>
                      <a:pt x="29" y="963"/>
                    </a:lnTo>
                    <a:cubicBezTo>
                      <a:pt x="29" y="963"/>
                      <a:pt x="10" y="952"/>
                      <a:pt x="0" y="935"/>
                    </a:cubicBezTo>
                    <a:cubicBezTo>
                      <a:pt x="0" y="921"/>
                      <a:pt x="0" y="907"/>
                      <a:pt x="0" y="907"/>
                    </a:cubicBezTo>
                    <a:lnTo>
                      <a:pt x="511" y="28"/>
                    </a:lnTo>
                    <a:cubicBezTo>
                      <a:pt x="511" y="28"/>
                      <a:pt x="519" y="1"/>
                      <a:pt x="539" y="0"/>
                    </a:cubicBezTo>
                    <a:cubicBezTo>
                      <a:pt x="562" y="0"/>
                      <a:pt x="567" y="28"/>
                      <a:pt x="567" y="28"/>
                    </a:cubicBezTo>
                    <a:lnTo>
                      <a:pt x="1078" y="907"/>
                    </a:lnTo>
                    <a:cubicBezTo>
                      <a:pt x="1078" y="907"/>
                      <a:pt x="1078" y="921"/>
                      <a:pt x="1078" y="935"/>
                    </a:cubicBezTo>
                    <a:cubicBezTo>
                      <a:pt x="1068" y="955"/>
                      <a:pt x="1049" y="963"/>
                      <a:pt x="1049" y="963"/>
                    </a:cubicBezTo>
                    <a:lnTo>
                      <a:pt x="539" y="963"/>
                    </a:lnTo>
                    <a:lnTo>
                      <a:pt x="539" y="935"/>
                    </a:lnTo>
                    <a:lnTo>
                      <a:pt x="1024" y="936"/>
                    </a:lnTo>
                    <a:lnTo>
                      <a:pt x="1044" y="930"/>
                    </a:lnTo>
                    <a:lnTo>
                      <a:pt x="1048" y="918"/>
                    </a:lnTo>
                    <a:lnTo>
                      <a:pt x="1044" y="907"/>
                    </a:lnTo>
                    <a:lnTo>
                      <a:pt x="550" y="49"/>
                    </a:lnTo>
                    <a:cubicBezTo>
                      <a:pt x="550" y="49"/>
                      <a:pt x="547" y="40"/>
                      <a:pt x="538" y="37"/>
                    </a:cubicBezTo>
                    <a:cubicBezTo>
                      <a:pt x="526" y="42"/>
                      <a:pt x="526" y="52"/>
                      <a:pt x="526" y="52"/>
                    </a:cubicBezTo>
                    <a:lnTo>
                      <a:pt x="40" y="900"/>
                    </a:lnTo>
                    <a:lnTo>
                      <a:pt x="34" y="910"/>
                    </a:lnTo>
                    <a:lnTo>
                      <a:pt x="34" y="925"/>
                    </a:lnTo>
                    <a:lnTo>
                      <a:pt x="49" y="9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 rot="312600">
              <a:off x="8373600" y="593280"/>
              <a:ext cx="506520" cy="1081080"/>
            </a:xfrm>
            <a:custGeom>
              <a:avLst/>
              <a:gdLst/>
              <a:ahLst/>
              <a:rect l="l" t="t" r="r" b="b"/>
              <a:pathLst>
                <a:path w="1036" h="2216">
                  <a:moveTo>
                    <a:pt x="468" y="34"/>
                  </a:moveTo>
                  <a:lnTo>
                    <a:pt x="835" y="0"/>
                  </a:lnTo>
                  <a:lnTo>
                    <a:pt x="409" y="992"/>
                  </a:lnTo>
                  <a:lnTo>
                    <a:pt x="976" y="708"/>
                  </a:lnTo>
                  <a:lnTo>
                    <a:pt x="1005" y="708"/>
                  </a:lnTo>
                  <a:lnTo>
                    <a:pt x="1022" y="716"/>
                  </a:lnTo>
                  <a:lnTo>
                    <a:pt x="1036" y="730"/>
                  </a:lnTo>
                  <a:lnTo>
                    <a:pt x="1036" y="762"/>
                  </a:lnTo>
                  <a:lnTo>
                    <a:pt x="756" y="1814"/>
                  </a:lnTo>
                  <a:lnTo>
                    <a:pt x="756" y="1836"/>
                  </a:lnTo>
                  <a:lnTo>
                    <a:pt x="780" y="1850"/>
                  </a:lnTo>
                  <a:lnTo>
                    <a:pt x="804" y="1856"/>
                  </a:lnTo>
                  <a:lnTo>
                    <a:pt x="824" y="1846"/>
                  </a:lnTo>
                  <a:lnTo>
                    <a:pt x="932" y="1782"/>
                  </a:lnTo>
                  <a:lnTo>
                    <a:pt x="950" y="1780"/>
                  </a:lnTo>
                  <a:lnTo>
                    <a:pt x="964" y="1790"/>
                  </a:lnTo>
                  <a:lnTo>
                    <a:pt x="970" y="1806"/>
                  </a:lnTo>
                  <a:lnTo>
                    <a:pt x="964" y="1826"/>
                  </a:lnTo>
                  <a:lnTo>
                    <a:pt x="652" y="2206"/>
                  </a:lnTo>
                  <a:lnTo>
                    <a:pt x="636" y="2214"/>
                  </a:lnTo>
                  <a:lnTo>
                    <a:pt x="614" y="2216"/>
                  </a:lnTo>
                  <a:lnTo>
                    <a:pt x="600" y="2204"/>
                  </a:lnTo>
                  <a:lnTo>
                    <a:pt x="588" y="2190"/>
                  </a:lnTo>
                  <a:lnTo>
                    <a:pt x="412" y="1730"/>
                  </a:lnTo>
                  <a:lnTo>
                    <a:pt x="414" y="1708"/>
                  </a:lnTo>
                  <a:lnTo>
                    <a:pt x="428" y="1694"/>
                  </a:lnTo>
                  <a:lnTo>
                    <a:pt x="446" y="1696"/>
                  </a:lnTo>
                  <a:lnTo>
                    <a:pt x="464" y="1706"/>
                  </a:lnTo>
                  <a:lnTo>
                    <a:pt x="584" y="1818"/>
                  </a:lnTo>
                  <a:lnTo>
                    <a:pt x="598" y="1832"/>
                  </a:lnTo>
                  <a:lnTo>
                    <a:pt x="620" y="1830"/>
                  </a:lnTo>
                  <a:lnTo>
                    <a:pt x="636" y="1820"/>
                  </a:lnTo>
                  <a:lnTo>
                    <a:pt x="640" y="1798"/>
                  </a:lnTo>
                  <a:lnTo>
                    <a:pt x="660" y="1566"/>
                  </a:lnTo>
                  <a:lnTo>
                    <a:pt x="704" y="1114"/>
                  </a:lnTo>
                  <a:lnTo>
                    <a:pt x="702" y="1096"/>
                  </a:lnTo>
                  <a:lnTo>
                    <a:pt x="686" y="1076"/>
                  </a:lnTo>
                  <a:lnTo>
                    <a:pt x="656" y="1080"/>
                  </a:lnTo>
                  <a:lnTo>
                    <a:pt x="636" y="1094"/>
                  </a:lnTo>
                  <a:lnTo>
                    <a:pt x="68" y="1462"/>
                  </a:lnTo>
                  <a:lnTo>
                    <a:pt x="44" y="1466"/>
                  </a:lnTo>
                  <a:lnTo>
                    <a:pt x="16" y="1462"/>
                  </a:lnTo>
                  <a:lnTo>
                    <a:pt x="0" y="1452"/>
                  </a:lnTo>
                  <a:lnTo>
                    <a:pt x="0" y="1434"/>
                  </a:lnTo>
                  <a:lnTo>
                    <a:pt x="468" y="34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000000"/>
                </a:gs>
              </a:gsLst>
              <a:lin ang="50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977080" y="235080"/>
            <a:ext cx="1711080" cy="1528560"/>
            <a:chOff x="5977080" y="235080"/>
            <a:chExt cx="1711080" cy="1528560"/>
          </a:xfrm>
        </p:grpSpPr>
        <p:grpSp>
          <p:nvGrpSpPr>
            <p:cNvPr id="165" name=""/>
            <p:cNvGrpSpPr/>
            <p:nvPr/>
          </p:nvGrpSpPr>
          <p:grpSpPr>
            <a:xfrm>
              <a:off x="5977080" y="235080"/>
              <a:ext cx="1711080" cy="1528560"/>
              <a:chOff x="5977080" y="235080"/>
              <a:chExt cx="1711080" cy="1528560"/>
            </a:xfrm>
          </p:grpSpPr>
          <p:sp>
            <p:nvSpPr>
              <p:cNvPr id="166" name=""/>
              <p:cNvSpPr/>
              <p:nvPr/>
            </p:nvSpPr>
            <p:spPr>
              <a:xfrm>
                <a:off x="5997600" y="254160"/>
                <a:ext cx="1670040" cy="149040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977080" y="235080"/>
                <a:ext cx="1711080" cy="15285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49" y="936"/>
                    </a:moveTo>
                    <a:lnTo>
                      <a:pt x="539" y="935"/>
                    </a:lnTo>
                    <a:lnTo>
                      <a:pt x="539" y="963"/>
                    </a:lnTo>
                    <a:lnTo>
                      <a:pt x="29" y="963"/>
                    </a:lnTo>
                    <a:cubicBezTo>
                      <a:pt x="29" y="963"/>
                      <a:pt x="10" y="952"/>
                      <a:pt x="0" y="935"/>
                    </a:cubicBezTo>
                    <a:cubicBezTo>
                      <a:pt x="0" y="921"/>
                      <a:pt x="0" y="907"/>
                      <a:pt x="0" y="907"/>
                    </a:cubicBezTo>
                    <a:lnTo>
                      <a:pt x="511" y="28"/>
                    </a:lnTo>
                    <a:cubicBezTo>
                      <a:pt x="511" y="28"/>
                      <a:pt x="519" y="1"/>
                      <a:pt x="539" y="0"/>
                    </a:cubicBezTo>
                    <a:cubicBezTo>
                      <a:pt x="562" y="0"/>
                      <a:pt x="567" y="28"/>
                      <a:pt x="567" y="28"/>
                    </a:cubicBezTo>
                    <a:lnTo>
                      <a:pt x="1078" y="907"/>
                    </a:lnTo>
                    <a:cubicBezTo>
                      <a:pt x="1078" y="907"/>
                      <a:pt x="1078" y="921"/>
                      <a:pt x="1078" y="935"/>
                    </a:cubicBezTo>
                    <a:cubicBezTo>
                      <a:pt x="1068" y="955"/>
                      <a:pt x="1049" y="963"/>
                      <a:pt x="1049" y="963"/>
                    </a:cubicBezTo>
                    <a:lnTo>
                      <a:pt x="539" y="963"/>
                    </a:lnTo>
                    <a:lnTo>
                      <a:pt x="539" y="935"/>
                    </a:lnTo>
                    <a:lnTo>
                      <a:pt x="1024" y="936"/>
                    </a:lnTo>
                    <a:lnTo>
                      <a:pt x="1044" y="930"/>
                    </a:lnTo>
                    <a:lnTo>
                      <a:pt x="1048" y="918"/>
                    </a:lnTo>
                    <a:lnTo>
                      <a:pt x="1044" y="907"/>
                    </a:lnTo>
                    <a:lnTo>
                      <a:pt x="550" y="49"/>
                    </a:lnTo>
                    <a:cubicBezTo>
                      <a:pt x="550" y="49"/>
                      <a:pt x="547" y="40"/>
                      <a:pt x="538" y="37"/>
                    </a:cubicBezTo>
                    <a:cubicBezTo>
                      <a:pt x="526" y="42"/>
                      <a:pt x="526" y="52"/>
                      <a:pt x="526" y="52"/>
                    </a:cubicBezTo>
                    <a:lnTo>
                      <a:pt x="40" y="900"/>
                    </a:lnTo>
                    <a:lnTo>
                      <a:pt x="34" y="910"/>
                    </a:lnTo>
                    <a:lnTo>
                      <a:pt x="34" y="925"/>
                    </a:lnTo>
                    <a:lnTo>
                      <a:pt x="49" y="9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 rot="312600">
              <a:off x="6527520" y="593280"/>
              <a:ext cx="506160" cy="1081080"/>
            </a:xfrm>
            <a:custGeom>
              <a:avLst/>
              <a:gdLst/>
              <a:ahLst/>
              <a:rect l="l" t="t" r="r" b="b"/>
              <a:pathLst>
                <a:path w="1036" h="2216">
                  <a:moveTo>
                    <a:pt x="468" y="34"/>
                  </a:moveTo>
                  <a:lnTo>
                    <a:pt x="835" y="0"/>
                  </a:lnTo>
                  <a:lnTo>
                    <a:pt x="409" y="992"/>
                  </a:lnTo>
                  <a:lnTo>
                    <a:pt x="976" y="708"/>
                  </a:lnTo>
                  <a:lnTo>
                    <a:pt x="1005" y="708"/>
                  </a:lnTo>
                  <a:lnTo>
                    <a:pt x="1022" y="716"/>
                  </a:lnTo>
                  <a:lnTo>
                    <a:pt x="1036" y="730"/>
                  </a:lnTo>
                  <a:lnTo>
                    <a:pt x="1036" y="762"/>
                  </a:lnTo>
                  <a:lnTo>
                    <a:pt x="756" y="1814"/>
                  </a:lnTo>
                  <a:lnTo>
                    <a:pt x="756" y="1836"/>
                  </a:lnTo>
                  <a:lnTo>
                    <a:pt x="780" y="1850"/>
                  </a:lnTo>
                  <a:lnTo>
                    <a:pt x="804" y="1856"/>
                  </a:lnTo>
                  <a:lnTo>
                    <a:pt x="824" y="1846"/>
                  </a:lnTo>
                  <a:lnTo>
                    <a:pt x="932" y="1782"/>
                  </a:lnTo>
                  <a:lnTo>
                    <a:pt x="950" y="1780"/>
                  </a:lnTo>
                  <a:lnTo>
                    <a:pt x="964" y="1790"/>
                  </a:lnTo>
                  <a:lnTo>
                    <a:pt x="970" y="1806"/>
                  </a:lnTo>
                  <a:lnTo>
                    <a:pt x="964" y="1826"/>
                  </a:lnTo>
                  <a:lnTo>
                    <a:pt x="652" y="2206"/>
                  </a:lnTo>
                  <a:lnTo>
                    <a:pt x="636" y="2214"/>
                  </a:lnTo>
                  <a:lnTo>
                    <a:pt x="614" y="2216"/>
                  </a:lnTo>
                  <a:lnTo>
                    <a:pt x="600" y="2204"/>
                  </a:lnTo>
                  <a:lnTo>
                    <a:pt x="588" y="2190"/>
                  </a:lnTo>
                  <a:lnTo>
                    <a:pt x="412" y="1730"/>
                  </a:lnTo>
                  <a:lnTo>
                    <a:pt x="414" y="1708"/>
                  </a:lnTo>
                  <a:lnTo>
                    <a:pt x="428" y="1694"/>
                  </a:lnTo>
                  <a:lnTo>
                    <a:pt x="446" y="1696"/>
                  </a:lnTo>
                  <a:lnTo>
                    <a:pt x="464" y="1706"/>
                  </a:lnTo>
                  <a:lnTo>
                    <a:pt x="584" y="1818"/>
                  </a:lnTo>
                  <a:lnTo>
                    <a:pt x="598" y="1832"/>
                  </a:lnTo>
                  <a:lnTo>
                    <a:pt x="620" y="1830"/>
                  </a:lnTo>
                  <a:lnTo>
                    <a:pt x="636" y="1820"/>
                  </a:lnTo>
                  <a:lnTo>
                    <a:pt x="640" y="1798"/>
                  </a:lnTo>
                  <a:lnTo>
                    <a:pt x="660" y="1566"/>
                  </a:lnTo>
                  <a:lnTo>
                    <a:pt x="704" y="1114"/>
                  </a:lnTo>
                  <a:lnTo>
                    <a:pt x="702" y="1096"/>
                  </a:lnTo>
                  <a:lnTo>
                    <a:pt x="686" y="1076"/>
                  </a:lnTo>
                  <a:lnTo>
                    <a:pt x="656" y="1080"/>
                  </a:lnTo>
                  <a:lnTo>
                    <a:pt x="636" y="1094"/>
                  </a:lnTo>
                  <a:lnTo>
                    <a:pt x="68" y="1462"/>
                  </a:lnTo>
                  <a:lnTo>
                    <a:pt x="44" y="1466"/>
                  </a:lnTo>
                  <a:lnTo>
                    <a:pt x="16" y="1462"/>
                  </a:lnTo>
                  <a:lnTo>
                    <a:pt x="0" y="1452"/>
                  </a:lnTo>
                  <a:lnTo>
                    <a:pt x="0" y="1434"/>
                  </a:lnTo>
                  <a:lnTo>
                    <a:pt x="468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111560" y="252360"/>
            <a:ext cx="1711440" cy="1528920"/>
            <a:chOff x="4111560" y="252360"/>
            <a:chExt cx="1711440" cy="1528920"/>
          </a:xfrm>
        </p:grpSpPr>
        <p:grpSp>
          <p:nvGrpSpPr>
            <p:cNvPr id="170" name=""/>
            <p:cNvGrpSpPr/>
            <p:nvPr/>
          </p:nvGrpSpPr>
          <p:grpSpPr>
            <a:xfrm>
              <a:off x="4111560" y="252360"/>
              <a:ext cx="1711440" cy="1528920"/>
              <a:chOff x="4111560" y="252360"/>
              <a:chExt cx="1711440" cy="1528920"/>
            </a:xfrm>
          </p:grpSpPr>
          <p:sp>
            <p:nvSpPr>
              <p:cNvPr id="171" name=""/>
              <p:cNvSpPr/>
              <p:nvPr/>
            </p:nvSpPr>
            <p:spPr>
              <a:xfrm>
                <a:off x="4132440" y="27144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111560" y="252360"/>
                <a:ext cx="1711440" cy="152892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49" y="936"/>
                    </a:moveTo>
                    <a:lnTo>
                      <a:pt x="539" y="935"/>
                    </a:lnTo>
                    <a:lnTo>
                      <a:pt x="539" y="963"/>
                    </a:lnTo>
                    <a:lnTo>
                      <a:pt x="29" y="963"/>
                    </a:lnTo>
                    <a:cubicBezTo>
                      <a:pt x="29" y="963"/>
                      <a:pt x="10" y="952"/>
                      <a:pt x="0" y="935"/>
                    </a:cubicBezTo>
                    <a:cubicBezTo>
                      <a:pt x="0" y="921"/>
                      <a:pt x="0" y="907"/>
                      <a:pt x="0" y="907"/>
                    </a:cubicBezTo>
                    <a:lnTo>
                      <a:pt x="511" y="28"/>
                    </a:lnTo>
                    <a:cubicBezTo>
                      <a:pt x="511" y="28"/>
                      <a:pt x="519" y="1"/>
                      <a:pt x="539" y="0"/>
                    </a:cubicBezTo>
                    <a:cubicBezTo>
                      <a:pt x="562" y="0"/>
                      <a:pt x="567" y="28"/>
                      <a:pt x="567" y="28"/>
                    </a:cubicBezTo>
                    <a:lnTo>
                      <a:pt x="1078" y="907"/>
                    </a:lnTo>
                    <a:cubicBezTo>
                      <a:pt x="1078" y="907"/>
                      <a:pt x="1078" y="921"/>
                      <a:pt x="1078" y="935"/>
                    </a:cubicBezTo>
                    <a:cubicBezTo>
                      <a:pt x="1068" y="955"/>
                      <a:pt x="1049" y="963"/>
                      <a:pt x="1049" y="963"/>
                    </a:cubicBezTo>
                    <a:lnTo>
                      <a:pt x="539" y="963"/>
                    </a:lnTo>
                    <a:lnTo>
                      <a:pt x="539" y="935"/>
                    </a:lnTo>
                    <a:lnTo>
                      <a:pt x="1024" y="936"/>
                    </a:lnTo>
                    <a:lnTo>
                      <a:pt x="1044" y="930"/>
                    </a:lnTo>
                    <a:lnTo>
                      <a:pt x="1048" y="918"/>
                    </a:lnTo>
                    <a:lnTo>
                      <a:pt x="1044" y="907"/>
                    </a:lnTo>
                    <a:lnTo>
                      <a:pt x="550" y="49"/>
                    </a:lnTo>
                    <a:cubicBezTo>
                      <a:pt x="550" y="49"/>
                      <a:pt x="547" y="40"/>
                      <a:pt x="538" y="37"/>
                    </a:cubicBezTo>
                    <a:cubicBezTo>
                      <a:pt x="526" y="42"/>
                      <a:pt x="526" y="52"/>
                      <a:pt x="526" y="52"/>
                    </a:cubicBezTo>
                    <a:lnTo>
                      <a:pt x="40" y="900"/>
                    </a:lnTo>
                    <a:lnTo>
                      <a:pt x="34" y="910"/>
                    </a:lnTo>
                    <a:lnTo>
                      <a:pt x="34" y="925"/>
                    </a:lnTo>
                    <a:lnTo>
                      <a:pt x="49" y="9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 rot="312600">
              <a:off x="4638240" y="593280"/>
              <a:ext cx="506520" cy="1081080"/>
            </a:xfrm>
            <a:custGeom>
              <a:avLst/>
              <a:gdLst/>
              <a:ahLst/>
              <a:rect l="l" t="t" r="r" b="b"/>
              <a:pathLst>
                <a:path w="1036" h="2216">
                  <a:moveTo>
                    <a:pt x="468" y="34"/>
                  </a:moveTo>
                  <a:lnTo>
                    <a:pt x="835" y="0"/>
                  </a:lnTo>
                  <a:lnTo>
                    <a:pt x="409" y="992"/>
                  </a:lnTo>
                  <a:lnTo>
                    <a:pt x="976" y="708"/>
                  </a:lnTo>
                  <a:lnTo>
                    <a:pt x="1005" y="708"/>
                  </a:lnTo>
                  <a:lnTo>
                    <a:pt x="1022" y="716"/>
                  </a:lnTo>
                  <a:lnTo>
                    <a:pt x="1036" y="730"/>
                  </a:lnTo>
                  <a:lnTo>
                    <a:pt x="1036" y="762"/>
                  </a:lnTo>
                  <a:lnTo>
                    <a:pt x="756" y="1814"/>
                  </a:lnTo>
                  <a:lnTo>
                    <a:pt x="756" y="1836"/>
                  </a:lnTo>
                  <a:lnTo>
                    <a:pt x="780" y="1850"/>
                  </a:lnTo>
                  <a:lnTo>
                    <a:pt x="804" y="1856"/>
                  </a:lnTo>
                  <a:lnTo>
                    <a:pt x="824" y="1846"/>
                  </a:lnTo>
                  <a:lnTo>
                    <a:pt x="932" y="1782"/>
                  </a:lnTo>
                  <a:lnTo>
                    <a:pt x="950" y="1780"/>
                  </a:lnTo>
                  <a:lnTo>
                    <a:pt x="964" y="1790"/>
                  </a:lnTo>
                  <a:lnTo>
                    <a:pt x="970" y="1806"/>
                  </a:lnTo>
                  <a:lnTo>
                    <a:pt x="964" y="1826"/>
                  </a:lnTo>
                  <a:lnTo>
                    <a:pt x="652" y="2206"/>
                  </a:lnTo>
                  <a:lnTo>
                    <a:pt x="636" y="2214"/>
                  </a:lnTo>
                  <a:lnTo>
                    <a:pt x="614" y="2216"/>
                  </a:lnTo>
                  <a:lnTo>
                    <a:pt x="600" y="2204"/>
                  </a:lnTo>
                  <a:lnTo>
                    <a:pt x="588" y="2190"/>
                  </a:lnTo>
                  <a:lnTo>
                    <a:pt x="412" y="1730"/>
                  </a:lnTo>
                  <a:lnTo>
                    <a:pt x="414" y="1708"/>
                  </a:lnTo>
                  <a:lnTo>
                    <a:pt x="428" y="1694"/>
                  </a:lnTo>
                  <a:lnTo>
                    <a:pt x="446" y="1696"/>
                  </a:lnTo>
                  <a:lnTo>
                    <a:pt x="464" y="1706"/>
                  </a:lnTo>
                  <a:lnTo>
                    <a:pt x="584" y="1818"/>
                  </a:lnTo>
                  <a:lnTo>
                    <a:pt x="598" y="1832"/>
                  </a:lnTo>
                  <a:lnTo>
                    <a:pt x="620" y="1830"/>
                  </a:lnTo>
                  <a:lnTo>
                    <a:pt x="636" y="1820"/>
                  </a:lnTo>
                  <a:lnTo>
                    <a:pt x="640" y="1798"/>
                  </a:lnTo>
                  <a:lnTo>
                    <a:pt x="660" y="1566"/>
                  </a:lnTo>
                  <a:lnTo>
                    <a:pt x="704" y="1114"/>
                  </a:lnTo>
                  <a:lnTo>
                    <a:pt x="702" y="1096"/>
                  </a:lnTo>
                  <a:lnTo>
                    <a:pt x="686" y="1076"/>
                  </a:lnTo>
                  <a:lnTo>
                    <a:pt x="656" y="1080"/>
                  </a:lnTo>
                  <a:lnTo>
                    <a:pt x="636" y="1094"/>
                  </a:lnTo>
                  <a:lnTo>
                    <a:pt x="68" y="1462"/>
                  </a:lnTo>
                  <a:lnTo>
                    <a:pt x="44" y="1466"/>
                  </a:lnTo>
                  <a:lnTo>
                    <a:pt x="16" y="1462"/>
                  </a:lnTo>
                  <a:lnTo>
                    <a:pt x="0" y="1452"/>
                  </a:lnTo>
                  <a:lnTo>
                    <a:pt x="0" y="1434"/>
                  </a:lnTo>
                  <a:lnTo>
                    <a:pt x="468" y="34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000000"/>
                </a:gs>
              </a:gsLst>
              <a:lin ang="50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220840" y="258840"/>
            <a:ext cx="1711440" cy="1528560"/>
            <a:chOff x="2220840" y="258840"/>
            <a:chExt cx="1711440" cy="1528560"/>
          </a:xfrm>
        </p:grpSpPr>
        <p:grpSp>
          <p:nvGrpSpPr>
            <p:cNvPr id="175" name=""/>
            <p:cNvGrpSpPr/>
            <p:nvPr/>
          </p:nvGrpSpPr>
          <p:grpSpPr>
            <a:xfrm>
              <a:off x="2220840" y="258840"/>
              <a:ext cx="1711440" cy="1528560"/>
              <a:chOff x="2220840" y="258840"/>
              <a:chExt cx="1711440" cy="1528560"/>
            </a:xfrm>
          </p:grpSpPr>
          <p:sp>
            <p:nvSpPr>
              <p:cNvPr id="176" name=""/>
              <p:cNvSpPr/>
              <p:nvPr/>
            </p:nvSpPr>
            <p:spPr>
              <a:xfrm>
                <a:off x="2241720" y="277920"/>
                <a:ext cx="1670040" cy="149040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220840" y="258840"/>
                <a:ext cx="1711440" cy="15285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49" y="936"/>
                    </a:moveTo>
                    <a:lnTo>
                      <a:pt x="539" y="935"/>
                    </a:lnTo>
                    <a:lnTo>
                      <a:pt x="539" y="963"/>
                    </a:lnTo>
                    <a:lnTo>
                      <a:pt x="29" y="963"/>
                    </a:lnTo>
                    <a:cubicBezTo>
                      <a:pt x="29" y="963"/>
                      <a:pt x="10" y="952"/>
                      <a:pt x="0" y="935"/>
                    </a:cubicBezTo>
                    <a:cubicBezTo>
                      <a:pt x="0" y="921"/>
                      <a:pt x="0" y="907"/>
                      <a:pt x="0" y="907"/>
                    </a:cubicBezTo>
                    <a:lnTo>
                      <a:pt x="511" y="28"/>
                    </a:lnTo>
                    <a:cubicBezTo>
                      <a:pt x="511" y="28"/>
                      <a:pt x="519" y="1"/>
                      <a:pt x="539" y="0"/>
                    </a:cubicBezTo>
                    <a:cubicBezTo>
                      <a:pt x="562" y="0"/>
                      <a:pt x="567" y="28"/>
                      <a:pt x="567" y="28"/>
                    </a:cubicBezTo>
                    <a:lnTo>
                      <a:pt x="1078" y="907"/>
                    </a:lnTo>
                    <a:cubicBezTo>
                      <a:pt x="1078" y="907"/>
                      <a:pt x="1078" y="921"/>
                      <a:pt x="1078" y="935"/>
                    </a:cubicBezTo>
                    <a:cubicBezTo>
                      <a:pt x="1068" y="955"/>
                      <a:pt x="1049" y="963"/>
                      <a:pt x="1049" y="963"/>
                    </a:cubicBezTo>
                    <a:lnTo>
                      <a:pt x="539" y="963"/>
                    </a:lnTo>
                    <a:lnTo>
                      <a:pt x="539" y="935"/>
                    </a:lnTo>
                    <a:lnTo>
                      <a:pt x="1024" y="936"/>
                    </a:lnTo>
                    <a:lnTo>
                      <a:pt x="1044" y="930"/>
                    </a:lnTo>
                    <a:lnTo>
                      <a:pt x="1048" y="918"/>
                    </a:lnTo>
                    <a:lnTo>
                      <a:pt x="1044" y="907"/>
                    </a:lnTo>
                    <a:lnTo>
                      <a:pt x="550" y="49"/>
                    </a:lnTo>
                    <a:cubicBezTo>
                      <a:pt x="550" y="49"/>
                      <a:pt x="547" y="40"/>
                      <a:pt x="538" y="37"/>
                    </a:cubicBezTo>
                    <a:cubicBezTo>
                      <a:pt x="526" y="42"/>
                      <a:pt x="526" y="52"/>
                      <a:pt x="526" y="52"/>
                    </a:cubicBezTo>
                    <a:lnTo>
                      <a:pt x="40" y="900"/>
                    </a:lnTo>
                    <a:lnTo>
                      <a:pt x="34" y="910"/>
                    </a:lnTo>
                    <a:lnTo>
                      <a:pt x="34" y="925"/>
                    </a:lnTo>
                    <a:lnTo>
                      <a:pt x="49" y="9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 rot="312600">
              <a:off x="2747520" y="593280"/>
              <a:ext cx="506520" cy="1081080"/>
            </a:xfrm>
            <a:custGeom>
              <a:avLst/>
              <a:gdLst/>
              <a:ahLst/>
              <a:rect l="l" t="t" r="r" b="b"/>
              <a:pathLst>
                <a:path w="1036" h="2216">
                  <a:moveTo>
                    <a:pt x="468" y="34"/>
                  </a:moveTo>
                  <a:lnTo>
                    <a:pt x="835" y="0"/>
                  </a:lnTo>
                  <a:lnTo>
                    <a:pt x="409" y="992"/>
                  </a:lnTo>
                  <a:lnTo>
                    <a:pt x="976" y="708"/>
                  </a:lnTo>
                  <a:lnTo>
                    <a:pt x="1005" y="708"/>
                  </a:lnTo>
                  <a:lnTo>
                    <a:pt x="1022" y="716"/>
                  </a:lnTo>
                  <a:lnTo>
                    <a:pt x="1036" y="730"/>
                  </a:lnTo>
                  <a:lnTo>
                    <a:pt x="1036" y="762"/>
                  </a:lnTo>
                  <a:lnTo>
                    <a:pt x="756" y="1814"/>
                  </a:lnTo>
                  <a:lnTo>
                    <a:pt x="756" y="1836"/>
                  </a:lnTo>
                  <a:lnTo>
                    <a:pt x="780" y="1850"/>
                  </a:lnTo>
                  <a:lnTo>
                    <a:pt x="804" y="1856"/>
                  </a:lnTo>
                  <a:lnTo>
                    <a:pt x="824" y="1846"/>
                  </a:lnTo>
                  <a:lnTo>
                    <a:pt x="932" y="1782"/>
                  </a:lnTo>
                  <a:lnTo>
                    <a:pt x="950" y="1780"/>
                  </a:lnTo>
                  <a:lnTo>
                    <a:pt x="964" y="1790"/>
                  </a:lnTo>
                  <a:lnTo>
                    <a:pt x="970" y="1806"/>
                  </a:lnTo>
                  <a:lnTo>
                    <a:pt x="964" y="1826"/>
                  </a:lnTo>
                  <a:lnTo>
                    <a:pt x="652" y="2206"/>
                  </a:lnTo>
                  <a:lnTo>
                    <a:pt x="636" y="2214"/>
                  </a:lnTo>
                  <a:lnTo>
                    <a:pt x="614" y="2216"/>
                  </a:lnTo>
                  <a:lnTo>
                    <a:pt x="600" y="2204"/>
                  </a:lnTo>
                  <a:lnTo>
                    <a:pt x="588" y="2190"/>
                  </a:lnTo>
                  <a:lnTo>
                    <a:pt x="412" y="1730"/>
                  </a:lnTo>
                  <a:lnTo>
                    <a:pt x="414" y="1708"/>
                  </a:lnTo>
                  <a:lnTo>
                    <a:pt x="428" y="1694"/>
                  </a:lnTo>
                  <a:lnTo>
                    <a:pt x="446" y="1696"/>
                  </a:lnTo>
                  <a:lnTo>
                    <a:pt x="464" y="1706"/>
                  </a:lnTo>
                  <a:lnTo>
                    <a:pt x="584" y="1818"/>
                  </a:lnTo>
                  <a:lnTo>
                    <a:pt x="598" y="1832"/>
                  </a:lnTo>
                  <a:lnTo>
                    <a:pt x="620" y="1830"/>
                  </a:lnTo>
                  <a:lnTo>
                    <a:pt x="636" y="1820"/>
                  </a:lnTo>
                  <a:lnTo>
                    <a:pt x="640" y="1798"/>
                  </a:lnTo>
                  <a:lnTo>
                    <a:pt x="660" y="1566"/>
                  </a:lnTo>
                  <a:lnTo>
                    <a:pt x="704" y="1114"/>
                  </a:lnTo>
                  <a:lnTo>
                    <a:pt x="702" y="1096"/>
                  </a:lnTo>
                  <a:lnTo>
                    <a:pt x="686" y="1076"/>
                  </a:lnTo>
                  <a:lnTo>
                    <a:pt x="656" y="1080"/>
                  </a:lnTo>
                  <a:lnTo>
                    <a:pt x="636" y="1094"/>
                  </a:lnTo>
                  <a:lnTo>
                    <a:pt x="68" y="1462"/>
                  </a:lnTo>
                  <a:lnTo>
                    <a:pt x="44" y="1466"/>
                  </a:lnTo>
                  <a:lnTo>
                    <a:pt x="16" y="1462"/>
                  </a:lnTo>
                  <a:lnTo>
                    <a:pt x="0" y="1452"/>
                  </a:lnTo>
                  <a:lnTo>
                    <a:pt x="0" y="1434"/>
                  </a:lnTo>
                  <a:lnTo>
                    <a:pt x="468" y="34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000000"/>
                </a:gs>
              </a:gsLst>
              <a:lin ang="50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30120" y="277920"/>
            <a:ext cx="1711440" cy="1528560"/>
            <a:chOff x="330120" y="277920"/>
            <a:chExt cx="1711440" cy="1528560"/>
          </a:xfrm>
        </p:grpSpPr>
        <p:grpSp>
          <p:nvGrpSpPr>
            <p:cNvPr id="180" name=""/>
            <p:cNvGrpSpPr/>
            <p:nvPr/>
          </p:nvGrpSpPr>
          <p:grpSpPr>
            <a:xfrm>
              <a:off x="330120" y="277920"/>
              <a:ext cx="1711440" cy="1528560"/>
              <a:chOff x="330120" y="277920"/>
              <a:chExt cx="1711440" cy="1528560"/>
            </a:xfrm>
          </p:grpSpPr>
          <p:sp>
            <p:nvSpPr>
              <p:cNvPr id="181" name=""/>
              <p:cNvSpPr/>
              <p:nvPr/>
            </p:nvSpPr>
            <p:spPr>
              <a:xfrm>
                <a:off x="351000" y="297000"/>
                <a:ext cx="1670040" cy="149040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30120" y="277920"/>
                <a:ext cx="1711440" cy="15285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49" y="936"/>
                    </a:moveTo>
                    <a:lnTo>
                      <a:pt x="539" y="935"/>
                    </a:lnTo>
                    <a:lnTo>
                      <a:pt x="539" y="963"/>
                    </a:lnTo>
                    <a:lnTo>
                      <a:pt x="29" y="963"/>
                    </a:lnTo>
                    <a:cubicBezTo>
                      <a:pt x="29" y="963"/>
                      <a:pt x="10" y="952"/>
                      <a:pt x="0" y="935"/>
                    </a:cubicBezTo>
                    <a:cubicBezTo>
                      <a:pt x="0" y="921"/>
                      <a:pt x="0" y="907"/>
                      <a:pt x="0" y="907"/>
                    </a:cubicBezTo>
                    <a:lnTo>
                      <a:pt x="511" y="28"/>
                    </a:lnTo>
                    <a:cubicBezTo>
                      <a:pt x="511" y="28"/>
                      <a:pt x="519" y="1"/>
                      <a:pt x="539" y="0"/>
                    </a:cubicBezTo>
                    <a:cubicBezTo>
                      <a:pt x="562" y="0"/>
                      <a:pt x="567" y="28"/>
                      <a:pt x="567" y="28"/>
                    </a:cubicBezTo>
                    <a:lnTo>
                      <a:pt x="1078" y="907"/>
                    </a:lnTo>
                    <a:cubicBezTo>
                      <a:pt x="1078" y="907"/>
                      <a:pt x="1078" y="921"/>
                      <a:pt x="1078" y="935"/>
                    </a:cubicBezTo>
                    <a:cubicBezTo>
                      <a:pt x="1068" y="955"/>
                      <a:pt x="1049" y="963"/>
                      <a:pt x="1049" y="963"/>
                    </a:cubicBezTo>
                    <a:lnTo>
                      <a:pt x="539" y="963"/>
                    </a:lnTo>
                    <a:lnTo>
                      <a:pt x="539" y="935"/>
                    </a:lnTo>
                    <a:lnTo>
                      <a:pt x="1024" y="936"/>
                    </a:lnTo>
                    <a:lnTo>
                      <a:pt x="1044" y="930"/>
                    </a:lnTo>
                    <a:lnTo>
                      <a:pt x="1048" y="918"/>
                    </a:lnTo>
                    <a:lnTo>
                      <a:pt x="1044" y="907"/>
                    </a:lnTo>
                    <a:lnTo>
                      <a:pt x="550" y="49"/>
                    </a:lnTo>
                    <a:cubicBezTo>
                      <a:pt x="550" y="49"/>
                      <a:pt x="547" y="40"/>
                      <a:pt x="538" y="37"/>
                    </a:cubicBezTo>
                    <a:cubicBezTo>
                      <a:pt x="526" y="42"/>
                      <a:pt x="526" y="52"/>
                      <a:pt x="526" y="52"/>
                    </a:cubicBezTo>
                    <a:lnTo>
                      <a:pt x="40" y="900"/>
                    </a:lnTo>
                    <a:lnTo>
                      <a:pt x="34" y="910"/>
                    </a:lnTo>
                    <a:lnTo>
                      <a:pt x="34" y="925"/>
                    </a:lnTo>
                    <a:lnTo>
                      <a:pt x="49" y="9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 rot="312600">
              <a:off x="856800" y="593280"/>
              <a:ext cx="506520" cy="1081080"/>
            </a:xfrm>
            <a:custGeom>
              <a:avLst/>
              <a:gdLst/>
              <a:ahLst/>
              <a:rect l="l" t="t" r="r" b="b"/>
              <a:pathLst>
                <a:path w="1036" h="2216">
                  <a:moveTo>
                    <a:pt x="468" y="34"/>
                  </a:moveTo>
                  <a:lnTo>
                    <a:pt x="835" y="0"/>
                  </a:lnTo>
                  <a:lnTo>
                    <a:pt x="409" y="992"/>
                  </a:lnTo>
                  <a:lnTo>
                    <a:pt x="976" y="708"/>
                  </a:lnTo>
                  <a:lnTo>
                    <a:pt x="1005" y="708"/>
                  </a:lnTo>
                  <a:lnTo>
                    <a:pt x="1022" y="716"/>
                  </a:lnTo>
                  <a:lnTo>
                    <a:pt x="1036" y="730"/>
                  </a:lnTo>
                  <a:lnTo>
                    <a:pt x="1036" y="762"/>
                  </a:lnTo>
                  <a:lnTo>
                    <a:pt x="756" y="1814"/>
                  </a:lnTo>
                  <a:lnTo>
                    <a:pt x="756" y="1836"/>
                  </a:lnTo>
                  <a:lnTo>
                    <a:pt x="780" y="1850"/>
                  </a:lnTo>
                  <a:lnTo>
                    <a:pt x="804" y="1856"/>
                  </a:lnTo>
                  <a:lnTo>
                    <a:pt x="824" y="1846"/>
                  </a:lnTo>
                  <a:lnTo>
                    <a:pt x="932" y="1782"/>
                  </a:lnTo>
                  <a:lnTo>
                    <a:pt x="950" y="1780"/>
                  </a:lnTo>
                  <a:lnTo>
                    <a:pt x="964" y="1790"/>
                  </a:lnTo>
                  <a:lnTo>
                    <a:pt x="970" y="1806"/>
                  </a:lnTo>
                  <a:lnTo>
                    <a:pt x="964" y="1826"/>
                  </a:lnTo>
                  <a:lnTo>
                    <a:pt x="652" y="2206"/>
                  </a:lnTo>
                  <a:lnTo>
                    <a:pt x="636" y="2214"/>
                  </a:lnTo>
                  <a:lnTo>
                    <a:pt x="614" y="2216"/>
                  </a:lnTo>
                  <a:lnTo>
                    <a:pt x="600" y="2204"/>
                  </a:lnTo>
                  <a:lnTo>
                    <a:pt x="588" y="2190"/>
                  </a:lnTo>
                  <a:lnTo>
                    <a:pt x="412" y="1730"/>
                  </a:lnTo>
                  <a:lnTo>
                    <a:pt x="414" y="1708"/>
                  </a:lnTo>
                  <a:lnTo>
                    <a:pt x="428" y="1694"/>
                  </a:lnTo>
                  <a:lnTo>
                    <a:pt x="446" y="1696"/>
                  </a:lnTo>
                  <a:lnTo>
                    <a:pt x="464" y="1706"/>
                  </a:lnTo>
                  <a:lnTo>
                    <a:pt x="584" y="1818"/>
                  </a:lnTo>
                  <a:lnTo>
                    <a:pt x="598" y="1832"/>
                  </a:lnTo>
                  <a:lnTo>
                    <a:pt x="620" y="1830"/>
                  </a:lnTo>
                  <a:lnTo>
                    <a:pt x="636" y="1820"/>
                  </a:lnTo>
                  <a:lnTo>
                    <a:pt x="640" y="1798"/>
                  </a:lnTo>
                  <a:lnTo>
                    <a:pt x="660" y="1566"/>
                  </a:lnTo>
                  <a:lnTo>
                    <a:pt x="704" y="1114"/>
                  </a:lnTo>
                  <a:lnTo>
                    <a:pt x="702" y="1096"/>
                  </a:lnTo>
                  <a:lnTo>
                    <a:pt x="686" y="1076"/>
                  </a:lnTo>
                  <a:lnTo>
                    <a:pt x="656" y="1080"/>
                  </a:lnTo>
                  <a:lnTo>
                    <a:pt x="636" y="1094"/>
                  </a:lnTo>
                  <a:lnTo>
                    <a:pt x="68" y="1462"/>
                  </a:lnTo>
                  <a:lnTo>
                    <a:pt x="44" y="1466"/>
                  </a:lnTo>
                  <a:lnTo>
                    <a:pt x="16" y="1462"/>
                  </a:lnTo>
                  <a:lnTo>
                    <a:pt x="0" y="1452"/>
                  </a:lnTo>
                  <a:lnTo>
                    <a:pt x="0" y="1434"/>
                  </a:lnTo>
                  <a:lnTo>
                    <a:pt x="468" y="34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000000"/>
                </a:gs>
              </a:gsLst>
              <a:lin ang="50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7850160" y="1846440"/>
            <a:ext cx="1738440" cy="1538280"/>
            <a:chOff x="7850160" y="1846440"/>
            <a:chExt cx="1738440" cy="1538280"/>
          </a:xfrm>
        </p:grpSpPr>
        <p:grpSp>
          <p:nvGrpSpPr>
            <p:cNvPr id="185" name=""/>
            <p:cNvGrpSpPr/>
            <p:nvPr/>
          </p:nvGrpSpPr>
          <p:grpSpPr>
            <a:xfrm>
              <a:off x="7850160" y="1846440"/>
              <a:ext cx="1738440" cy="1538280"/>
              <a:chOff x="7850160" y="1846440"/>
              <a:chExt cx="1738440" cy="1538280"/>
            </a:xfrm>
          </p:grpSpPr>
          <p:sp>
            <p:nvSpPr>
              <p:cNvPr id="186" name=""/>
              <p:cNvSpPr/>
              <p:nvPr/>
            </p:nvSpPr>
            <p:spPr>
              <a:xfrm>
                <a:off x="7883640" y="1870200"/>
                <a:ext cx="1670040" cy="149040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850160" y="1846440"/>
                <a:ext cx="1738440" cy="1538280"/>
              </a:xfrm>
              <a:custGeom>
                <a:avLst/>
                <a:gdLst/>
                <a:ahLst/>
                <a:rect l="l" t="t" r="r" b="b"/>
                <a:pathLst>
                  <a:path w="1095" h="969">
                    <a:moveTo>
                      <a:pt x="519" y="91"/>
                    </a:moveTo>
                    <a:cubicBezTo>
                      <a:pt x="519" y="91"/>
                      <a:pt x="529" y="64"/>
                      <a:pt x="547" y="62"/>
                    </a:cubicBezTo>
                    <a:cubicBezTo>
                      <a:pt x="564" y="61"/>
                      <a:pt x="575" y="91"/>
                      <a:pt x="575" y="91"/>
                    </a:cubicBezTo>
                    <a:lnTo>
                      <a:pt x="1029" y="913"/>
                    </a:lnTo>
                    <a:lnTo>
                      <a:pt x="547" y="913"/>
                    </a:lnTo>
                    <a:lnTo>
                      <a:pt x="547" y="969"/>
                    </a:lnTo>
                    <a:lnTo>
                      <a:pt x="1057" y="969"/>
                    </a:lnTo>
                    <a:cubicBezTo>
                      <a:pt x="1057" y="969"/>
                      <a:pt x="1075" y="956"/>
                      <a:pt x="1086" y="941"/>
                    </a:cubicBezTo>
                    <a:cubicBezTo>
                      <a:pt x="1095" y="929"/>
                      <a:pt x="1086" y="913"/>
                      <a:pt x="1086" y="913"/>
                    </a:cubicBezTo>
                    <a:lnTo>
                      <a:pt x="604" y="34"/>
                    </a:lnTo>
                    <a:cubicBezTo>
                      <a:pt x="604" y="34"/>
                      <a:pt x="585" y="11"/>
                      <a:pt x="575" y="6"/>
                    </a:cubicBezTo>
                    <a:cubicBezTo>
                      <a:pt x="565" y="1"/>
                      <a:pt x="553" y="1"/>
                      <a:pt x="544" y="1"/>
                    </a:cubicBezTo>
                    <a:cubicBezTo>
                      <a:pt x="535" y="1"/>
                      <a:pt x="528" y="0"/>
                      <a:pt x="519" y="6"/>
                    </a:cubicBezTo>
                    <a:cubicBezTo>
                      <a:pt x="496" y="17"/>
                      <a:pt x="490" y="34"/>
                      <a:pt x="490" y="34"/>
                    </a:cubicBezTo>
                    <a:lnTo>
                      <a:pt x="8" y="913"/>
                    </a:lnTo>
                    <a:cubicBezTo>
                      <a:pt x="8" y="913"/>
                      <a:pt x="0" y="928"/>
                      <a:pt x="8" y="941"/>
                    </a:cubicBezTo>
                    <a:cubicBezTo>
                      <a:pt x="19" y="962"/>
                      <a:pt x="37" y="969"/>
                      <a:pt x="37" y="969"/>
                    </a:cubicBezTo>
                    <a:cubicBezTo>
                      <a:pt x="292" y="969"/>
                      <a:pt x="547" y="969"/>
                      <a:pt x="547" y="969"/>
                    </a:cubicBezTo>
                    <a:lnTo>
                      <a:pt x="547" y="913"/>
                    </a:lnTo>
                    <a:lnTo>
                      <a:pt x="65" y="913"/>
                    </a:lnTo>
                    <a:lnTo>
                      <a:pt x="519" y="9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 rot="312600">
              <a:off x="8373600" y="2168280"/>
              <a:ext cx="506520" cy="1081080"/>
            </a:xfrm>
            <a:custGeom>
              <a:avLst/>
              <a:gdLst/>
              <a:ahLst/>
              <a:rect l="l" t="t" r="r" b="b"/>
              <a:pathLst>
                <a:path w="1036" h="2216">
                  <a:moveTo>
                    <a:pt x="468" y="34"/>
                  </a:moveTo>
                  <a:lnTo>
                    <a:pt x="835" y="0"/>
                  </a:lnTo>
                  <a:lnTo>
                    <a:pt x="409" y="992"/>
                  </a:lnTo>
                  <a:lnTo>
                    <a:pt x="976" y="708"/>
                  </a:lnTo>
                  <a:lnTo>
                    <a:pt x="1005" y="708"/>
                  </a:lnTo>
                  <a:lnTo>
                    <a:pt x="1022" y="716"/>
                  </a:lnTo>
                  <a:lnTo>
                    <a:pt x="1036" y="730"/>
                  </a:lnTo>
                  <a:lnTo>
                    <a:pt x="1036" y="762"/>
                  </a:lnTo>
                  <a:lnTo>
                    <a:pt x="756" y="1814"/>
                  </a:lnTo>
                  <a:lnTo>
                    <a:pt x="756" y="1836"/>
                  </a:lnTo>
                  <a:lnTo>
                    <a:pt x="780" y="1850"/>
                  </a:lnTo>
                  <a:lnTo>
                    <a:pt x="804" y="1856"/>
                  </a:lnTo>
                  <a:lnTo>
                    <a:pt x="824" y="1846"/>
                  </a:lnTo>
                  <a:lnTo>
                    <a:pt x="932" y="1782"/>
                  </a:lnTo>
                  <a:lnTo>
                    <a:pt x="950" y="1780"/>
                  </a:lnTo>
                  <a:lnTo>
                    <a:pt x="964" y="1790"/>
                  </a:lnTo>
                  <a:lnTo>
                    <a:pt x="970" y="1806"/>
                  </a:lnTo>
                  <a:lnTo>
                    <a:pt x="964" y="1826"/>
                  </a:lnTo>
                  <a:lnTo>
                    <a:pt x="652" y="2206"/>
                  </a:lnTo>
                  <a:lnTo>
                    <a:pt x="636" y="2214"/>
                  </a:lnTo>
                  <a:lnTo>
                    <a:pt x="614" y="2216"/>
                  </a:lnTo>
                  <a:lnTo>
                    <a:pt x="600" y="2204"/>
                  </a:lnTo>
                  <a:lnTo>
                    <a:pt x="588" y="2190"/>
                  </a:lnTo>
                  <a:lnTo>
                    <a:pt x="412" y="1730"/>
                  </a:lnTo>
                  <a:lnTo>
                    <a:pt x="414" y="1708"/>
                  </a:lnTo>
                  <a:lnTo>
                    <a:pt x="428" y="1694"/>
                  </a:lnTo>
                  <a:lnTo>
                    <a:pt x="446" y="1696"/>
                  </a:lnTo>
                  <a:lnTo>
                    <a:pt x="464" y="1706"/>
                  </a:lnTo>
                  <a:lnTo>
                    <a:pt x="584" y="1818"/>
                  </a:lnTo>
                  <a:lnTo>
                    <a:pt x="598" y="1832"/>
                  </a:lnTo>
                  <a:lnTo>
                    <a:pt x="620" y="1830"/>
                  </a:lnTo>
                  <a:lnTo>
                    <a:pt x="636" y="1820"/>
                  </a:lnTo>
                  <a:lnTo>
                    <a:pt x="640" y="1798"/>
                  </a:lnTo>
                  <a:lnTo>
                    <a:pt x="660" y="1566"/>
                  </a:lnTo>
                  <a:lnTo>
                    <a:pt x="704" y="1114"/>
                  </a:lnTo>
                  <a:lnTo>
                    <a:pt x="702" y="1096"/>
                  </a:lnTo>
                  <a:lnTo>
                    <a:pt x="686" y="1076"/>
                  </a:lnTo>
                  <a:lnTo>
                    <a:pt x="656" y="1080"/>
                  </a:lnTo>
                  <a:lnTo>
                    <a:pt x="636" y="1094"/>
                  </a:lnTo>
                  <a:lnTo>
                    <a:pt x="68" y="1462"/>
                  </a:lnTo>
                  <a:lnTo>
                    <a:pt x="44" y="1466"/>
                  </a:lnTo>
                  <a:lnTo>
                    <a:pt x="16" y="1462"/>
                  </a:lnTo>
                  <a:lnTo>
                    <a:pt x="0" y="1452"/>
                  </a:lnTo>
                  <a:lnTo>
                    <a:pt x="0" y="1434"/>
                  </a:lnTo>
                  <a:lnTo>
                    <a:pt x="468" y="34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000000"/>
                </a:gs>
              </a:gsLst>
              <a:lin ang="50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964120" y="1847880"/>
            <a:ext cx="1738440" cy="1538280"/>
            <a:chOff x="5964120" y="1847880"/>
            <a:chExt cx="1738440" cy="1538280"/>
          </a:xfrm>
        </p:grpSpPr>
        <p:grpSp>
          <p:nvGrpSpPr>
            <p:cNvPr id="190" name=""/>
            <p:cNvGrpSpPr/>
            <p:nvPr/>
          </p:nvGrpSpPr>
          <p:grpSpPr>
            <a:xfrm>
              <a:off x="5964120" y="1847880"/>
              <a:ext cx="1738440" cy="1538280"/>
              <a:chOff x="5964120" y="1847880"/>
              <a:chExt cx="1738440" cy="1538280"/>
            </a:xfrm>
          </p:grpSpPr>
          <p:sp>
            <p:nvSpPr>
              <p:cNvPr id="191" name=""/>
              <p:cNvSpPr/>
              <p:nvPr/>
            </p:nvSpPr>
            <p:spPr>
              <a:xfrm>
                <a:off x="5997600" y="187164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964120" y="1847880"/>
                <a:ext cx="1738440" cy="1538280"/>
              </a:xfrm>
              <a:custGeom>
                <a:avLst/>
                <a:gdLst/>
                <a:ahLst/>
                <a:rect l="l" t="t" r="r" b="b"/>
                <a:pathLst>
                  <a:path w="1095" h="969">
                    <a:moveTo>
                      <a:pt x="519" y="91"/>
                    </a:moveTo>
                    <a:cubicBezTo>
                      <a:pt x="519" y="91"/>
                      <a:pt x="529" y="64"/>
                      <a:pt x="547" y="62"/>
                    </a:cubicBezTo>
                    <a:cubicBezTo>
                      <a:pt x="564" y="61"/>
                      <a:pt x="575" y="91"/>
                      <a:pt x="575" y="91"/>
                    </a:cubicBezTo>
                    <a:lnTo>
                      <a:pt x="1029" y="913"/>
                    </a:lnTo>
                    <a:lnTo>
                      <a:pt x="547" y="913"/>
                    </a:lnTo>
                    <a:lnTo>
                      <a:pt x="547" y="969"/>
                    </a:lnTo>
                    <a:lnTo>
                      <a:pt x="1057" y="969"/>
                    </a:lnTo>
                    <a:cubicBezTo>
                      <a:pt x="1057" y="969"/>
                      <a:pt x="1075" y="956"/>
                      <a:pt x="1086" y="941"/>
                    </a:cubicBezTo>
                    <a:cubicBezTo>
                      <a:pt x="1095" y="929"/>
                      <a:pt x="1086" y="913"/>
                      <a:pt x="1086" y="913"/>
                    </a:cubicBezTo>
                    <a:lnTo>
                      <a:pt x="604" y="34"/>
                    </a:lnTo>
                    <a:cubicBezTo>
                      <a:pt x="604" y="34"/>
                      <a:pt x="585" y="11"/>
                      <a:pt x="575" y="6"/>
                    </a:cubicBezTo>
                    <a:cubicBezTo>
                      <a:pt x="565" y="1"/>
                      <a:pt x="553" y="1"/>
                      <a:pt x="544" y="1"/>
                    </a:cubicBezTo>
                    <a:cubicBezTo>
                      <a:pt x="535" y="1"/>
                      <a:pt x="528" y="0"/>
                      <a:pt x="519" y="6"/>
                    </a:cubicBezTo>
                    <a:cubicBezTo>
                      <a:pt x="496" y="17"/>
                      <a:pt x="490" y="34"/>
                      <a:pt x="490" y="34"/>
                    </a:cubicBezTo>
                    <a:lnTo>
                      <a:pt x="8" y="913"/>
                    </a:lnTo>
                    <a:cubicBezTo>
                      <a:pt x="8" y="913"/>
                      <a:pt x="0" y="928"/>
                      <a:pt x="8" y="941"/>
                    </a:cubicBezTo>
                    <a:cubicBezTo>
                      <a:pt x="19" y="962"/>
                      <a:pt x="37" y="969"/>
                      <a:pt x="37" y="969"/>
                    </a:cubicBezTo>
                    <a:cubicBezTo>
                      <a:pt x="292" y="969"/>
                      <a:pt x="547" y="969"/>
                      <a:pt x="547" y="969"/>
                    </a:cubicBezTo>
                    <a:lnTo>
                      <a:pt x="547" y="913"/>
                    </a:lnTo>
                    <a:lnTo>
                      <a:pt x="65" y="913"/>
                    </a:lnTo>
                    <a:lnTo>
                      <a:pt x="519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 rot="312600">
              <a:off x="6527520" y="2168280"/>
              <a:ext cx="506160" cy="1081080"/>
            </a:xfrm>
            <a:custGeom>
              <a:avLst/>
              <a:gdLst/>
              <a:ahLst/>
              <a:rect l="l" t="t" r="r" b="b"/>
              <a:pathLst>
                <a:path w="1036" h="2216">
                  <a:moveTo>
                    <a:pt x="468" y="34"/>
                  </a:moveTo>
                  <a:lnTo>
                    <a:pt x="835" y="0"/>
                  </a:lnTo>
                  <a:lnTo>
                    <a:pt x="409" y="992"/>
                  </a:lnTo>
                  <a:lnTo>
                    <a:pt x="976" y="708"/>
                  </a:lnTo>
                  <a:lnTo>
                    <a:pt x="1005" y="708"/>
                  </a:lnTo>
                  <a:lnTo>
                    <a:pt x="1022" y="716"/>
                  </a:lnTo>
                  <a:lnTo>
                    <a:pt x="1036" y="730"/>
                  </a:lnTo>
                  <a:lnTo>
                    <a:pt x="1036" y="762"/>
                  </a:lnTo>
                  <a:lnTo>
                    <a:pt x="756" y="1814"/>
                  </a:lnTo>
                  <a:lnTo>
                    <a:pt x="756" y="1836"/>
                  </a:lnTo>
                  <a:lnTo>
                    <a:pt x="780" y="1850"/>
                  </a:lnTo>
                  <a:lnTo>
                    <a:pt x="804" y="1856"/>
                  </a:lnTo>
                  <a:lnTo>
                    <a:pt x="824" y="1846"/>
                  </a:lnTo>
                  <a:lnTo>
                    <a:pt x="932" y="1782"/>
                  </a:lnTo>
                  <a:lnTo>
                    <a:pt x="950" y="1780"/>
                  </a:lnTo>
                  <a:lnTo>
                    <a:pt x="964" y="1790"/>
                  </a:lnTo>
                  <a:lnTo>
                    <a:pt x="970" y="1806"/>
                  </a:lnTo>
                  <a:lnTo>
                    <a:pt x="964" y="1826"/>
                  </a:lnTo>
                  <a:lnTo>
                    <a:pt x="652" y="2206"/>
                  </a:lnTo>
                  <a:lnTo>
                    <a:pt x="636" y="2214"/>
                  </a:lnTo>
                  <a:lnTo>
                    <a:pt x="614" y="2216"/>
                  </a:lnTo>
                  <a:lnTo>
                    <a:pt x="600" y="2204"/>
                  </a:lnTo>
                  <a:lnTo>
                    <a:pt x="588" y="2190"/>
                  </a:lnTo>
                  <a:lnTo>
                    <a:pt x="412" y="1730"/>
                  </a:lnTo>
                  <a:lnTo>
                    <a:pt x="414" y="1708"/>
                  </a:lnTo>
                  <a:lnTo>
                    <a:pt x="428" y="1694"/>
                  </a:lnTo>
                  <a:lnTo>
                    <a:pt x="446" y="1696"/>
                  </a:lnTo>
                  <a:lnTo>
                    <a:pt x="464" y="1706"/>
                  </a:lnTo>
                  <a:lnTo>
                    <a:pt x="584" y="1818"/>
                  </a:lnTo>
                  <a:lnTo>
                    <a:pt x="598" y="1832"/>
                  </a:lnTo>
                  <a:lnTo>
                    <a:pt x="620" y="1830"/>
                  </a:lnTo>
                  <a:lnTo>
                    <a:pt x="636" y="1820"/>
                  </a:lnTo>
                  <a:lnTo>
                    <a:pt x="640" y="1798"/>
                  </a:lnTo>
                  <a:lnTo>
                    <a:pt x="660" y="1566"/>
                  </a:lnTo>
                  <a:lnTo>
                    <a:pt x="704" y="1114"/>
                  </a:lnTo>
                  <a:lnTo>
                    <a:pt x="702" y="1096"/>
                  </a:lnTo>
                  <a:lnTo>
                    <a:pt x="686" y="1076"/>
                  </a:lnTo>
                  <a:lnTo>
                    <a:pt x="656" y="1080"/>
                  </a:lnTo>
                  <a:lnTo>
                    <a:pt x="636" y="1094"/>
                  </a:lnTo>
                  <a:lnTo>
                    <a:pt x="68" y="1462"/>
                  </a:lnTo>
                  <a:lnTo>
                    <a:pt x="44" y="1466"/>
                  </a:lnTo>
                  <a:lnTo>
                    <a:pt x="16" y="1462"/>
                  </a:lnTo>
                  <a:lnTo>
                    <a:pt x="0" y="1452"/>
                  </a:lnTo>
                  <a:lnTo>
                    <a:pt x="0" y="1434"/>
                  </a:lnTo>
                  <a:lnTo>
                    <a:pt x="468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098960" y="1865160"/>
            <a:ext cx="1738440" cy="1538280"/>
            <a:chOff x="4098960" y="1865160"/>
            <a:chExt cx="1738440" cy="1538280"/>
          </a:xfrm>
        </p:grpSpPr>
        <p:grpSp>
          <p:nvGrpSpPr>
            <p:cNvPr id="195" name=""/>
            <p:cNvGrpSpPr/>
            <p:nvPr/>
          </p:nvGrpSpPr>
          <p:grpSpPr>
            <a:xfrm>
              <a:off x="4098960" y="1865160"/>
              <a:ext cx="1738440" cy="1538280"/>
              <a:chOff x="4098960" y="1865160"/>
              <a:chExt cx="1738440" cy="1538280"/>
            </a:xfrm>
          </p:grpSpPr>
          <p:sp>
            <p:nvSpPr>
              <p:cNvPr id="196" name=""/>
              <p:cNvSpPr/>
              <p:nvPr/>
            </p:nvSpPr>
            <p:spPr>
              <a:xfrm>
                <a:off x="4132440" y="1889280"/>
                <a:ext cx="1670040" cy="149040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098960" y="1865160"/>
                <a:ext cx="1738440" cy="1538280"/>
              </a:xfrm>
              <a:custGeom>
                <a:avLst/>
                <a:gdLst/>
                <a:ahLst/>
                <a:rect l="l" t="t" r="r" b="b"/>
                <a:pathLst>
                  <a:path w="1095" h="969">
                    <a:moveTo>
                      <a:pt x="519" y="91"/>
                    </a:moveTo>
                    <a:cubicBezTo>
                      <a:pt x="519" y="91"/>
                      <a:pt x="529" y="64"/>
                      <a:pt x="547" y="62"/>
                    </a:cubicBezTo>
                    <a:cubicBezTo>
                      <a:pt x="564" y="61"/>
                      <a:pt x="575" y="91"/>
                      <a:pt x="575" y="91"/>
                    </a:cubicBezTo>
                    <a:lnTo>
                      <a:pt x="1029" y="913"/>
                    </a:lnTo>
                    <a:lnTo>
                      <a:pt x="547" y="913"/>
                    </a:lnTo>
                    <a:lnTo>
                      <a:pt x="547" y="969"/>
                    </a:lnTo>
                    <a:lnTo>
                      <a:pt x="1057" y="969"/>
                    </a:lnTo>
                    <a:cubicBezTo>
                      <a:pt x="1057" y="969"/>
                      <a:pt x="1075" y="956"/>
                      <a:pt x="1086" y="941"/>
                    </a:cubicBezTo>
                    <a:cubicBezTo>
                      <a:pt x="1095" y="929"/>
                      <a:pt x="1086" y="913"/>
                      <a:pt x="1086" y="913"/>
                    </a:cubicBezTo>
                    <a:lnTo>
                      <a:pt x="604" y="34"/>
                    </a:lnTo>
                    <a:cubicBezTo>
                      <a:pt x="604" y="34"/>
                      <a:pt x="585" y="11"/>
                      <a:pt x="575" y="6"/>
                    </a:cubicBezTo>
                    <a:cubicBezTo>
                      <a:pt x="565" y="1"/>
                      <a:pt x="553" y="1"/>
                      <a:pt x="544" y="1"/>
                    </a:cubicBezTo>
                    <a:cubicBezTo>
                      <a:pt x="535" y="1"/>
                      <a:pt x="528" y="0"/>
                      <a:pt x="519" y="6"/>
                    </a:cubicBezTo>
                    <a:cubicBezTo>
                      <a:pt x="496" y="17"/>
                      <a:pt x="490" y="34"/>
                      <a:pt x="490" y="34"/>
                    </a:cubicBezTo>
                    <a:lnTo>
                      <a:pt x="8" y="913"/>
                    </a:lnTo>
                    <a:cubicBezTo>
                      <a:pt x="8" y="913"/>
                      <a:pt x="0" y="928"/>
                      <a:pt x="8" y="941"/>
                    </a:cubicBezTo>
                    <a:cubicBezTo>
                      <a:pt x="19" y="962"/>
                      <a:pt x="37" y="969"/>
                      <a:pt x="37" y="969"/>
                    </a:cubicBezTo>
                    <a:cubicBezTo>
                      <a:pt x="292" y="969"/>
                      <a:pt x="547" y="969"/>
                      <a:pt x="547" y="969"/>
                    </a:cubicBezTo>
                    <a:lnTo>
                      <a:pt x="547" y="913"/>
                    </a:lnTo>
                    <a:lnTo>
                      <a:pt x="65" y="913"/>
                    </a:lnTo>
                    <a:lnTo>
                      <a:pt x="519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 rot="312600">
              <a:off x="4638240" y="2168280"/>
              <a:ext cx="506520" cy="1081080"/>
            </a:xfrm>
            <a:custGeom>
              <a:avLst/>
              <a:gdLst/>
              <a:ahLst/>
              <a:rect l="l" t="t" r="r" b="b"/>
              <a:pathLst>
                <a:path w="1036" h="2216">
                  <a:moveTo>
                    <a:pt x="468" y="34"/>
                  </a:moveTo>
                  <a:lnTo>
                    <a:pt x="835" y="0"/>
                  </a:lnTo>
                  <a:lnTo>
                    <a:pt x="409" y="992"/>
                  </a:lnTo>
                  <a:lnTo>
                    <a:pt x="976" y="708"/>
                  </a:lnTo>
                  <a:lnTo>
                    <a:pt x="1005" y="708"/>
                  </a:lnTo>
                  <a:lnTo>
                    <a:pt x="1022" y="716"/>
                  </a:lnTo>
                  <a:lnTo>
                    <a:pt x="1036" y="730"/>
                  </a:lnTo>
                  <a:lnTo>
                    <a:pt x="1036" y="762"/>
                  </a:lnTo>
                  <a:lnTo>
                    <a:pt x="756" y="1814"/>
                  </a:lnTo>
                  <a:lnTo>
                    <a:pt x="756" y="1836"/>
                  </a:lnTo>
                  <a:lnTo>
                    <a:pt x="780" y="1850"/>
                  </a:lnTo>
                  <a:lnTo>
                    <a:pt x="804" y="1856"/>
                  </a:lnTo>
                  <a:lnTo>
                    <a:pt x="824" y="1846"/>
                  </a:lnTo>
                  <a:lnTo>
                    <a:pt x="932" y="1782"/>
                  </a:lnTo>
                  <a:lnTo>
                    <a:pt x="950" y="1780"/>
                  </a:lnTo>
                  <a:lnTo>
                    <a:pt x="964" y="1790"/>
                  </a:lnTo>
                  <a:lnTo>
                    <a:pt x="970" y="1806"/>
                  </a:lnTo>
                  <a:lnTo>
                    <a:pt x="964" y="1826"/>
                  </a:lnTo>
                  <a:lnTo>
                    <a:pt x="652" y="2206"/>
                  </a:lnTo>
                  <a:lnTo>
                    <a:pt x="636" y="2214"/>
                  </a:lnTo>
                  <a:lnTo>
                    <a:pt x="614" y="2216"/>
                  </a:lnTo>
                  <a:lnTo>
                    <a:pt x="600" y="2204"/>
                  </a:lnTo>
                  <a:lnTo>
                    <a:pt x="588" y="2190"/>
                  </a:lnTo>
                  <a:lnTo>
                    <a:pt x="412" y="1730"/>
                  </a:lnTo>
                  <a:lnTo>
                    <a:pt x="414" y="1708"/>
                  </a:lnTo>
                  <a:lnTo>
                    <a:pt x="428" y="1694"/>
                  </a:lnTo>
                  <a:lnTo>
                    <a:pt x="446" y="1696"/>
                  </a:lnTo>
                  <a:lnTo>
                    <a:pt x="464" y="1706"/>
                  </a:lnTo>
                  <a:lnTo>
                    <a:pt x="584" y="1818"/>
                  </a:lnTo>
                  <a:lnTo>
                    <a:pt x="598" y="1832"/>
                  </a:lnTo>
                  <a:lnTo>
                    <a:pt x="620" y="1830"/>
                  </a:lnTo>
                  <a:lnTo>
                    <a:pt x="636" y="1820"/>
                  </a:lnTo>
                  <a:lnTo>
                    <a:pt x="640" y="1798"/>
                  </a:lnTo>
                  <a:lnTo>
                    <a:pt x="660" y="1566"/>
                  </a:lnTo>
                  <a:lnTo>
                    <a:pt x="704" y="1114"/>
                  </a:lnTo>
                  <a:lnTo>
                    <a:pt x="702" y="1096"/>
                  </a:lnTo>
                  <a:lnTo>
                    <a:pt x="686" y="1076"/>
                  </a:lnTo>
                  <a:lnTo>
                    <a:pt x="656" y="1080"/>
                  </a:lnTo>
                  <a:lnTo>
                    <a:pt x="636" y="1094"/>
                  </a:lnTo>
                  <a:lnTo>
                    <a:pt x="68" y="1462"/>
                  </a:lnTo>
                  <a:lnTo>
                    <a:pt x="44" y="1466"/>
                  </a:lnTo>
                  <a:lnTo>
                    <a:pt x="16" y="1462"/>
                  </a:lnTo>
                  <a:lnTo>
                    <a:pt x="0" y="1452"/>
                  </a:lnTo>
                  <a:lnTo>
                    <a:pt x="0" y="1434"/>
                  </a:lnTo>
                  <a:lnTo>
                    <a:pt x="468" y="34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000000"/>
                </a:gs>
              </a:gsLst>
              <a:lin ang="50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2208240" y="1871640"/>
            <a:ext cx="1738440" cy="1538280"/>
            <a:chOff x="2208240" y="1871640"/>
            <a:chExt cx="1738440" cy="1538280"/>
          </a:xfrm>
        </p:grpSpPr>
        <p:grpSp>
          <p:nvGrpSpPr>
            <p:cNvPr id="200" name=""/>
            <p:cNvGrpSpPr/>
            <p:nvPr/>
          </p:nvGrpSpPr>
          <p:grpSpPr>
            <a:xfrm>
              <a:off x="2208240" y="1871640"/>
              <a:ext cx="1738440" cy="1538280"/>
              <a:chOff x="2208240" y="1871640"/>
              <a:chExt cx="1738440" cy="1538280"/>
            </a:xfrm>
          </p:grpSpPr>
          <p:sp>
            <p:nvSpPr>
              <p:cNvPr id="201" name=""/>
              <p:cNvSpPr/>
              <p:nvPr/>
            </p:nvSpPr>
            <p:spPr>
              <a:xfrm>
                <a:off x="2241720" y="189540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208240" y="1871640"/>
                <a:ext cx="1738440" cy="1538280"/>
              </a:xfrm>
              <a:custGeom>
                <a:avLst/>
                <a:gdLst/>
                <a:ahLst/>
                <a:rect l="l" t="t" r="r" b="b"/>
                <a:pathLst>
                  <a:path w="1095" h="969">
                    <a:moveTo>
                      <a:pt x="519" y="91"/>
                    </a:moveTo>
                    <a:cubicBezTo>
                      <a:pt x="519" y="91"/>
                      <a:pt x="529" y="64"/>
                      <a:pt x="547" y="62"/>
                    </a:cubicBezTo>
                    <a:cubicBezTo>
                      <a:pt x="564" y="61"/>
                      <a:pt x="575" y="91"/>
                      <a:pt x="575" y="91"/>
                    </a:cubicBezTo>
                    <a:lnTo>
                      <a:pt x="1029" y="913"/>
                    </a:lnTo>
                    <a:lnTo>
                      <a:pt x="547" y="913"/>
                    </a:lnTo>
                    <a:lnTo>
                      <a:pt x="547" y="969"/>
                    </a:lnTo>
                    <a:lnTo>
                      <a:pt x="1057" y="969"/>
                    </a:lnTo>
                    <a:cubicBezTo>
                      <a:pt x="1057" y="969"/>
                      <a:pt x="1075" y="956"/>
                      <a:pt x="1086" y="941"/>
                    </a:cubicBezTo>
                    <a:cubicBezTo>
                      <a:pt x="1095" y="929"/>
                      <a:pt x="1086" y="913"/>
                      <a:pt x="1086" y="913"/>
                    </a:cubicBezTo>
                    <a:lnTo>
                      <a:pt x="604" y="34"/>
                    </a:lnTo>
                    <a:cubicBezTo>
                      <a:pt x="604" y="34"/>
                      <a:pt x="585" y="11"/>
                      <a:pt x="575" y="6"/>
                    </a:cubicBezTo>
                    <a:cubicBezTo>
                      <a:pt x="565" y="1"/>
                      <a:pt x="553" y="1"/>
                      <a:pt x="544" y="1"/>
                    </a:cubicBezTo>
                    <a:cubicBezTo>
                      <a:pt x="535" y="1"/>
                      <a:pt x="528" y="0"/>
                      <a:pt x="519" y="6"/>
                    </a:cubicBezTo>
                    <a:cubicBezTo>
                      <a:pt x="496" y="17"/>
                      <a:pt x="490" y="34"/>
                      <a:pt x="490" y="34"/>
                    </a:cubicBezTo>
                    <a:lnTo>
                      <a:pt x="8" y="913"/>
                    </a:lnTo>
                    <a:cubicBezTo>
                      <a:pt x="8" y="913"/>
                      <a:pt x="0" y="928"/>
                      <a:pt x="8" y="941"/>
                    </a:cubicBezTo>
                    <a:cubicBezTo>
                      <a:pt x="19" y="962"/>
                      <a:pt x="37" y="969"/>
                      <a:pt x="37" y="969"/>
                    </a:cubicBezTo>
                    <a:cubicBezTo>
                      <a:pt x="292" y="969"/>
                      <a:pt x="547" y="969"/>
                      <a:pt x="547" y="969"/>
                    </a:cubicBezTo>
                    <a:lnTo>
                      <a:pt x="547" y="913"/>
                    </a:lnTo>
                    <a:lnTo>
                      <a:pt x="65" y="913"/>
                    </a:lnTo>
                    <a:lnTo>
                      <a:pt x="519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 rot="312600">
              <a:off x="2747520" y="2168280"/>
              <a:ext cx="506520" cy="1081080"/>
            </a:xfrm>
            <a:custGeom>
              <a:avLst/>
              <a:gdLst/>
              <a:ahLst/>
              <a:rect l="l" t="t" r="r" b="b"/>
              <a:pathLst>
                <a:path w="1036" h="2216">
                  <a:moveTo>
                    <a:pt x="468" y="34"/>
                  </a:moveTo>
                  <a:lnTo>
                    <a:pt x="835" y="0"/>
                  </a:lnTo>
                  <a:lnTo>
                    <a:pt x="409" y="992"/>
                  </a:lnTo>
                  <a:lnTo>
                    <a:pt x="976" y="708"/>
                  </a:lnTo>
                  <a:lnTo>
                    <a:pt x="1005" y="708"/>
                  </a:lnTo>
                  <a:lnTo>
                    <a:pt x="1022" y="716"/>
                  </a:lnTo>
                  <a:lnTo>
                    <a:pt x="1036" y="730"/>
                  </a:lnTo>
                  <a:lnTo>
                    <a:pt x="1036" y="762"/>
                  </a:lnTo>
                  <a:lnTo>
                    <a:pt x="756" y="1814"/>
                  </a:lnTo>
                  <a:lnTo>
                    <a:pt x="756" y="1836"/>
                  </a:lnTo>
                  <a:lnTo>
                    <a:pt x="780" y="1850"/>
                  </a:lnTo>
                  <a:lnTo>
                    <a:pt x="804" y="1856"/>
                  </a:lnTo>
                  <a:lnTo>
                    <a:pt x="824" y="1846"/>
                  </a:lnTo>
                  <a:lnTo>
                    <a:pt x="932" y="1782"/>
                  </a:lnTo>
                  <a:lnTo>
                    <a:pt x="950" y="1780"/>
                  </a:lnTo>
                  <a:lnTo>
                    <a:pt x="964" y="1790"/>
                  </a:lnTo>
                  <a:lnTo>
                    <a:pt x="970" y="1806"/>
                  </a:lnTo>
                  <a:lnTo>
                    <a:pt x="964" y="1826"/>
                  </a:lnTo>
                  <a:lnTo>
                    <a:pt x="652" y="2206"/>
                  </a:lnTo>
                  <a:lnTo>
                    <a:pt x="636" y="2214"/>
                  </a:lnTo>
                  <a:lnTo>
                    <a:pt x="614" y="2216"/>
                  </a:lnTo>
                  <a:lnTo>
                    <a:pt x="600" y="2204"/>
                  </a:lnTo>
                  <a:lnTo>
                    <a:pt x="588" y="2190"/>
                  </a:lnTo>
                  <a:lnTo>
                    <a:pt x="412" y="1730"/>
                  </a:lnTo>
                  <a:lnTo>
                    <a:pt x="414" y="1708"/>
                  </a:lnTo>
                  <a:lnTo>
                    <a:pt x="428" y="1694"/>
                  </a:lnTo>
                  <a:lnTo>
                    <a:pt x="446" y="1696"/>
                  </a:lnTo>
                  <a:lnTo>
                    <a:pt x="464" y="1706"/>
                  </a:lnTo>
                  <a:lnTo>
                    <a:pt x="584" y="1818"/>
                  </a:lnTo>
                  <a:lnTo>
                    <a:pt x="598" y="1832"/>
                  </a:lnTo>
                  <a:lnTo>
                    <a:pt x="620" y="1830"/>
                  </a:lnTo>
                  <a:lnTo>
                    <a:pt x="636" y="1820"/>
                  </a:lnTo>
                  <a:lnTo>
                    <a:pt x="640" y="1798"/>
                  </a:lnTo>
                  <a:lnTo>
                    <a:pt x="660" y="1566"/>
                  </a:lnTo>
                  <a:lnTo>
                    <a:pt x="704" y="1114"/>
                  </a:lnTo>
                  <a:lnTo>
                    <a:pt x="702" y="1096"/>
                  </a:lnTo>
                  <a:lnTo>
                    <a:pt x="686" y="1076"/>
                  </a:lnTo>
                  <a:lnTo>
                    <a:pt x="656" y="1080"/>
                  </a:lnTo>
                  <a:lnTo>
                    <a:pt x="636" y="1094"/>
                  </a:lnTo>
                  <a:lnTo>
                    <a:pt x="68" y="1462"/>
                  </a:lnTo>
                  <a:lnTo>
                    <a:pt x="44" y="1466"/>
                  </a:lnTo>
                  <a:lnTo>
                    <a:pt x="16" y="1462"/>
                  </a:lnTo>
                  <a:lnTo>
                    <a:pt x="0" y="1452"/>
                  </a:lnTo>
                  <a:lnTo>
                    <a:pt x="0" y="1434"/>
                  </a:lnTo>
                  <a:lnTo>
                    <a:pt x="468" y="34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000000"/>
                </a:gs>
              </a:gsLst>
              <a:lin ang="50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17520" y="1854360"/>
            <a:ext cx="1738440" cy="1550880"/>
            <a:chOff x="317520" y="1854360"/>
            <a:chExt cx="1738440" cy="1550880"/>
          </a:xfrm>
        </p:grpSpPr>
        <p:grpSp>
          <p:nvGrpSpPr>
            <p:cNvPr id="205" name=""/>
            <p:cNvGrpSpPr/>
            <p:nvPr/>
          </p:nvGrpSpPr>
          <p:grpSpPr>
            <a:xfrm>
              <a:off x="317520" y="1854360"/>
              <a:ext cx="1738440" cy="1550880"/>
              <a:chOff x="317520" y="1854360"/>
              <a:chExt cx="1738440" cy="1550880"/>
            </a:xfrm>
          </p:grpSpPr>
          <p:sp>
            <p:nvSpPr>
              <p:cNvPr id="206" name=""/>
              <p:cNvSpPr/>
              <p:nvPr/>
            </p:nvSpPr>
            <p:spPr>
              <a:xfrm>
                <a:off x="351000" y="191448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17520" y="1854360"/>
                <a:ext cx="1738440" cy="1538280"/>
              </a:xfrm>
              <a:custGeom>
                <a:avLst/>
                <a:gdLst/>
                <a:ahLst/>
                <a:rect l="l" t="t" r="r" b="b"/>
                <a:pathLst>
                  <a:path w="1095" h="969">
                    <a:moveTo>
                      <a:pt x="519" y="91"/>
                    </a:moveTo>
                    <a:cubicBezTo>
                      <a:pt x="519" y="91"/>
                      <a:pt x="529" y="64"/>
                      <a:pt x="547" y="62"/>
                    </a:cubicBezTo>
                    <a:cubicBezTo>
                      <a:pt x="564" y="61"/>
                      <a:pt x="575" y="91"/>
                      <a:pt x="575" y="91"/>
                    </a:cubicBezTo>
                    <a:lnTo>
                      <a:pt x="1029" y="913"/>
                    </a:lnTo>
                    <a:lnTo>
                      <a:pt x="547" y="913"/>
                    </a:lnTo>
                    <a:lnTo>
                      <a:pt x="547" y="969"/>
                    </a:lnTo>
                    <a:lnTo>
                      <a:pt x="1057" y="969"/>
                    </a:lnTo>
                    <a:cubicBezTo>
                      <a:pt x="1057" y="969"/>
                      <a:pt x="1075" y="956"/>
                      <a:pt x="1086" y="941"/>
                    </a:cubicBezTo>
                    <a:cubicBezTo>
                      <a:pt x="1095" y="929"/>
                      <a:pt x="1086" y="913"/>
                      <a:pt x="1086" y="913"/>
                    </a:cubicBezTo>
                    <a:lnTo>
                      <a:pt x="604" y="34"/>
                    </a:lnTo>
                    <a:cubicBezTo>
                      <a:pt x="604" y="34"/>
                      <a:pt x="585" y="11"/>
                      <a:pt x="575" y="6"/>
                    </a:cubicBezTo>
                    <a:cubicBezTo>
                      <a:pt x="565" y="1"/>
                      <a:pt x="553" y="1"/>
                      <a:pt x="544" y="1"/>
                    </a:cubicBezTo>
                    <a:cubicBezTo>
                      <a:pt x="535" y="1"/>
                      <a:pt x="528" y="0"/>
                      <a:pt x="519" y="6"/>
                    </a:cubicBezTo>
                    <a:cubicBezTo>
                      <a:pt x="496" y="17"/>
                      <a:pt x="490" y="34"/>
                      <a:pt x="490" y="34"/>
                    </a:cubicBezTo>
                    <a:lnTo>
                      <a:pt x="8" y="913"/>
                    </a:lnTo>
                    <a:cubicBezTo>
                      <a:pt x="8" y="913"/>
                      <a:pt x="0" y="928"/>
                      <a:pt x="8" y="941"/>
                    </a:cubicBezTo>
                    <a:cubicBezTo>
                      <a:pt x="19" y="962"/>
                      <a:pt x="37" y="969"/>
                      <a:pt x="37" y="969"/>
                    </a:cubicBezTo>
                    <a:cubicBezTo>
                      <a:pt x="292" y="969"/>
                      <a:pt x="547" y="969"/>
                      <a:pt x="547" y="969"/>
                    </a:cubicBezTo>
                    <a:lnTo>
                      <a:pt x="547" y="913"/>
                    </a:lnTo>
                    <a:lnTo>
                      <a:pt x="65" y="913"/>
                    </a:lnTo>
                    <a:lnTo>
                      <a:pt x="519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 rot="312600">
              <a:off x="856800" y="2168280"/>
              <a:ext cx="506520" cy="1081080"/>
            </a:xfrm>
            <a:custGeom>
              <a:avLst/>
              <a:gdLst/>
              <a:ahLst/>
              <a:rect l="l" t="t" r="r" b="b"/>
              <a:pathLst>
                <a:path w="1036" h="2216">
                  <a:moveTo>
                    <a:pt x="468" y="34"/>
                  </a:moveTo>
                  <a:lnTo>
                    <a:pt x="835" y="0"/>
                  </a:lnTo>
                  <a:lnTo>
                    <a:pt x="409" y="992"/>
                  </a:lnTo>
                  <a:lnTo>
                    <a:pt x="976" y="708"/>
                  </a:lnTo>
                  <a:lnTo>
                    <a:pt x="1005" y="708"/>
                  </a:lnTo>
                  <a:lnTo>
                    <a:pt x="1022" y="716"/>
                  </a:lnTo>
                  <a:lnTo>
                    <a:pt x="1036" y="730"/>
                  </a:lnTo>
                  <a:lnTo>
                    <a:pt x="1036" y="762"/>
                  </a:lnTo>
                  <a:lnTo>
                    <a:pt x="756" y="1814"/>
                  </a:lnTo>
                  <a:lnTo>
                    <a:pt x="756" y="1836"/>
                  </a:lnTo>
                  <a:lnTo>
                    <a:pt x="780" y="1850"/>
                  </a:lnTo>
                  <a:lnTo>
                    <a:pt x="804" y="1856"/>
                  </a:lnTo>
                  <a:lnTo>
                    <a:pt x="824" y="1846"/>
                  </a:lnTo>
                  <a:lnTo>
                    <a:pt x="932" y="1782"/>
                  </a:lnTo>
                  <a:lnTo>
                    <a:pt x="950" y="1780"/>
                  </a:lnTo>
                  <a:lnTo>
                    <a:pt x="964" y="1790"/>
                  </a:lnTo>
                  <a:lnTo>
                    <a:pt x="970" y="1806"/>
                  </a:lnTo>
                  <a:lnTo>
                    <a:pt x="964" y="1826"/>
                  </a:lnTo>
                  <a:lnTo>
                    <a:pt x="652" y="2206"/>
                  </a:lnTo>
                  <a:lnTo>
                    <a:pt x="636" y="2214"/>
                  </a:lnTo>
                  <a:lnTo>
                    <a:pt x="614" y="2216"/>
                  </a:lnTo>
                  <a:lnTo>
                    <a:pt x="600" y="2204"/>
                  </a:lnTo>
                  <a:lnTo>
                    <a:pt x="588" y="2190"/>
                  </a:lnTo>
                  <a:lnTo>
                    <a:pt x="412" y="1730"/>
                  </a:lnTo>
                  <a:lnTo>
                    <a:pt x="414" y="1708"/>
                  </a:lnTo>
                  <a:lnTo>
                    <a:pt x="428" y="1694"/>
                  </a:lnTo>
                  <a:lnTo>
                    <a:pt x="446" y="1696"/>
                  </a:lnTo>
                  <a:lnTo>
                    <a:pt x="464" y="1706"/>
                  </a:lnTo>
                  <a:lnTo>
                    <a:pt x="584" y="1818"/>
                  </a:lnTo>
                  <a:lnTo>
                    <a:pt x="598" y="1832"/>
                  </a:lnTo>
                  <a:lnTo>
                    <a:pt x="620" y="1830"/>
                  </a:lnTo>
                  <a:lnTo>
                    <a:pt x="636" y="1820"/>
                  </a:lnTo>
                  <a:lnTo>
                    <a:pt x="640" y="1798"/>
                  </a:lnTo>
                  <a:lnTo>
                    <a:pt x="660" y="1566"/>
                  </a:lnTo>
                  <a:lnTo>
                    <a:pt x="704" y="1114"/>
                  </a:lnTo>
                  <a:lnTo>
                    <a:pt x="702" y="1096"/>
                  </a:lnTo>
                  <a:lnTo>
                    <a:pt x="686" y="1076"/>
                  </a:lnTo>
                  <a:lnTo>
                    <a:pt x="656" y="1080"/>
                  </a:lnTo>
                  <a:lnTo>
                    <a:pt x="636" y="1094"/>
                  </a:lnTo>
                  <a:lnTo>
                    <a:pt x="68" y="1462"/>
                  </a:lnTo>
                  <a:lnTo>
                    <a:pt x="44" y="1466"/>
                  </a:lnTo>
                  <a:lnTo>
                    <a:pt x="16" y="1462"/>
                  </a:lnTo>
                  <a:lnTo>
                    <a:pt x="0" y="1452"/>
                  </a:lnTo>
                  <a:lnTo>
                    <a:pt x="0" y="1434"/>
                  </a:lnTo>
                  <a:lnTo>
                    <a:pt x="468" y="34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000000"/>
                </a:gs>
              </a:gsLst>
              <a:lin ang="50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7864560" y="3500280"/>
            <a:ext cx="1709640" cy="1528920"/>
            <a:chOff x="7864560" y="3500280"/>
            <a:chExt cx="1709640" cy="1528920"/>
          </a:xfrm>
        </p:grpSpPr>
        <p:grpSp>
          <p:nvGrpSpPr>
            <p:cNvPr id="210" name=""/>
            <p:cNvGrpSpPr/>
            <p:nvPr/>
          </p:nvGrpSpPr>
          <p:grpSpPr>
            <a:xfrm>
              <a:off x="7864560" y="3500280"/>
              <a:ext cx="1709640" cy="1528920"/>
              <a:chOff x="7864560" y="3500280"/>
              <a:chExt cx="1709640" cy="1528920"/>
            </a:xfrm>
          </p:grpSpPr>
          <p:sp>
            <p:nvSpPr>
              <p:cNvPr id="211" name=""/>
              <p:cNvSpPr/>
              <p:nvPr/>
            </p:nvSpPr>
            <p:spPr>
              <a:xfrm>
                <a:off x="7883640" y="351936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864560" y="3500280"/>
                <a:ext cx="1709640" cy="1528920"/>
              </a:xfrm>
              <a:custGeom>
                <a:avLst/>
                <a:gdLst/>
                <a:ahLst/>
                <a:rect l="l" t="t" r="r" b="b"/>
                <a:pathLst>
                  <a:path w="1077" h="963">
                    <a:moveTo>
                      <a:pt x="113" y="878"/>
                    </a:moveTo>
                    <a:lnTo>
                      <a:pt x="539" y="878"/>
                    </a:lnTo>
                    <a:lnTo>
                      <a:pt x="539" y="963"/>
                    </a:lnTo>
                    <a:lnTo>
                      <a:pt x="28" y="963"/>
                    </a:lnTo>
                    <a:lnTo>
                      <a:pt x="0" y="935"/>
                    </a:lnTo>
                    <a:lnTo>
                      <a:pt x="0" y="907"/>
                    </a:lnTo>
                    <a:lnTo>
                      <a:pt x="482" y="28"/>
                    </a:lnTo>
                    <a:lnTo>
                      <a:pt x="510" y="0"/>
                    </a:lnTo>
                    <a:lnTo>
                      <a:pt x="567" y="0"/>
                    </a:lnTo>
                    <a:lnTo>
                      <a:pt x="595" y="28"/>
                    </a:lnTo>
                    <a:lnTo>
                      <a:pt x="1077" y="907"/>
                    </a:lnTo>
                    <a:lnTo>
                      <a:pt x="1077" y="935"/>
                    </a:lnTo>
                    <a:lnTo>
                      <a:pt x="1049" y="963"/>
                    </a:lnTo>
                    <a:lnTo>
                      <a:pt x="539" y="963"/>
                    </a:lnTo>
                    <a:lnTo>
                      <a:pt x="539" y="878"/>
                    </a:lnTo>
                    <a:lnTo>
                      <a:pt x="964" y="878"/>
                    </a:lnTo>
                    <a:lnTo>
                      <a:pt x="539" y="85"/>
                    </a:lnTo>
                    <a:lnTo>
                      <a:pt x="113" y="87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8364600" y="3968640"/>
              <a:ext cx="549360" cy="855720"/>
            </a:xfrm>
            <a:custGeom>
              <a:avLst/>
              <a:gdLst/>
              <a:ahLst/>
              <a:rect l="l" t="t" r="r" b="b"/>
              <a:pathLst>
                <a:path w="2223" h="3861">
                  <a:moveTo>
                    <a:pt x="1029" y="6"/>
                  </a:moveTo>
                  <a:lnTo>
                    <a:pt x="2037" y="0"/>
                  </a:lnTo>
                  <a:lnTo>
                    <a:pt x="1042" y="1550"/>
                  </a:lnTo>
                  <a:lnTo>
                    <a:pt x="2061" y="1200"/>
                  </a:lnTo>
                  <a:lnTo>
                    <a:pt x="2145" y="1218"/>
                  </a:lnTo>
                  <a:lnTo>
                    <a:pt x="2187" y="1242"/>
                  </a:lnTo>
                  <a:lnTo>
                    <a:pt x="2223" y="1290"/>
                  </a:lnTo>
                  <a:lnTo>
                    <a:pt x="2217" y="1374"/>
                  </a:lnTo>
                  <a:lnTo>
                    <a:pt x="1501" y="3146"/>
                  </a:lnTo>
                  <a:lnTo>
                    <a:pt x="1507" y="3182"/>
                  </a:lnTo>
                  <a:lnTo>
                    <a:pt x="1541" y="3206"/>
                  </a:lnTo>
                  <a:lnTo>
                    <a:pt x="1577" y="3218"/>
                  </a:lnTo>
                  <a:lnTo>
                    <a:pt x="1627" y="3210"/>
                  </a:lnTo>
                  <a:lnTo>
                    <a:pt x="1845" y="3148"/>
                  </a:lnTo>
                  <a:lnTo>
                    <a:pt x="1881" y="3158"/>
                  </a:lnTo>
                  <a:lnTo>
                    <a:pt x="1905" y="3184"/>
                  </a:lnTo>
                  <a:lnTo>
                    <a:pt x="1909" y="3224"/>
                  </a:lnTo>
                  <a:lnTo>
                    <a:pt x="1893" y="3254"/>
                  </a:lnTo>
                  <a:lnTo>
                    <a:pt x="1195" y="3850"/>
                  </a:lnTo>
                  <a:lnTo>
                    <a:pt x="1162" y="3861"/>
                  </a:lnTo>
                  <a:lnTo>
                    <a:pt x="1118" y="3861"/>
                  </a:lnTo>
                  <a:lnTo>
                    <a:pt x="1092" y="3837"/>
                  </a:lnTo>
                  <a:lnTo>
                    <a:pt x="1070" y="3810"/>
                  </a:lnTo>
                  <a:lnTo>
                    <a:pt x="795" y="2970"/>
                  </a:lnTo>
                  <a:lnTo>
                    <a:pt x="802" y="2931"/>
                  </a:lnTo>
                  <a:lnTo>
                    <a:pt x="832" y="2909"/>
                  </a:lnTo>
                  <a:lnTo>
                    <a:pt x="868" y="2916"/>
                  </a:lnTo>
                  <a:lnTo>
                    <a:pt x="902" y="2937"/>
                  </a:lnTo>
                  <a:lnTo>
                    <a:pt x="1079" y="3070"/>
                  </a:lnTo>
                  <a:lnTo>
                    <a:pt x="1117" y="3098"/>
                  </a:lnTo>
                  <a:lnTo>
                    <a:pt x="1159" y="3106"/>
                  </a:lnTo>
                  <a:lnTo>
                    <a:pt x="1199" y="3094"/>
                  </a:lnTo>
                  <a:lnTo>
                    <a:pt x="1209" y="3060"/>
                  </a:lnTo>
                  <a:lnTo>
                    <a:pt x="1449" y="1986"/>
                  </a:lnTo>
                  <a:lnTo>
                    <a:pt x="1445" y="1946"/>
                  </a:lnTo>
                  <a:lnTo>
                    <a:pt x="1413" y="1910"/>
                  </a:lnTo>
                  <a:lnTo>
                    <a:pt x="1359" y="1908"/>
                  </a:lnTo>
                  <a:lnTo>
                    <a:pt x="1305" y="1932"/>
                  </a:lnTo>
                  <a:lnTo>
                    <a:pt x="123" y="2457"/>
                  </a:lnTo>
                  <a:lnTo>
                    <a:pt x="75" y="2457"/>
                  </a:lnTo>
                  <a:lnTo>
                    <a:pt x="24" y="2439"/>
                  </a:lnTo>
                  <a:lnTo>
                    <a:pt x="0" y="2406"/>
                  </a:lnTo>
                  <a:lnTo>
                    <a:pt x="3" y="2352"/>
                  </a:lnTo>
                  <a:lnTo>
                    <a:pt x="1029" y="6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7859880" y="5089680"/>
            <a:ext cx="1719000" cy="1535040"/>
            <a:chOff x="7859880" y="5089680"/>
            <a:chExt cx="1719000" cy="1535040"/>
          </a:xfrm>
        </p:grpSpPr>
        <p:grpSp>
          <p:nvGrpSpPr>
            <p:cNvPr id="215" name=""/>
            <p:cNvGrpSpPr/>
            <p:nvPr/>
          </p:nvGrpSpPr>
          <p:grpSpPr>
            <a:xfrm>
              <a:off x="7859880" y="5089680"/>
              <a:ext cx="1719000" cy="1535040"/>
              <a:chOff x="7859880" y="5089680"/>
              <a:chExt cx="1719000" cy="1535040"/>
            </a:xfrm>
          </p:grpSpPr>
          <p:sp>
            <p:nvSpPr>
              <p:cNvPr id="216" name=""/>
              <p:cNvSpPr/>
              <p:nvPr/>
            </p:nvSpPr>
            <p:spPr>
              <a:xfrm>
                <a:off x="7883640" y="511164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859880" y="5089680"/>
                <a:ext cx="1719000" cy="1535040"/>
              </a:xfrm>
              <a:custGeom>
                <a:avLst/>
                <a:gdLst/>
                <a:ahLst/>
                <a:rect l="l" t="t" r="r" b="b"/>
                <a:pathLst>
                  <a:path w="1083" h="967">
                    <a:moveTo>
                      <a:pt x="177" y="851"/>
                    </a:moveTo>
                    <a:lnTo>
                      <a:pt x="184" y="854"/>
                    </a:lnTo>
                    <a:lnTo>
                      <a:pt x="541" y="854"/>
                    </a:lnTo>
                    <a:lnTo>
                      <a:pt x="541" y="967"/>
                    </a:lnTo>
                    <a:lnTo>
                      <a:pt x="30" y="967"/>
                    </a:lnTo>
                    <a:lnTo>
                      <a:pt x="16" y="957"/>
                    </a:lnTo>
                    <a:lnTo>
                      <a:pt x="2" y="939"/>
                    </a:lnTo>
                    <a:lnTo>
                      <a:pt x="0" y="923"/>
                    </a:lnTo>
                    <a:lnTo>
                      <a:pt x="2" y="911"/>
                    </a:lnTo>
                    <a:lnTo>
                      <a:pt x="484" y="32"/>
                    </a:lnTo>
                    <a:lnTo>
                      <a:pt x="493" y="17"/>
                    </a:lnTo>
                    <a:lnTo>
                      <a:pt x="512" y="4"/>
                    </a:lnTo>
                    <a:lnTo>
                      <a:pt x="541" y="0"/>
                    </a:lnTo>
                    <a:lnTo>
                      <a:pt x="569" y="4"/>
                    </a:lnTo>
                    <a:lnTo>
                      <a:pt x="585" y="18"/>
                    </a:lnTo>
                    <a:lnTo>
                      <a:pt x="597" y="32"/>
                    </a:lnTo>
                    <a:lnTo>
                      <a:pt x="1079" y="911"/>
                    </a:lnTo>
                    <a:lnTo>
                      <a:pt x="1083" y="926"/>
                    </a:lnTo>
                    <a:lnTo>
                      <a:pt x="1079" y="939"/>
                    </a:lnTo>
                    <a:lnTo>
                      <a:pt x="1068" y="956"/>
                    </a:lnTo>
                    <a:lnTo>
                      <a:pt x="1051" y="967"/>
                    </a:lnTo>
                    <a:lnTo>
                      <a:pt x="541" y="967"/>
                    </a:lnTo>
                    <a:lnTo>
                      <a:pt x="541" y="854"/>
                    </a:lnTo>
                    <a:lnTo>
                      <a:pt x="895" y="854"/>
                    </a:lnTo>
                    <a:lnTo>
                      <a:pt x="901" y="846"/>
                    </a:lnTo>
                    <a:lnTo>
                      <a:pt x="900" y="839"/>
                    </a:lnTo>
                    <a:lnTo>
                      <a:pt x="550" y="194"/>
                    </a:lnTo>
                    <a:lnTo>
                      <a:pt x="541" y="185"/>
                    </a:lnTo>
                    <a:lnTo>
                      <a:pt x="529" y="194"/>
                    </a:lnTo>
                    <a:lnTo>
                      <a:pt x="178" y="845"/>
                    </a:lnTo>
                    <a:lnTo>
                      <a:pt x="177" y="85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8377200" y="5634000"/>
              <a:ext cx="541440" cy="765360"/>
            </a:xfrm>
            <a:custGeom>
              <a:avLst/>
              <a:gdLst/>
              <a:ahLst/>
              <a:rect l="l" t="t" r="r" b="b"/>
              <a:pathLst>
                <a:path w="1489" h="2500">
                  <a:moveTo>
                    <a:pt x="679" y="4"/>
                  </a:moveTo>
                  <a:lnTo>
                    <a:pt x="1344" y="0"/>
                  </a:lnTo>
                  <a:lnTo>
                    <a:pt x="747" y="956"/>
                  </a:lnTo>
                  <a:lnTo>
                    <a:pt x="1360" y="775"/>
                  </a:lnTo>
                  <a:lnTo>
                    <a:pt x="1421" y="782"/>
                  </a:lnTo>
                  <a:lnTo>
                    <a:pt x="1465" y="808"/>
                  </a:lnTo>
                  <a:lnTo>
                    <a:pt x="1489" y="880"/>
                  </a:lnTo>
                  <a:lnTo>
                    <a:pt x="1487" y="940"/>
                  </a:lnTo>
                  <a:lnTo>
                    <a:pt x="1023" y="1978"/>
                  </a:lnTo>
                  <a:lnTo>
                    <a:pt x="1015" y="2012"/>
                  </a:lnTo>
                  <a:lnTo>
                    <a:pt x="1031" y="2044"/>
                  </a:lnTo>
                  <a:lnTo>
                    <a:pt x="1057" y="2054"/>
                  </a:lnTo>
                  <a:lnTo>
                    <a:pt x="1091" y="2052"/>
                  </a:lnTo>
                  <a:lnTo>
                    <a:pt x="1205" y="2032"/>
                  </a:lnTo>
                  <a:lnTo>
                    <a:pt x="1247" y="2038"/>
                  </a:lnTo>
                  <a:lnTo>
                    <a:pt x="1269" y="2064"/>
                  </a:lnTo>
                  <a:lnTo>
                    <a:pt x="1265" y="2090"/>
                  </a:lnTo>
                  <a:lnTo>
                    <a:pt x="1251" y="2120"/>
                  </a:lnTo>
                  <a:lnTo>
                    <a:pt x="813" y="2480"/>
                  </a:lnTo>
                  <a:lnTo>
                    <a:pt x="769" y="2500"/>
                  </a:lnTo>
                  <a:lnTo>
                    <a:pt x="725" y="2496"/>
                  </a:lnTo>
                  <a:lnTo>
                    <a:pt x="695" y="2474"/>
                  </a:lnTo>
                  <a:lnTo>
                    <a:pt x="681" y="2442"/>
                  </a:lnTo>
                  <a:lnTo>
                    <a:pt x="503" y="1858"/>
                  </a:lnTo>
                  <a:lnTo>
                    <a:pt x="513" y="1836"/>
                  </a:lnTo>
                  <a:lnTo>
                    <a:pt x="535" y="1824"/>
                  </a:lnTo>
                  <a:lnTo>
                    <a:pt x="571" y="1838"/>
                  </a:lnTo>
                  <a:lnTo>
                    <a:pt x="597" y="1858"/>
                  </a:lnTo>
                  <a:lnTo>
                    <a:pt x="687" y="1918"/>
                  </a:lnTo>
                  <a:lnTo>
                    <a:pt x="713" y="1932"/>
                  </a:lnTo>
                  <a:lnTo>
                    <a:pt x="749" y="1938"/>
                  </a:lnTo>
                  <a:lnTo>
                    <a:pt x="771" y="1926"/>
                  </a:lnTo>
                  <a:lnTo>
                    <a:pt x="793" y="1884"/>
                  </a:lnTo>
                  <a:lnTo>
                    <a:pt x="933" y="1298"/>
                  </a:lnTo>
                  <a:lnTo>
                    <a:pt x="931" y="1264"/>
                  </a:lnTo>
                  <a:lnTo>
                    <a:pt x="897" y="1246"/>
                  </a:lnTo>
                  <a:lnTo>
                    <a:pt x="855" y="1248"/>
                  </a:lnTo>
                  <a:lnTo>
                    <a:pt x="819" y="1264"/>
                  </a:lnTo>
                  <a:lnTo>
                    <a:pt x="81" y="1588"/>
                  </a:lnTo>
                  <a:lnTo>
                    <a:pt x="49" y="1588"/>
                  </a:lnTo>
                  <a:lnTo>
                    <a:pt x="16" y="1576"/>
                  </a:lnTo>
                  <a:lnTo>
                    <a:pt x="0" y="1555"/>
                  </a:lnTo>
                  <a:lnTo>
                    <a:pt x="2" y="1520"/>
                  </a:lnTo>
                  <a:lnTo>
                    <a:pt x="679" y="4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5978520" y="3475080"/>
            <a:ext cx="1709640" cy="1528560"/>
            <a:chOff x="5978520" y="3475080"/>
            <a:chExt cx="1709640" cy="1528560"/>
          </a:xfrm>
        </p:grpSpPr>
        <p:grpSp>
          <p:nvGrpSpPr>
            <p:cNvPr id="220" name=""/>
            <p:cNvGrpSpPr/>
            <p:nvPr/>
          </p:nvGrpSpPr>
          <p:grpSpPr>
            <a:xfrm>
              <a:off x="5978520" y="3475080"/>
              <a:ext cx="1709640" cy="1528560"/>
              <a:chOff x="5978520" y="3475080"/>
              <a:chExt cx="1709640" cy="1528560"/>
            </a:xfrm>
          </p:grpSpPr>
          <p:sp>
            <p:nvSpPr>
              <p:cNvPr id="221" name=""/>
              <p:cNvSpPr/>
              <p:nvPr/>
            </p:nvSpPr>
            <p:spPr>
              <a:xfrm>
                <a:off x="5997600" y="349416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978520" y="3475080"/>
                <a:ext cx="1709640" cy="1528560"/>
              </a:xfrm>
              <a:custGeom>
                <a:avLst/>
                <a:gdLst/>
                <a:ahLst/>
                <a:rect l="l" t="t" r="r" b="b"/>
                <a:pathLst>
                  <a:path w="1077" h="963">
                    <a:moveTo>
                      <a:pt x="113" y="878"/>
                    </a:moveTo>
                    <a:lnTo>
                      <a:pt x="539" y="878"/>
                    </a:lnTo>
                    <a:lnTo>
                      <a:pt x="539" y="963"/>
                    </a:lnTo>
                    <a:lnTo>
                      <a:pt x="28" y="963"/>
                    </a:lnTo>
                    <a:lnTo>
                      <a:pt x="0" y="935"/>
                    </a:lnTo>
                    <a:lnTo>
                      <a:pt x="0" y="907"/>
                    </a:lnTo>
                    <a:lnTo>
                      <a:pt x="482" y="28"/>
                    </a:lnTo>
                    <a:lnTo>
                      <a:pt x="510" y="0"/>
                    </a:lnTo>
                    <a:lnTo>
                      <a:pt x="567" y="0"/>
                    </a:lnTo>
                    <a:lnTo>
                      <a:pt x="595" y="28"/>
                    </a:lnTo>
                    <a:lnTo>
                      <a:pt x="1077" y="907"/>
                    </a:lnTo>
                    <a:lnTo>
                      <a:pt x="1077" y="935"/>
                    </a:lnTo>
                    <a:lnTo>
                      <a:pt x="1049" y="963"/>
                    </a:lnTo>
                    <a:lnTo>
                      <a:pt x="539" y="963"/>
                    </a:lnTo>
                    <a:lnTo>
                      <a:pt x="539" y="878"/>
                    </a:lnTo>
                    <a:lnTo>
                      <a:pt x="964" y="878"/>
                    </a:lnTo>
                    <a:lnTo>
                      <a:pt x="539" y="85"/>
                    </a:lnTo>
                    <a:lnTo>
                      <a:pt x="113" y="8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6461280" y="3968640"/>
              <a:ext cx="549000" cy="855720"/>
            </a:xfrm>
            <a:custGeom>
              <a:avLst/>
              <a:gdLst/>
              <a:ahLst/>
              <a:rect l="l" t="t" r="r" b="b"/>
              <a:pathLst>
                <a:path w="2223" h="3861">
                  <a:moveTo>
                    <a:pt x="1029" y="6"/>
                  </a:moveTo>
                  <a:lnTo>
                    <a:pt x="2037" y="0"/>
                  </a:lnTo>
                  <a:lnTo>
                    <a:pt x="1042" y="1550"/>
                  </a:lnTo>
                  <a:lnTo>
                    <a:pt x="2061" y="1200"/>
                  </a:lnTo>
                  <a:lnTo>
                    <a:pt x="2145" y="1218"/>
                  </a:lnTo>
                  <a:lnTo>
                    <a:pt x="2187" y="1242"/>
                  </a:lnTo>
                  <a:lnTo>
                    <a:pt x="2223" y="1290"/>
                  </a:lnTo>
                  <a:lnTo>
                    <a:pt x="2217" y="1374"/>
                  </a:lnTo>
                  <a:lnTo>
                    <a:pt x="1501" y="3146"/>
                  </a:lnTo>
                  <a:lnTo>
                    <a:pt x="1507" y="3182"/>
                  </a:lnTo>
                  <a:lnTo>
                    <a:pt x="1541" y="3206"/>
                  </a:lnTo>
                  <a:lnTo>
                    <a:pt x="1577" y="3218"/>
                  </a:lnTo>
                  <a:lnTo>
                    <a:pt x="1627" y="3210"/>
                  </a:lnTo>
                  <a:lnTo>
                    <a:pt x="1845" y="3148"/>
                  </a:lnTo>
                  <a:lnTo>
                    <a:pt x="1881" y="3158"/>
                  </a:lnTo>
                  <a:lnTo>
                    <a:pt x="1905" y="3184"/>
                  </a:lnTo>
                  <a:lnTo>
                    <a:pt x="1909" y="3224"/>
                  </a:lnTo>
                  <a:lnTo>
                    <a:pt x="1893" y="3254"/>
                  </a:lnTo>
                  <a:lnTo>
                    <a:pt x="1195" y="3850"/>
                  </a:lnTo>
                  <a:lnTo>
                    <a:pt x="1162" y="3861"/>
                  </a:lnTo>
                  <a:lnTo>
                    <a:pt x="1118" y="3861"/>
                  </a:lnTo>
                  <a:lnTo>
                    <a:pt x="1092" y="3837"/>
                  </a:lnTo>
                  <a:lnTo>
                    <a:pt x="1070" y="3810"/>
                  </a:lnTo>
                  <a:lnTo>
                    <a:pt x="795" y="2970"/>
                  </a:lnTo>
                  <a:lnTo>
                    <a:pt x="802" y="2931"/>
                  </a:lnTo>
                  <a:lnTo>
                    <a:pt x="832" y="2909"/>
                  </a:lnTo>
                  <a:lnTo>
                    <a:pt x="868" y="2916"/>
                  </a:lnTo>
                  <a:lnTo>
                    <a:pt x="902" y="2937"/>
                  </a:lnTo>
                  <a:lnTo>
                    <a:pt x="1079" y="3070"/>
                  </a:lnTo>
                  <a:lnTo>
                    <a:pt x="1117" y="3098"/>
                  </a:lnTo>
                  <a:lnTo>
                    <a:pt x="1159" y="3106"/>
                  </a:lnTo>
                  <a:lnTo>
                    <a:pt x="1199" y="3094"/>
                  </a:lnTo>
                  <a:lnTo>
                    <a:pt x="1209" y="3060"/>
                  </a:lnTo>
                  <a:lnTo>
                    <a:pt x="1449" y="1986"/>
                  </a:lnTo>
                  <a:lnTo>
                    <a:pt x="1445" y="1946"/>
                  </a:lnTo>
                  <a:lnTo>
                    <a:pt x="1413" y="1910"/>
                  </a:lnTo>
                  <a:lnTo>
                    <a:pt x="1359" y="1908"/>
                  </a:lnTo>
                  <a:lnTo>
                    <a:pt x="1305" y="1932"/>
                  </a:lnTo>
                  <a:lnTo>
                    <a:pt x="123" y="2457"/>
                  </a:lnTo>
                  <a:lnTo>
                    <a:pt x="75" y="2457"/>
                  </a:lnTo>
                  <a:lnTo>
                    <a:pt x="24" y="2439"/>
                  </a:lnTo>
                  <a:lnTo>
                    <a:pt x="0" y="2406"/>
                  </a:lnTo>
                  <a:lnTo>
                    <a:pt x="3" y="2352"/>
                  </a:lnTo>
                  <a:lnTo>
                    <a:pt x="102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973840" y="5091120"/>
            <a:ext cx="1719360" cy="1535040"/>
            <a:chOff x="5973840" y="5091120"/>
            <a:chExt cx="1719360" cy="1535040"/>
          </a:xfrm>
        </p:grpSpPr>
        <p:grpSp>
          <p:nvGrpSpPr>
            <p:cNvPr id="225" name=""/>
            <p:cNvGrpSpPr/>
            <p:nvPr/>
          </p:nvGrpSpPr>
          <p:grpSpPr>
            <a:xfrm>
              <a:off x="5973840" y="5091120"/>
              <a:ext cx="1719360" cy="1535040"/>
              <a:chOff x="5973840" y="5091120"/>
              <a:chExt cx="1719360" cy="1535040"/>
            </a:xfrm>
          </p:grpSpPr>
          <p:sp>
            <p:nvSpPr>
              <p:cNvPr id="226" name=""/>
              <p:cNvSpPr/>
              <p:nvPr/>
            </p:nvSpPr>
            <p:spPr>
              <a:xfrm>
                <a:off x="5997600" y="5113440"/>
                <a:ext cx="1670040" cy="149040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973840" y="5091120"/>
                <a:ext cx="1719360" cy="1535040"/>
              </a:xfrm>
              <a:custGeom>
                <a:avLst/>
                <a:gdLst/>
                <a:ahLst/>
                <a:rect l="l" t="t" r="r" b="b"/>
                <a:pathLst>
                  <a:path w="1083" h="967">
                    <a:moveTo>
                      <a:pt x="177" y="851"/>
                    </a:moveTo>
                    <a:lnTo>
                      <a:pt x="184" y="854"/>
                    </a:lnTo>
                    <a:lnTo>
                      <a:pt x="541" y="854"/>
                    </a:lnTo>
                    <a:lnTo>
                      <a:pt x="541" y="967"/>
                    </a:lnTo>
                    <a:lnTo>
                      <a:pt x="30" y="967"/>
                    </a:lnTo>
                    <a:lnTo>
                      <a:pt x="16" y="957"/>
                    </a:lnTo>
                    <a:lnTo>
                      <a:pt x="2" y="939"/>
                    </a:lnTo>
                    <a:lnTo>
                      <a:pt x="0" y="923"/>
                    </a:lnTo>
                    <a:lnTo>
                      <a:pt x="2" y="911"/>
                    </a:lnTo>
                    <a:lnTo>
                      <a:pt x="484" y="32"/>
                    </a:lnTo>
                    <a:lnTo>
                      <a:pt x="493" y="17"/>
                    </a:lnTo>
                    <a:lnTo>
                      <a:pt x="512" y="4"/>
                    </a:lnTo>
                    <a:lnTo>
                      <a:pt x="541" y="0"/>
                    </a:lnTo>
                    <a:lnTo>
                      <a:pt x="569" y="4"/>
                    </a:lnTo>
                    <a:lnTo>
                      <a:pt x="585" y="18"/>
                    </a:lnTo>
                    <a:lnTo>
                      <a:pt x="597" y="32"/>
                    </a:lnTo>
                    <a:lnTo>
                      <a:pt x="1079" y="911"/>
                    </a:lnTo>
                    <a:lnTo>
                      <a:pt x="1083" y="926"/>
                    </a:lnTo>
                    <a:lnTo>
                      <a:pt x="1079" y="939"/>
                    </a:lnTo>
                    <a:lnTo>
                      <a:pt x="1068" y="956"/>
                    </a:lnTo>
                    <a:lnTo>
                      <a:pt x="1051" y="967"/>
                    </a:lnTo>
                    <a:lnTo>
                      <a:pt x="541" y="967"/>
                    </a:lnTo>
                    <a:lnTo>
                      <a:pt x="541" y="854"/>
                    </a:lnTo>
                    <a:lnTo>
                      <a:pt x="895" y="854"/>
                    </a:lnTo>
                    <a:lnTo>
                      <a:pt x="901" y="846"/>
                    </a:lnTo>
                    <a:lnTo>
                      <a:pt x="900" y="839"/>
                    </a:lnTo>
                    <a:lnTo>
                      <a:pt x="550" y="194"/>
                    </a:lnTo>
                    <a:lnTo>
                      <a:pt x="541" y="185"/>
                    </a:lnTo>
                    <a:lnTo>
                      <a:pt x="529" y="194"/>
                    </a:lnTo>
                    <a:lnTo>
                      <a:pt x="178" y="845"/>
                    </a:lnTo>
                    <a:lnTo>
                      <a:pt x="177" y="8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6473880" y="5634000"/>
              <a:ext cx="541440" cy="765360"/>
            </a:xfrm>
            <a:custGeom>
              <a:avLst/>
              <a:gdLst/>
              <a:ahLst/>
              <a:rect l="l" t="t" r="r" b="b"/>
              <a:pathLst>
                <a:path w="1489" h="2500">
                  <a:moveTo>
                    <a:pt x="679" y="4"/>
                  </a:moveTo>
                  <a:lnTo>
                    <a:pt x="1344" y="0"/>
                  </a:lnTo>
                  <a:lnTo>
                    <a:pt x="747" y="956"/>
                  </a:lnTo>
                  <a:lnTo>
                    <a:pt x="1360" y="775"/>
                  </a:lnTo>
                  <a:lnTo>
                    <a:pt x="1421" y="782"/>
                  </a:lnTo>
                  <a:lnTo>
                    <a:pt x="1465" y="808"/>
                  </a:lnTo>
                  <a:lnTo>
                    <a:pt x="1489" y="880"/>
                  </a:lnTo>
                  <a:lnTo>
                    <a:pt x="1487" y="940"/>
                  </a:lnTo>
                  <a:lnTo>
                    <a:pt x="1023" y="1978"/>
                  </a:lnTo>
                  <a:lnTo>
                    <a:pt x="1015" y="2012"/>
                  </a:lnTo>
                  <a:lnTo>
                    <a:pt x="1031" y="2044"/>
                  </a:lnTo>
                  <a:lnTo>
                    <a:pt x="1057" y="2054"/>
                  </a:lnTo>
                  <a:lnTo>
                    <a:pt x="1091" y="2052"/>
                  </a:lnTo>
                  <a:lnTo>
                    <a:pt x="1205" y="2032"/>
                  </a:lnTo>
                  <a:lnTo>
                    <a:pt x="1247" y="2038"/>
                  </a:lnTo>
                  <a:lnTo>
                    <a:pt x="1269" y="2064"/>
                  </a:lnTo>
                  <a:lnTo>
                    <a:pt x="1265" y="2090"/>
                  </a:lnTo>
                  <a:lnTo>
                    <a:pt x="1251" y="2120"/>
                  </a:lnTo>
                  <a:lnTo>
                    <a:pt x="813" y="2480"/>
                  </a:lnTo>
                  <a:lnTo>
                    <a:pt x="769" y="2500"/>
                  </a:lnTo>
                  <a:lnTo>
                    <a:pt x="725" y="2496"/>
                  </a:lnTo>
                  <a:lnTo>
                    <a:pt x="695" y="2474"/>
                  </a:lnTo>
                  <a:lnTo>
                    <a:pt x="681" y="2442"/>
                  </a:lnTo>
                  <a:lnTo>
                    <a:pt x="503" y="1858"/>
                  </a:lnTo>
                  <a:lnTo>
                    <a:pt x="513" y="1836"/>
                  </a:lnTo>
                  <a:lnTo>
                    <a:pt x="535" y="1824"/>
                  </a:lnTo>
                  <a:lnTo>
                    <a:pt x="571" y="1838"/>
                  </a:lnTo>
                  <a:lnTo>
                    <a:pt x="597" y="1858"/>
                  </a:lnTo>
                  <a:lnTo>
                    <a:pt x="687" y="1918"/>
                  </a:lnTo>
                  <a:lnTo>
                    <a:pt x="713" y="1932"/>
                  </a:lnTo>
                  <a:lnTo>
                    <a:pt x="749" y="1938"/>
                  </a:lnTo>
                  <a:lnTo>
                    <a:pt x="771" y="1926"/>
                  </a:lnTo>
                  <a:lnTo>
                    <a:pt x="793" y="1884"/>
                  </a:lnTo>
                  <a:lnTo>
                    <a:pt x="933" y="1298"/>
                  </a:lnTo>
                  <a:lnTo>
                    <a:pt x="931" y="1264"/>
                  </a:lnTo>
                  <a:lnTo>
                    <a:pt x="897" y="1246"/>
                  </a:lnTo>
                  <a:lnTo>
                    <a:pt x="855" y="1248"/>
                  </a:lnTo>
                  <a:lnTo>
                    <a:pt x="819" y="1264"/>
                  </a:lnTo>
                  <a:lnTo>
                    <a:pt x="81" y="1588"/>
                  </a:lnTo>
                  <a:lnTo>
                    <a:pt x="49" y="1588"/>
                  </a:lnTo>
                  <a:lnTo>
                    <a:pt x="16" y="1576"/>
                  </a:lnTo>
                  <a:lnTo>
                    <a:pt x="0" y="1555"/>
                  </a:lnTo>
                  <a:lnTo>
                    <a:pt x="2" y="1520"/>
                  </a:lnTo>
                  <a:lnTo>
                    <a:pt x="67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113360" y="3492360"/>
            <a:ext cx="1709640" cy="1528920"/>
            <a:chOff x="4113360" y="3492360"/>
            <a:chExt cx="1709640" cy="1528920"/>
          </a:xfrm>
        </p:grpSpPr>
        <p:grpSp>
          <p:nvGrpSpPr>
            <p:cNvPr id="230" name=""/>
            <p:cNvGrpSpPr/>
            <p:nvPr/>
          </p:nvGrpSpPr>
          <p:grpSpPr>
            <a:xfrm>
              <a:off x="4113360" y="3492360"/>
              <a:ext cx="1709640" cy="1528920"/>
              <a:chOff x="4113360" y="3492360"/>
              <a:chExt cx="1709640" cy="1528920"/>
            </a:xfrm>
          </p:grpSpPr>
          <p:sp>
            <p:nvSpPr>
              <p:cNvPr id="231" name=""/>
              <p:cNvSpPr/>
              <p:nvPr/>
            </p:nvSpPr>
            <p:spPr>
              <a:xfrm>
                <a:off x="4132440" y="351144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113360" y="3492360"/>
                <a:ext cx="1709640" cy="1528920"/>
              </a:xfrm>
              <a:custGeom>
                <a:avLst/>
                <a:gdLst/>
                <a:ahLst/>
                <a:rect l="l" t="t" r="r" b="b"/>
                <a:pathLst>
                  <a:path w="1077" h="963">
                    <a:moveTo>
                      <a:pt x="113" y="878"/>
                    </a:moveTo>
                    <a:lnTo>
                      <a:pt x="539" y="878"/>
                    </a:lnTo>
                    <a:lnTo>
                      <a:pt x="539" y="963"/>
                    </a:lnTo>
                    <a:lnTo>
                      <a:pt x="28" y="963"/>
                    </a:lnTo>
                    <a:lnTo>
                      <a:pt x="0" y="935"/>
                    </a:lnTo>
                    <a:lnTo>
                      <a:pt x="0" y="907"/>
                    </a:lnTo>
                    <a:lnTo>
                      <a:pt x="482" y="28"/>
                    </a:lnTo>
                    <a:lnTo>
                      <a:pt x="510" y="0"/>
                    </a:lnTo>
                    <a:lnTo>
                      <a:pt x="567" y="0"/>
                    </a:lnTo>
                    <a:lnTo>
                      <a:pt x="595" y="28"/>
                    </a:lnTo>
                    <a:lnTo>
                      <a:pt x="1077" y="907"/>
                    </a:lnTo>
                    <a:lnTo>
                      <a:pt x="1077" y="935"/>
                    </a:lnTo>
                    <a:lnTo>
                      <a:pt x="1049" y="963"/>
                    </a:lnTo>
                    <a:lnTo>
                      <a:pt x="539" y="963"/>
                    </a:lnTo>
                    <a:lnTo>
                      <a:pt x="539" y="878"/>
                    </a:lnTo>
                    <a:lnTo>
                      <a:pt x="964" y="878"/>
                    </a:lnTo>
                    <a:lnTo>
                      <a:pt x="539" y="85"/>
                    </a:lnTo>
                    <a:lnTo>
                      <a:pt x="113" y="8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4643280" y="3968640"/>
              <a:ext cx="549360" cy="855720"/>
            </a:xfrm>
            <a:custGeom>
              <a:avLst/>
              <a:gdLst/>
              <a:ahLst/>
              <a:rect l="l" t="t" r="r" b="b"/>
              <a:pathLst>
                <a:path w="2223" h="3861">
                  <a:moveTo>
                    <a:pt x="1029" y="6"/>
                  </a:moveTo>
                  <a:lnTo>
                    <a:pt x="2037" y="0"/>
                  </a:lnTo>
                  <a:lnTo>
                    <a:pt x="1042" y="1550"/>
                  </a:lnTo>
                  <a:lnTo>
                    <a:pt x="2061" y="1200"/>
                  </a:lnTo>
                  <a:lnTo>
                    <a:pt x="2145" y="1218"/>
                  </a:lnTo>
                  <a:lnTo>
                    <a:pt x="2187" y="1242"/>
                  </a:lnTo>
                  <a:lnTo>
                    <a:pt x="2223" y="1290"/>
                  </a:lnTo>
                  <a:lnTo>
                    <a:pt x="2217" y="1374"/>
                  </a:lnTo>
                  <a:lnTo>
                    <a:pt x="1501" y="3146"/>
                  </a:lnTo>
                  <a:lnTo>
                    <a:pt x="1507" y="3182"/>
                  </a:lnTo>
                  <a:lnTo>
                    <a:pt x="1541" y="3206"/>
                  </a:lnTo>
                  <a:lnTo>
                    <a:pt x="1577" y="3218"/>
                  </a:lnTo>
                  <a:lnTo>
                    <a:pt x="1627" y="3210"/>
                  </a:lnTo>
                  <a:lnTo>
                    <a:pt x="1845" y="3148"/>
                  </a:lnTo>
                  <a:lnTo>
                    <a:pt x="1881" y="3158"/>
                  </a:lnTo>
                  <a:lnTo>
                    <a:pt x="1905" y="3184"/>
                  </a:lnTo>
                  <a:lnTo>
                    <a:pt x="1909" y="3224"/>
                  </a:lnTo>
                  <a:lnTo>
                    <a:pt x="1893" y="3254"/>
                  </a:lnTo>
                  <a:lnTo>
                    <a:pt x="1195" y="3850"/>
                  </a:lnTo>
                  <a:lnTo>
                    <a:pt x="1162" y="3861"/>
                  </a:lnTo>
                  <a:lnTo>
                    <a:pt x="1118" y="3861"/>
                  </a:lnTo>
                  <a:lnTo>
                    <a:pt x="1092" y="3837"/>
                  </a:lnTo>
                  <a:lnTo>
                    <a:pt x="1070" y="3810"/>
                  </a:lnTo>
                  <a:lnTo>
                    <a:pt x="795" y="2970"/>
                  </a:lnTo>
                  <a:lnTo>
                    <a:pt x="802" y="2931"/>
                  </a:lnTo>
                  <a:lnTo>
                    <a:pt x="832" y="2909"/>
                  </a:lnTo>
                  <a:lnTo>
                    <a:pt x="868" y="2916"/>
                  </a:lnTo>
                  <a:lnTo>
                    <a:pt x="902" y="2937"/>
                  </a:lnTo>
                  <a:lnTo>
                    <a:pt x="1079" y="3070"/>
                  </a:lnTo>
                  <a:lnTo>
                    <a:pt x="1117" y="3098"/>
                  </a:lnTo>
                  <a:lnTo>
                    <a:pt x="1159" y="3106"/>
                  </a:lnTo>
                  <a:lnTo>
                    <a:pt x="1199" y="3094"/>
                  </a:lnTo>
                  <a:lnTo>
                    <a:pt x="1209" y="3060"/>
                  </a:lnTo>
                  <a:lnTo>
                    <a:pt x="1449" y="1986"/>
                  </a:lnTo>
                  <a:lnTo>
                    <a:pt x="1445" y="1946"/>
                  </a:lnTo>
                  <a:lnTo>
                    <a:pt x="1413" y="1910"/>
                  </a:lnTo>
                  <a:lnTo>
                    <a:pt x="1359" y="1908"/>
                  </a:lnTo>
                  <a:lnTo>
                    <a:pt x="1305" y="1932"/>
                  </a:lnTo>
                  <a:lnTo>
                    <a:pt x="123" y="2457"/>
                  </a:lnTo>
                  <a:lnTo>
                    <a:pt x="75" y="2457"/>
                  </a:lnTo>
                  <a:lnTo>
                    <a:pt x="24" y="2439"/>
                  </a:lnTo>
                  <a:lnTo>
                    <a:pt x="0" y="2406"/>
                  </a:lnTo>
                  <a:lnTo>
                    <a:pt x="3" y="2352"/>
                  </a:lnTo>
                  <a:lnTo>
                    <a:pt x="102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4108320" y="5108400"/>
            <a:ext cx="1719360" cy="1535400"/>
            <a:chOff x="4108320" y="5108400"/>
            <a:chExt cx="1719360" cy="1535400"/>
          </a:xfrm>
        </p:grpSpPr>
        <p:grpSp>
          <p:nvGrpSpPr>
            <p:cNvPr id="235" name=""/>
            <p:cNvGrpSpPr/>
            <p:nvPr/>
          </p:nvGrpSpPr>
          <p:grpSpPr>
            <a:xfrm>
              <a:off x="4108320" y="5108400"/>
              <a:ext cx="1719360" cy="1535400"/>
              <a:chOff x="4108320" y="5108400"/>
              <a:chExt cx="1719360" cy="1535400"/>
            </a:xfrm>
          </p:grpSpPr>
          <p:sp>
            <p:nvSpPr>
              <p:cNvPr id="236" name=""/>
              <p:cNvSpPr/>
              <p:nvPr/>
            </p:nvSpPr>
            <p:spPr>
              <a:xfrm>
                <a:off x="4132440" y="513072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108320" y="5108400"/>
                <a:ext cx="1719360" cy="1535400"/>
              </a:xfrm>
              <a:custGeom>
                <a:avLst/>
                <a:gdLst/>
                <a:ahLst/>
                <a:rect l="l" t="t" r="r" b="b"/>
                <a:pathLst>
                  <a:path w="1083" h="967">
                    <a:moveTo>
                      <a:pt x="177" y="851"/>
                    </a:moveTo>
                    <a:lnTo>
                      <a:pt x="184" y="854"/>
                    </a:lnTo>
                    <a:lnTo>
                      <a:pt x="541" y="854"/>
                    </a:lnTo>
                    <a:lnTo>
                      <a:pt x="541" y="967"/>
                    </a:lnTo>
                    <a:lnTo>
                      <a:pt x="30" y="967"/>
                    </a:lnTo>
                    <a:lnTo>
                      <a:pt x="16" y="957"/>
                    </a:lnTo>
                    <a:lnTo>
                      <a:pt x="2" y="939"/>
                    </a:lnTo>
                    <a:lnTo>
                      <a:pt x="0" y="923"/>
                    </a:lnTo>
                    <a:lnTo>
                      <a:pt x="2" y="911"/>
                    </a:lnTo>
                    <a:lnTo>
                      <a:pt x="484" y="32"/>
                    </a:lnTo>
                    <a:lnTo>
                      <a:pt x="493" y="17"/>
                    </a:lnTo>
                    <a:lnTo>
                      <a:pt x="512" y="4"/>
                    </a:lnTo>
                    <a:lnTo>
                      <a:pt x="541" y="0"/>
                    </a:lnTo>
                    <a:lnTo>
                      <a:pt x="569" y="4"/>
                    </a:lnTo>
                    <a:lnTo>
                      <a:pt x="585" y="18"/>
                    </a:lnTo>
                    <a:lnTo>
                      <a:pt x="597" y="32"/>
                    </a:lnTo>
                    <a:lnTo>
                      <a:pt x="1079" y="911"/>
                    </a:lnTo>
                    <a:lnTo>
                      <a:pt x="1083" y="926"/>
                    </a:lnTo>
                    <a:lnTo>
                      <a:pt x="1079" y="939"/>
                    </a:lnTo>
                    <a:lnTo>
                      <a:pt x="1068" y="956"/>
                    </a:lnTo>
                    <a:lnTo>
                      <a:pt x="1051" y="967"/>
                    </a:lnTo>
                    <a:lnTo>
                      <a:pt x="541" y="967"/>
                    </a:lnTo>
                    <a:lnTo>
                      <a:pt x="541" y="854"/>
                    </a:lnTo>
                    <a:lnTo>
                      <a:pt x="895" y="854"/>
                    </a:lnTo>
                    <a:lnTo>
                      <a:pt x="901" y="846"/>
                    </a:lnTo>
                    <a:lnTo>
                      <a:pt x="900" y="839"/>
                    </a:lnTo>
                    <a:lnTo>
                      <a:pt x="550" y="194"/>
                    </a:lnTo>
                    <a:lnTo>
                      <a:pt x="541" y="185"/>
                    </a:lnTo>
                    <a:lnTo>
                      <a:pt x="529" y="194"/>
                    </a:lnTo>
                    <a:lnTo>
                      <a:pt x="178" y="845"/>
                    </a:lnTo>
                    <a:lnTo>
                      <a:pt x="177" y="8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4633920" y="5634000"/>
              <a:ext cx="541440" cy="765360"/>
            </a:xfrm>
            <a:custGeom>
              <a:avLst/>
              <a:gdLst/>
              <a:ahLst/>
              <a:rect l="l" t="t" r="r" b="b"/>
              <a:pathLst>
                <a:path w="1489" h="2500">
                  <a:moveTo>
                    <a:pt x="679" y="4"/>
                  </a:moveTo>
                  <a:lnTo>
                    <a:pt x="1344" y="0"/>
                  </a:lnTo>
                  <a:lnTo>
                    <a:pt x="747" y="956"/>
                  </a:lnTo>
                  <a:lnTo>
                    <a:pt x="1360" y="775"/>
                  </a:lnTo>
                  <a:lnTo>
                    <a:pt x="1421" y="782"/>
                  </a:lnTo>
                  <a:lnTo>
                    <a:pt x="1465" y="808"/>
                  </a:lnTo>
                  <a:lnTo>
                    <a:pt x="1489" y="880"/>
                  </a:lnTo>
                  <a:lnTo>
                    <a:pt x="1487" y="940"/>
                  </a:lnTo>
                  <a:lnTo>
                    <a:pt x="1023" y="1978"/>
                  </a:lnTo>
                  <a:lnTo>
                    <a:pt x="1015" y="2012"/>
                  </a:lnTo>
                  <a:lnTo>
                    <a:pt x="1031" y="2044"/>
                  </a:lnTo>
                  <a:lnTo>
                    <a:pt x="1057" y="2054"/>
                  </a:lnTo>
                  <a:lnTo>
                    <a:pt x="1091" y="2052"/>
                  </a:lnTo>
                  <a:lnTo>
                    <a:pt x="1205" y="2032"/>
                  </a:lnTo>
                  <a:lnTo>
                    <a:pt x="1247" y="2038"/>
                  </a:lnTo>
                  <a:lnTo>
                    <a:pt x="1269" y="2064"/>
                  </a:lnTo>
                  <a:lnTo>
                    <a:pt x="1265" y="2090"/>
                  </a:lnTo>
                  <a:lnTo>
                    <a:pt x="1251" y="2120"/>
                  </a:lnTo>
                  <a:lnTo>
                    <a:pt x="813" y="2480"/>
                  </a:lnTo>
                  <a:lnTo>
                    <a:pt x="769" y="2500"/>
                  </a:lnTo>
                  <a:lnTo>
                    <a:pt x="725" y="2496"/>
                  </a:lnTo>
                  <a:lnTo>
                    <a:pt x="695" y="2474"/>
                  </a:lnTo>
                  <a:lnTo>
                    <a:pt x="681" y="2442"/>
                  </a:lnTo>
                  <a:lnTo>
                    <a:pt x="503" y="1858"/>
                  </a:lnTo>
                  <a:lnTo>
                    <a:pt x="513" y="1836"/>
                  </a:lnTo>
                  <a:lnTo>
                    <a:pt x="535" y="1824"/>
                  </a:lnTo>
                  <a:lnTo>
                    <a:pt x="571" y="1838"/>
                  </a:lnTo>
                  <a:lnTo>
                    <a:pt x="597" y="1858"/>
                  </a:lnTo>
                  <a:lnTo>
                    <a:pt x="687" y="1918"/>
                  </a:lnTo>
                  <a:lnTo>
                    <a:pt x="713" y="1932"/>
                  </a:lnTo>
                  <a:lnTo>
                    <a:pt x="749" y="1938"/>
                  </a:lnTo>
                  <a:lnTo>
                    <a:pt x="771" y="1926"/>
                  </a:lnTo>
                  <a:lnTo>
                    <a:pt x="793" y="1884"/>
                  </a:lnTo>
                  <a:lnTo>
                    <a:pt x="933" y="1298"/>
                  </a:lnTo>
                  <a:lnTo>
                    <a:pt x="931" y="1264"/>
                  </a:lnTo>
                  <a:lnTo>
                    <a:pt x="897" y="1246"/>
                  </a:lnTo>
                  <a:lnTo>
                    <a:pt x="855" y="1248"/>
                  </a:lnTo>
                  <a:lnTo>
                    <a:pt x="819" y="1264"/>
                  </a:lnTo>
                  <a:lnTo>
                    <a:pt x="81" y="1588"/>
                  </a:lnTo>
                  <a:lnTo>
                    <a:pt x="49" y="1588"/>
                  </a:lnTo>
                  <a:lnTo>
                    <a:pt x="16" y="1576"/>
                  </a:lnTo>
                  <a:lnTo>
                    <a:pt x="0" y="1555"/>
                  </a:lnTo>
                  <a:lnTo>
                    <a:pt x="2" y="1520"/>
                  </a:lnTo>
                  <a:lnTo>
                    <a:pt x="67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222640" y="3498840"/>
            <a:ext cx="1709640" cy="1528920"/>
            <a:chOff x="2222640" y="3498840"/>
            <a:chExt cx="1709640" cy="1528920"/>
          </a:xfrm>
        </p:grpSpPr>
        <p:grpSp>
          <p:nvGrpSpPr>
            <p:cNvPr id="240" name=""/>
            <p:cNvGrpSpPr/>
            <p:nvPr/>
          </p:nvGrpSpPr>
          <p:grpSpPr>
            <a:xfrm>
              <a:off x="2222640" y="3498840"/>
              <a:ext cx="1709640" cy="1528920"/>
              <a:chOff x="2222640" y="3498840"/>
              <a:chExt cx="1709640" cy="1528920"/>
            </a:xfrm>
          </p:grpSpPr>
          <p:sp>
            <p:nvSpPr>
              <p:cNvPr id="241" name=""/>
              <p:cNvSpPr/>
              <p:nvPr/>
            </p:nvSpPr>
            <p:spPr>
              <a:xfrm>
                <a:off x="2241720" y="3521160"/>
                <a:ext cx="1670040" cy="149040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22640" y="3498840"/>
                <a:ext cx="1709640" cy="1528920"/>
              </a:xfrm>
              <a:custGeom>
                <a:avLst/>
                <a:gdLst/>
                <a:ahLst/>
                <a:rect l="l" t="t" r="r" b="b"/>
                <a:pathLst>
                  <a:path w="1077" h="963">
                    <a:moveTo>
                      <a:pt x="113" y="878"/>
                    </a:moveTo>
                    <a:lnTo>
                      <a:pt x="539" y="878"/>
                    </a:lnTo>
                    <a:lnTo>
                      <a:pt x="539" y="963"/>
                    </a:lnTo>
                    <a:lnTo>
                      <a:pt x="28" y="963"/>
                    </a:lnTo>
                    <a:lnTo>
                      <a:pt x="0" y="935"/>
                    </a:lnTo>
                    <a:lnTo>
                      <a:pt x="0" y="907"/>
                    </a:lnTo>
                    <a:lnTo>
                      <a:pt x="482" y="28"/>
                    </a:lnTo>
                    <a:lnTo>
                      <a:pt x="510" y="0"/>
                    </a:lnTo>
                    <a:lnTo>
                      <a:pt x="567" y="0"/>
                    </a:lnTo>
                    <a:lnTo>
                      <a:pt x="595" y="28"/>
                    </a:lnTo>
                    <a:lnTo>
                      <a:pt x="1077" y="907"/>
                    </a:lnTo>
                    <a:lnTo>
                      <a:pt x="1077" y="935"/>
                    </a:lnTo>
                    <a:lnTo>
                      <a:pt x="1049" y="963"/>
                    </a:lnTo>
                    <a:lnTo>
                      <a:pt x="539" y="963"/>
                    </a:lnTo>
                    <a:lnTo>
                      <a:pt x="539" y="878"/>
                    </a:lnTo>
                    <a:lnTo>
                      <a:pt x="964" y="878"/>
                    </a:lnTo>
                    <a:lnTo>
                      <a:pt x="539" y="85"/>
                    </a:lnTo>
                    <a:lnTo>
                      <a:pt x="113" y="8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2749680" y="3968640"/>
              <a:ext cx="549000" cy="855720"/>
            </a:xfrm>
            <a:custGeom>
              <a:avLst/>
              <a:gdLst/>
              <a:ahLst/>
              <a:rect l="l" t="t" r="r" b="b"/>
              <a:pathLst>
                <a:path w="2223" h="3861">
                  <a:moveTo>
                    <a:pt x="1029" y="6"/>
                  </a:moveTo>
                  <a:lnTo>
                    <a:pt x="2037" y="0"/>
                  </a:lnTo>
                  <a:lnTo>
                    <a:pt x="1042" y="1550"/>
                  </a:lnTo>
                  <a:lnTo>
                    <a:pt x="2061" y="1200"/>
                  </a:lnTo>
                  <a:lnTo>
                    <a:pt x="2145" y="1218"/>
                  </a:lnTo>
                  <a:lnTo>
                    <a:pt x="2187" y="1242"/>
                  </a:lnTo>
                  <a:lnTo>
                    <a:pt x="2223" y="1290"/>
                  </a:lnTo>
                  <a:lnTo>
                    <a:pt x="2217" y="1374"/>
                  </a:lnTo>
                  <a:lnTo>
                    <a:pt x="1501" y="3146"/>
                  </a:lnTo>
                  <a:lnTo>
                    <a:pt x="1507" y="3182"/>
                  </a:lnTo>
                  <a:lnTo>
                    <a:pt x="1541" y="3206"/>
                  </a:lnTo>
                  <a:lnTo>
                    <a:pt x="1577" y="3218"/>
                  </a:lnTo>
                  <a:lnTo>
                    <a:pt x="1627" y="3210"/>
                  </a:lnTo>
                  <a:lnTo>
                    <a:pt x="1845" y="3148"/>
                  </a:lnTo>
                  <a:lnTo>
                    <a:pt x="1881" y="3158"/>
                  </a:lnTo>
                  <a:lnTo>
                    <a:pt x="1905" y="3184"/>
                  </a:lnTo>
                  <a:lnTo>
                    <a:pt x="1909" y="3224"/>
                  </a:lnTo>
                  <a:lnTo>
                    <a:pt x="1893" y="3254"/>
                  </a:lnTo>
                  <a:lnTo>
                    <a:pt x="1195" y="3850"/>
                  </a:lnTo>
                  <a:lnTo>
                    <a:pt x="1162" y="3861"/>
                  </a:lnTo>
                  <a:lnTo>
                    <a:pt x="1118" y="3861"/>
                  </a:lnTo>
                  <a:lnTo>
                    <a:pt x="1092" y="3837"/>
                  </a:lnTo>
                  <a:lnTo>
                    <a:pt x="1070" y="3810"/>
                  </a:lnTo>
                  <a:lnTo>
                    <a:pt x="795" y="2970"/>
                  </a:lnTo>
                  <a:lnTo>
                    <a:pt x="802" y="2931"/>
                  </a:lnTo>
                  <a:lnTo>
                    <a:pt x="832" y="2909"/>
                  </a:lnTo>
                  <a:lnTo>
                    <a:pt x="868" y="2916"/>
                  </a:lnTo>
                  <a:lnTo>
                    <a:pt x="902" y="2937"/>
                  </a:lnTo>
                  <a:lnTo>
                    <a:pt x="1079" y="3070"/>
                  </a:lnTo>
                  <a:lnTo>
                    <a:pt x="1117" y="3098"/>
                  </a:lnTo>
                  <a:lnTo>
                    <a:pt x="1159" y="3106"/>
                  </a:lnTo>
                  <a:lnTo>
                    <a:pt x="1199" y="3094"/>
                  </a:lnTo>
                  <a:lnTo>
                    <a:pt x="1209" y="3060"/>
                  </a:lnTo>
                  <a:lnTo>
                    <a:pt x="1449" y="1986"/>
                  </a:lnTo>
                  <a:lnTo>
                    <a:pt x="1445" y="1946"/>
                  </a:lnTo>
                  <a:lnTo>
                    <a:pt x="1413" y="1910"/>
                  </a:lnTo>
                  <a:lnTo>
                    <a:pt x="1359" y="1908"/>
                  </a:lnTo>
                  <a:lnTo>
                    <a:pt x="1305" y="1932"/>
                  </a:lnTo>
                  <a:lnTo>
                    <a:pt x="123" y="2457"/>
                  </a:lnTo>
                  <a:lnTo>
                    <a:pt x="75" y="2457"/>
                  </a:lnTo>
                  <a:lnTo>
                    <a:pt x="24" y="2439"/>
                  </a:lnTo>
                  <a:lnTo>
                    <a:pt x="0" y="2406"/>
                  </a:lnTo>
                  <a:lnTo>
                    <a:pt x="3" y="2352"/>
                  </a:lnTo>
                  <a:lnTo>
                    <a:pt x="102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217600" y="5114880"/>
            <a:ext cx="1719360" cy="1535040"/>
            <a:chOff x="2217600" y="5114880"/>
            <a:chExt cx="1719360" cy="1535040"/>
          </a:xfrm>
        </p:grpSpPr>
        <p:grpSp>
          <p:nvGrpSpPr>
            <p:cNvPr id="245" name=""/>
            <p:cNvGrpSpPr/>
            <p:nvPr/>
          </p:nvGrpSpPr>
          <p:grpSpPr>
            <a:xfrm>
              <a:off x="2217600" y="5114880"/>
              <a:ext cx="1719360" cy="1535040"/>
              <a:chOff x="2217600" y="5114880"/>
              <a:chExt cx="1719360" cy="1535040"/>
            </a:xfrm>
          </p:grpSpPr>
          <p:sp>
            <p:nvSpPr>
              <p:cNvPr id="246" name=""/>
              <p:cNvSpPr/>
              <p:nvPr/>
            </p:nvSpPr>
            <p:spPr>
              <a:xfrm>
                <a:off x="2241720" y="513720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17600" y="5114880"/>
                <a:ext cx="1719360" cy="1535040"/>
              </a:xfrm>
              <a:custGeom>
                <a:avLst/>
                <a:gdLst/>
                <a:ahLst/>
                <a:rect l="l" t="t" r="r" b="b"/>
                <a:pathLst>
                  <a:path w="1083" h="967">
                    <a:moveTo>
                      <a:pt x="177" y="851"/>
                    </a:moveTo>
                    <a:lnTo>
                      <a:pt x="184" y="854"/>
                    </a:lnTo>
                    <a:lnTo>
                      <a:pt x="541" y="854"/>
                    </a:lnTo>
                    <a:lnTo>
                      <a:pt x="541" y="967"/>
                    </a:lnTo>
                    <a:lnTo>
                      <a:pt x="30" y="967"/>
                    </a:lnTo>
                    <a:lnTo>
                      <a:pt x="16" y="957"/>
                    </a:lnTo>
                    <a:lnTo>
                      <a:pt x="2" y="939"/>
                    </a:lnTo>
                    <a:lnTo>
                      <a:pt x="0" y="923"/>
                    </a:lnTo>
                    <a:lnTo>
                      <a:pt x="2" y="911"/>
                    </a:lnTo>
                    <a:lnTo>
                      <a:pt x="484" y="32"/>
                    </a:lnTo>
                    <a:lnTo>
                      <a:pt x="493" y="17"/>
                    </a:lnTo>
                    <a:lnTo>
                      <a:pt x="512" y="4"/>
                    </a:lnTo>
                    <a:lnTo>
                      <a:pt x="541" y="0"/>
                    </a:lnTo>
                    <a:lnTo>
                      <a:pt x="569" y="4"/>
                    </a:lnTo>
                    <a:lnTo>
                      <a:pt x="585" y="18"/>
                    </a:lnTo>
                    <a:lnTo>
                      <a:pt x="597" y="32"/>
                    </a:lnTo>
                    <a:lnTo>
                      <a:pt x="1079" y="911"/>
                    </a:lnTo>
                    <a:lnTo>
                      <a:pt x="1083" y="926"/>
                    </a:lnTo>
                    <a:lnTo>
                      <a:pt x="1079" y="939"/>
                    </a:lnTo>
                    <a:lnTo>
                      <a:pt x="1068" y="956"/>
                    </a:lnTo>
                    <a:lnTo>
                      <a:pt x="1051" y="967"/>
                    </a:lnTo>
                    <a:lnTo>
                      <a:pt x="541" y="967"/>
                    </a:lnTo>
                    <a:lnTo>
                      <a:pt x="541" y="854"/>
                    </a:lnTo>
                    <a:lnTo>
                      <a:pt x="895" y="854"/>
                    </a:lnTo>
                    <a:lnTo>
                      <a:pt x="901" y="846"/>
                    </a:lnTo>
                    <a:lnTo>
                      <a:pt x="900" y="839"/>
                    </a:lnTo>
                    <a:lnTo>
                      <a:pt x="550" y="194"/>
                    </a:lnTo>
                    <a:lnTo>
                      <a:pt x="541" y="185"/>
                    </a:lnTo>
                    <a:lnTo>
                      <a:pt x="529" y="194"/>
                    </a:lnTo>
                    <a:lnTo>
                      <a:pt x="178" y="845"/>
                    </a:lnTo>
                    <a:lnTo>
                      <a:pt x="177" y="8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739960" y="5634000"/>
              <a:ext cx="541440" cy="765360"/>
            </a:xfrm>
            <a:custGeom>
              <a:avLst/>
              <a:gdLst/>
              <a:ahLst/>
              <a:rect l="l" t="t" r="r" b="b"/>
              <a:pathLst>
                <a:path w="1489" h="2500">
                  <a:moveTo>
                    <a:pt x="679" y="4"/>
                  </a:moveTo>
                  <a:lnTo>
                    <a:pt x="1344" y="0"/>
                  </a:lnTo>
                  <a:lnTo>
                    <a:pt x="747" y="956"/>
                  </a:lnTo>
                  <a:lnTo>
                    <a:pt x="1360" y="775"/>
                  </a:lnTo>
                  <a:lnTo>
                    <a:pt x="1421" y="782"/>
                  </a:lnTo>
                  <a:lnTo>
                    <a:pt x="1465" y="808"/>
                  </a:lnTo>
                  <a:lnTo>
                    <a:pt x="1489" y="880"/>
                  </a:lnTo>
                  <a:lnTo>
                    <a:pt x="1487" y="940"/>
                  </a:lnTo>
                  <a:lnTo>
                    <a:pt x="1023" y="1978"/>
                  </a:lnTo>
                  <a:lnTo>
                    <a:pt x="1015" y="2012"/>
                  </a:lnTo>
                  <a:lnTo>
                    <a:pt x="1031" y="2044"/>
                  </a:lnTo>
                  <a:lnTo>
                    <a:pt x="1057" y="2054"/>
                  </a:lnTo>
                  <a:lnTo>
                    <a:pt x="1091" y="2052"/>
                  </a:lnTo>
                  <a:lnTo>
                    <a:pt x="1205" y="2032"/>
                  </a:lnTo>
                  <a:lnTo>
                    <a:pt x="1247" y="2038"/>
                  </a:lnTo>
                  <a:lnTo>
                    <a:pt x="1269" y="2064"/>
                  </a:lnTo>
                  <a:lnTo>
                    <a:pt x="1265" y="2090"/>
                  </a:lnTo>
                  <a:lnTo>
                    <a:pt x="1251" y="2120"/>
                  </a:lnTo>
                  <a:lnTo>
                    <a:pt x="813" y="2480"/>
                  </a:lnTo>
                  <a:lnTo>
                    <a:pt x="769" y="2500"/>
                  </a:lnTo>
                  <a:lnTo>
                    <a:pt x="725" y="2496"/>
                  </a:lnTo>
                  <a:lnTo>
                    <a:pt x="695" y="2474"/>
                  </a:lnTo>
                  <a:lnTo>
                    <a:pt x="681" y="2442"/>
                  </a:lnTo>
                  <a:lnTo>
                    <a:pt x="503" y="1858"/>
                  </a:lnTo>
                  <a:lnTo>
                    <a:pt x="513" y="1836"/>
                  </a:lnTo>
                  <a:lnTo>
                    <a:pt x="535" y="1824"/>
                  </a:lnTo>
                  <a:lnTo>
                    <a:pt x="571" y="1838"/>
                  </a:lnTo>
                  <a:lnTo>
                    <a:pt x="597" y="1858"/>
                  </a:lnTo>
                  <a:lnTo>
                    <a:pt x="687" y="1918"/>
                  </a:lnTo>
                  <a:lnTo>
                    <a:pt x="713" y="1932"/>
                  </a:lnTo>
                  <a:lnTo>
                    <a:pt x="749" y="1938"/>
                  </a:lnTo>
                  <a:lnTo>
                    <a:pt x="771" y="1926"/>
                  </a:lnTo>
                  <a:lnTo>
                    <a:pt x="793" y="1884"/>
                  </a:lnTo>
                  <a:lnTo>
                    <a:pt x="933" y="1298"/>
                  </a:lnTo>
                  <a:lnTo>
                    <a:pt x="931" y="1264"/>
                  </a:lnTo>
                  <a:lnTo>
                    <a:pt x="897" y="1246"/>
                  </a:lnTo>
                  <a:lnTo>
                    <a:pt x="855" y="1248"/>
                  </a:lnTo>
                  <a:lnTo>
                    <a:pt x="819" y="1264"/>
                  </a:lnTo>
                  <a:lnTo>
                    <a:pt x="81" y="1588"/>
                  </a:lnTo>
                  <a:lnTo>
                    <a:pt x="49" y="1588"/>
                  </a:lnTo>
                  <a:lnTo>
                    <a:pt x="16" y="1576"/>
                  </a:lnTo>
                  <a:lnTo>
                    <a:pt x="0" y="1555"/>
                  </a:lnTo>
                  <a:lnTo>
                    <a:pt x="2" y="1520"/>
                  </a:lnTo>
                  <a:lnTo>
                    <a:pt x="67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331920" y="3500280"/>
            <a:ext cx="1709640" cy="1528920"/>
            <a:chOff x="331920" y="3500280"/>
            <a:chExt cx="1709640" cy="1528920"/>
          </a:xfrm>
        </p:grpSpPr>
        <p:grpSp>
          <p:nvGrpSpPr>
            <p:cNvPr id="250" name=""/>
            <p:cNvGrpSpPr/>
            <p:nvPr/>
          </p:nvGrpSpPr>
          <p:grpSpPr>
            <a:xfrm>
              <a:off x="331920" y="3500280"/>
              <a:ext cx="1709640" cy="1528920"/>
              <a:chOff x="331920" y="3500280"/>
              <a:chExt cx="1709640" cy="1528920"/>
            </a:xfrm>
          </p:grpSpPr>
          <p:sp>
            <p:nvSpPr>
              <p:cNvPr id="251" name=""/>
              <p:cNvSpPr/>
              <p:nvPr/>
            </p:nvSpPr>
            <p:spPr>
              <a:xfrm>
                <a:off x="351000" y="351936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31920" y="3500280"/>
                <a:ext cx="1709640" cy="1528920"/>
              </a:xfrm>
              <a:custGeom>
                <a:avLst/>
                <a:gdLst/>
                <a:ahLst/>
                <a:rect l="l" t="t" r="r" b="b"/>
                <a:pathLst>
                  <a:path w="1077" h="963">
                    <a:moveTo>
                      <a:pt x="113" y="878"/>
                    </a:moveTo>
                    <a:lnTo>
                      <a:pt x="539" y="878"/>
                    </a:lnTo>
                    <a:lnTo>
                      <a:pt x="539" y="963"/>
                    </a:lnTo>
                    <a:lnTo>
                      <a:pt x="28" y="963"/>
                    </a:lnTo>
                    <a:lnTo>
                      <a:pt x="0" y="935"/>
                    </a:lnTo>
                    <a:lnTo>
                      <a:pt x="0" y="907"/>
                    </a:lnTo>
                    <a:lnTo>
                      <a:pt x="482" y="28"/>
                    </a:lnTo>
                    <a:lnTo>
                      <a:pt x="510" y="0"/>
                    </a:lnTo>
                    <a:lnTo>
                      <a:pt x="567" y="0"/>
                    </a:lnTo>
                    <a:lnTo>
                      <a:pt x="595" y="28"/>
                    </a:lnTo>
                    <a:lnTo>
                      <a:pt x="1077" y="907"/>
                    </a:lnTo>
                    <a:lnTo>
                      <a:pt x="1077" y="935"/>
                    </a:lnTo>
                    <a:lnTo>
                      <a:pt x="1049" y="963"/>
                    </a:lnTo>
                    <a:lnTo>
                      <a:pt x="539" y="963"/>
                    </a:lnTo>
                    <a:lnTo>
                      <a:pt x="539" y="878"/>
                    </a:lnTo>
                    <a:lnTo>
                      <a:pt x="964" y="878"/>
                    </a:lnTo>
                    <a:lnTo>
                      <a:pt x="539" y="85"/>
                    </a:lnTo>
                    <a:lnTo>
                      <a:pt x="113" y="8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817560" y="3968640"/>
              <a:ext cx="549360" cy="855720"/>
            </a:xfrm>
            <a:custGeom>
              <a:avLst/>
              <a:gdLst/>
              <a:ahLst/>
              <a:rect l="l" t="t" r="r" b="b"/>
              <a:pathLst>
                <a:path w="2223" h="3861">
                  <a:moveTo>
                    <a:pt x="1029" y="6"/>
                  </a:moveTo>
                  <a:lnTo>
                    <a:pt x="2037" y="0"/>
                  </a:lnTo>
                  <a:lnTo>
                    <a:pt x="1042" y="1550"/>
                  </a:lnTo>
                  <a:lnTo>
                    <a:pt x="2061" y="1200"/>
                  </a:lnTo>
                  <a:lnTo>
                    <a:pt x="2145" y="1218"/>
                  </a:lnTo>
                  <a:lnTo>
                    <a:pt x="2187" y="1242"/>
                  </a:lnTo>
                  <a:lnTo>
                    <a:pt x="2223" y="1290"/>
                  </a:lnTo>
                  <a:lnTo>
                    <a:pt x="2217" y="1374"/>
                  </a:lnTo>
                  <a:lnTo>
                    <a:pt x="1501" y="3146"/>
                  </a:lnTo>
                  <a:lnTo>
                    <a:pt x="1507" y="3182"/>
                  </a:lnTo>
                  <a:lnTo>
                    <a:pt x="1541" y="3206"/>
                  </a:lnTo>
                  <a:lnTo>
                    <a:pt x="1577" y="3218"/>
                  </a:lnTo>
                  <a:lnTo>
                    <a:pt x="1627" y="3210"/>
                  </a:lnTo>
                  <a:lnTo>
                    <a:pt x="1845" y="3148"/>
                  </a:lnTo>
                  <a:lnTo>
                    <a:pt x="1881" y="3158"/>
                  </a:lnTo>
                  <a:lnTo>
                    <a:pt x="1905" y="3184"/>
                  </a:lnTo>
                  <a:lnTo>
                    <a:pt x="1909" y="3224"/>
                  </a:lnTo>
                  <a:lnTo>
                    <a:pt x="1893" y="3254"/>
                  </a:lnTo>
                  <a:lnTo>
                    <a:pt x="1195" y="3850"/>
                  </a:lnTo>
                  <a:lnTo>
                    <a:pt x="1162" y="3861"/>
                  </a:lnTo>
                  <a:lnTo>
                    <a:pt x="1118" y="3861"/>
                  </a:lnTo>
                  <a:lnTo>
                    <a:pt x="1092" y="3837"/>
                  </a:lnTo>
                  <a:lnTo>
                    <a:pt x="1070" y="3810"/>
                  </a:lnTo>
                  <a:lnTo>
                    <a:pt x="795" y="2970"/>
                  </a:lnTo>
                  <a:lnTo>
                    <a:pt x="802" y="2931"/>
                  </a:lnTo>
                  <a:lnTo>
                    <a:pt x="832" y="2909"/>
                  </a:lnTo>
                  <a:lnTo>
                    <a:pt x="868" y="2916"/>
                  </a:lnTo>
                  <a:lnTo>
                    <a:pt x="902" y="2937"/>
                  </a:lnTo>
                  <a:lnTo>
                    <a:pt x="1079" y="3070"/>
                  </a:lnTo>
                  <a:lnTo>
                    <a:pt x="1117" y="3098"/>
                  </a:lnTo>
                  <a:lnTo>
                    <a:pt x="1159" y="3106"/>
                  </a:lnTo>
                  <a:lnTo>
                    <a:pt x="1199" y="3094"/>
                  </a:lnTo>
                  <a:lnTo>
                    <a:pt x="1209" y="3060"/>
                  </a:lnTo>
                  <a:lnTo>
                    <a:pt x="1449" y="1986"/>
                  </a:lnTo>
                  <a:lnTo>
                    <a:pt x="1445" y="1946"/>
                  </a:lnTo>
                  <a:lnTo>
                    <a:pt x="1413" y="1910"/>
                  </a:lnTo>
                  <a:lnTo>
                    <a:pt x="1359" y="1908"/>
                  </a:lnTo>
                  <a:lnTo>
                    <a:pt x="1305" y="1932"/>
                  </a:lnTo>
                  <a:lnTo>
                    <a:pt x="123" y="2457"/>
                  </a:lnTo>
                  <a:lnTo>
                    <a:pt x="75" y="2457"/>
                  </a:lnTo>
                  <a:lnTo>
                    <a:pt x="24" y="2439"/>
                  </a:lnTo>
                  <a:lnTo>
                    <a:pt x="0" y="2406"/>
                  </a:lnTo>
                  <a:lnTo>
                    <a:pt x="3" y="2352"/>
                  </a:lnTo>
                  <a:lnTo>
                    <a:pt x="1029" y="6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26880" y="5094360"/>
            <a:ext cx="1719360" cy="1535040"/>
            <a:chOff x="326880" y="5094360"/>
            <a:chExt cx="1719360" cy="1535040"/>
          </a:xfrm>
        </p:grpSpPr>
        <p:grpSp>
          <p:nvGrpSpPr>
            <p:cNvPr id="255" name=""/>
            <p:cNvGrpSpPr/>
            <p:nvPr/>
          </p:nvGrpSpPr>
          <p:grpSpPr>
            <a:xfrm>
              <a:off x="326880" y="5094360"/>
              <a:ext cx="1719360" cy="1535040"/>
              <a:chOff x="326880" y="5094360"/>
              <a:chExt cx="1719360" cy="1535040"/>
            </a:xfrm>
          </p:grpSpPr>
          <p:sp>
            <p:nvSpPr>
              <p:cNvPr id="256" name=""/>
              <p:cNvSpPr/>
              <p:nvPr/>
            </p:nvSpPr>
            <p:spPr>
              <a:xfrm>
                <a:off x="351000" y="5116680"/>
                <a:ext cx="1670040" cy="149040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26880" y="5094360"/>
                <a:ext cx="1719360" cy="1535040"/>
              </a:xfrm>
              <a:custGeom>
                <a:avLst/>
                <a:gdLst/>
                <a:ahLst/>
                <a:rect l="l" t="t" r="r" b="b"/>
                <a:pathLst>
                  <a:path w="1083" h="967">
                    <a:moveTo>
                      <a:pt x="177" y="851"/>
                    </a:moveTo>
                    <a:lnTo>
                      <a:pt x="184" y="854"/>
                    </a:lnTo>
                    <a:lnTo>
                      <a:pt x="541" y="854"/>
                    </a:lnTo>
                    <a:lnTo>
                      <a:pt x="541" y="967"/>
                    </a:lnTo>
                    <a:lnTo>
                      <a:pt x="30" y="967"/>
                    </a:lnTo>
                    <a:lnTo>
                      <a:pt x="16" y="957"/>
                    </a:lnTo>
                    <a:lnTo>
                      <a:pt x="2" y="939"/>
                    </a:lnTo>
                    <a:lnTo>
                      <a:pt x="0" y="923"/>
                    </a:lnTo>
                    <a:lnTo>
                      <a:pt x="2" y="911"/>
                    </a:lnTo>
                    <a:lnTo>
                      <a:pt x="484" y="32"/>
                    </a:lnTo>
                    <a:lnTo>
                      <a:pt x="493" y="17"/>
                    </a:lnTo>
                    <a:lnTo>
                      <a:pt x="512" y="4"/>
                    </a:lnTo>
                    <a:lnTo>
                      <a:pt x="541" y="0"/>
                    </a:lnTo>
                    <a:lnTo>
                      <a:pt x="569" y="4"/>
                    </a:lnTo>
                    <a:lnTo>
                      <a:pt x="585" y="18"/>
                    </a:lnTo>
                    <a:lnTo>
                      <a:pt x="597" y="32"/>
                    </a:lnTo>
                    <a:lnTo>
                      <a:pt x="1079" y="911"/>
                    </a:lnTo>
                    <a:lnTo>
                      <a:pt x="1083" y="926"/>
                    </a:lnTo>
                    <a:lnTo>
                      <a:pt x="1079" y="939"/>
                    </a:lnTo>
                    <a:lnTo>
                      <a:pt x="1068" y="956"/>
                    </a:lnTo>
                    <a:lnTo>
                      <a:pt x="1051" y="967"/>
                    </a:lnTo>
                    <a:lnTo>
                      <a:pt x="541" y="967"/>
                    </a:lnTo>
                    <a:lnTo>
                      <a:pt x="541" y="854"/>
                    </a:lnTo>
                    <a:lnTo>
                      <a:pt x="895" y="854"/>
                    </a:lnTo>
                    <a:lnTo>
                      <a:pt x="901" y="846"/>
                    </a:lnTo>
                    <a:lnTo>
                      <a:pt x="900" y="839"/>
                    </a:lnTo>
                    <a:lnTo>
                      <a:pt x="550" y="194"/>
                    </a:lnTo>
                    <a:lnTo>
                      <a:pt x="541" y="185"/>
                    </a:lnTo>
                    <a:lnTo>
                      <a:pt x="529" y="194"/>
                    </a:lnTo>
                    <a:lnTo>
                      <a:pt x="178" y="845"/>
                    </a:lnTo>
                    <a:lnTo>
                      <a:pt x="177" y="8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830160" y="5634000"/>
              <a:ext cx="541440" cy="765360"/>
            </a:xfrm>
            <a:custGeom>
              <a:avLst/>
              <a:gdLst/>
              <a:ahLst/>
              <a:rect l="l" t="t" r="r" b="b"/>
              <a:pathLst>
                <a:path w="1489" h="2500">
                  <a:moveTo>
                    <a:pt x="679" y="4"/>
                  </a:moveTo>
                  <a:lnTo>
                    <a:pt x="1344" y="0"/>
                  </a:lnTo>
                  <a:lnTo>
                    <a:pt x="747" y="956"/>
                  </a:lnTo>
                  <a:lnTo>
                    <a:pt x="1360" y="775"/>
                  </a:lnTo>
                  <a:lnTo>
                    <a:pt x="1421" y="782"/>
                  </a:lnTo>
                  <a:lnTo>
                    <a:pt x="1465" y="808"/>
                  </a:lnTo>
                  <a:lnTo>
                    <a:pt x="1489" y="880"/>
                  </a:lnTo>
                  <a:lnTo>
                    <a:pt x="1487" y="940"/>
                  </a:lnTo>
                  <a:lnTo>
                    <a:pt x="1023" y="1978"/>
                  </a:lnTo>
                  <a:lnTo>
                    <a:pt x="1015" y="2012"/>
                  </a:lnTo>
                  <a:lnTo>
                    <a:pt x="1031" y="2044"/>
                  </a:lnTo>
                  <a:lnTo>
                    <a:pt x="1057" y="2054"/>
                  </a:lnTo>
                  <a:lnTo>
                    <a:pt x="1091" y="2052"/>
                  </a:lnTo>
                  <a:lnTo>
                    <a:pt x="1205" y="2032"/>
                  </a:lnTo>
                  <a:lnTo>
                    <a:pt x="1247" y="2038"/>
                  </a:lnTo>
                  <a:lnTo>
                    <a:pt x="1269" y="2064"/>
                  </a:lnTo>
                  <a:lnTo>
                    <a:pt x="1265" y="2090"/>
                  </a:lnTo>
                  <a:lnTo>
                    <a:pt x="1251" y="2120"/>
                  </a:lnTo>
                  <a:lnTo>
                    <a:pt x="813" y="2480"/>
                  </a:lnTo>
                  <a:lnTo>
                    <a:pt x="769" y="2500"/>
                  </a:lnTo>
                  <a:lnTo>
                    <a:pt x="725" y="2496"/>
                  </a:lnTo>
                  <a:lnTo>
                    <a:pt x="695" y="2474"/>
                  </a:lnTo>
                  <a:lnTo>
                    <a:pt x="681" y="2442"/>
                  </a:lnTo>
                  <a:lnTo>
                    <a:pt x="503" y="1858"/>
                  </a:lnTo>
                  <a:lnTo>
                    <a:pt x="513" y="1836"/>
                  </a:lnTo>
                  <a:lnTo>
                    <a:pt x="535" y="1824"/>
                  </a:lnTo>
                  <a:lnTo>
                    <a:pt x="571" y="1838"/>
                  </a:lnTo>
                  <a:lnTo>
                    <a:pt x="597" y="1858"/>
                  </a:lnTo>
                  <a:lnTo>
                    <a:pt x="687" y="1918"/>
                  </a:lnTo>
                  <a:lnTo>
                    <a:pt x="713" y="1932"/>
                  </a:lnTo>
                  <a:lnTo>
                    <a:pt x="749" y="1938"/>
                  </a:lnTo>
                  <a:lnTo>
                    <a:pt x="771" y="1926"/>
                  </a:lnTo>
                  <a:lnTo>
                    <a:pt x="793" y="1884"/>
                  </a:lnTo>
                  <a:lnTo>
                    <a:pt x="933" y="1298"/>
                  </a:lnTo>
                  <a:lnTo>
                    <a:pt x="931" y="1264"/>
                  </a:lnTo>
                  <a:lnTo>
                    <a:pt x="897" y="1246"/>
                  </a:lnTo>
                  <a:lnTo>
                    <a:pt x="855" y="1248"/>
                  </a:lnTo>
                  <a:lnTo>
                    <a:pt x="819" y="1264"/>
                  </a:lnTo>
                  <a:lnTo>
                    <a:pt x="81" y="1588"/>
                  </a:lnTo>
                  <a:lnTo>
                    <a:pt x="49" y="1588"/>
                  </a:lnTo>
                  <a:lnTo>
                    <a:pt x="16" y="1576"/>
                  </a:lnTo>
                  <a:lnTo>
                    <a:pt x="0" y="1555"/>
                  </a:lnTo>
                  <a:lnTo>
                    <a:pt x="2" y="1520"/>
                  </a:lnTo>
                  <a:lnTo>
                    <a:pt x="67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4113360" y="3492360"/>
            <a:ext cx="1709640" cy="1528920"/>
            <a:chOff x="4113360" y="3492360"/>
            <a:chExt cx="1709640" cy="1528920"/>
          </a:xfrm>
        </p:grpSpPr>
        <p:grpSp>
          <p:nvGrpSpPr>
            <p:cNvPr id="260" name=""/>
            <p:cNvGrpSpPr/>
            <p:nvPr/>
          </p:nvGrpSpPr>
          <p:grpSpPr>
            <a:xfrm>
              <a:off x="4113360" y="3492360"/>
              <a:ext cx="1709640" cy="1528920"/>
              <a:chOff x="4113360" y="3492360"/>
              <a:chExt cx="1709640" cy="1528920"/>
            </a:xfrm>
          </p:grpSpPr>
          <p:sp>
            <p:nvSpPr>
              <p:cNvPr id="261" name=""/>
              <p:cNvSpPr/>
              <p:nvPr/>
            </p:nvSpPr>
            <p:spPr>
              <a:xfrm>
                <a:off x="4132440" y="351144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113360" y="3492360"/>
                <a:ext cx="1709640" cy="1528920"/>
              </a:xfrm>
              <a:custGeom>
                <a:avLst/>
                <a:gdLst/>
                <a:ahLst/>
                <a:rect l="l" t="t" r="r" b="b"/>
                <a:pathLst>
                  <a:path w="1077" h="963">
                    <a:moveTo>
                      <a:pt x="113" y="878"/>
                    </a:moveTo>
                    <a:lnTo>
                      <a:pt x="539" y="878"/>
                    </a:lnTo>
                    <a:lnTo>
                      <a:pt x="539" y="963"/>
                    </a:lnTo>
                    <a:lnTo>
                      <a:pt x="28" y="963"/>
                    </a:lnTo>
                    <a:lnTo>
                      <a:pt x="0" y="935"/>
                    </a:lnTo>
                    <a:lnTo>
                      <a:pt x="0" y="907"/>
                    </a:lnTo>
                    <a:lnTo>
                      <a:pt x="482" y="28"/>
                    </a:lnTo>
                    <a:lnTo>
                      <a:pt x="510" y="0"/>
                    </a:lnTo>
                    <a:lnTo>
                      <a:pt x="567" y="0"/>
                    </a:lnTo>
                    <a:lnTo>
                      <a:pt x="595" y="28"/>
                    </a:lnTo>
                    <a:lnTo>
                      <a:pt x="1077" y="907"/>
                    </a:lnTo>
                    <a:lnTo>
                      <a:pt x="1077" y="935"/>
                    </a:lnTo>
                    <a:lnTo>
                      <a:pt x="1049" y="963"/>
                    </a:lnTo>
                    <a:lnTo>
                      <a:pt x="539" y="963"/>
                    </a:lnTo>
                    <a:lnTo>
                      <a:pt x="539" y="878"/>
                    </a:lnTo>
                    <a:lnTo>
                      <a:pt x="964" y="878"/>
                    </a:lnTo>
                    <a:lnTo>
                      <a:pt x="539" y="85"/>
                    </a:lnTo>
                    <a:lnTo>
                      <a:pt x="113" y="8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4592520" y="4059360"/>
              <a:ext cx="586080" cy="764640"/>
              <a:chOff x="4592520" y="4059360"/>
              <a:chExt cx="586080" cy="764640"/>
            </a:xfrm>
          </p:grpSpPr>
          <p:sp>
            <p:nvSpPr>
              <p:cNvPr id="264" name=""/>
              <p:cNvSpPr/>
              <p:nvPr/>
            </p:nvSpPr>
            <p:spPr>
              <a:xfrm>
                <a:off x="4592520" y="4783680"/>
                <a:ext cx="5860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695480" y="4059360"/>
                <a:ext cx="195120" cy="670680"/>
              </a:xfrm>
              <a:custGeom>
                <a:avLst/>
                <a:gdLst/>
                <a:ahLst/>
                <a:rect l="l" t="t" r="r" b="b"/>
                <a:pathLst>
                  <a:path w="321" h="945">
                    <a:moveTo>
                      <a:pt x="217" y="47"/>
                    </a:moveTo>
                    <a:cubicBezTo>
                      <a:pt x="170" y="94"/>
                      <a:pt x="19" y="237"/>
                      <a:pt x="19" y="331"/>
                    </a:cubicBezTo>
                    <a:cubicBezTo>
                      <a:pt x="19" y="425"/>
                      <a:pt x="217" y="520"/>
                      <a:pt x="217" y="614"/>
                    </a:cubicBezTo>
                    <a:cubicBezTo>
                      <a:pt x="217" y="708"/>
                      <a:pt x="38" y="851"/>
                      <a:pt x="19" y="898"/>
                    </a:cubicBezTo>
                    <a:cubicBezTo>
                      <a:pt x="0" y="945"/>
                      <a:pt x="57" y="945"/>
                      <a:pt x="104" y="898"/>
                    </a:cubicBezTo>
                    <a:cubicBezTo>
                      <a:pt x="151" y="851"/>
                      <a:pt x="302" y="708"/>
                      <a:pt x="302" y="614"/>
                    </a:cubicBezTo>
                    <a:cubicBezTo>
                      <a:pt x="302" y="520"/>
                      <a:pt x="104" y="425"/>
                      <a:pt x="104" y="331"/>
                    </a:cubicBezTo>
                    <a:cubicBezTo>
                      <a:pt x="104" y="237"/>
                      <a:pt x="283" y="94"/>
                      <a:pt x="302" y="47"/>
                    </a:cubicBezTo>
                    <a:cubicBezTo>
                      <a:pt x="321" y="0"/>
                      <a:pt x="264" y="0"/>
                      <a:pt x="217" y="4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827600" y="4072680"/>
                <a:ext cx="195120" cy="670680"/>
              </a:xfrm>
              <a:custGeom>
                <a:avLst/>
                <a:gdLst/>
                <a:ahLst/>
                <a:rect l="l" t="t" r="r" b="b"/>
                <a:pathLst>
                  <a:path w="321" h="945">
                    <a:moveTo>
                      <a:pt x="217" y="47"/>
                    </a:moveTo>
                    <a:cubicBezTo>
                      <a:pt x="170" y="94"/>
                      <a:pt x="19" y="237"/>
                      <a:pt x="19" y="331"/>
                    </a:cubicBezTo>
                    <a:cubicBezTo>
                      <a:pt x="19" y="425"/>
                      <a:pt x="217" y="520"/>
                      <a:pt x="217" y="614"/>
                    </a:cubicBezTo>
                    <a:cubicBezTo>
                      <a:pt x="217" y="708"/>
                      <a:pt x="38" y="851"/>
                      <a:pt x="19" y="898"/>
                    </a:cubicBezTo>
                    <a:cubicBezTo>
                      <a:pt x="0" y="945"/>
                      <a:pt x="57" y="945"/>
                      <a:pt x="104" y="898"/>
                    </a:cubicBezTo>
                    <a:cubicBezTo>
                      <a:pt x="151" y="851"/>
                      <a:pt x="302" y="708"/>
                      <a:pt x="302" y="614"/>
                    </a:cubicBezTo>
                    <a:cubicBezTo>
                      <a:pt x="302" y="520"/>
                      <a:pt x="104" y="425"/>
                      <a:pt x="104" y="331"/>
                    </a:cubicBezTo>
                    <a:cubicBezTo>
                      <a:pt x="104" y="237"/>
                      <a:pt x="283" y="94"/>
                      <a:pt x="302" y="47"/>
                    </a:cubicBezTo>
                    <a:cubicBezTo>
                      <a:pt x="321" y="0"/>
                      <a:pt x="264" y="0"/>
                      <a:pt x="217" y="4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965840" y="4072680"/>
                <a:ext cx="195120" cy="670680"/>
              </a:xfrm>
              <a:custGeom>
                <a:avLst/>
                <a:gdLst/>
                <a:ahLst/>
                <a:rect l="l" t="t" r="r" b="b"/>
                <a:pathLst>
                  <a:path w="321" h="945">
                    <a:moveTo>
                      <a:pt x="217" y="47"/>
                    </a:moveTo>
                    <a:cubicBezTo>
                      <a:pt x="170" y="94"/>
                      <a:pt x="19" y="237"/>
                      <a:pt x="19" y="331"/>
                    </a:cubicBezTo>
                    <a:cubicBezTo>
                      <a:pt x="19" y="425"/>
                      <a:pt x="217" y="520"/>
                      <a:pt x="217" y="614"/>
                    </a:cubicBezTo>
                    <a:cubicBezTo>
                      <a:pt x="217" y="708"/>
                      <a:pt x="38" y="851"/>
                      <a:pt x="19" y="898"/>
                    </a:cubicBezTo>
                    <a:cubicBezTo>
                      <a:pt x="0" y="945"/>
                      <a:pt x="57" y="945"/>
                      <a:pt x="104" y="898"/>
                    </a:cubicBezTo>
                    <a:cubicBezTo>
                      <a:pt x="151" y="851"/>
                      <a:pt x="302" y="708"/>
                      <a:pt x="302" y="614"/>
                    </a:cubicBezTo>
                    <a:cubicBezTo>
                      <a:pt x="302" y="520"/>
                      <a:pt x="104" y="425"/>
                      <a:pt x="104" y="331"/>
                    </a:cubicBezTo>
                    <a:cubicBezTo>
                      <a:pt x="104" y="237"/>
                      <a:pt x="283" y="94"/>
                      <a:pt x="302" y="47"/>
                    </a:cubicBezTo>
                    <a:cubicBezTo>
                      <a:pt x="321" y="0"/>
                      <a:pt x="264" y="0"/>
                      <a:pt x="217" y="4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4111560" y="252360"/>
            <a:ext cx="1711440" cy="1528920"/>
            <a:chOff x="4111560" y="252360"/>
            <a:chExt cx="1711440" cy="1528920"/>
          </a:xfrm>
        </p:grpSpPr>
        <p:grpSp>
          <p:nvGrpSpPr>
            <p:cNvPr id="269" name=""/>
            <p:cNvGrpSpPr/>
            <p:nvPr/>
          </p:nvGrpSpPr>
          <p:grpSpPr>
            <a:xfrm>
              <a:off x="4111560" y="252360"/>
              <a:ext cx="1711440" cy="1528920"/>
              <a:chOff x="4111560" y="252360"/>
              <a:chExt cx="1711440" cy="1528920"/>
            </a:xfrm>
          </p:grpSpPr>
          <p:sp>
            <p:nvSpPr>
              <p:cNvPr id="270" name=""/>
              <p:cNvSpPr/>
              <p:nvPr/>
            </p:nvSpPr>
            <p:spPr>
              <a:xfrm>
                <a:off x="4132440" y="27144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111560" y="252360"/>
                <a:ext cx="1711440" cy="152892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49" y="936"/>
                    </a:moveTo>
                    <a:lnTo>
                      <a:pt x="539" y="935"/>
                    </a:lnTo>
                    <a:lnTo>
                      <a:pt x="539" y="963"/>
                    </a:lnTo>
                    <a:lnTo>
                      <a:pt x="29" y="963"/>
                    </a:lnTo>
                    <a:cubicBezTo>
                      <a:pt x="29" y="963"/>
                      <a:pt x="10" y="952"/>
                      <a:pt x="0" y="935"/>
                    </a:cubicBezTo>
                    <a:cubicBezTo>
                      <a:pt x="0" y="921"/>
                      <a:pt x="0" y="907"/>
                      <a:pt x="0" y="907"/>
                    </a:cubicBezTo>
                    <a:lnTo>
                      <a:pt x="511" y="28"/>
                    </a:lnTo>
                    <a:cubicBezTo>
                      <a:pt x="511" y="28"/>
                      <a:pt x="519" y="1"/>
                      <a:pt x="539" y="0"/>
                    </a:cubicBezTo>
                    <a:cubicBezTo>
                      <a:pt x="562" y="0"/>
                      <a:pt x="567" y="28"/>
                      <a:pt x="567" y="28"/>
                    </a:cubicBezTo>
                    <a:lnTo>
                      <a:pt x="1078" y="907"/>
                    </a:lnTo>
                    <a:cubicBezTo>
                      <a:pt x="1078" y="907"/>
                      <a:pt x="1078" y="921"/>
                      <a:pt x="1078" y="935"/>
                    </a:cubicBezTo>
                    <a:cubicBezTo>
                      <a:pt x="1068" y="955"/>
                      <a:pt x="1049" y="963"/>
                      <a:pt x="1049" y="963"/>
                    </a:cubicBezTo>
                    <a:lnTo>
                      <a:pt x="539" y="963"/>
                    </a:lnTo>
                    <a:lnTo>
                      <a:pt x="539" y="935"/>
                    </a:lnTo>
                    <a:lnTo>
                      <a:pt x="1024" y="936"/>
                    </a:lnTo>
                    <a:lnTo>
                      <a:pt x="1044" y="930"/>
                    </a:lnTo>
                    <a:lnTo>
                      <a:pt x="1048" y="918"/>
                    </a:lnTo>
                    <a:lnTo>
                      <a:pt x="1044" y="907"/>
                    </a:lnTo>
                    <a:lnTo>
                      <a:pt x="550" y="49"/>
                    </a:lnTo>
                    <a:cubicBezTo>
                      <a:pt x="550" y="49"/>
                      <a:pt x="547" y="40"/>
                      <a:pt x="538" y="37"/>
                    </a:cubicBezTo>
                    <a:cubicBezTo>
                      <a:pt x="526" y="42"/>
                      <a:pt x="526" y="52"/>
                      <a:pt x="526" y="52"/>
                    </a:cubicBezTo>
                    <a:lnTo>
                      <a:pt x="40" y="900"/>
                    </a:lnTo>
                    <a:lnTo>
                      <a:pt x="34" y="910"/>
                    </a:lnTo>
                    <a:lnTo>
                      <a:pt x="34" y="925"/>
                    </a:lnTo>
                    <a:lnTo>
                      <a:pt x="49" y="9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4592520" y="773280"/>
              <a:ext cx="586080" cy="855360"/>
              <a:chOff x="4592520" y="773280"/>
              <a:chExt cx="586080" cy="855360"/>
            </a:xfrm>
          </p:grpSpPr>
          <p:sp>
            <p:nvSpPr>
              <p:cNvPr id="273" name=""/>
              <p:cNvSpPr/>
              <p:nvPr/>
            </p:nvSpPr>
            <p:spPr>
              <a:xfrm>
                <a:off x="4716000" y="773280"/>
                <a:ext cx="183960" cy="784800"/>
              </a:xfrm>
              <a:custGeom>
                <a:avLst/>
                <a:gdLst/>
                <a:ahLst/>
                <a:rect l="l" t="t" r="r" b="b"/>
                <a:pathLst>
                  <a:path w="303" h="1418">
                    <a:moveTo>
                      <a:pt x="222" y="71"/>
                    </a:moveTo>
                    <a:cubicBezTo>
                      <a:pt x="179" y="142"/>
                      <a:pt x="24" y="355"/>
                      <a:pt x="24" y="497"/>
                    </a:cubicBezTo>
                    <a:cubicBezTo>
                      <a:pt x="24" y="639"/>
                      <a:pt x="222" y="780"/>
                      <a:pt x="222" y="922"/>
                    </a:cubicBezTo>
                    <a:cubicBezTo>
                      <a:pt x="222" y="1064"/>
                      <a:pt x="48" y="1276"/>
                      <a:pt x="24" y="1347"/>
                    </a:cubicBezTo>
                    <a:cubicBezTo>
                      <a:pt x="0" y="1418"/>
                      <a:pt x="37" y="1418"/>
                      <a:pt x="80" y="1347"/>
                    </a:cubicBezTo>
                    <a:cubicBezTo>
                      <a:pt x="123" y="1276"/>
                      <a:pt x="279" y="1064"/>
                      <a:pt x="279" y="922"/>
                    </a:cubicBezTo>
                    <a:cubicBezTo>
                      <a:pt x="279" y="780"/>
                      <a:pt x="80" y="639"/>
                      <a:pt x="80" y="497"/>
                    </a:cubicBezTo>
                    <a:cubicBezTo>
                      <a:pt x="80" y="355"/>
                      <a:pt x="255" y="142"/>
                      <a:pt x="279" y="71"/>
                    </a:cubicBezTo>
                    <a:cubicBezTo>
                      <a:pt x="303" y="0"/>
                      <a:pt x="265" y="0"/>
                      <a:pt x="222" y="7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33720" y="781560"/>
                <a:ext cx="183960" cy="784800"/>
              </a:xfrm>
              <a:custGeom>
                <a:avLst/>
                <a:gdLst/>
                <a:ahLst/>
                <a:rect l="l" t="t" r="r" b="b"/>
                <a:pathLst>
                  <a:path w="303" h="1418">
                    <a:moveTo>
                      <a:pt x="222" y="71"/>
                    </a:moveTo>
                    <a:cubicBezTo>
                      <a:pt x="179" y="142"/>
                      <a:pt x="24" y="355"/>
                      <a:pt x="24" y="497"/>
                    </a:cubicBezTo>
                    <a:cubicBezTo>
                      <a:pt x="24" y="639"/>
                      <a:pt x="222" y="780"/>
                      <a:pt x="222" y="922"/>
                    </a:cubicBezTo>
                    <a:cubicBezTo>
                      <a:pt x="222" y="1064"/>
                      <a:pt x="48" y="1276"/>
                      <a:pt x="24" y="1347"/>
                    </a:cubicBezTo>
                    <a:cubicBezTo>
                      <a:pt x="0" y="1418"/>
                      <a:pt x="37" y="1418"/>
                      <a:pt x="80" y="1347"/>
                    </a:cubicBezTo>
                    <a:cubicBezTo>
                      <a:pt x="123" y="1276"/>
                      <a:pt x="279" y="1064"/>
                      <a:pt x="279" y="922"/>
                    </a:cubicBezTo>
                    <a:cubicBezTo>
                      <a:pt x="279" y="780"/>
                      <a:pt x="80" y="639"/>
                      <a:pt x="80" y="497"/>
                    </a:cubicBezTo>
                    <a:cubicBezTo>
                      <a:pt x="80" y="355"/>
                      <a:pt x="255" y="142"/>
                      <a:pt x="279" y="71"/>
                    </a:cubicBezTo>
                    <a:cubicBezTo>
                      <a:pt x="303" y="0"/>
                      <a:pt x="265" y="0"/>
                      <a:pt x="222" y="7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954320" y="781560"/>
                <a:ext cx="183960" cy="784800"/>
              </a:xfrm>
              <a:custGeom>
                <a:avLst/>
                <a:gdLst/>
                <a:ahLst/>
                <a:rect l="l" t="t" r="r" b="b"/>
                <a:pathLst>
                  <a:path w="303" h="1418">
                    <a:moveTo>
                      <a:pt x="222" y="71"/>
                    </a:moveTo>
                    <a:cubicBezTo>
                      <a:pt x="179" y="142"/>
                      <a:pt x="24" y="355"/>
                      <a:pt x="24" y="497"/>
                    </a:cubicBezTo>
                    <a:cubicBezTo>
                      <a:pt x="24" y="639"/>
                      <a:pt x="222" y="780"/>
                      <a:pt x="222" y="922"/>
                    </a:cubicBezTo>
                    <a:cubicBezTo>
                      <a:pt x="222" y="1064"/>
                      <a:pt x="48" y="1276"/>
                      <a:pt x="24" y="1347"/>
                    </a:cubicBezTo>
                    <a:cubicBezTo>
                      <a:pt x="0" y="1418"/>
                      <a:pt x="37" y="1418"/>
                      <a:pt x="80" y="1347"/>
                    </a:cubicBezTo>
                    <a:cubicBezTo>
                      <a:pt x="123" y="1276"/>
                      <a:pt x="279" y="1064"/>
                      <a:pt x="279" y="922"/>
                    </a:cubicBezTo>
                    <a:cubicBezTo>
                      <a:pt x="279" y="780"/>
                      <a:pt x="80" y="639"/>
                      <a:pt x="80" y="497"/>
                    </a:cubicBezTo>
                    <a:cubicBezTo>
                      <a:pt x="80" y="355"/>
                      <a:pt x="255" y="142"/>
                      <a:pt x="279" y="71"/>
                    </a:cubicBezTo>
                    <a:cubicBezTo>
                      <a:pt x="303" y="0"/>
                      <a:pt x="265" y="0"/>
                      <a:pt x="222" y="7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592520" y="1597320"/>
                <a:ext cx="58608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5977080" y="235080"/>
            <a:ext cx="1711080" cy="1528560"/>
            <a:chOff x="5977080" y="235080"/>
            <a:chExt cx="1711080" cy="1528560"/>
          </a:xfrm>
        </p:grpSpPr>
        <p:grpSp>
          <p:nvGrpSpPr>
            <p:cNvPr id="278" name=""/>
            <p:cNvGrpSpPr/>
            <p:nvPr/>
          </p:nvGrpSpPr>
          <p:grpSpPr>
            <a:xfrm>
              <a:off x="5977080" y="235080"/>
              <a:ext cx="1711080" cy="1528560"/>
              <a:chOff x="5977080" y="235080"/>
              <a:chExt cx="1711080" cy="1528560"/>
            </a:xfrm>
          </p:grpSpPr>
          <p:sp>
            <p:nvSpPr>
              <p:cNvPr id="279" name=""/>
              <p:cNvSpPr/>
              <p:nvPr/>
            </p:nvSpPr>
            <p:spPr>
              <a:xfrm>
                <a:off x="5997600" y="254160"/>
                <a:ext cx="1670040" cy="149040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977080" y="235080"/>
                <a:ext cx="1711080" cy="15285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49" y="936"/>
                    </a:moveTo>
                    <a:lnTo>
                      <a:pt x="539" y="935"/>
                    </a:lnTo>
                    <a:lnTo>
                      <a:pt x="539" y="963"/>
                    </a:lnTo>
                    <a:lnTo>
                      <a:pt x="29" y="963"/>
                    </a:lnTo>
                    <a:cubicBezTo>
                      <a:pt x="29" y="963"/>
                      <a:pt x="10" y="952"/>
                      <a:pt x="0" y="935"/>
                    </a:cubicBezTo>
                    <a:cubicBezTo>
                      <a:pt x="0" y="921"/>
                      <a:pt x="0" y="907"/>
                      <a:pt x="0" y="907"/>
                    </a:cubicBezTo>
                    <a:lnTo>
                      <a:pt x="511" y="28"/>
                    </a:lnTo>
                    <a:cubicBezTo>
                      <a:pt x="511" y="28"/>
                      <a:pt x="519" y="1"/>
                      <a:pt x="539" y="0"/>
                    </a:cubicBezTo>
                    <a:cubicBezTo>
                      <a:pt x="562" y="0"/>
                      <a:pt x="567" y="28"/>
                      <a:pt x="567" y="28"/>
                    </a:cubicBezTo>
                    <a:lnTo>
                      <a:pt x="1078" y="907"/>
                    </a:lnTo>
                    <a:cubicBezTo>
                      <a:pt x="1078" y="907"/>
                      <a:pt x="1078" y="921"/>
                      <a:pt x="1078" y="935"/>
                    </a:cubicBezTo>
                    <a:cubicBezTo>
                      <a:pt x="1068" y="955"/>
                      <a:pt x="1049" y="963"/>
                      <a:pt x="1049" y="963"/>
                    </a:cubicBezTo>
                    <a:lnTo>
                      <a:pt x="539" y="963"/>
                    </a:lnTo>
                    <a:lnTo>
                      <a:pt x="539" y="935"/>
                    </a:lnTo>
                    <a:lnTo>
                      <a:pt x="1024" y="936"/>
                    </a:lnTo>
                    <a:lnTo>
                      <a:pt x="1044" y="930"/>
                    </a:lnTo>
                    <a:lnTo>
                      <a:pt x="1048" y="918"/>
                    </a:lnTo>
                    <a:lnTo>
                      <a:pt x="1044" y="907"/>
                    </a:lnTo>
                    <a:lnTo>
                      <a:pt x="550" y="49"/>
                    </a:lnTo>
                    <a:cubicBezTo>
                      <a:pt x="550" y="49"/>
                      <a:pt x="547" y="40"/>
                      <a:pt x="538" y="37"/>
                    </a:cubicBezTo>
                    <a:cubicBezTo>
                      <a:pt x="526" y="42"/>
                      <a:pt x="526" y="52"/>
                      <a:pt x="526" y="52"/>
                    </a:cubicBezTo>
                    <a:lnTo>
                      <a:pt x="40" y="900"/>
                    </a:lnTo>
                    <a:lnTo>
                      <a:pt x="34" y="910"/>
                    </a:lnTo>
                    <a:lnTo>
                      <a:pt x="34" y="925"/>
                    </a:lnTo>
                    <a:lnTo>
                      <a:pt x="49" y="9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461280" y="773280"/>
              <a:ext cx="585720" cy="855360"/>
              <a:chOff x="6461280" y="773280"/>
              <a:chExt cx="585720" cy="855360"/>
            </a:xfrm>
          </p:grpSpPr>
          <p:sp>
            <p:nvSpPr>
              <p:cNvPr id="282" name=""/>
              <p:cNvSpPr/>
              <p:nvPr/>
            </p:nvSpPr>
            <p:spPr>
              <a:xfrm>
                <a:off x="6584760" y="773280"/>
                <a:ext cx="183960" cy="784800"/>
              </a:xfrm>
              <a:custGeom>
                <a:avLst/>
                <a:gdLst/>
                <a:ahLst/>
                <a:rect l="l" t="t" r="r" b="b"/>
                <a:pathLst>
                  <a:path w="303" h="1418">
                    <a:moveTo>
                      <a:pt x="222" y="71"/>
                    </a:moveTo>
                    <a:cubicBezTo>
                      <a:pt x="179" y="142"/>
                      <a:pt x="24" y="355"/>
                      <a:pt x="24" y="497"/>
                    </a:cubicBezTo>
                    <a:cubicBezTo>
                      <a:pt x="24" y="639"/>
                      <a:pt x="222" y="780"/>
                      <a:pt x="222" y="922"/>
                    </a:cubicBezTo>
                    <a:cubicBezTo>
                      <a:pt x="222" y="1064"/>
                      <a:pt x="48" y="1276"/>
                      <a:pt x="24" y="1347"/>
                    </a:cubicBezTo>
                    <a:cubicBezTo>
                      <a:pt x="0" y="1418"/>
                      <a:pt x="37" y="1418"/>
                      <a:pt x="80" y="1347"/>
                    </a:cubicBezTo>
                    <a:cubicBezTo>
                      <a:pt x="123" y="1276"/>
                      <a:pt x="279" y="1064"/>
                      <a:pt x="279" y="922"/>
                    </a:cubicBezTo>
                    <a:cubicBezTo>
                      <a:pt x="279" y="780"/>
                      <a:pt x="80" y="639"/>
                      <a:pt x="80" y="497"/>
                    </a:cubicBezTo>
                    <a:cubicBezTo>
                      <a:pt x="80" y="355"/>
                      <a:pt x="255" y="142"/>
                      <a:pt x="279" y="71"/>
                    </a:cubicBezTo>
                    <a:cubicBezTo>
                      <a:pt x="303" y="0"/>
                      <a:pt x="265" y="0"/>
                      <a:pt x="222" y="7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02480" y="781560"/>
                <a:ext cx="183960" cy="784800"/>
              </a:xfrm>
              <a:custGeom>
                <a:avLst/>
                <a:gdLst/>
                <a:ahLst/>
                <a:rect l="l" t="t" r="r" b="b"/>
                <a:pathLst>
                  <a:path w="303" h="1418">
                    <a:moveTo>
                      <a:pt x="222" y="71"/>
                    </a:moveTo>
                    <a:cubicBezTo>
                      <a:pt x="179" y="142"/>
                      <a:pt x="24" y="355"/>
                      <a:pt x="24" y="497"/>
                    </a:cubicBezTo>
                    <a:cubicBezTo>
                      <a:pt x="24" y="639"/>
                      <a:pt x="222" y="780"/>
                      <a:pt x="222" y="922"/>
                    </a:cubicBezTo>
                    <a:cubicBezTo>
                      <a:pt x="222" y="1064"/>
                      <a:pt x="48" y="1276"/>
                      <a:pt x="24" y="1347"/>
                    </a:cubicBezTo>
                    <a:cubicBezTo>
                      <a:pt x="0" y="1418"/>
                      <a:pt x="37" y="1418"/>
                      <a:pt x="80" y="1347"/>
                    </a:cubicBezTo>
                    <a:cubicBezTo>
                      <a:pt x="123" y="1276"/>
                      <a:pt x="279" y="1064"/>
                      <a:pt x="279" y="922"/>
                    </a:cubicBezTo>
                    <a:cubicBezTo>
                      <a:pt x="279" y="780"/>
                      <a:pt x="80" y="639"/>
                      <a:pt x="80" y="497"/>
                    </a:cubicBezTo>
                    <a:cubicBezTo>
                      <a:pt x="80" y="355"/>
                      <a:pt x="255" y="142"/>
                      <a:pt x="279" y="71"/>
                    </a:cubicBezTo>
                    <a:cubicBezTo>
                      <a:pt x="303" y="0"/>
                      <a:pt x="265" y="0"/>
                      <a:pt x="222" y="7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22720" y="781560"/>
                <a:ext cx="183960" cy="784800"/>
              </a:xfrm>
              <a:custGeom>
                <a:avLst/>
                <a:gdLst/>
                <a:ahLst/>
                <a:rect l="l" t="t" r="r" b="b"/>
                <a:pathLst>
                  <a:path w="303" h="1418">
                    <a:moveTo>
                      <a:pt x="222" y="71"/>
                    </a:moveTo>
                    <a:cubicBezTo>
                      <a:pt x="179" y="142"/>
                      <a:pt x="24" y="355"/>
                      <a:pt x="24" y="497"/>
                    </a:cubicBezTo>
                    <a:cubicBezTo>
                      <a:pt x="24" y="639"/>
                      <a:pt x="222" y="780"/>
                      <a:pt x="222" y="922"/>
                    </a:cubicBezTo>
                    <a:cubicBezTo>
                      <a:pt x="222" y="1064"/>
                      <a:pt x="48" y="1276"/>
                      <a:pt x="24" y="1347"/>
                    </a:cubicBezTo>
                    <a:cubicBezTo>
                      <a:pt x="0" y="1418"/>
                      <a:pt x="37" y="1418"/>
                      <a:pt x="80" y="1347"/>
                    </a:cubicBezTo>
                    <a:cubicBezTo>
                      <a:pt x="123" y="1276"/>
                      <a:pt x="279" y="1064"/>
                      <a:pt x="279" y="922"/>
                    </a:cubicBezTo>
                    <a:cubicBezTo>
                      <a:pt x="279" y="780"/>
                      <a:pt x="80" y="639"/>
                      <a:pt x="80" y="497"/>
                    </a:cubicBezTo>
                    <a:cubicBezTo>
                      <a:pt x="80" y="355"/>
                      <a:pt x="255" y="142"/>
                      <a:pt x="279" y="71"/>
                    </a:cubicBezTo>
                    <a:cubicBezTo>
                      <a:pt x="303" y="0"/>
                      <a:pt x="265" y="0"/>
                      <a:pt x="222" y="7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461280" y="1597320"/>
                <a:ext cx="58572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6" name=""/>
          <p:cNvGrpSpPr/>
          <p:nvPr/>
        </p:nvGrpSpPr>
        <p:grpSpPr>
          <a:xfrm>
            <a:off x="7862760" y="233280"/>
            <a:ext cx="1711440" cy="1528920"/>
            <a:chOff x="7862760" y="233280"/>
            <a:chExt cx="1711440" cy="1528920"/>
          </a:xfrm>
        </p:grpSpPr>
        <p:grpSp>
          <p:nvGrpSpPr>
            <p:cNvPr id="287" name=""/>
            <p:cNvGrpSpPr/>
            <p:nvPr/>
          </p:nvGrpSpPr>
          <p:grpSpPr>
            <a:xfrm>
              <a:off x="7862760" y="233280"/>
              <a:ext cx="1711440" cy="1528920"/>
              <a:chOff x="7862760" y="233280"/>
              <a:chExt cx="1711440" cy="1528920"/>
            </a:xfrm>
          </p:grpSpPr>
          <p:sp>
            <p:nvSpPr>
              <p:cNvPr id="288" name=""/>
              <p:cNvSpPr/>
              <p:nvPr/>
            </p:nvSpPr>
            <p:spPr>
              <a:xfrm>
                <a:off x="7883640" y="25236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862760" y="233280"/>
                <a:ext cx="1711440" cy="152892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49" y="936"/>
                    </a:moveTo>
                    <a:lnTo>
                      <a:pt x="539" y="935"/>
                    </a:lnTo>
                    <a:lnTo>
                      <a:pt x="539" y="963"/>
                    </a:lnTo>
                    <a:lnTo>
                      <a:pt x="29" y="963"/>
                    </a:lnTo>
                    <a:cubicBezTo>
                      <a:pt x="29" y="963"/>
                      <a:pt x="10" y="952"/>
                      <a:pt x="0" y="935"/>
                    </a:cubicBezTo>
                    <a:cubicBezTo>
                      <a:pt x="0" y="921"/>
                      <a:pt x="0" y="907"/>
                      <a:pt x="0" y="907"/>
                    </a:cubicBezTo>
                    <a:lnTo>
                      <a:pt x="511" y="28"/>
                    </a:lnTo>
                    <a:cubicBezTo>
                      <a:pt x="511" y="28"/>
                      <a:pt x="519" y="1"/>
                      <a:pt x="539" y="0"/>
                    </a:cubicBezTo>
                    <a:cubicBezTo>
                      <a:pt x="562" y="0"/>
                      <a:pt x="567" y="28"/>
                      <a:pt x="567" y="28"/>
                    </a:cubicBezTo>
                    <a:lnTo>
                      <a:pt x="1078" y="907"/>
                    </a:lnTo>
                    <a:cubicBezTo>
                      <a:pt x="1078" y="907"/>
                      <a:pt x="1078" y="921"/>
                      <a:pt x="1078" y="935"/>
                    </a:cubicBezTo>
                    <a:cubicBezTo>
                      <a:pt x="1068" y="955"/>
                      <a:pt x="1049" y="963"/>
                      <a:pt x="1049" y="963"/>
                    </a:cubicBezTo>
                    <a:lnTo>
                      <a:pt x="539" y="963"/>
                    </a:lnTo>
                    <a:lnTo>
                      <a:pt x="539" y="935"/>
                    </a:lnTo>
                    <a:lnTo>
                      <a:pt x="1024" y="936"/>
                    </a:lnTo>
                    <a:lnTo>
                      <a:pt x="1044" y="930"/>
                    </a:lnTo>
                    <a:lnTo>
                      <a:pt x="1048" y="918"/>
                    </a:lnTo>
                    <a:lnTo>
                      <a:pt x="1044" y="907"/>
                    </a:lnTo>
                    <a:lnTo>
                      <a:pt x="550" y="49"/>
                    </a:lnTo>
                    <a:cubicBezTo>
                      <a:pt x="550" y="49"/>
                      <a:pt x="547" y="40"/>
                      <a:pt x="538" y="37"/>
                    </a:cubicBezTo>
                    <a:cubicBezTo>
                      <a:pt x="526" y="42"/>
                      <a:pt x="526" y="52"/>
                      <a:pt x="526" y="52"/>
                    </a:cubicBezTo>
                    <a:lnTo>
                      <a:pt x="40" y="900"/>
                    </a:lnTo>
                    <a:lnTo>
                      <a:pt x="34" y="910"/>
                    </a:lnTo>
                    <a:lnTo>
                      <a:pt x="34" y="925"/>
                    </a:lnTo>
                    <a:lnTo>
                      <a:pt x="49" y="9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8339040" y="773280"/>
              <a:ext cx="585720" cy="855360"/>
              <a:chOff x="8339040" y="773280"/>
              <a:chExt cx="585720" cy="855360"/>
            </a:xfrm>
          </p:grpSpPr>
          <p:sp>
            <p:nvSpPr>
              <p:cNvPr id="291" name=""/>
              <p:cNvSpPr/>
              <p:nvPr/>
            </p:nvSpPr>
            <p:spPr>
              <a:xfrm>
                <a:off x="8462520" y="773280"/>
                <a:ext cx="183960" cy="784800"/>
              </a:xfrm>
              <a:custGeom>
                <a:avLst/>
                <a:gdLst/>
                <a:ahLst/>
                <a:rect l="l" t="t" r="r" b="b"/>
                <a:pathLst>
                  <a:path w="303" h="1418">
                    <a:moveTo>
                      <a:pt x="222" y="71"/>
                    </a:moveTo>
                    <a:cubicBezTo>
                      <a:pt x="179" y="142"/>
                      <a:pt x="24" y="355"/>
                      <a:pt x="24" y="497"/>
                    </a:cubicBezTo>
                    <a:cubicBezTo>
                      <a:pt x="24" y="639"/>
                      <a:pt x="222" y="780"/>
                      <a:pt x="222" y="922"/>
                    </a:cubicBezTo>
                    <a:cubicBezTo>
                      <a:pt x="222" y="1064"/>
                      <a:pt x="48" y="1276"/>
                      <a:pt x="24" y="1347"/>
                    </a:cubicBezTo>
                    <a:cubicBezTo>
                      <a:pt x="0" y="1418"/>
                      <a:pt x="37" y="1418"/>
                      <a:pt x="80" y="1347"/>
                    </a:cubicBezTo>
                    <a:cubicBezTo>
                      <a:pt x="123" y="1276"/>
                      <a:pt x="279" y="1064"/>
                      <a:pt x="279" y="922"/>
                    </a:cubicBezTo>
                    <a:cubicBezTo>
                      <a:pt x="279" y="780"/>
                      <a:pt x="80" y="639"/>
                      <a:pt x="80" y="497"/>
                    </a:cubicBezTo>
                    <a:cubicBezTo>
                      <a:pt x="80" y="355"/>
                      <a:pt x="255" y="142"/>
                      <a:pt x="279" y="71"/>
                    </a:cubicBezTo>
                    <a:cubicBezTo>
                      <a:pt x="303" y="0"/>
                      <a:pt x="265" y="0"/>
                      <a:pt x="222" y="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580240" y="781560"/>
                <a:ext cx="183960" cy="784800"/>
              </a:xfrm>
              <a:custGeom>
                <a:avLst/>
                <a:gdLst/>
                <a:ahLst/>
                <a:rect l="l" t="t" r="r" b="b"/>
                <a:pathLst>
                  <a:path w="303" h="1418">
                    <a:moveTo>
                      <a:pt x="222" y="71"/>
                    </a:moveTo>
                    <a:cubicBezTo>
                      <a:pt x="179" y="142"/>
                      <a:pt x="24" y="355"/>
                      <a:pt x="24" y="497"/>
                    </a:cubicBezTo>
                    <a:cubicBezTo>
                      <a:pt x="24" y="639"/>
                      <a:pt x="222" y="780"/>
                      <a:pt x="222" y="922"/>
                    </a:cubicBezTo>
                    <a:cubicBezTo>
                      <a:pt x="222" y="1064"/>
                      <a:pt x="48" y="1276"/>
                      <a:pt x="24" y="1347"/>
                    </a:cubicBezTo>
                    <a:cubicBezTo>
                      <a:pt x="0" y="1418"/>
                      <a:pt x="37" y="1418"/>
                      <a:pt x="80" y="1347"/>
                    </a:cubicBezTo>
                    <a:cubicBezTo>
                      <a:pt x="123" y="1276"/>
                      <a:pt x="279" y="1064"/>
                      <a:pt x="279" y="922"/>
                    </a:cubicBezTo>
                    <a:cubicBezTo>
                      <a:pt x="279" y="780"/>
                      <a:pt x="80" y="639"/>
                      <a:pt x="80" y="497"/>
                    </a:cubicBezTo>
                    <a:cubicBezTo>
                      <a:pt x="80" y="355"/>
                      <a:pt x="255" y="142"/>
                      <a:pt x="279" y="71"/>
                    </a:cubicBezTo>
                    <a:cubicBezTo>
                      <a:pt x="303" y="0"/>
                      <a:pt x="265" y="0"/>
                      <a:pt x="222" y="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700480" y="781560"/>
                <a:ext cx="183960" cy="784800"/>
              </a:xfrm>
              <a:custGeom>
                <a:avLst/>
                <a:gdLst/>
                <a:ahLst/>
                <a:rect l="l" t="t" r="r" b="b"/>
                <a:pathLst>
                  <a:path w="303" h="1418">
                    <a:moveTo>
                      <a:pt x="222" y="71"/>
                    </a:moveTo>
                    <a:cubicBezTo>
                      <a:pt x="179" y="142"/>
                      <a:pt x="24" y="355"/>
                      <a:pt x="24" y="497"/>
                    </a:cubicBezTo>
                    <a:cubicBezTo>
                      <a:pt x="24" y="639"/>
                      <a:pt x="222" y="780"/>
                      <a:pt x="222" y="922"/>
                    </a:cubicBezTo>
                    <a:cubicBezTo>
                      <a:pt x="222" y="1064"/>
                      <a:pt x="48" y="1276"/>
                      <a:pt x="24" y="1347"/>
                    </a:cubicBezTo>
                    <a:cubicBezTo>
                      <a:pt x="0" y="1418"/>
                      <a:pt x="37" y="1418"/>
                      <a:pt x="80" y="1347"/>
                    </a:cubicBezTo>
                    <a:cubicBezTo>
                      <a:pt x="123" y="1276"/>
                      <a:pt x="279" y="1064"/>
                      <a:pt x="279" y="922"/>
                    </a:cubicBezTo>
                    <a:cubicBezTo>
                      <a:pt x="279" y="780"/>
                      <a:pt x="80" y="639"/>
                      <a:pt x="80" y="497"/>
                    </a:cubicBezTo>
                    <a:cubicBezTo>
                      <a:pt x="80" y="355"/>
                      <a:pt x="255" y="142"/>
                      <a:pt x="279" y="71"/>
                    </a:cubicBezTo>
                    <a:cubicBezTo>
                      <a:pt x="303" y="0"/>
                      <a:pt x="265" y="0"/>
                      <a:pt x="222" y="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339040" y="1597320"/>
                <a:ext cx="58572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2220840" y="258840"/>
            <a:ext cx="1711440" cy="1528560"/>
            <a:chOff x="2220840" y="258840"/>
            <a:chExt cx="1711440" cy="1528560"/>
          </a:xfrm>
        </p:grpSpPr>
        <p:grpSp>
          <p:nvGrpSpPr>
            <p:cNvPr id="296" name=""/>
            <p:cNvGrpSpPr/>
            <p:nvPr/>
          </p:nvGrpSpPr>
          <p:grpSpPr>
            <a:xfrm>
              <a:off x="2220840" y="258840"/>
              <a:ext cx="1711440" cy="1528560"/>
              <a:chOff x="2220840" y="258840"/>
              <a:chExt cx="1711440" cy="1528560"/>
            </a:xfrm>
          </p:grpSpPr>
          <p:sp>
            <p:nvSpPr>
              <p:cNvPr id="297" name=""/>
              <p:cNvSpPr/>
              <p:nvPr/>
            </p:nvSpPr>
            <p:spPr>
              <a:xfrm>
                <a:off x="2241720" y="277920"/>
                <a:ext cx="1670040" cy="149040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20840" y="258840"/>
                <a:ext cx="1711440" cy="15285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49" y="936"/>
                    </a:moveTo>
                    <a:lnTo>
                      <a:pt x="539" y="935"/>
                    </a:lnTo>
                    <a:lnTo>
                      <a:pt x="539" y="963"/>
                    </a:lnTo>
                    <a:lnTo>
                      <a:pt x="29" y="963"/>
                    </a:lnTo>
                    <a:cubicBezTo>
                      <a:pt x="29" y="963"/>
                      <a:pt x="10" y="952"/>
                      <a:pt x="0" y="935"/>
                    </a:cubicBezTo>
                    <a:cubicBezTo>
                      <a:pt x="0" y="921"/>
                      <a:pt x="0" y="907"/>
                      <a:pt x="0" y="907"/>
                    </a:cubicBezTo>
                    <a:lnTo>
                      <a:pt x="511" y="28"/>
                    </a:lnTo>
                    <a:cubicBezTo>
                      <a:pt x="511" y="28"/>
                      <a:pt x="519" y="1"/>
                      <a:pt x="539" y="0"/>
                    </a:cubicBezTo>
                    <a:cubicBezTo>
                      <a:pt x="562" y="0"/>
                      <a:pt x="567" y="28"/>
                      <a:pt x="567" y="28"/>
                    </a:cubicBezTo>
                    <a:lnTo>
                      <a:pt x="1078" y="907"/>
                    </a:lnTo>
                    <a:cubicBezTo>
                      <a:pt x="1078" y="907"/>
                      <a:pt x="1078" y="921"/>
                      <a:pt x="1078" y="935"/>
                    </a:cubicBezTo>
                    <a:cubicBezTo>
                      <a:pt x="1068" y="955"/>
                      <a:pt x="1049" y="963"/>
                      <a:pt x="1049" y="963"/>
                    </a:cubicBezTo>
                    <a:lnTo>
                      <a:pt x="539" y="963"/>
                    </a:lnTo>
                    <a:lnTo>
                      <a:pt x="539" y="935"/>
                    </a:lnTo>
                    <a:lnTo>
                      <a:pt x="1024" y="936"/>
                    </a:lnTo>
                    <a:lnTo>
                      <a:pt x="1044" y="930"/>
                    </a:lnTo>
                    <a:lnTo>
                      <a:pt x="1048" y="918"/>
                    </a:lnTo>
                    <a:lnTo>
                      <a:pt x="1044" y="907"/>
                    </a:lnTo>
                    <a:lnTo>
                      <a:pt x="550" y="49"/>
                    </a:lnTo>
                    <a:cubicBezTo>
                      <a:pt x="550" y="49"/>
                      <a:pt x="547" y="40"/>
                      <a:pt x="538" y="37"/>
                    </a:cubicBezTo>
                    <a:cubicBezTo>
                      <a:pt x="526" y="42"/>
                      <a:pt x="526" y="52"/>
                      <a:pt x="526" y="52"/>
                    </a:cubicBezTo>
                    <a:lnTo>
                      <a:pt x="40" y="900"/>
                    </a:lnTo>
                    <a:lnTo>
                      <a:pt x="34" y="910"/>
                    </a:lnTo>
                    <a:lnTo>
                      <a:pt x="34" y="925"/>
                    </a:lnTo>
                    <a:lnTo>
                      <a:pt x="49" y="9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2714760" y="773280"/>
              <a:ext cx="585720" cy="855360"/>
              <a:chOff x="2714760" y="773280"/>
              <a:chExt cx="585720" cy="855360"/>
            </a:xfrm>
          </p:grpSpPr>
          <p:sp>
            <p:nvSpPr>
              <p:cNvPr id="300" name=""/>
              <p:cNvSpPr/>
              <p:nvPr/>
            </p:nvSpPr>
            <p:spPr>
              <a:xfrm>
                <a:off x="2838240" y="773280"/>
                <a:ext cx="183960" cy="784800"/>
              </a:xfrm>
              <a:custGeom>
                <a:avLst/>
                <a:gdLst/>
                <a:ahLst/>
                <a:rect l="l" t="t" r="r" b="b"/>
                <a:pathLst>
                  <a:path w="303" h="1418">
                    <a:moveTo>
                      <a:pt x="222" y="71"/>
                    </a:moveTo>
                    <a:cubicBezTo>
                      <a:pt x="179" y="142"/>
                      <a:pt x="24" y="355"/>
                      <a:pt x="24" y="497"/>
                    </a:cubicBezTo>
                    <a:cubicBezTo>
                      <a:pt x="24" y="639"/>
                      <a:pt x="222" y="780"/>
                      <a:pt x="222" y="922"/>
                    </a:cubicBezTo>
                    <a:cubicBezTo>
                      <a:pt x="222" y="1064"/>
                      <a:pt x="48" y="1276"/>
                      <a:pt x="24" y="1347"/>
                    </a:cubicBezTo>
                    <a:cubicBezTo>
                      <a:pt x="0" y="1418"/>
                      <a:pt x="37" y="1418"/>
                      <a:pt x="80" y="1347"/>
                    </a:cubicBezTo>
                    <a:cubicBezTo>
                      <a:pt x="123" y="1276"/>
                      <a:pt x="279" y="1064"/>
                      <a:pt x="279" y="922"/>
                    </a:cubicBezTo>
                    <a:cubicBezTo>
                      <a:pt x="279" y="780"/>
                      <a:pt x="80" y="639"/>
                      <a:pt x="80" y="497"/>
                    </a:cubicBezTo>
                    <a:cubicBezTo>
                      <a:pt x="80" y="355"/>
                      <a:pt x="255" y="142"/>
                      <a:pt x="279" y="71"/>
                    </a:cubicBezTo>
                    <a:cubicBezTo>
                      <a:pt x="303" y="0"/>
                      <a:pt x="265" y="0"/>
                      <a:pt x="222" y="7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955960" y="781560"/>
                <a:ext cx="183960" cy="784800"/>
              </a:xfrm>
              <a:custGeom>
                <a:avLst/>
                <a:gdLst/>
                <a:ahLst/>
                <a:rect l="l" t="t" r="r" b="b"/>
                <a:pathLst>
                  <a:path w="303" h="1418">
                    <a:moveTo>
                      <a:pt x="222" y="71"/>
                    </a:moveTo>
                    <a:cubicBezTo>
                      <a:pt x="179" y="142"/>
                      <a:pt x="24" y="355"/>
                      <a:pt x="24" y="497"/>
                    </a:cubicBezTo>
                    <a:cubicBezTo>
                      <a:pt x="24" y="639"/>
                      <a:pt x="222" y="780"/>
                      <a:pt x="222" y="922"/>
                    </a:cubicBezTo>
                    <a:cubicBezTo>
                      <a:pt x="222" y="1064"/>
                      <a:pt x="48" y="1276"/>
                      <a:pt x="24" y="1347"/>
                    </a:cubicBezTo>
                    <a:cubicBezTo>
                      <a:pt x="0" y="1418"/>
                      <a:pt x="37" y="1418"/>
                      <a:pt x="80" y="1347"/>
                    </a:cubicBezTo>
                    <a:cubicBezTo>
                      <a:pt x="123" y="1276"/>
                      <a:pt x="279" y="1064"/>
                      <a:pt x="279" y="922"/>
                    </a:cubicBezTo>
                    <a:cubicBezTo>
                      <a:pt x="279" y="780"/>
                      <a:pt x="80" y="639"/>
                      <a:pt x="80" y="497"/>
                    </a:cubicBezTo>
                    <a:cubicBezTo>
                      <a:pt x="80" y="355"/>
                      <a:pt x="255" y="142"/>
                      <a:pt x="279" y="71"/>
                    </a:cubicBezTo>
                    <a:cubicBezTo>
                      <a:pt x="303" y="0"/>
                      <a:pt x="265" y="0"/>
                      <a:pt x="222" y="7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076200" y="781560"/>
                <a:ext cx="183960" cy="784800"/>
              </a:xfrm>
              <a:custGeom>
                <a:avLst/>
                <a:gdLst/>
                <a:ahLst/>
                <a:rect l="l" t="t" r="r" b="b"/>
                <a:pathLst>
                  <a:path w="303" h="1418">
                    <a:moveTo>
                      <a:pt x="222" y="71"/>
                    </a:moveTo>
                    <a:cubicBezTo>
                      <a:pt x="179" y="142"/>
                      <a:pt x="24" y="355"/>
                      <a:pt x="24" y="497"/>
                    </a:cubicBezTo>
                    <a:cubicBezTo>
                      <a:pt x="24" y="639"/>
                      <a:pt x="222" y="780"/>
                      <a:pt x="222" y="922"/>
                    </a:cubicBezTo>
                    <a:cubicBezTo>
                      <a:pt x="222" y="1064"/>
                      <a:pt x="48" y="1276"/>
                      <a:pt x="24" y="1347"/>
                    </a:cubicBezTo>
                    <a:cubicBezTo>
                      <a:pt x="0" y="1418"/>
                      <a:pt x="37" y="1418"/>
                      <a:pt x="80" y="1347"/>
                    </a:cubicBezTo>
                    <a:cubicBezTo>
                      <a:pt x="123" y="1276"/>
                      <a:pt x="279" y="1064"/>
                      <a:pt x="279" y="922"/>
                    </a:cubicBezTo>
                    <a:cubicBezTo>
                      <a:pt x="279" y="780"/>
                      <a:pt x="80" y="639"/>
                      <a:pt x="80" y="497"/>
                    </a:cubicBezTo>
                    <a:cubicBezTo>
                      <a:pt x="80" y="355"/>
                      <a:pt x="255" y="142"/>
                      <a:pt x="279" y="71"/>
                    </a:cubicBezTo>
                    <a:cubicBezTo>
                      <a:pt x="303" y="0"/>
                      <a:pt x="265" y="0"/>
                      <a:pt x="222" y="7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714760" y="1597320"/>
                <a:ext cx="58572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4" name=""/>
          <p:cNvGrpSpPr/>
          <p:nvPr/>
        </p:nvGrpSpPr>
        <p:grpSpPr>
          <a:xfrm>
            <a:off x="330120" y="277920"/>
            <a:ext cx="1711440" cy="1528560"/>
            <a:chOff x="330120" y="277920"/>
            <a:chExt cx="1711440" cy="1528560"/>
          </a:xfrm>
        </p:grpSpPr>
        <p:grpSp>
          <p:nvGrpSpPr>
            <p:cNvPr id="305" name=""/>
            <p:cNvGrpSpPr/>
            <p:nvPr/>
          </p:nvGrpSpPr>
          <p:grpSpPr>
            <a:xfrm>
              <a:off x="330120" y="277920"/>
              <a:ext cx="1711440" cy="1528560"/>
              <a:chOff x="330120" y="277920"/>
              <a:chExt cx="1711440" cy="1528560"/>
            </a:xfrm>
          </p:grpSpPr>
          <p:sp>
            <p:nvSpPr>
              <p:cNvPr id="306" name=""/>
              <p:cNvSpPr/>
              <p:nvPr/>
            </p:nvSpPr>
            <p:spPr>
              <a:xfrm>
                <a:off x="351000" y="297000"/>
                <a:ext cx="1670040" cy="149040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0120" y="277920"/>
                <a:ext cx="1711440" cy="15285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49" y="936"/>
                    </a:moveTo>
                    <a:lnTo>
                      <a:pt x="539" y="935"/>
                    </a:lnTo>
                    <a:lnTo>
                      <a:pt x="539" y="963"/>
                    </a:lnTo>
                    <a:lnTo>
                      <a:pt x="29" y="963"/>
                    </a:lnTo>
                    <a:cubicBezTo>
                      <a:pt x="29" y="963"/>
                      <a:pt x="10" y="952"/>
                      <a:pt x="0" y="935"/>
                    </a:cubicBezTo>
                    <a:cubicBezTo>
                      <a:pt x="0" y="921"/>
                      <a:pt x="0" y="907"/>
                      <a:pt x="0" y="907"/>
                    </a:cubicBezTo>
                    <a:lnTo>
                      <a:pt x="511" y="28"/>
                    </a:lnTo>
                    <a:cubicBezTo>
                      <a:pt x="511" y="28"/>
                      <a:pt x="519" y="1"/>
                      <a:pt x="539" y="0"/>
                    </a:cubicBezTo>
                    <a:cubicBezTo>
                      <a:pt x="562" y="0"/>
                      <a:pt x="567" y="28"/>
                      <a:pt x="567" y="28"/>
                    </a:cubicBezTo>
                    <a:lnTo>
                      <a:pt x="1078" y="907"/>
                    </a:lnTo>
                    <a:cubicBezTo>
                      <a:pt x="1078" y="907"/>
                      <a:pt x="1078" y="921"/>
                      <a:pt x="1078" y="935"/>
                    </a:cubicBezTo>
                    <a:cubicBezTo>
                      <a:pt x="1068" y="955"/>
                      <a:pt x="1049" y="963"/>
                      <a:pt x="1049" y="963"/>
                    </a:cubicBezTo>
                    <a:lnTo>
                      <a:pt x="539" y="963"/>
                    </a:lnTo>
                    <a:lnTo>
                      <a:pt x="539" y="935"/>
                    </a:lnTo>
                    <a:lnTo>
                      <a:pt x="1024" y="936"/>
                    </a:lnTo>
                    <a:lnTo>
                      <a:pt x="1044" y="930"/>
                    </a:lnTo>
                    <a:lnTo>
                      <a:pt x="1048" y="918"/>
                    </a:lnTo>
                    <a:lnTo>
                      <a:pt x="1044" y="907"/>
                    </a:lnTo>
                    <a:lnTo>
                      <a:pt x="550" y="49"/>
                    </a:lnTo>
                    <a:cubicBezTo>
                      <a:pt x="550" y="49"/>
                      <a:pt x="547" y="40"/>
                      <a:pt x="538" y="37"/>
                    </a:cubicBezTo>
                    <a:cubicBezTo>
                      <a:pt x="526" y="42"/>
                      <a:pt x="526" y="52"/>
                      <a:pt x="526" y="52"/>
                    </a:cubicBezTo>
                    <a:lnTo>
                      <a:pt x="40" y="900"/>
                    </a:lnTo>
                    <a:lnTo>
                      <a:pt x="34" y="910"/>
                    </a:lnTo>
                    <a:lnTo>
                      <a:pt x="34" y="925"/>
                    </a:lnTo>
                    <a:lnTo>
                      <a:pt x="49" y="9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808200" y="773280"/>
              <a:ext cx="585720" cy="855360"/>
              <a:chOff x="808200" y="773280"/>
              <a:chExt cx="585720" cy="855360"/>
            </a:xfrm>
          </p:grpSpPr>
          <p:sp>
            <p:nvSpPr>
              <p:cNvPr id="309" name=""/>
              <p:cNvSpPr/>
              <p:nvPr/>
            </p:nvSpPr>
            <p:spPr>
              <a:xfrm>
                <a:off x="931680" y="773280"/>
                <a:ext cx="183960" cy="784800"/>
              </a:xfrm>
              <a:custGeom>
                <a:avLst/>
                <a:gdLst/>
                <a:ahLst/>
                <a:rect l="l" t="t" r="r" b="b"/>
                <a:pathLst>
                  <a:path w="303" h="1418">
                    <a:moveTo>
                      <a:pt x="222" y="71"/>
                    </a:moveTo>
                    <a:cubicBezTo>
                      <a:pt x="179" y="142"/>
                      <a:pt x="24" y="355"/>
                      <a:pt x="24" y="497"/>
                    </a:cubicBezTo>
                    <a:cubicBezTo>
                      <a:pt x="24" y="639"/>
                      <a:pt x="222" y="780"/>
                      <a:pt x="222" y="922"/>
                    </a:cubicBezTo>
                    <a:cubicBezTo>
                      <a:pt x="222" y="1064"/>
                      <a:pt x="48" y="1276"/>
                      <a:pt x="24" y="1347"/>
                    </a:cubicBezTo>
                    <a:cubicBezTo>
                      <a:pt x="0" y="1418"/>
                      <a:pt x="37" y="1418"/>
                      <a:pt x="80" y="1347"/>
                    </a:cubicBezTo>
                    <a:cubicBezTo>
                      <a:pt x="123" y="1276"/>
                      <a:pt x="279" y="1064"/>
                      <a:pt x="279" y="922"/>
                    </a:cubicBezTo>
                    <a:cubicBezTo>
                      <a:pt x="279" y="780"/>
                      <a:pt x="80" y="639"/>
                      <a:pt x="80" y="497"/>
                    </a:cubicBezTo>
                    <a:cubicBezTo>
                      <a:pt x="80" y="355"/>
                      <a:pt x="255" y="142"/>
                      <a:pt x="279" y="71"/>
                    </a:cubicBezTo>
                    <a:cubicBezTo>
                      <a:pt x="303" y="0"/>
                      <a:pt x="265" y="0"/>
                      <a:pt x="222" y="7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049400" y="781560"/>
                <a:ext cx="183960" cy="784800"/>
              </a:xfrm>
              <a:custGeom>
                <a:avLst/>
                <a:gdLst/>
                <a:ahLst/>
                <a:rect l="l" t="t" r="r" b="b"/>
                <a:pathLst>
                  <a:path w="303" h="1418">
                    <a:moveTo>
                      <a:pt x="222" y="71"/>
                    </a:moveTo>
                    <a:cubicBezTo>
                      <a:pt x="179" y="142"/>
                      <a:pt x="24" y="355"/>
                      <a:pt x="24" y="497"/>
                    </a:cubicBezTo>
                    <a:cubicBezTo>
                      <a:pt x="24" y="639"/>
                      <a:pt x="222" y="780"/>
                      <a:pt x="222" y="922"/>
                    </a:cubicBezTo>
                    <a:cubicBezTo>
                      <a:pt x="222" y="1064"/>
                      <a:pt x="48" y="1276"/>
                      <a:pt x="24" y="1347"/>
                    </a:cubicBezTo>
                    <a:cubicBezTo>
                      <a:pt x="0" y="1418"/>
                      <a:pt x="37" y="1418"/>
                      <a:pt x="80" y="1347"/>
                    </a:cubicBezTo>
                    <a:cubicBezTo>
                      <a:pt x="123" y="1276"/>
                      <a:pt x="279" y="1064"/>
                      <a:pt x="279" y="922"/>
                    </a:cubicBezTo>
                    <a:cubicBezTo>
                      <a:pt x="279" y="780"/>
                      <a:pt x="80" y="639"/>
                      <a:pt x="80" y="497"/>
                    </a:cubicBezTo>
                    <a:cubicBezTo>
                      <a:pt x="80" y="355"/>
                      <a:pt x="255" y="142"/>
                      <a:pt x="279" y="71"/>
                    </a:cubicBezTo>
                    <a:cubicBezTo>
                      <a:pt x="303" y="0"/>
                      <a:pt x="265" y="0"/>
                      <a:pt x="222" y="7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169640" y="781560"/>
                <a:ext cx="183960" cy="784800"/>
              </a:xfrm>
              <a:custGeom>
                <a:avLst/>
                <a:gdLst/>
                <a:ahLst/>
                <a:rect l="l" t="t" r="r" b="b"/>
                <a:pathLst>
                  <a:path w="303" h="1418">
                    <a:moveTo>
                      <a:pt x="222" y="71"/>
                    </a:moveTo>
                    <a:cubicBezTo>
                      <a:pt x="179" y="142"/>
                      <a:pt x="24" y="355"/>
                      <a:pt x="24" y="497"/>
                    </a:cubicBezTo>
                    <a:cubicBezTo>
                      <a:pt x="24" y="639"/>
                      <a:pt x="222" y="780"/>
                      <a:pt x="222" y="922"/>
                    </a:cubicBezTo>
                    <a:cubicBezTo>
                      <a:pt x="222" y="1064"/>
                      <a:pt x="48" y="1276"/>
                      <a:pt x="24" y="1347"/>
                    </a:cubicBezTo>
                    <a:cubicBezTo>
                      <a:pt x="0" y="1418"/>
                      <a:pt x="37" y="1418"/>
                      <a:pt x="80" y="1347"/>
                    </a:cubicBezTo>
                    <a:cubicBezTo>
                      <a:pt x="123" y="1276"/>
                      <a:pt x="279" y="1064"/>
                      <a:pt x="279" y="922"/>
                    </a:cubicBezTo>
                    <a:cubicBezTo>
                      <a:pt x="279" y="780"/>
                      <a:pt x="80" y="639"/>
                      <a:pt x="80" y="497"/>
                    </a:cubicBezTo>
                    <a:cubicBezTo>
                      <a:pt x="80" y="355"/>
                      <a:pt x="255" y="142"/>
                      <a:pt x="279" y="71"/>
                    </a:cubicBezTo>
                    <a:cubicBezTo>
                      <a:pt x="303" y="0"/>
                      <a:pt x="265" y="0"/>
                      <a:pt x="222" y="7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08200" y="1597320"/>
                <a:ext cx="58572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3" name=""/>
          <p:cNvGrpSpPr/>
          <p:nvPr/>
        </p:nvGrpSpPr>
        <p:grpSpPr>
          <a:xfrm>
            <a:off x="4098960" y="1865160"/>
            <a:ext cx="1738440" cy="1538280"/>
            <a:chOff x="4098960" y="1865160"/>
            <a:chExt cx="1738440" cy="1538280"/>
          </a:xfrm>
        </p:grpSpPr>
        <p:grpSp>
          <p:nvGrpSpPr>
            <p:cNvPr id="314" name=""/>
            <p:cNvGrpSpPr/>
            <p:nvPr/>
          </p:nvGrpSpPr>
          <p:grpSpPr>
            <a:xfrm>
              <a:off x="4098960" y="1865160"/>
              <a:ext cx="1738440" cy="1538280"/>
              <a:chOff x="4098960" y="1865160"/>
              <a:chExt cx="1738440" cy="1538280"/>
            </a:xfrm>
          </p:grpSpPr>
          <p:sp>
            <p:nvSpPr>
              <p:cNvPr id="315" name=""/>
              <p:cNvSpPr/>
              <p:nvPr/>
            </p:nvSpPr>
            <p:spPr>
              <a:xfrm>
                <a:off x="4132440" y="1889280"/>
                <a:ext cx="1670040" cy="149040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098960" y="1865160"/>
                <a:ext cx="1738440" cy="1538280"/>
              </a:xfrm>
              <a:custGeom>
                <a:avLst/>
                <a:gdLst/>
                <a:ahLst/>
                <a:rect l="l" t="t" r="r" b="b"/>
                <a:pathLst>
                  <a:path w="1095" h="969">
                    <a:moveTo>
                      <a:pt x="519" y="91"/>
                    </a:moveTo>
                    <a:cubicBezTo>
                      <a:pt x="519" y="91"/>
                      <a:pt x="529" y="64"/>
                      <a:pt x="547" y="62"/>
                    </a:cubicBezTo>
                    <a:cubicBezTo>
                      <a:pt x="564" y="61"/>
                      <a:pt x="575" y="91"/>
                      <a:pt x="575" y="91"/>
                    </a:cubicBezTo>
                    <a:lnTo>
                      <a:pt x="1029" y="913"/>
                    </a:lnTo>
                    <a:lnTo>
                      <a:pt x="547" y="913"/>
                    </a:lnTo>
                    <a:lnTo>
                      <a:pt x="547" y="969"/>
                    </a:lnTo>
                    <a:lnTo>
                      <a:pt x="1057" y="969"/>
                    </a:lnTo>
                    <a:cubicBezTo>
                      <a:pt x="1057" y="969"/>
                      <a:pt x="1075" y="956"/>
                      <a:pt x="1086" y="941"/>
                    </a:cubicBezTo>
                    <a:cubicBezTo>
                      <a:pt x="1095" y="929"/>
                      <a:pt x="1086" y="913"/>
                      <a:pt x="1086" y="913"/>
                    </a:cubicBezTo>
                    <a:lnTo>
                      <a:pt x="604" y="34"/>
                    </a:lnTo>
                    <a:cubicBezTo>
                      <a:pt x="604" y="34"/>
                      <a:pt x="585" y="11"/>
                      <a:pt x="575" y="6"/>
                    </a:cubicBezTo>
                    <a:cubicBezTo>
                      <a:pt x="565" y="1"/>
                      <a:pt x="553" y="1"/>
                      <a:pt x="544" y="1"/>
                    </a:cubicBezTo>
                    <a:cubicBezTo>
                      <a:pt x="535" y="1"/>
                      <a:pt x="528" y="0"/>
                      <a:pt x="519" y="6"/>
                    </a:cubicBezTo>
                    <a:cubicBezTo>
                      <a:pt x="496" y="17"/>
                      <a:pt x="490" y="34"/>
                      <a:pt x="490" y="34"/>
                    </a:cubicBezTo>
                    <a:lnTo>
                      <a:pt x="8" y="913"/>
                    </a:lnTo>
                    <a:cubicBezTo>
                      <a:pt x="8" y="913"/>
                      <a:pt x="0" y="928"/>
                      <a:pt x="8" y="941"/>
                    </a:cubicBezTo>
                    <a:cubicBezTo>
                      <a:pt x="19" y="962"/>
                      <a:pt x="37" y="969"/>
                      <a:pt x="37" y="969"/>
                    </a:cubicBezTo>
                    <a:cubicBezTo>
                      <a:pt x="292" y="969"/>
                      <a:pt x="547" y="969"/>
                      <a:pt x="547" y="969"/>
                    </a:cubicBezTo>
                    <a:lnTo>
                      <a:pt x="547" y="913"/>
                    </a:lnTo>
                    <a:lnTo>
                      <a:pt x="65" y="913"/>
                    </a:lnTo>
                    <a:lnTo>
                      <a:pt x="519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4592520" y="2359080"/>
              <a:ext cx="586080" cy="855720"/>
              <a:chOff x="4592520" y="2359080"/>
              <a:chExt cx="586080" cy="855720"/>
            </a:xfrm>
          </p:grpSpPr>
          <p:sp>
            <p:nvSpPr>
              <p:cNvPr id="318" name=""/>
              <p:cNvSpPr/>
              <p:nvPr/>
            </p:nvSpPr>
            <p:spPr>
              <a:xfrm>
                <a:off x="4716000" y="2359080"/>
                <a:ext cx="183960" cy="784800"/>
              </a:xfrm>
              <a:custGeom>
                <a:avLst/>
                <a:gdLst/>
                <a:ahLst/>
                <a:rect l="l" t="t" r="r" b="b"/>
                <a:pathLst>
                  <a:path w="303" h="1418">
                    <a:moveTo>
                      <a:pt x="222" y="71"/>
                    </a:moveTo>
                    <a:cubicBezTo>
                      <a:pt x="179" y="142"/>
                      <a:pt x="24" y="355"/>
                      <a:pt x="24" y="497"/>
                    </a:cubicBezTo>
                    <a:cubicBezTo>
                      <a:pt x="24" y="639"/>
                      <a:pt x="222" y="780"/>
                      <a:pt x="222" y="922"/>
                    </a:cubicBezTo>
                    <a:cubicBezTo>
                      <a:pt x="222" y="1064"/>
                      <a:pt x="48" y="1276"/>
                      <a:pt x="24" y="1347"/>
                    </a:cubicBezTo>
                    <a:cubicBezTo>
                      <a:pt x="0" y="1418"/>
                      <a:pt x="37" y="1418"/>
                      <a:pt x="80" y="1347"/>
                    </a:cubicBezTo>
                    <a:cubicBezTo>
                      <a:pt x="123" y="1276"/>
                      <a:pt x="279" y="1064"/>
                      <a:pt x="279" y="922"/>
                    </a:cubicBezTo>
                    <a:cubicBezTo>
                      <a:pt x="279" y="780"/>
                      <a:pt x="80" y="639"/>
                      <a:pt x="80" y="497"/>
                    </a:cubicBezTo>
                    <a:cubicBezTo>
                      <a:pt x="80" y="355"/>
                      <a:pt x="255" y="142"/>
                      <a:pt x="279" y="71"/>
                    </a:cubicBezTo>
                    <a:cubicBezTo>
                      <a:pt x="303" y="0"/>
                      <a:pt x="265" y="0"/>
                      <a:pt x="222" y="7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833720" y="2367360"/>
                <a:ext cx="183960" cy="784800"/>
              </a:xfrm>
              <a:custGeom>
                <a:avLst/>
                <a:gdLst/>
                <a:ahLst/>
                <a:rect l="l" t="t" r="r" b="b"/>
                <a:pathLst>
                  <a:path w="303" h="1418">
                    <a:moveTo>
                      <a:pt x="222" y="71"/>
                    </a:moveTo>
                    <a:cubicBezTo>
                      <a:pt x="179" y="142"/>
                      <a:pt x="24" y="355"/>
                      <a:pt x="24" y="497"/>
                    </a:cubicBezTo>
                    <a:cubicBezTo>
                      <a:pt x="24" y="639"/>
                      <a:pt x="222" y="780"/>
                      <a:pt x="222" y="922"/>
                    </a:cubicBezTo>
                    <a:cubicBezTo>
                      <a:pt x="222" y="1064"/>
                      <a:pt x="48" y="1276"/>
                      <a:pt x="24" y="1347"/>
                    </a:cubicBezTo>
                    <a:cubicBezTo>
                      <a:pt x="0" y="1418"/>
                      <a:pt x="37" y="1418"/>
                      <a:pt x="80" y="1347"/>
                    </a:cubicBezTo>
                    <a:cubicBezTo>
                      <a:pt x="123" y="1276"/>
                      <a:pt x="279" y="1064"/>
                      <a:pt x="279" y="922"/>
                    </a:cubicBezTo>
                    <a:cubicBezTo>
                      <a:pt x="279" y="780"/>
                      <a:pt x="80" y="639"/>
                      <a:pt x="80" y="497"/>
                    </a:cubicBezTo>
                    <a:cubicBezTo>
                      <a:pt x="80" y="355"/>
                      <a:pt x="255" y="142"/>
                      <a:pt x="279" y="71"/>
                    </a:cubicBezTo>
                    <a:cubicBezTo>
                      <a:pt x="303" y="0"/>
                      <a:pt x="265" y="0"/>
                      <a:pt x="222" y="7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54320" y="2367360"/>
                <a:ext cx="183960" cy="784800"/>
              </a:xfrm>
              <a:custGeom>
                <a:avLst/>
                <a:gdLst/>
                <a:ahLst/>
                <a:rect l="l" t="t" r="r" b="b"/>
                <a:pathLst>
                  <a:path w="303" h="1418">
                    <a:moveTo>
                      <a:pt x="222" y="71"/>
                    </a:moveTo>
                    <a:cubicBezTo>
                      <a:pt x="179" y="142"/>
                      <a:pt x="24" y="355"/>
                      <a:pt x="24" y="497"/>
                    </a:cubicBezTo>
                    <a:cubicBezTo>
                      <a:pt x="24" y="639"/>
                      <a:pt x="222" y="780"/>
                      <a:pt x="222" y="922"/>
                    </a:cubicBezTo>
                    <a:cubicBezTo>
                      <a:pt x="222" y="1064"/>
                      <a:pt x="48" y="1276"/>
                      <a:pt x="24" y="1347"/>
                    </a:cubicBezTo>
                    <a:cubicBezTo>
                      <a:pt x="0" y="1418"/>
                      <a:pt x="37" y="1418"/>
                      <a:pt x="80" y="1347"/>
                    </a:cubicBezTo>
                    <a:cubicBezTo>
                      <a:pt x="123" y="1276"/>
                      <a:pt x="279" y="1064"/>
                      <a:pt x="279" y="922"/>
                    </a:cubicBezTo>
                    <a:cubicBezTo>
                      <a:pt x="279" y="780"/>
                      <a:pt x="80" y="639"/>
                      <a:pt x="80" y="497"/>
                    </a:cubicBezTo>
                    <a:cubicBezTo>
                      <a:pt x="80" y="355"/>
                      <a:pt x="255" y="142"/>
                      <a:pt x="279" y="71"/>
                    </a:cubicBezTo>
                    <a:cubicBezTo>
                      <a:pt x="303" y="0"/>
                      <a:pt x="265" y="0"/>
                      <a:pt x="222" y="7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592520" y="3183480"/>
                <a:ext cx="58608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2" name=""/>
          <p:cNvGrpSpPr/>
          <p:nvPr/>
        </p:nvGrpSpPr>
        <p:grpSpPr>
          <a:xfrm>
            <a:off x="5964120" y="1847880"/>
            <a:ext cx="1738440" cy="1538280"/>
            <a:chOff x="5964120" y="1847880"/>
            <a:chExt cx="1738440" cy="1538280"/>
          </a:xfrm>
        </p:grpSpPr>
        <p:grpSp>
          <p:nvGrpSpPr>
            <p:cNvPr id="323" name=""/>
            <p:cNvGrpSpPr/>
            <p:nvPr/>
          </p:nvGrpSpPr>
          <p:grpSpPr>
            <a:xfrm>
              <a:off x="5964120" y="1847880"/>
              <a:ext cx="1738440" cy="1538280"/>
              <a:chOff x="5964120" y="1847880"/>
              <a:chExt cx="1738440" cy="1538280"/>
            </a:xfrm>
          </p:grpSpPr>
          <p:sp>
            <p:nvSpPr>
              <p:cNvPr id="324" name=""/>
              <p:cNvSpPr/>
              <p:nvPr/>
            </p:nvSpPr>
            <p:spPr>
              <a:xfrm>
                <a:off x="5997600" y="187164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964120" y="1847880"/>
                <a:ext cx="1738440" cy="1538280"/>
              </a:xfrm>
              <a:custGeom>
                <a:avLst/>
                <a:gdLst/>
                <a:ahLst/>
                <a:rect l="l" t="t" r="r" b="b"/>
                <a:pathLst>
                  <a:path w="1095" h="969">
                    <a:moveTo>
                      <a:pt x="519" y="91"/>
                    </a:moveTo>
                    <a:cubicBezTo>
                      <a:pt x="519" y="91"/>
                      <a:pt x="529" y="64"/>
                      <a:pt x="547" y="62"/>
                    </a:cubicBezTo>
                    <a:cubicBezTo>
                      <a:pt x="564" y="61"/>
                      <a:pt x="575" y="91"/>
                      <a:pt x="575" y="91"/>
                    </a:cubicBezTo>
                    <a:lnTo>
                      <a:pt x="1029" y="913"/>
                    </a:lnTo>
                    <a:lnTo>
                      <a:pt x="547" y="913"/>
                    </a:lnTo>
                    <a:lnTo>
                      <a:pt x="547" y="969"/>
                    </a:lnTo>
                    <a:lnTo>
                      <a:pt x="1057" y="969"/>
                    </a:lnTo>
                    <a:cubicBezTo>
                      <a:pt x="1057" y="969"/>
                      <a:pt x="1075" y="956"/>
                      <a:pt x="1086" y="941"/>
                    </a:cubicBezTo>
                    <a:cubicBezTo>
                      <a:pt x="1095" y="929"/>
                      <a:pt x="1086" y="913"/>
                      <a:pt x="1086" y="913"/>
                    </a:cubicBezTo>
                    <a:lnTo>
                      <a:pt x="604" y="34"/>
                    </a:lnTo>
                    <a:cubicBezTo>
                      <a:pt x="604" y="34"/>
                      <a:pt x="585" y="11"/>
                      <a:pt x="575" y="6"/>
                    </a:cubicBezTo>
                    <a:cubicBezTo>
                      <a:pt x="565" y="1"/>
                      <a:pt x="553" y="1"/>
                      <a:pt x="544" y="1"/>
                    </a:cubicBezTo>
                    <a:cubicBezTo>
                      <a:pt x="535" y="1"/>
                      <a:pt x="528" y="0"/>
                      <a:pt x="519" y="6"/>
                    </a:cubicBezTo>
                    <a:cubicBezTo>
                      <a:pt x="496" y="17"/>
                      <a:pt x="490" y="34"/>
                      <a:pt x="490" y="34"/>
                    </a:cubicBezTo>
                    <a:lnTo>
                      <a:pt x="8" y="913"/>
                    </a:lnTo>
                    <a:cubicBezTo>
                      <a:pt x="8" y="913"/>
                      <a:pt x="0" y="928"/>
                      <a:pt x="8" y="941"/>
                    </a:cubicBezTo>
                    <a:cubicBezTo>
                      <a:pt x="19" y="962"/>
                      <a:pt x="37" y="969"/>
                      <a:pt x="37" y="969"/>
                    </a:cubicBezTo>
                    <a:cubicBezTo>
                      <a:pt x="292" y="969"/>
                      <a:pt x="547" y="969"/>
                      <a:pt x="547" y="969"/>
                    </a:cubicBezTo>
                    <a:lnTo>
                      <a:pt x="547" y="913"/>
                    </a:lnTo>
                    <a:lnTo>
                      <a:pt x="65" y="913"/>
                    </a:lnTo>
                    <a:lnTo>
                      <a:pt x="519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461280" y="2359080"/>
              <a:ext cx="585720" cy="855720"/>
              <a:chOff x="6461280" y="2359080"/>
              <a:chExt cx="585720" cy="855720"/>
            </a:xfrm>
          </p:grpSpPr>
          <p:sp>
            <p:nvSpPr>
              <p:cNvPr id="327" name=""/>
              <p:cNvSpPr/>
              <p:nvPr/>
            </p:nvSpPr>
            <p:spPr>
              <a:xfrm>
                <a:off x="6584760" y="2359080"/>
                <a:ext cx="183960" cy="784800"/>
              </a:xfrm>
              <a:custGeom>
                <a:avLst/>
                <a:gdLst/>
                <a:ahLst/>
                <a:rect l="l" t="t" r="r" b="b"/>
                <a:pathLst>
                  <a:path w="303" h="1418">
                    <a:moveTo>
                      <a:pt x="222" y="71"/>
                    </a:moveTo>
                    <a:cubicBezTo>
                      <a:pt x="179" y="142"/>
                      <a:pt x="24" y="355"/>
                      <a:pt x="24" y="497"/>
                    </a:cubicBezTo>
                    <a:cubicBezTo>
                      <a:pt x="24" y="639"/>
                      <a:pt x="222" y="780"/>
                      <a:pt x="222" y="922"/>
                    </a:cubicBezTo>
                    <a:cubicBezTo>
                      <a:pt x="222" y="1064"/>
                      <a:pt x="48" y="1276"/>
                      <a:pt x="24" y="1347"/>
                    </a:cubicBezTo>
                    <a:cubicBezTo>
                      <a:pt x="0" y="1418"/>
                      <a:pt x="37" y="1418"/>
                      <a:pt x="80" y="1347"/>
                    </a:cubicBezTo>
                    <a:cubicBezTo>
                      <a:pt x="123" y="1276"/>
                      <a:pt x="279" y="1064"/>
                      <a:pt x="279" y="922"/>
                    </a:cubicBezTo>
                    <a:cubicBezTo>
                      <a:pt x="279" y="780"/>
                      <a:pt x="80" y="639"/>
                      <a:pt x="80" y="497"/>
                    </a:cubicBezTo>
                    <a:cubicBezTo>
                      <a:pt x="80" y="355"/>
                      <a:pt x="255" y="142"/>
                      <a:pt x="279" y="71"/>
                    </a:cubicBezTo>
                    <a:cubicBezTo>
                      <a:pt x="303" y="0"/>
                      <a:pt x="265" y="0"/>
                      <a:pt x="222" y="7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02480" y="2367360"/>
                <a:ext cx="183960" cy="784800"/>
              </a:xfrm>
              <a:custGeom>
                <a:avLst/>
                <a:gdLst/>
                <a:ahLst/>
                <a:rect l="l" t="t" r="r" b="b"/>
                <a:pathLst>
                  <a:path w="303" h="1418">
                    <a:moveTo>
                      <a:pt x="222" y="71"/>
                    </a:moveTo>
                    <a:cubicBezTo>
                      <a:pt x="179" y="142"/>
                      <a:pt x="24" y="355"/>
                      <a:pt x="24" y="497"/>
                    </a:cubicBezTo>
                    <a:cubicBezTo>
                      <a:pt x="24" y="639"/>
                      <a:pt x="222" y="780"/>
                      <a:pt x="222" y="922"/>
                    </a:cubicBezTo>
                    <a:cubicBezTo>
                      <a:pt x="222" y="1064"/>
                      <a:pt x="48" y="1276"/>
                      <a:pt x="24" y="1347"/>
                    </a:cubicBezTo>
                    <a:cubicBezTo>
                      <a:pt x="0" y="1418"/>
                      <a:pt x="37" y="1418"/>
                      <a:pt x="80" y="1347"/>
                    </a:cubicBezTo>
                    <a:cubicBezTo>
                      <a:pt x="123" y="1276"/>
                      <a:pt x="279" y="1064"/>
                      <a:pt x="279" y="922"/>
                    </a:cubicBezTo>
                    <a:cubicBezTo>
                      <a:pt x="279" y="780"/>
                      <a:pt x="80" y="639"/>
                      <a:pt x="80" y="497"/>
                    </a:cubicBezTo>
                    <a:cubicBezTo>
                      <a:pt x="80" y="355"/>
                      <a:pt x="255" y="142"/>
                      <a:pt x="279" y="71"/>
                    </a:cubicBezTo>
                    <a:cubicBezTo>
                      <a:pt x="303" y="0"/>
                      <a:pt x="265" y="0"/>
                      <a:pt x="222" y="7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822720" y="2367360"/>
                <a:ext cx="183960" cy="784800"/>
              </a:xfrm>
              <a:custGeom>
                <a:avLst/>
                <a:gdLst/>
                <a:ahLst/>
                <a:rect l="l" t="t" r="r" b="b"/>
                <a:pathLst>
                  <a:path w="303" h="1418">
                    <a:moveTo>
                      <a:pt x="222" y="71"/>
                    </a:moveTo>
                    <a:cubicBezTo>
                      <a:pt x="179" y="142"/>
                      <a:pt x="24" y="355"/>
                      <a:pt x="24" y="497"/>
                    </a:cubicBezTo>
                    <a:cubicBezTo>
                      <a:pt x="24" y="639"/>
                      <a:pt x="222" y="780"/>
                      <a:pt x="222" y="922"/>
                    </a:cubicBezTo>
                    <a:cubicBezTo>
                      <a:pt x="222" y="1064"/>
                      <a:pt x="48" y="1276"/>
                      <a:pt x="24" y="1347"/>
                    </a:cubicBezTo>
                    <a:cubicBezTo>
                      <a:pt x="0" y="1418"/>
                      <a:pt x="37" y="1418"/>
                      <a:pt x="80" y="1347"/>
                    </a:cubicBezTo>
                    <a:cubicBezTo>
                      <a:pt x="123" y="1276"/>
                      <a:pt x="279" y="1064"/>
                      <a:pt x="279" y="922"/>
                    </a:cubicBezTo>
                    <a:cubicBezTo>
                      <a:pt x="279" y="780"/>
                      <a:pt x="80" y="639"/>
                      <a:pt x="80" y="497"/>
                    </a:cubicBezTo>
                    <a:cubicBezTo>
                      <a:pt x="80" y="355"/>
                      <a:pt x="255" y="142"/>
                      <a:pt x="279" y="71"/>
                    </a:cubicBezTo>
                    <a:cubicBezTo>
                      <a:pt x="303" y="0"/>
                      <a:pt x="265" y="0"/>
                      <a:pt x="222" y="7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461280" y="3183480"/>
                <a:ext cx="58572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1" name=""/>
          <p:cNvGrpSpPr/>
          <p:nvPr/>
        </p:nvGrpSpPr>
        <p:grpSpPr>
          <a:xfrm>
            <a:off x="7850160" y="1846440"/>
            <a:ext cx="1738440" cy="1538280"/>
            <a:chOff x="7850160" y="1846440"/>
            <a:chExt cx="1738440" cy="1538280"/>
          </a:xfrm>
        </p:grpSpPr>
        <p:grpSp>
          <p:nvGrpSpPr>
            <p:cNvPr id="332" name=""/>
            <p:cNvGrpSpPr/>
            <p:nvPr/>
          </p:nvGrpSpPr>
          <p:grpSpPr>
            <a:xfrm>
              <a:off x="7850160" y="1846440"/>
              <a:ext cx="1738440" cy="1538280"/>
              <a:chOff x="7850160" y="1846440"/>
              <a:chExt cx="1738440" cy="1538280"/>
            </a:xfrm>
          </p:grpSpPr>
          <p:sp>
            <p:nvSpPr>
              <p:cNvPr id="333" name=""/>
              <p:cNvSpPr/>
              <p:nvPr/>
            </p:nvSpPr>
            <p:spPr>
              <a:xfrm>
                <a:off x="7883640" y="1870200"/>
                <a:ext cx="1670040" cy="149040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850160" y="1846440"/>
                <a:ext cx="1738440" cy="1538280"/>
              </a:xfrm>
              <a:custGeom>
                <a:avLst/>
                <a:gdLst/>
                <a:ahLst/>
                <a:rect l="l" t="t" r="r" b="b"/>
                <a:pathLst>
                  <a:path w="1095" h="969">
                    <a:moveTo>
                      <a:pt x="519" y="91"/>
                    </a:moveTo>
                    <a:cubicBezTo>
                      <a:pt x="519" y="91"/>
                      <a:pt x="529" y="64"/>
                      <a:pt x="547" y="62"/>
                    </a:cubicBezTo>
                    <a:cubicBezTo>
                      <a:pt x="564" y="61"/>
                      <a:pt x="575" y="91"/>
                      <a:pt x="575" y="91"/>
                    </a:cubicBezTo>
                    <a:lnTo>
                      <a:pt x="1029" y="913"/>
                    </a:lnTo>
                    <a:lnTo>
                      <a:pt x="547" y="913"/>
                    </a:lnTo>
                    <a:lnTo>
                      <a:pt x="547" y="969"/>
                    </a:lnTo>
                    <a:lnTo>
                      <a:pt x="1057" y="969"/>
                    </a:lnTo>
                    <a:cubicBezTo>
                      <a:pt x="1057" y="969"/>
                      <a:pt x="1075" y="956"/>
                      <a:pt x="1086" y="941"/>
                    </a:cubicBezTo>
                    <a:cubicBezTo>
                      <a:pt x="1095" y="929"/>
                      <a:pt x="1086" y="913"/>
                      <a:pt x="1086" y="913"/>
                    </a:cubicBezTo>
                    <a:lnTo>
                      <a:pt x="604" y="34"/>
                    </a:lnTo>
                    <a:cubicBezTo>
                      <a:pt x="604" y="34"/>
                      <a:pt x="585" y="11"/>
                      <a:pt x="575" y="6"/>
                    </a:cubicBezTo>
                    <a:cubicBezTo>
                      <a:pt x="565" y="1"/>
                      <a:pt x="553" y="1"/>
                      <a:pt x="544" y="1"/>
                    </a:cubicBezTo>
                    <a:cubicBezTo>
                      <a:pt x="535" y="1"/>
                      <a:pt x="528" y="0"/>
                      <a:pt x="519" y="6"/>
                    </a:cubicBezTo>
                    <a:cubicBezTo>
                      <a:pt x="496" y="17"/>
                      <a:pt x="490" y="34"/>
                      <a:pt x="490" y="34"/>
                    </a:cubicBezTo>
                    <a:lnTo>
                      <a:pt x="8" y="913"/>
                    </a:lnTo>
                    <a:cubicBezTo>
                      <a:pt x="8" y="913"/>
                      <a:pt x="0" y="928"/>
                      <a:pt x="8" y="941"/>
                    </a:cubicBezTo>
                    <a:cubicBezTo>
                      <a:pt x="19" y="962"/>
                      <a:pt x="37" y="969"/>
                      <a:pt x="37" y="969"/>
                    </a:cubicBezTo>
                    <a:cubicBezTo>
                      <a:pt x="292" y="969"/>
                      <a:pt x="547" y="969"/>
                      <a:pt x="547" y="969"/>
                    </a:cubicBezTo>
                    <a:lnTo>
                      <a:pt x="547" y="913"/>
                    </a:lnTo>
                    <a:lnTo>
                      <a:pt x="65" y="913"/>
                    </a:lnTo>
                    <a:lnTo>
                      <a:pt x="519" y="9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8339040" y="2359080"/>
              <a:ext cx="585720" cy="855720"/>
              <a:chOff x="8339040" y="2359080"/>
              <a:chExt cx="585720" cy="855720"/>
            </a:xfrm>
          </p:grpSpPr>
          <p:sp>
            <p:nvSpPr>
              <p:cNvPr id="336" name=""/>
              <p:cNvSpPr/>
              <p:nvPr/>
            </p:nvSpPr>
            <p:spPr>
              <a:xfrm>
                <a:off x="8462520" y="2359080"/>
                <a:ext cx="183960" cy="784800"/>
              </a:xfrm>
              <a:custGeom>
                <a:avLst/>
                <a:gdLst/>
                <a:ahLst/>
                <a:rect l="l" t="t" r="r" b="b"/>
                <a:pathLst>
                  <a:path w="303" h="1418">
                    <a:moveTo>
                      <a:pt x="222" y="71"/>
                    </a:moveTo>
                    <a:cubicBezTo>
                      <a:pt x="179" y="142"/>
                      <a:pt x="24" y="355"/>
                      <a:pt x="24" y="497"/>
                    </a:cubicBezTo>
                    <a:cubicBezTo>
                      <a:pt x="24" y="639"/>
                      <a:pt x="222" y="780"/>
                      <a:pt x="222" y="922"/>
                    </a:cubicBezTo>
                    <a:cubicBezTo>
                      <a:pt x="222" y="1064"/>
                      <a:pt x="48" y="1276"/>
                      <a:pt x="24" y="1347"/>
                    </a:cubicBezTo>
                    <a:cubicBezTo>
                      <a:pt x="0" y="1418"/>
                      <a:pt x="37" y="1418"/>
                      <a:pt x="80" y="1347"/>
                    </a:cubicBezTo>
                    <a:cubicBezTo>
                      <a:pt x="123" y="1276"/>
                      <a:pt x="279" y="1064"/>
                      <a:pt x="279" y="922"/>
                    </a:cubicBezTo>
                    <a:cubicBezTo>
                      <a:pt x="279" y="780"/>
                      <a:pt x="80" y="639"/>
                      <a:pt x="80" y="497"/>
                    </a:cubicBezTo>
                    <a:cubicBezTo>
                      <a:pt x="80" y="355"/>
                      <a:pt x="255" y="142"/>
                      <a:pt x="279" y="71"/>
                    </a:cubicBezTo>
                    <a:cubicBezTo>
                      <a:pt x="303" y="0"/>
                      <a:pt x="265" y="0"/>
                      <a:pt x="222" y="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580240" y="2367360"/>
                <a:ext cx="183960" cy="784800"/>
              </a:xfrm>
              <a:custGeom>
                <a:avLst/>
                <a:gdLst/>
                <a:ahLst/>
                <a:rect l="l" t="t" r="r" b="b"/>
                <a:pathLst>
                  <a:path w="303" h="1418">
                    <a:moveTo>
                      <a:pt x="222" y="71"/>
                    </a:moveTo>
                    <a:cubicBezTo>
                      <a:pt x="179" y="142"/>
                      <a:pt x="24" y="355"/>
                      <a:pt x="24" y="497"/>
                    </a:cubicBezTo>
                    <a:cubicBezTo>
                      <a:pt x="24" y="639"/>
                      <a:pt x="222" y="780"/>
                      <a:pt x="222" y="922"/>
                    </a:cubicBezTo>
                    <a:cubicBezTo>
                      <a:pt x="222" y="1064"/>
                      <a:pt x="48" y="1276"/>
                      <a:pt x="24" y="1347"/>
                    </a:cubicBezTo>
                    <a:cubicBezTo>
                      <a:pt x="0" y="1418"/>
                      <a:pt x="37" y="1418"/>
                      <a:pt x="80" y="1347"/>
                    </a:cubicBezTo>
                    <a:cubicBezTo>
                      <a:pt x="123" y="1276"/>
                      <a:pt x="279" y="1064"/>
                      <a:pt x="279" y="922"/>
                    </a:cubicBezTo>
                    <a:cubicBezTo>
                      <a:pt x="279" y="780"/>
                      <a:pt x="80" y="639"/>
                      <a:pt x="80" y="497"/>
                    </a:cubicBezTo>
                    <a:cubicBezTo>
                      <a:pt x="80" y="355"/>
                      <a:pt x="255" y="142"/>
                      <a:pt x="279" y="71"/>
                    </a:cubicBezTo>
                    <a:cubicBezTo>
                      <a:pt x="303" y="0"/>
                      <a:pt x="265" y="0"/>
                      <a:pt x="222" y="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8700480" y="2367360"/>
                <a:ext cx="183960" cy="784800"/>
              </a:xfrm>
              <a:custGeom>
                <a:avLst/>
                <a:gdLst/>
                <a:ahLst/>
                <a:rect l="l" t="t" r="r" b="b"/>
                <a:pathLst>
                  <a:path w="303" h="1418">
                    <a:moveTo>
                      <a:pt x="222" y="71"/>
                    </a:moveTo>
                    <a:cubicBezTo>
                      <a:pt x="179" y="142"/>
                      <a:pt x="24" y="355"/>
                      <a:pt x="24" y="497"/>
                    </a:cubicBezTo>
                    <a:cubicBezTo>
                      <a:pt x="24" y="639"/>
                      <a:pt x="222" y="780"/>
                      <a:pt x="222" y="922"/>
                    </a:cubicBezTo>
                    <a:cubicBezTo>
                      <a:pt x="222" y="1064"/>
                      <a:pt x="48" y="1276"/>
                      <a:pt x="24" y="1347"/>
                    </a:cubicBezTo>
                    <a:cubicBezTo>
                      <a:pt x="0" y="1418"/>
                      <a:pt x="37" y="1418"/>
                      <a:pt x="80" y="1347"/>
                    </a:cubicBezTo>
                    <a:cubicBezTo>
                      <a:pt x="123" y="1276"/>
                      <a:pt x="279" y="1064"/>
                      <a:pt x="279" y="922"/>
                    </a:cubicBezTo>
                    <a:cubicBezTo>
                      <a:pt x="279" y="780"/>
                      <a:pt x="80" y="639"/>
                      <a:pt x="80" y="497"/>
                    </a:cubicBezTo>
                    <a:cubicBezTo>
                      <a:pt x="80" y="355"/>
                      <a:pt x="255" y="142"/>
                      <a:pt x="279" y="71"/>
                    </a:cubicBezTo>
                    <a:cubicBezTo>
                      <a:pt x="303" y="0"/>
                      <a:pt x="265" y="0"/>
                      <a:pt x="222" y="7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339040" y="3183480"/>
                <a:ext cx="58572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0" name=""/>
          <p:cNvGrpSpPr/>
          <p:nvPr/>
        </p:nvGrpSpPr>
        <p:grpSpPr>
          <a:xfrm>
            <a:off x="2208240" y="1871640"/>
            <a:ext cx="1738440" cy="1538280"/>
            <a:chOff x="2208240" y="1871640"/>
            <a:chExt cx="1738440" cy="1538280"/>
          </a:xfrm>
        </p:grpSpPr>
        <p:grpSp>
          <p:nvGrpSpPr>
            <p:cNvPr id="341" name=""/>
            <p:cNvGrpSpPr/>
            <p:nvPr/>
          </p:nvGrpSpPr>
          <p:grpSpPr>
            <a:xfrm>
              <a:off x="2208240" y="1871640"/>
              <a:ext cx="1738440" cy="1538280"/>
              <a:chOff x="2208240" y="1871640"/>
              <a:chExt cx="1738440" cy="1538280"/>
            </a:xfrm>
          </p:grpSpPr>
          <p:sp>
            <p:nvSpPr>
              <p:cNvPr id="342" name=""/>
              <p:cNvSpPr/>
              <p:nvPr/>
            </p:nvSpPr>
            <p:spPr>
              <a:xfrm>
                <a:off x="2241720" y="189540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208240" y="1871640"/>
                <a:ext cx="1738440" cy="1538280"/>
              </a:xfrm>
              <a:custGeom>
                <a:avLst/>
                <a:gdLst/>
                <a:ahLst/>
                <a:rect l="l" t="t" r="r" b="b"/>
                <a:pathLst>
                  <a:path w="1095" h="969">
                    <a:moveTo>
                      <a:pt x="519" y="91"/>
                    </a:moveTo>
                    <a:cubicBezTo>
                      <a:pt x="519" y="91"/>
                      <a:pt x="529" y="64"/>
                      <a:pt x="547" y="62"/>
                    </a:cubicBezTo>
                    <a:cubicBezTo>
                      <a:pt x="564" y="61"/>
                      <a:pt x="575" y="91"/>
                      <a:pt x="575" y="91"/>
                    </a:cubicBezTo>
                    <a:lnTo>
                      <a:pt x="1029" y="913"/>
                    </a:lnTo>
                    <a:lnTo>
                      <a:pt x="547" y="913"/>
                    </a:lnTo>
                    <a:lnTo>
                      <a:pt x="547" y="969"/>
                    </a:lnTo>
                    <a:lnTo>
                      <a:pt x="1057" y="969"/>
                    </a:lnTo>
                    <a:cubicBezTo>
                      <a:pt x="1057" y="969"/>
                      <a:pt x="1075" y="956"/>
                      <a:pt x="1086" y="941"/>
                    </a:cubicBezTo>
                    <a:cubicBezTo>
                      <a:pt x="1095" y="929"/>
                      <a:pt x="1086" y="913"/>
                      <a:pt x="1086" y="913"/>
                    </a:cubicBezTo>
                    <a:lnTo>
                      <a:pt x="604" y="34"/>
                    </a:lnTo>
                    <a:cubicBezTo>
                      <a:pt x="604" y="34"/>
                      <a:pt x="585" y="11"/>
                      <a:pt x="575" y="6"/>
                    </a:cubicBezTo>
                    <a:cubicBezTo>
                      <a:pt x="565" y="1"/>
                      <a:pt x="553" y="1"/>
                      <a:pt x="544" y="1"/>
                    </a:cubicBezTo>
                    <a:cubicBezTo>
                      <a:pt x="535" y="1"/>
                      <a:pt x="528" y="0"/>
                      <a:pt x="519" y="6"/>
                    </a:cubicBezTo>
                    <a:cubicBezTo>
                      <a:pt x="496" y="17"/>
                      <a:pt x="490" y="34"/>
                      <a:pt x="490" y="34"/>
                    </a:cubicBezTo>
                    <a:lnTo>
                      <a:pt x="8" y="913"/>
                    </a:lnTo>
                    <a:cubicBezTo>
                      <a:pt x="8" y="913"/>
                      <a:pt x="0" y="928"/>
                      <a:pt x="8" y="941"/>
                    </a:cubicBezTo>
                    <a:cubicBezTo>
                      <a:pt x="19" y="962"/>
                      <a:pt x="37" y="969"/>
                      <a:pt x="37" y="969"/>
                    </a:cubicBezTo>
                    <a:cubicBezTo>
                      <a:pt x="292" y="969"/>
                      <a:pt x="547" y="969"/>
                      <a:pt x="547" y="969"/>
                    </a:cubicBezTo>
                    <a:lnTo>
                      <a:pt x="547" y="913"/>
                    </a:lnTo>
                    <a:lnTo>
                      <a:pt x="65" y="913"/>
                    </a:lnTo>
                    <a:lnTo>
                      <a:pt x="519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2714760" y="2359080"/>
              <a:ext cx="585720" cy="855720"/>
              <a:chOff x="2714760" y="2359080"/>
              <a:chExt cx="585720" cy="855720"/>
            </a:xfrm>
          </p:grpSpPr>
          <p:sp>
            <p:nvSpPr>
              <p:cNvPr id="345" name=""/>
              <p:cNvSpPr/>
              <p:nvPr/>
            </p:nvSpPr>
            <p:spPr>
              <a:xfrm>
                <a:off x="2838240" y="2359080"/>
                <a:ext cx="183960" cy="784800"/>
              </a:xfrm>
              <a:custGeom>
                <a:avLst/>
                <a:gdLst/>
                <a:ahLst/>
                <a:rect l="l" t="t" r="r" b="b"/>
                <a:pathLst>
                  <a:path w="303" h="1418">
                    <a:moveTo>
                      <a:pt x="222" y="71"/>
                    </a:moveTo>
                    <a:cubicBezTo>
                      <a:pt x="179" y="142"/>
                      <a:pt x="24" y="355"/>
                      <a:pt x="24" y="497"/>
                    </a:cubicBezTo>
                    <a:cubicBezTo>
                      <a:pt x="24" y="639"/>
                      <a:pt x="222" y="780"/>
                      <a:pt x="222" y="922"/>
                    </a:cubicBezTo>
                    <a:cubicBezTo>
                      <a:pt x="222" y="1064"/>
                      <a:pt x="48" y="1276"/>
                      <a:pt x="24" y="1347"/>
                    </a:cubicBezTo>
                    <a:cubicBezTo>
                      <a:pt x="0" y="1418"/>
                      <a:pt x="37" y="1418"/>
                      <a:pt x="80" y="1347"/>
                    </a:cubicBezTo>
                    <a:cubicBezTo>
                      <a:pt x="123" y="1276"/>
                      <a:pt x="279" y="1064"/>
                      <a:pt x="279" y="922"/>
                    </a:cubicBezTo>
                    <a:cubicBezTo>
                      <a:pt x="279" y="780"/>
                      <a:pt x="80" y="639"/>
                      <a:pt x="80" y="497"/>
                    </a:cubicBezTo>
                    <a:cubicBezTo>
                      <a:pt x="80" y="355"/>
                      <a:pt x="255" y="142"/>
                      <a:pt x="279" y="71"/>
                    </a:cubicBezTo>
                    <a:cubicBezTo>
                      <a:pt x="303" y="0"/>
                      <a:pt x="265" y="0"/>
                      <a:pt x="222" y="7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955960" y="2367360"/>
                <a:ext cx="183960" cy="784800"/>
              </a:xfrm>
              <a:custGeom>
                <a:avLst/>
                <a:gdLst/>
                <a:ahLst/>
                <a:rect l="l" t="t" r="r" b="b"/>
                <a:pathLst>
                  <a:path w="303" h="1418">
                    <a:moveTo>
                      <a:pt x="222" y="71"/>
                    </a:moveTo>
                    <a:cubicBezTo>
                      <a:pt x="179" y="142"/>
                      <a:pt x="24" y="355"/>
                      <a:pt x="24" y="497"/>
                    </a:cubicBezTo>
                    <a:cubicBezTo>
                      <a:pt x="24" y="639"/>
                      <a:pt x="222" y="780"/>
                      <a:pt x="222" y="922"/>
                    </a:cubicBezTo>
                    <a:cubicBezTo>
                      <a:pt x="222" y="1064"/>
                      <a:pt x="48" y="1276"/>
                      <a:pt x="24" y="1347"/>
                    </a:cubicBezTo>
                    <a:cubicBezTo>
                      <a:pt x="0" y="1418"/>
                      <a:pt x="37" y="1418"/>
                      <a:pt x="80" y="1347"/>
                    </a:cubicBezTo>
                    <a:cubicBezTo>
                      <a:pt x="123" y="1276"/>
                      <a:pt x="279" y="1064"/>
                      <a:pt x="279" y="922"/>
                    </a:cubicBezTo>
                    <a:cubicBezTo>
                      <a:pt x="279" y="780"/>
                      <a:pt x="80" y="639"/>
                      <a:pt x="80" y="497"/>
                    </a:cubicBezTo>
                    <a:cubicBezTo>
                      <a:pt x="80" y="355"/>
                      <a:pt x="255" y="142"/>
                      <a:pt x="279" y="71"/>
                    </a:cubicBezTo>
                    <a:cubicBezTo>
                      <a:pt x="303" y="0"/>
                      <a:pt x="265" y="0"/>
                      <a:pt x="222" y="7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076200" y="2367360"/>
                <a:ext cx="183960" cy="784800"/>
              </a:xfrm>
              <a:custGeom>
                <a:avLst/>
                <a:gdLst/>
                <a:ahLst/>
                <a:rect l="l" t="t" r="r" b="b"/>
                <a:pathLst>
                  <a:path w="303" h="1418">
                    <a:moveTo>
                      <a:pt x="222" y="71"/>
                    </a:moveTo>
                    <a:cubicBezTo>
                      <a:pt x="179" y="142"/>
                      <a:pt x="24" y="355"/>
                      <a:pt x="24" y="497"/>
                    </a:cubicBezTo>
                    <a:cubicBezTo>
                      <a:pt x="24" y="639"/>
                      <a:pt x="222" y="780"/>
                      <a:pt x="222" y="922"/>
                    </a:cubicBezTo>
                    <a:cubicBezTo>
                      <a:pt x="222" y="1064"/>
                      <a:pt x="48" y="1276"/>
                      <a:pt x="24" y="1347"/>
                    </a:cubicBezTo>
                    <a:cubicBezTo>
                      <a:pt x="0" y="1418"/>
                      <a:pt x="37" y="1418"/>
                      <a:pt x="80" y="1347"/>
                    </a:cubicBezTo>
                    <a:cubicBezTo>
                      <a:pt x="123" y="1276"/>
                      <a:pt x="279" y="1064"/>
                      <a:pt x="279" y="922"/>
                    </a:cubicBezTo>
                    <a:cubicBezTo>
                      <a:pt x="279" y="780"/>
                      <a:pt x="80" y="639"/>
                      <a:pt x="80" y="497"/>
                    </a:cubicBezTo>
                    <a:cubicBezTo>
                      <a:pt x="80" y="355"/>
                      <a:pt x="255" y="142"/>
                      <a:pt x="279" y="71"/>
                    </a:cubicBezTo>
                    <a:cubicBezTo>
                      <a:pt x="303" y="0"/>
                      <a:pt x="265" y="0"/>
                      <a:pt x="222" y="7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714760" y="3183480"/>
                <a:ext cx="58572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9" name=""/>
          <p:cNvGrpSpPr/>
          <p:nvPr/>
        </p:nvGrpSpPr>
        <p:grpSpPr>
          <a:xfrm>
            <a:off x="317520" y="1854360"/>
            <a:ext cx="1738440" cy="1550880"/>
            <a:chOff x="317520" y="1854360"/>
            <a:chExt cx="1738440" cy="1550880"/>
          </a:xfrm>
        </p:grpSpPr>
        <p:grpSp>
          <p:nvGrpSpPr>
            <p:cNvPr id="350" name=""/>
            <p:cNvGrpSpPr/>
            <p:nvPr/>
          </p:nvGrpSpPr>
          <p:grpSpPr>
            <a:xfrm>
              <a:off x="317520" y="1854360"/>
              <a:ext cx="1738440" cy="1550880"/>
              <a:chOff x="317520" y="1854360"/>
              <a:chExt cx="1738440" cy="1550880"/>
            </a:xfrm>
          </p:grpSpPr>
          <p:sp>
            <p:nvSpPr>
              <p:cNvPr id="351" name=""/>
              <p:cNvSpPr/>
              <p:nvPr/>
            </p:nvSpPr>
            <p:spPr>
              <a:xfrm>
                <a:off x="351000" y="191448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17520" y="1854360"/>
                <a:ext cx="1738440" cy="1538280"/>
              </a:xfrm>
              <a:custGeom>
                <a:avLst/>
                <a:gdLst/>
                <a:ahLst/>
                <a:rect l="l" t="t" r="r" b="b"/>
                <a:pathLst>
                  <a:path w="1095" h="969">
                    <a:moveTo>
                      <a:pt x="519" y="91"/>
                    </a:moveTo>
                    <a:cubicBezTo>
                      <a:pt x="519" y="91"/>
                      <a:pt x="529" y="64"/>
                      <a:pt x="547" y="62"/>
                    </a:cubicBezTo>
                    <a:cubicBezTo>
                      <a:pt x="564" y="61"/>
                      <a:pt x="575" y="91"/>
                      <a:pt x="575" y="91"/>
                    </a:cubicBezTo>
                    <a:lnTo>
                      <a:pt x="1029" y="913"/>
                    </a:lnTo>
                    <a:lnTo>
                      <a:pt x="547" y="913"/>
                    </a:lnTo>
                    <a:lnTo>
                      <a:pt x="547" y="969"/>
                    </a:lnTo>
                    <a:lnTo>
                      <a:pt x="1057" y="969"/>
                    </a:lnTo>
                    <a:cubicBezTo>
                      <a:pt x="1057" y="969"/>
                      <a:pt x="1075" y="956"/>
                      <a:pt x="1086" y="941"/>
                    </a:cubicBezTo>
                    <a:cubicBezTo>
                      <a:pt x="1095" y="929"/>
                      <a:pt x="1086" y="913"/>
                      <a:pt x="1086" y="913"/>
                    </a:cubicBezTo>
                    <a:lnTo>
                      <a:pt x="604" y="34"/>
                    </a:lnTo>
                    <a:cubicBezTo>
                      <a:pt x="604" y="34"/>
                      <a:pt x="585" y="11"/>
                      <a:pt x="575" y="6"/>
                    </a:cubicBezTo>
                    <a:cubicBezTo>
                      <a:pt x="565" y="1"/>
                      <a:pt x="553" y="1"/>
                      <a:pt x="544" y="1"/>
                    </a:cubicBezTo>
                    <a:cubicBezTo>
                      <a:pt x="535" y="1"/>
                      <a:pt x="528" y="0"/>
                      <a:pt x="519" y="6"/>
                    </a:cubicBezTo>
                    <a:cubicBezTo>
                      <a:pt x="496" y="17"/>
                      <a:pt x="490" y="34"/>
                      <a:pt x="490" y="34"/>
                    </a:cubicBezTo>
                    <a:lnTo>
                      <a:pt x="8" y="913"/>
                    </a:lnTo>
                    <a:cubicBezTo>
                      <a:pt x="8" y="913"/>
                      <a:pt x="0" y="928"/>
                      <a:pt x="8" y="941"/>
                    </a:cubicBezTo>
                    <a:cubicBezTo>
                      <a:pt x="19" y="962"/>
                      <a:pt x="37" y="969"/>
                      <a:pt x="37" y="969"/>
                    </a:cubicBezTo>
                    <a:cubicBezTo>
                      <a:pt x="292" y="969"/>
                      <a:pt x="547" y="969"/>
                      <a:pt x="547" y="969"/>
                    </a:cubicBezTo>
                    <a:lnTo>
                      <a:pt x="547" y="913"/>
                    </a:lnTo>
                    <a:lnTo>
                      <a:pt x="65" y="913"/>
                    </a:lnTo>
                    <a:lnTo>
                      <a:pt x="519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808200" y="2359080"/>
              <a:ext cx="585720" cy="855720"/>
              <a:chOff x="808200" y="2359080"/>
              <a:chExt cx="585720" cy="855720"/>
            </a:xfrm>
          </p:grpSpPr>
          <p:sp>
            <p:nvSpPr>
              <p:cNvPr id="354" name=""/>
              <p:cNvSpPr/>
              <p:nvPr/>
            </p:nvSpPr>
            <p:spPr>
              <a:xfrm>
                <a:off x="931680" y="2359080"/>
                <a:ext cx="183960" cy="784800"/>
              </a:xfrm>
              <a:custGeom>
                <a:avLst/>
                <a:gdLst/>
                <a:ahLst/>
                <a:rect l="l" t="t" r="r" b="b"/>
                <a:pathLst>
                  <a:path w="303" h="1418">
                    <a:moveTo>
                      <a:pt x="222" y="71"/>
                    </a:moveTo>
                    <a:cubicBezTo>
                      <a:pt x="179" y="142"/>
                      <a:pt x="24" y="355"/>
                      <a:pt x="24" y="497"/>
                    </a:cubicBezTo>
                    <a:cubicBezTo>
                      <a:pt x="24" y="639"/>
                      <a:pt x="222" y="780"/>
                      <a:pt x="222" y="922"/>
                    </a:cubicBezTo>
                    <a:cubicBezTo>
                      <a:pt x="222" y="1064"/>
                      <a:pt x="48" y="1276"/>
                      <a:pt x="24" y="1347"/>
                    </a:cubicBezTo>
                    <a:cubicBezTo>
                      <a:pt x="0" y="1418"/>
                      <a:pt x="37" y="1418"/>
                      <a:pt x="80" y="1347"/>
                    </a:cubicBezTo>
                    <a:cubicBezTo>
                      <a:pt x="123" y="1276"/>
                      <a:pt x="279" y="1064"/>
                      <a:pt x="279" y="922"/>
                    </a:cubicBezTo>
                    <a:cubicBezTo>
                      <a:pt x="279" y="780"/>
                      <a:pt x="80" y="639"/>
                      <a:pt x="80" y="497"/>
                    </a:cubicBezTo>
                    <a:cubicBezTo>
                      <a:pt x="80" y="355"/>
                      <a:pt x="255" y="142"/>
                      <a:pt x="279" y="71"/>
                    </a:cubicBezTo>
                    <a:cubicBezTo>
                      <a:pt x="303" y="0"/>
                      <a:pt x="265" y="0"/>
                      <a:pt x="222" y="7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049400" y="2367360"/>
                <a:ext cx="183960" cy="784800"/>
              </a:xfrm>
              <a:custGeom>
                <a:avLst/>
                <a:gdLst/>
                <a:ahLst/>
                <a:rect l="l" t="t" r="r" b="b"/>
                <a:pathLst>
                  <a:path w="303" h="1418">
                    <a:moveTo>
                      <a:pt x="222" y="71"/>
                    </a:moveTo>
                    <a:cubicBezTo>
                      <a:pt x="179" y="142"/>
                      <a:pt x="24" y="355"/>
                      <a:pt x="24" y="497"/>
                    </a:cubicBezTo>
                    <a:cubicBezTo>
                      <a:pt x="24" y="639"/>
                      <a:pt x="222" y="780"/>
                      <a:pt x="222" y="922"/>
                    </a:cubicBezTo>
                    <a:cubicBezTo>
                      <a:pt x="222" y="1064"/>
                      <a:pt x="48" y="1276"/>
                      <a:pt x="24" y="1347"/>
                    </a:cubicBezTo>
                    <a:cubicBezTo>
                      <a:pt x="0" y="1418"/>
                      <a:pt x="37" y="1418"/>
                      <a:pt x="80" y="1347"/>
                    </a:cubicBezTo>
                    <a:cubicBezTo>
                      <a:pt x="123" y="1276"/>
                      <a:pt x="279" y="1064"/>
                      <a:pt x="279" y="922"/>
                    </a:cubicBezTo>
                    <a:cubicBezTo>
                      <a:pt x="279" y="780"/>
                      <a:pt x="80" y="639"/>
                      <a:pt x="80" y="497"/>
                    </a:cubicBezTo>
                    <a:cubicBezTo>
                      <a:pt x="80" y="355"/>
                      <a:pt x="255" y="142"/>
                      <a:pt x="279" y="71"/>
                    </a:cubicBezTo>
                    <a:cubicBezTo>
                      <a:pt x="303" y="0"/>
                      <a:pt x="265" y="0"/>
                      <a:pt x="222" y="7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169640" y="2367360"/>
                <a:ext cx="183960" cy="784800"/>
              </a:xfrm>
              <a:custGeom>
                <a:avLst/>
                <a:gdLst/>
                <a:ahLst/>
                <a:rect l="l" t="t" r="r" b="b"/>
                <a:pathLst>
                  <a:path w="303" h="1418">
                    <a:moveTo>
                      <a:pt x="222" y="71"/>
                    </a:moveTo>
                    <a:cubicBezTo>
                      <a:pt x="179" y="142"/>
                      <a:pt x="24" y="355"/>
                      <a:pt x="24" y="497"/>
                    </a:cubicBezTo>
                    <a:cubicBezTo>
                      <a:pt x="24" y="639"/>
                      <a:pt x="222" y="780"/>
                      <a:pt x="222" y="922"/>
                    </a:cubicBezTo>
                    <a:cubicBezTo>
                      <a:pt x="222" y="1064"/>
                      <a:pt x="48" y="1276"/>
                      <a:pt x="24" y="1347"/>
                    </a:cubicBezTo>
                    <a:cubicBezTo>
                      <a:pt x="0" y="1418"/>
                      <a:pt x="37" y="1418"/>
                      <a:pt x="80" y="1347"/>
                    </a:cubicBezTo>
                    <a:cubicBezTo>
                      <a:pt x="123" y="1276"/>
                      <a:pt x="279" y="1064"/>
                      <a:pt x="279" y="922"/>
                    </a:cubicBezTo>
                    <a:cubicBezTo>
                      <a:pt x="279" y="780"/>
                      <a:pt x="80" y="639"/>
                      <a:pt x="80" y="497"/>
                    </a:cubicBezTo>
                    <a:cubicBezTo>
                      <a:pt x="80" y="355"/>
                      <a:pt x="255" y="142"/>
                      <a:pt x="279" y="71"/>
                    </a:cubicBezTo>
                    <a:cubicBezTo>
                      <a:pt x="303" y="0"/>
                      <a:pt x="265" y="0"/>
                      <a:pt x="222" y="7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08200" y="3183480"/>
                <a:ext cx="58572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8" name=""/>
          <p:cNvGrpSpPr/>
          <p:nvPr/>
        </p:nvGrpSpPr>
        <p:grpSpPr>
          <a:xfrm>
            <a:off x="5978520" y="3475080"/>
            <a:ext cx="1709640" cy="1528560"/>
            <a:chOff x="5978520" y="3475080"/>
            <a:chExt cx="1709640" cy="1528560"/>
          </a:xfrm>
        </p:grpSpPr>
        <p:grpSp>
          <p:nvGrpSpPr>
            <p:cNvPr id="359" name=""/>
            <p:cNvGrpSpPr/>
            <p:nvPr/>
          </p:nvGrpSpPr>
          <p:grpSpPr>
            <a:xfrm>
              <a:off x="5978520" y="3475080"/>
              <a:ext cx="1709640" cy="1528560"/>
              <a:chOff x="5978520" y="3475080"/>
              <a:chExt cx="1709640" cy="1528560"/>
            </a:xfrm>
          </p:grpSpPr>
          <p:sp>
            <p:nvSpPr>
              <p:cNvPr id="360" name=""/>
              <p:cNvSpPr/>
              <p:nvPr/>
            </p:nvSpPr>
            <p:spPr>
              <a:xfrm>
                <a:off x="5997600" y="349416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978520" y="3475080"/>
                <a:ext cx="1709640" cy="1528560"/>
              </a:xfrm>
              <a:custGeom>
                <a:avLst/>
                <a:gdLst/>
                <a:ahLst/>
                <a:rect l="l" t="t" r="r" b="b"/>
                <a:pathLst>
                  <a:path w="1077" h="963">
                    <a:moveTo>
                      <a:pt x="113" y="878"/>
                    </a:moveTo>
                    <a:lnTo>
                      <a:pt x="539" y="878"/>
                    </a:lnTo>
                    <a:lnTo>
                      <a:pt x="539" y="963"/>
                    </a:lnTo>
                    <a:lnTo>
                      <a:pt x="28" y="963"/>
                    </a:lnTo>
                    <a:lnTo>
                      <a:pt x="0" y="935"/>
                    </a:lnTo>
                    <a:lnTo>
                      <a:pt x="0" y="907"/>
                    </a:lnTo>
                    <a:lnTo>
                      <a:pt x="482" y="28"/>
                    </a:lnTo>
                    <a:lnTo>
                      <a:pt x="510" y="0"/>
                    </a:lnTo>
                    <a:lnTo>
                      <a:pt x="567" y="0"/>
                    </a:lnTo>
                    <a:lnTo>
                      <a:pt x="595" y="28"/>
                    </a:lnTo>
                    <a:lnTo>
                      <a:pt x="1077" y="907"/>
                    </a:lnTo>
                    <a:lnTo>
                      <a:pt x="1077" y="935"/>
                    </a:lnTo>
                    <a:lnTo>
                      <a:pt x="1049" y="963"/>
                    </a:lnTo>
                    <a:lnTo>
                      <a:pt x="539" y="963"/>
                    </a:lnTo>
                    <a:lnTo>
                      <a:pt x="539" y="878"/>
                    </a:lnTo>
                    <a:lnTo>
                      <a:pt x="964" y="878"/>
                    </a:lnTo>
                    <a:lnTo>
                      <a:pt x="539" y="85"/>
                    </a:lnTo>
                    <a:lnTo>
                      <a:pt x="113" y="8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6461280" y="4059360"/>
              <a:ext cx="585720" cy="764640"/>
              <a:chOff x="6461280" y="4059360"/>
              <a:chExt cx="585720" cy="764640"/>
            </a:xfrm>
          </p:grpSpPr>
          <p:sp>
            <p:nvSpPr>
              <p:cNvPr id="363" name=""/>
              <p:cNvSpPr/>
              <p:nvPr/>
            </p:nvSpPr>
            <p:spPr>
              <a:xfrm>
                <a:off x="6461280" y="4783680"/>
                <a:ext cx="58572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564240" y="4059360"/>
                <a:ext cx="195120" cy="670680"/>
              </a:xfrm>
              <a:custGeom>
                <a:avLst/>
                <a:gdLst/>
                <a:ahLst/>
                <a:rect l="l" t="t" r="r" b="b"/>
                <a:pathLst>
                  <a:path w="321" h="945">
                    <a:moveTo>
                      <a:pt x="217" y="47"/>
                    </a:moveTo>
                    <a:cubicBezTo>
                      <a:pt x="170" y="94"/>
                      <a:pt x="19" y="237"/>
                      <a:pt x="19" y="331"/>
                    </a:cubicBezTo>
                    <a:cubicBezTo>
                      <a:pt x="19" y="425"/>
                      <a:pt x="217" y="520"/>
                      <a:pt x="217" y="614"/>
                    </a:cubicBezTo>
                    <a:cubicBezTo>
                      <a:pt x="217" y="708"/>
                      <a:pt x="38" y="851"/>
                      <a:pt x="19" y="898"/>
                    </a:cubicBezTo>
                    <a:cubicBezTo>
                      <a:pt x="0" y="945"/>
                      <a:pt x="57" y="945"/>
                      <a:pt x="104" y="898"/>
                    </a:cubicBezTo>
                    <a:cubicBezTo>
                      <a:pt x="151" y="851"/>
                      <a:pt x="302" y="708"/>
                      <a:pt x="302" y="614"/>
                    </a:cubicBezTo>
                    <a:cubicBezTo>
                      <a:pt x="302" y="520"/>
                      <a:pt x="104" y="425"/>
                      <a:pt x="104" y="331"/>
                    </a:cubicBezTo>
                    <a:cubicBezTo>
                      <a:pt x="104" y="237"/>
                      <a:pt x="283" y="94"/>
                      <a:pt x="302" y="47"/>
                    </a:cubicBezTo>
                    <a:cubicBezTo>
                      <a:pt x="321" y="0"/>
                      <a:pt x="264" y="0"/>
                      <a:pt x="217" y="4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696360" y="4072680"/>
                <a:ext cx="195120" cy="670680"/>
              </a:xfrm>
              <a:custGeom>
                <a:avLst/>
                <a:gdLst/>
                <a:ahLst/>
                <a:rect l="l" t="t" r="r" b="b"/>
                <a:pathLst>
                  <a:path w="321" h="945">
                    <a:moveTo>
                      <a:pt x="217" y="47"/>
                    </a:moveTo>
                    <a:cubicBezTo>
                      <a:pt x="170" y="94"/>
                      <a:pt x="19" y="237"/>
                      <a:pt x="19" y="331"/>
                    </a:cubicBezTo>
                    <a:cubicBezTo>
                      <a:pt x="19" y="425"/>
                      <a:pt x="217" y="520"/>
                      <a:pt x="217" y="614"/>
                    </a:cubicBezTo>
                    <a:cubicBezTo>
                      <a:pt x="217" y="708"/>
                      <a:pt x="38" y="851"/>
                      <a:pt x="19" y="898"/>
                    </a:cubicBezTo>
                    <a:cubicBezTo>
                      <a:pt x="0" y="945"/>
                      <a:pt x="57" y="945"/>
                      <a:pt x="104" y="898"/>
                    </a:cubicBezTo>
                    <a:cubicBezTo>
                      <a:pt x="151" y="851"/>
                      <a:pt x="302" y="708"/>
                      <a:pt x="302" y="614"/>
                    </a:cubicBezTo>
                    <a:cubicBezTo>
                      <a:pt x="302" y="520"/>
                      <a:pt x="104" y="425"/>
                      <a:pt x="104" y="331"/>
                    </a:cubicBezTo>
                    <a:cubicBezTo>
                      <a:pt x="104" y="237"/>
                      <a:pt x="283" y="94"/>
                      <a:pt x="302" y="47"/>
                    </a:cubicBezTo>
                    <a:cubicBezTo>
                      <a:pt x="321" y="0"/>
                      <a:pt x="264" y="0"/>
                      <a:pt x="217" y="4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834240" y="4072680"/>
                <a:ext cx="195120" cy="670680"/>
              </a:xfrm>
              <a:custGeom>
                <a:avLst/>
                <a:gdLst/>
                <a:ahLst/>
                <a:rect l="l" t="t" r="r" b="b"/>
                <a:pathLst>
                  <a:path w="321" h="945">
                    <a:moveTo>
                      <a:pt x="217" y="47"/>
                    </a:moveTo>
                    <a:cubicBezTo>
                      <a:pt x="170" y="94"/>
                      <a:pt x="19" y="237"/>
                      <a:pt x="19" y="331"/>
                    </a:cubicBezTo>
                    <a:cubicBezTo>
                      <a:pt x="19" y="425"/>
                      <a:pt x="217" y="520"/>
                      <a:pt x="217" y="614"/>
                    </a:cubicBezTo>
                    <a:cubicBezTo>
                      <a:pt x="217" y="708"/>
                      <a:pt x="38" y="851"/>
                      <a:pt x="19" y="898"/>
                    </a:cubicBezTo>
                    <a:cubicBezTo>
                      <a:pt x="0" y="945"/>
                      <a:pt x="57" y="945"/>
                      <a:pt x="104" y="898"/>
                    </a:cubicBezTo>
                    <a:cubicBezTo>
                      <a:pt x="151" y="851"/>
                      <a:pt x="302" y="708"/>
                      <a:pt x="302" y="614"/>
                    </a:cubicBezTo>
                    <a:cubicBezTo>
                      <a:pt x="302" y="520"/>
                      <a:pt x="104" y="425"/>
                      <a:pt x="104" y="331"/>
                    </a:cubicBezTo>
                    <a:cubicBezTo>
                      <a:pt x="104" y="237"/>
                      <a:pt x="283" y="94"/>
                      <a:pt x="302" y="47"/>
                    </a:cubicBezTo>
                    <a:cubicBezTo>
                      <a:pt x="321" y="0"/>
                      <a:pt x="264" y="0"/>
                      <a:pt x="217" y="4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7" name=""/>
          <p:cNvGrpSpPr/>
          <p:nvPr/>
        </p:nvGrpSpPr>
        <p:grpSpPr>
          <a:xfrm>
            <a:off x="7864560" y="3500280"/>
            <a:ext cx="1709640" cy="1528920"/>
            <a:chOff x="7864560" y="3500280"/>
            <a:chExt cx="1709640" cy="1528920"/>
          </a:xfrm>
        </p:grpSpPr>
        <p:grpSp>
          <p:nvGrpSpPr>
            <p:cNvPr id="368" name=""/>
            <p:cNvGrpSpPr/>
            <p:nvPr/>
          </p:nvGrpSpPr>
          <p:grpSpPr>
            <a:xfrm>
              <a:off x="7864560" y="3500280"/>
              <a:ext cx="1709640" cy="1528920"/>
              <a:chOff x="7864560" y="3500280"/>
              <a:chExt cx="1709640" cy="1528920"/>
            </a:xfrm>
          </p:grpSpPr>
          <p:sp>
            <p:nvSpPr>
              <p:cNvPr id="369" name=""/>
              <p:cNvSpPr/>
              <p:nvPr/>
            </p:nvSpPr>
            <p:spPr>
              <a:xfrm>
                <a:off x="7883640" y="351936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864560" y="3500280"/>
                <a:ext cx="1709640" cy="1528920"/>
              </a:xfrm>
              <a:custGeom>
                <a:avLst/>
                <a:gdLst/>
                <a:ahLst/>
                <a:rect l="l" t="t" r="r" b="b"/>
                <a:pathLst>
                  <a:path w="1077" h="963">
                    <a:moveTo>
                      <a:pt x="113" y="878"/>
                    </a:moveTo>
                    <a:lnTo>
                      <a:pt x="539" y="878"/>
                    </a:lnTo>
                    <a:lnTo>
                      <a:pt x="539" y="963"/>
                    </a:lnTo>
                    <a:lnTo>
                      <a:pt x="28" y="963"/>
                    </a:lnTo>
                    <a:lnTo>
                      <a:pt x="0" y="935"/>
                    </a:lnTo>
                    <a:lnTo>
                      <a:pt x="0" y="907"/>
                    </a:lnTo>
                    <a:lnTo>
                      <a:pt x="482" y="28"/>
                    </a:lnTo>
                    <a:lnTo>
                      <a:pt x="510" y="0"/>
                    </a:lnTo>
                    <a:lnTo>
                      <a:pt x="567" y="0"/>
                    </a:lnTo>
                    <a:lnTo>
                      <a:pt x="595" y="28"/>
                    </a:lnTo>
                    <a:lnTo>
                      <a:pt x="1077" y="907"/>
                    </a:lnTo>
                    <a:lnTo>
                      <a:pt x="1077" y="935"/>
                    </a:lnTo>
                    <a:lnTo>
                      <a:pt x="1049" y="963"/>
                    </a:lnTo>
                    <a:lnTo>
                      <a:pt x="539" y="963"/>
                    </a:lnTo>
                    <a:lnTo>
                      <a:pt x="539" y="878"/>
                    </a:lnTo>
                    <a:lnTo>
                      <a:pt x="964" y="878"/>
                    </a:lnTo>
                    <a:lnTo>
                      <a:pt x="539" y="85"/>
                    </a:lnTo>
                    <a:lnTo>
                      <a:pt x="113" y="87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8318520" y="4059360"/>
              <a:ext cx="585720" cy="764640"/>
              <a:chOff x="8318520" y="4059360"/>
              <a:chExt cx="585720" cy="764640"/>
            </a:xfrm>
          </p:grpSpPr>
          <p:sp>
            <p:nvSpPr>
              <p:cNvPr id="372" name=""/>
              <p:cNvSpPr/>
              <p:nvPr/>
            </p:nvSpPr>
            <p:spPr>
              <a:xfrm>
                <a:off x="8318520" y="4783680"/>
                <a:ext cx="58572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421480" y="4059360"/>
                <a:ext cx="195120" cy="670680"/>
              </a:xfrm>
              <a:custGeom>
                <a:avLst/>
                <a:gdLst/>
                <a:ahLst/>
                <a:rect l="l" t="t" r="r" b="b"/>
                <a:pathLst>
                  <a:path w="321" h="945">
                    <a:moveTo>
                      <a:pt x="217" y="47"/>
                    </a:moveTo>
                    <a:cubicBezTo>
                      <a:pt x="170" y="94"/>
                      <a:pt x="19" y="237"/>
                      <a:pt x="19" y="331"/>
                    </a:cubicBezTo>
                    <a:cubicBezTo>
                      <a:pt x="19" y="425"/>
                      <a:pt x="217" y="520"/>
                      <a:pt x="217" y="614"/>
                    </a:cubicBezTo>
                    <a:cubicBezTo>
                      <a:pt x="217" y="708"/>
                      <a:pt x="38" y="851"/>
                      <a:pt x="19" y="898"/>
                    </a:cubicBezTo>
                    <a:cubicBezTo>
                      <a:pt x="0" y="945"/>
                      <a:pt x="57" y="945"/>
                      <a:pt x="104" y="898"/>
                    </a:cubicBezTo>
                    <a:cubicBezTo>
                      <a:pt x="151" y="851"/>
                      <a:pt x="302" y="708"/>
                      <a:pt x="302" y="614"/>
                    </a:cubicBezTo>
                    <a:cubicBezTo>
                      <a:pt x="302" y="520"/>
                      <a:pt x="104" y="425"/>
                      <a:pt x="104" y="331"/>
                    </a:cubicBezTo>
                    <a:cubicBezTo>
                      <a:pt x="104" y="237"/>
                      <a:pt x="283" y="94"/>
                      <a:pt x="302" y="47"/>
                    </a:cubicBezTo>
                    <a:cubicBezTo>
                      <a:pt x="321" y="0"/>
                      <a:pt x="264" y="0"/>
                      <a:pt x="217" y="4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553600" y="4072680"/>
                <a:ext cx="195120" cy="670680"/>
              </a:xfrm>
              <a:custGeom>
                <a:avLst/>
                <a:gdLst/>
                <a:ahLst/>
                <a:rect l="l" t="t" r="r" b="b"/>
                <a:pathLst>
                  <a:path w="321" h="945">
                    <a:moveTo>
                      <a:pt x="217" y="47"/>
                    </a:moveTo>
                    <a:cubicBezTo>
                      <a:pt x="170" y="94"/>
                      <a:pt x="19" y="237"/>
                      <a:pt x="19" y="331"/>
                    </a:cubicBezTo>
                    <a:cubicBezTo>
                      <a:pt x="19" y="425"/>
                      <a:pt x="217" y="520"/>
                      <a:pt x="217" y="614"/>
                    </a:cubicBezTo>
                    <a:cubicBezTo>
                      <a:pt x="217" y="708"/>
                      <a:pt x="38" y="851"/>
                      <a:pt x="19" y="898"/>
                    </a:cubicBezTo>
                    <a:cubicBezTo>
                      <a:pt x="0" y="945"/>
                      <a:pt x="57" y="945"/>
                      <a:pt x="104" y="898"/>
                    </a:cubicBezTo>
                    <a:cubicBezTo>
                      <a:pt x="151" y="851"/>
                      <a:pt x="302" y="708"/>
                      <a:pt x="302" y="614"/>
                    </a:cubicBezTo>
                    <a:cubicBezTo>
                      <a:pt x="302" y="520"/>
                      <a:pt x="104" y="425"/>
                      <a:pt x="104" y="331"/>
                    </a:cubicBezTo>
                    <a:cubicBezTo>
                      <a:pt x="104" y="237"/>
                      <a:pt x="283" y="94"/>
                      <a:pt x="302" y="47"/>
                    </a:cubicBezTo>
                    <a:cubicBezTo>
                      <a:pt x="321" y="0"/>
                      <a:pt x="264" y="0"/>
                      <a:pt x="217" y="4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691480" y="4072680"/>
                <a:ext cx="195120" cy="670680"/>
              </a:xfrm>
              <a:custGeom>
                <a:avLst/>
                <a:gdLst/>
                <a:ahLst/>
                <a:rect l="l" t="t" r="r" b="b"/>
                <a:pathLst>
                  <a:path w="321" h="945">
                    <a:moveTo>
                      <a:pt x="217" y="47"/>
                    </a:moveTo>
                    <a:cubicBezTo>
                      <a:pt x="170" y="94"/>
                      <a:pt x="19" y="237"/>
                      <a:pt x="19" y="331"/>
                    </a:cubicBezTo>
                    <a:cubicBezTo>
                      <a:pt x="19" y="425"/>
                      <a:pt x="217" y="520"/>
                      <a:pt x="217" y="614"/>
                    </a:cubicBezTo>
                    <a:cubicBezTo>
                      <a:pt x="217" y="708"/>
                      <a:pt x="38" y="851"/>
                      <a:pt x="19" y="898"/>
                    </a:cubicBezTo>
                    <a:cubicBezTo>
                      <a:pt x="0" y="945"/>
                      <a:pt x="57" y="945"/>
                      <a:pt x="104" y="898"/>
                    </a:cubicBezTo>
                    <a:cubicBezTo>
                      <a:pt x="151" y="851"/>
                      <a:pt x="302" y="708"/>
                      <a:pt x="302" y="614"/>
                    </a:cubicBezTo>
                    <a:cubicBezTo>
                      <a:pt x="302" y="520"/>
                      <a:pt x="104" y="425"/>
                      <a:pt x="104" y="331"/>
                    </a:cubicBezTo>
                    <a:cubicBezTo>
                      <a:pt x="104" y="237"/>
                      <a:pt x="283" y="94"/>
                      <a:pt x="302" y="47"/>
                    </a:cubicBezTo>
                    <a:cubicBezTo>
                      <a:pt x="321" y="0"/>
                      <a:pt x="264" y="0"/>
                      <a:pt x="217" y="4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6" name=""/>
          <p:cNvGrpSpPr/>
          <p:nvPr/>
        </p:nvGrpSpPr>
        <p:grpSpPr>
          <a:xfrm>
            <a:off x="2222640" y="3498840"/>
            <a:ext cx="1709640" cy="1528920"/>
            <a:chOff x="2222640" y="3498840"/>
            <a:chExt cx="1709640" cy="1528920"/>
          </a:xfrm>
        </p:grpSpPr>
        <p:grpSp>
          <p:nvGrpSpPr>
            <p:cNvPr id="377" name=""/>
            <p:cNvGrpSpPr/>
            <p:nvPr/>
          </p:nvGrpSpPr>
          <p:grpSpPr>
            <a:xfrm>
              <a:off x="2222640" y="3498840"/>
              <a:ext cx="1709640" cy="1528920"/>
              <a:chOff x="2222640" y="3498840"/>
              <a:chExt cx="1709640" cy="1528920"/>
            </a:xfrm>
          </p:grpSpPr>
          <p:sp>
            <p:nvSpPr>
              <p:cNvPr id="378" name=""/>
              <p:cNvSpPr/>
              <p:nvPr/>
            </p:nvSpPr>
            <p:spPr>
              <a:xfrm>
                <a:off x="2241720" y="3521160"/>
                <a:ext cx="1670040" cy="149040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222640" y="3498840"/>
                <a:ext cx="1709640" cy="1528920"/>
              </a:xfrm>
              <a:custGeom>
                <a:avLst/>
                <a:gdLst/>
                <a:ahLst/>
                <a:rect l="l" t="t" r="r" b="b"/>
                <a:pathLst>
                  <a:path w="1077" h="963">
                    <a:moveTo>
                      <a:pt x="113" y="878"/>
                    </a:moveTo>
                    <a:lnTo>
                      <a:pt x="539" y="878"/>
                    </a:lnTo>
                    <a:lnTo>
                      <a:pt x="539" y="963"/>
                    </a:lnTo>
                    <a:lnTo>
                      <a:pt x="28" y="963"/>
                    </a:lnTo>
                    <a:lnTo>
                      <a:pt x="0" y="935"/>
                    </a:lnTo>
                    <a:lnTo>
                      <a:pt x="0" y="907"/>
                    </a:lnTo>
                    <a:lnTo>
                      <a:pt x="482" y="28"/>
                    </a:lnTo>
                    <a:lnTo>
                      <a:pt x="510" y="0"/>
                    </a:lnTo>
                    <a:lnTo>
                      <a:pt x="567" y="0"/>
                    </a:lnTo>
                    <a:lnTo>
                      <a:pt x="595" y="28"/>
                    </a:lnTo>
                    <a:lnTo>
                      <a:pt x="1077" y="907"/>
                    </a:lnTo>
                    <a:lnTo>
                      <a:pt x="1077" y="935"/>
                    </a:lnTo>
                    <a:lnTo>
                      <a:pt x="1049" y="963"/>
                    </a:lnTo>
                    <a:lnTo>
                      <a:pt x="539" y="963"/>
                    </a:lnTo>
                    <a:lnTo>
                      <a:pt x="539" y="878"/>
                    </a:lnTo>
                    <a:lnTo>
                      <a:pt x="964" y="878"/>
                    </a:lnTo>
                    <a:lnTo>
                      <a:pt x="539" y="85"/>
                    </a:lnTo>
                    <a:lnTo>
                      <a:pt x="113" y="8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2695680" y="4059360"/>
              <a:ext cx="585720" cy="764640"/>
              <a:chOff x="2695680" y="4059360"/>
              <a:chExt cx="585720" cy="764640"/>
            </a:xfrm>
          </p:grpSpPr>
          <p:sp>
            <p:nvSpPr>
              <p:cNvPr id="381" name=""/>
              <p:cNvSpPr/>
              <p:nvPr/>
            </p:nvSpPr>
            <p:spPr>
              <a:xfrm>
                <a:off x="2695680" y="4783680"/>
                <a:ext cx="58572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798640" y="4059360"/>
                <a:ext cx="195120" cy="670680"/>
              </a:xfrm>
              <a:custGeom>
                <a:avLst/>
                <a:gdLst/>
                <a:ahLst/>
                <a:rect l="l" t="t" r="r" b="b"/>
                <a:pathLst>
                  <a:path w="321" h="945">
                    <a:moveTo>
                      <a:pt x="217" y="47"/>
                    </a:moveTo>
                    <a:cubicBezTo>
                      <a:pt x="170" y="94"/>
                      <a:pt x="19" y="237"/>
                      <a:pt x="19" y="331"/>
                    </a:cubicBezTo>
                    <a:cubicBezTo>
                      <a:pt x="19" y="425"/>
                      <a:pt x="217" y="520"/>
                      <a:pt x="217" y="614"/>
                    </a:cubicBezTo>
                    <a:cubicBezTo>
                      <a:pt x="217" y="708"/>
                      <a:pt x="38" y="851"/>
                      <a:pt x="19" y="898"/>
                    </a:cubicBezTo>
                    <a:cubicBezTo>
                      <a:pt x="0" y="945"/>
                      <a:pt x="57" y="945"/>
                      <a:pt x="104" y="898"/>
                    </a:cubicBezTo>
                    <a:cubicBezTo>
                      <a:pt x="151" y="851"/>
                      <a:pt x="302" y="708"/>
                      <a:pt x="302" y="614"/>
                    </a:cubicBezTo>
                    <a:cubicBezTo>
                      <a:pt x="302" y="520"/>
                      <a:pt x="104" y="425"/>
                      <a:pt x="104" y="331"/>
                    </a:cubicBezTo>
                    <a:cubicBezTo>
                      <a:pt x="104" y="237"/>
                      <a:pt x="283" y="94"/>
                      <a:pt x="302" y="47"/>
                    </a:cubicBezTo>
                    <a:cubicBezTo>
                      <a:pt x="321" y="0"/>
                      <a:pt x="264" y="0"/>
                      <a:pt x="217" y="4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930760" y="4072680"/>
                <a:ext cx="195120" cy="670680"/>
              </a:xfrm>
              <a:custGeom>
                <a:avLst/>
                <a:gdLst/>
                <a:ahLst/>
                <a:rect l="l" t="t" r="r" b="b"/>
                <a:pathLst>
                  <a:path w="321" h="945">
                    <a:moveTo>
                      <a:pt x="217" y="47"/>
                    </a:moveTo>
                    <a:cubicBezTo>
                      <a:pt x="170" y="94"/>
                      <a:pt x="19" y="237"/>
                      <a:pt x="19" y="331"/>
                    </a:cubicBezTo>
                    <a:cubicBezTo>
                      <a:pt x="19" y="425"/>
                      <a:pt x="217" y="520"/>
                      <a:pt x="217" y="614"/>
                    </a:cubicBezTo>
                    <a:cubicBezTo>
                      <a:pt x="217" y="708"/>
                      <a:pt x="38" y="851"/>
                      <a:pt x="19" y="898"/>
                    </a:cubicBezTo>
                    <a:cubicBezTo>
                      <a:pt x="0" y="945"/>
                      <a:pt x="57" y="945"/>
                      <a:pt x="104" y="898"/>
                    </a:cubicBezTo>
                    <a:cubicBezTo>
                      <a:pt x="151" y="851"/>
                      <a:pt x="302" y="708"/>
                      <a:pt x="302" y="614"/>
                    </a:cubicBezTo>
                    <a:cubicBezTo>
                      <a:pt x="302" y="520"/>
                      <a:pt x="104" y="425"/>
                      <a:pt x="104" y="331"/>
                    </a:cubicBezTo>
                    <a:cubicBezTo>
                      <a:pt x="104" y="237"/>
                      <a:pt x="283" y="94"/>
                      <a:pt x="302" y="47"/>
                    </a:cubicBezTo>
                    <a:cubicBezTo>
                      <a:pt x="321" y="0"/>
                      <a:pt x="264" y="0"/>
                      <a:pt x="217" y="4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068640" y="4072680"/>
                <a:ext cx="195120" cy="670680"/>
              </a:xfrm>
              <a:custGeom>
                <a:avLst/>
                <a:gdLst/>
                <a:ahLst/>
                <a:rect l="l" t="t" r="r" b="b"/>
                <a:pathLst>
                  <a:path w="321" h="945">
                    <a:moveTo>
                      <a:pt x="217" y="47"/>
                    </a:moveTo>
                    <a:cubicBezTo>
                      <a:pt x="170" y="94"/>
                      <a:pt x="19" y="237"/>
                      <a:pt x="19" y="331"/>
                    </a:cubicBezTo>
                    <a:cubicBezTo>
                      <a:pt x="19" y="425"/>
                      <a:pt x="217" y="520"/>
                      <a:pt x="217" y="614"/>
                    </a:cubicBezTo>
                    <a:cubicBezTo>
                      <a:pt x="217" y="708"/>
                      <a:pt x="38" y="851"/>
                      <a:pt x="19" y="898"/>
                    </a:cubicBezTo>
                    <a:cubicBezTo>
                      <a:pt x="0" y="945"/>
                      <a:pt x="57" y="945"/>
                      <a:pt x="104" y="898"/>
                    </a:cubicBezTo>
                    <a:cubicBezTo>
                      <a:pt x="151" y="851"/>
                      <a:pt x="302" y="708"/>
                      <a:pt x="302" y="614"/>
                    </a:cubicBezTo>
                    <a:cubicBezTo>
                      <a:pt x="302" y="520"/>
                      <a:pt x="104" y="425"/>
                      <a:pt x="104" y="331"/>
                    </a:cubicBezTo>
                    <a:cubicBezTo>
                      <a:pt x="104" y="237"/>
                      <a:pt x="283" y="94"/>
                      <a:pt x="302" y="47"/>
                    </a:cubicBezTo>
                    <a:cubicBezTo>
                      <a:pt x="321" y="0"/>
                      <a:pt x="264" y="0"/>
                      <a:pt x="217" y="4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5" name=""/>
          <p:cNvGrpSpPr/>
          <p:nvPr/>
        </p:nvGrpSpPr>
        <p:grpSpPr>
          <a:xfrm>
            <a:off x="331920" y="3500280"/>
            <a:ext cx="1709640" cy="1528920"/>
            <a:chOff x="331920" y="3500280"/>
            <a:chExt cx="1709640" cy="1528920"/>
          </a:xfrm>
        </p:grpSpPr>
        <p:grpSp>
          <p:nvGrpSpPr>
            <p:cNvPr id="386" name=""/>
            <p:cNvGrpSpPr/>
            <p:nvPr/>
          </p:nvGrpSpPr>
          <p:grpSpPr>
            <a:xfrm>
              <a:off x="331920" y="3500280"/>
              <a:ext cx="1709640" cy="1528920"/>
              <a:chOff x="331920" y="3500280"/>
              <a:chExt cx="1709640" cy="1528920"/>
            </a:xfrm>
          </p:grpSpPr>
          <p:sp>
            <p:nvSpPr>
              <p:cNvPr id="387" name=""/>
              <p:cNvSpPr/>
              <p:nvPr/>
            </p:nvSpPr>
            <p:spPr>
              <a:xfrm>
                <a:off x="351000" y="351936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31920" y="3500280"/>
                <a:ext cx="1709640" cy="1528920"/>
              </a:xfrm>
              <a:custGeom>
                <a:avLst/>
                <a:gdLst/>
                <a:ahLst/>
                <a:rect l="l" t="t" r="r" b="b"/>
                <a:pathLst>
                  <a:path w="1077" h="963">
                    <a:moveTo>
                      <a:pt x="113" y="878"/>
                    </a:moveTo>
                    <a:lnTo>
                      <a:pt x="539" y="878"/>
                    </a:lnTo>
                    <a:lnTo>
                      <a:pt x="539" y="963"/>
                    </a:lnTo>
                    <a:lnTo>
                      <a:pt x="28" y="963"/>
                    </a:lnTo>
                    <a:lnTo>
                      <a:pt x="0" y="935"/>
                    </a:lnTo>
                    <a:lnTo>
                      <a:pt x="0" y="907"/>
                    </a:lnTo>
                    <a:lnTo>
                      <a:pt x="482" y="28"/>
                    </a:lnTo>
                    <a:lnTo>
                      <a:pt x="510" y="0"/>
                    </a:lnTo>
                    <a:lnTo>
                      <a:pt x="567" y="0"/>
                    </a:lnTo>
                    <a:lnTo>
                      <a:pt x="595" y="28"/>
                    </a:lnTo>
                    <a:lnTo>
                      <a:pt x="1077" y="907"/>
                    </a:lnTo>
                    <a:lnTo>
                      <a:pt x="1077" y="935"/>
                    </a:lnTo>
                    <a:lnTo>
                      <a:pt x="1049" y="963"/>
                    </a:lnTo>
                    <a:lnTo>
                      <a:pt x="539" y="963"/>
                    </a:lnTo>
                    <a:lnTo>
                      <a:pt x="539" y="878"/>
                    </a:lnTo>
                    <a:lnTo>
                      <a:pt x="964" y="878"/>
                    </a:lnTo>
                    <a:lnTo>
                      <a:pt x="539" y="85"/>
                    </a:lnTo>
                    <a:lnTo>
                      <a:pt x="113" y="8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817560" y="4059360"/>
              <a:ext cx="585720" cy="764640"/>
              <a:chOff x="817560" y="4059360"/>
              <a:chExt cx="585720" cy="764640"/>
            </a:xfrm>
          </p:grpSpPr>
          <p:sp>
            <p:nvSpPr>
              <p:cNvPr id="390" name=""/>
              <p:cNvSpPr/>
              <p:nvPr/>
            </p:nvSpPr>
            <p:spPr>
              <a:xfrm>
                <a:off x="817560" y="4783680"/>
                <a:ext cx="58572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920520" y="4059360"/>
                <a:ext cx="195120" cy="670680"/>
              </a:xfrm>
              <a:custGeom>
                <a:avLst/>
                <a:gdLst/>
                <a:ahLst/>
                <a:rect l="l" t="t" r="r" b="b"/>
                <a:pathLst>
                  <a:path w="321" h="945">
                    <a:moveTo>
                      <a:pt x="217" y="47"/>
                    </a:moveTo>
                    <a:cubicBezTo>
                      <a:pt x="170" y="94"/>
                      <a:pt x="19" y="237"/>
                      <a:pt x="19" y="331"/>
                    </a:cubicBezTo>
                    <a:cubicBezTo>
                      <a:pt x="19" y="425"/>
                      <a:pt x="217" y="520"/>
                      <a:pt x="217" y="614"/>
                    </a:cubicBezTo>
                    <a:cubicBezTo>
                      <a:pt x="217" y="708"/>
                      <a:pt x="38" y="851"/>
                      <a:pt x="19" y="898"/>
                    </a:cubicBezTo>
                    <a:cubicBezTo>
                      <a:pt x="0" y="945"/>
                      <a:pt x="57" y="945"/>
                      <a:pt x="104" y="898"/>
                    </a:cubicBezTo>
                    <a:cubicBezTo>
                      <a:pt x="151" y="851"/>
                      <a:pt x="302" y="708"/>
                      <a:pt x="302" y="614"/>
                    </a:cubicBezTo>
                    <a:cubicBezTo>
                      <a:pt x="302" y="520"/>
                      <a:pt x="104" y="425"/>
                      <a:pt x="104" y="331"/>
                    </a:cubicBezTo>
                    <a:cubicBezTo>
                      <a:pt x="104" y="237"/>
                      <a:pt x="283" y="94"/>
                      <a:pt x="302" y="47"/>
                    </a:cubicBezTo>
                    <a:cubicBezTo>
                      <a:pt x="321" y="0"/>
                      <a:pt x="264" y="0"/>
                      <a:pt x="217" y="4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052640" y="4072680"/>
                <a:ext cx="195120" cy="670680"/>
              </a:xfrm>
              <a:custGeom>
                <a:avLst/>
                <a:gdLst/>
                <a:ahLst/>
                <a:rect l="l" t="t" r="r" b="b"/>
                <a:pathLst>
                  <a:path w="321" h="945">
                    <a:moveTo>
                      <a:pt x="217" y="47"/>
                    </a:moveTo>
                    <a:cubicBezTo>
                      <a:pt x="170" y="94"/>
                      <a:pt x="19" y="237"/>
                      <a:pt x="19" y="331"/>
                    </a:cubicBezTo>
                    <a:cubicBezTo>
                      <a:pt x="19" y="425"/>
                      <a:pt x="217" y="520"/>
                      <a:pt x="217" y="614"/>
                    </a:cubicBezTo>
                    <a:cubicBezTo>
                      <a:pt x="217" y="708"/>
                      <a:pt x="38" y="851"/>
                      <a:pt x="19" y="898"/>
                    </a:cubicBezTo>
                    <a:cubicBezTo>
                      <a:pt x="0" y="945"/>
                      <a:pt x="57" y="945"/>
                      <a:pt x="104" y="898"/>
                    </a:cubicBezTo>
                    <a:cubicBezTo>
                      <a:pt x="151" y="851"/>
                      <a:pt x="302" y="708"/>
                      <a:pt x="302" y="614"/>
                    </a:cubicBezTo>
                    <a:cubicBezTo>
                      <a:pt x="302" y="520"/>
                      <a:pt x="104" y="425"/>
                      <a:pt x="104" y="331"/>
                    </a:cubicBezTo>
                    <a:cubicBezTo>
                      <a:pt x="104" y="237"/>
                      <a:pt x="283" y="94"/>
                      <a:pt x="302" y="47"/>
                    </a:cubicBezTo>
                    <a:cubicBezTo>
                      <a:pt x="321" y="0"/>
                      <a:pt x="264" y="0"/>
                      <a:pt x="217" y="4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190520" y="4072680"/>
                <a:ext cx="195120" cy="670680"/>
              </a:xfrm>
              <a:custGeom>
                <a:avLst/>
                <a:gdLst/>
                <a:ahLst/>
                <a:rect l="l" t="t" r="r" b="b"/>
                <a:pathLst>
                  <a:path w="321" h="945">
                    <a:moveTo>
                      <a:pt x="217" y="47"/>
                    </a:moveTo>
                    <a:cubicBezTo>
                      <a:pt x="170" y="94"/>
                      <a:pt x="19" y="237"/>
                      <a:pt x="19" y="331"/>
                    </a:cubicBezTo>
                    <a:cubicBezTo>
                      <a:pt x="19" y="425"/>
                      <a:pt x="217" y="520"/>
                      <a:pt x="217" y="614"/>
                    </a:cubicBezTo>
                    <a:cubicBezTo>
                      <a:pt x="217" y="708"/>
                      <a:pt x="38" y="851"/>
                      <a:pt x="19" y="898"/>
                    </a:cubicBezTo>
                    <a:cubicBezTo>
                      <a:pt x="0" y="945"/>
                      <a:pt x="57" y="945"/>
                      <a:pt x="104" y="898"/>
                    </a:cubicBezTo>
                    <a:cubicBezTo>
                      <a:pt x="151" y="851"/>
                      <a:pt x="302" y="708"/>
                      <a:pt x="302" y="614"/>
                    </a:cubicBezTo>
                    <a:cubicBezTo>
                      <a:pt x="302" y="520"/>
                      <a:pt x="104" y="425"/>
                      <a:pt x="104" y="331"/>
                    </a:cubicBezTo>
                    <a:cubicBezTo>
                      <a:pt x="104" y="237"/>
                      <a:pt x="283" y="94"/>
                      <a:pt x="302" y="47"/>
                    </a:cubicBezTo>
                    <a:cubicBezTo>
                      <a:pt x="321" y="0"/>
                      <a:pt x="264" y="0"/>
                      <a:pt x="217" y="4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4" name=""/>
          <p:cNvGrpSpPr/>
          <p:nvPr/>
        </p:nvGrpSpPr>
        <p:grpSpPr>
          <a:xfrm>
            <a:off x="326880" y="5094360"/>
            <a:ext cx="1719360" cy="1535040"/>
            <a:chOff x="326880" y="5094360"/>
            <a:chExt cx="1719360" cy="1535040"/>
          </a:xfrm>
        </p:grpSpPr>
        <p:grpSp>
          <p:nvGrpSpPr>
            <p:cNvPr id="395" name=""/>
            <p:cNvGrpSpPr/>
            <p:nvPr/>
          </p:nvGrpSpPr>
          <p:grpSpPr>
            <a:xfrm>
              <a:off x="326880" y="5094360"/>
              <a:ext cx="1719360" cy="1535040"/>
              <a:chOff x="326880" y="5094360"/>
              <a:chExt cx="1719360" cy="1535040"/>
            </a:xfrm>
          </p:grpSpPr>
          <p:sp>
            <p:nvSpPr>
              <p:cNvPr id="396" name=""/>
              <p:cNvSpPr/>
              <p:nvPr/>
            </p:nvSpPr>
            <p:spPr>
              <a:xfrm>
                <a:off x="351000" y="5116680"/>
                <a:ext cx="1670040" cy="149040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26880" y="5094360"/>
                <a:ext cx="1719360" cy="1535040"/>
              </a:xfrm>
              <a:custGeom>
                <a:avLst/>
                <a:gdLst/>
                <a:ahLst/>
                <a:rect l="l" t="t" r="r" b="b"/>
                <a:pathLst>
                  <a:path w="1083" h="967">
                    <a:moveTo>
                      <a:pt x="177" y="851"/>
                    </a:moveTo>
                    <a:lnTo>
                      <a:pt x="184" y="854"/>
                    </a:lnTo>
                    <a:lnTo>
                      <a:pt x="541" y="854"/>
                    </a:lnTo>
                    <a:lnTo>
                      <a:pt x="541" y="967"/>
                    </a:lnTo>
                    <a:lnTo>
                      <a:pt x="30" y="967"/>
                    </a:lnTo>
                    <a:lnTo>
                      <a:pt x="16" y="957"/>
                    </a:lnTo>
                    <a:lnTo>
                      <a:pt x="2" y="939"/>
                    </a:lnTo>
                    <a:lnTo>
                      <a:pt x="0" y="923"/>
                    </a:lnTo>
                    <a:lnTo>
                      <a:pt x="2" y="911"/>
                    </a:lnTo>
                    <a:lnTo>
                      <a:pt x="484" y="32"/>
                    </a:lnTo>
                    <a:lnTo>
                      <a:pt x="493" y="17"/>
                    </a:lnTo>
                    <a:lnTo>
                      <a:pt x="512" y="4"/>
                    </a:lnTo>
                    <a:lnTo>
                      <a:pt x="541" y="0"/>
                    </a:lnTo>
                    <a:lnTo>
                      <a:pt x="569" y="4"/>
                    </a:lnTo>
                    <a:lnTo>
                      <a:pt x="585" y="18"/>
                    </a:lnTo>
                    <a:lnTo>
                      <a:pt x="597" y="32"/>
                    </a:lnTo>
                    <a:lnTo>
                      <a:pt x="1079" y="911"/>
                    </a:lnTo>
                    <a:lnTo>
                      <a:pt x="1083" y="926"/>
                    </a:lnTo>
                    <a:lnTo>
                      <a:pt x="1079" y="939"/>
                    </a:lnTo>
                    <a:lnTo>
                      <a:pt x="1068" y="956"/>
                    </a:lnTo>
                    <a:lnTo>
                      <a:pt x="1051" y="967"/>
                    </a:lnTo>
                    <a:lnTo>
                      <a:pt x="541" y="967"/>
                    </a:lnTo>
                    <a:lnTo>
                      <a:pt x="541" y="854"/>
                    </a:lnTo>
                    <a:lnTo>
                      <a:pt x="895" y="854"/>
                    </a:lnTo>
                    <a:lnTo>
                      <a:pt x="901" y="846"/>
                    </a:lnTo>
                    <a:lnTo>
                      <a:pt x="900" y="839"/>
                    </a:lnTo>
                    <a:lnTo>
                      <a:pt x="550" y="194"/>
                    </a:lnTo>
                    <a:lnTo>
                      <a:pt x="541" y="185"/>
                    </a:lnTo>
                    <a:lnTo>
                      <a:pt x="529" y="194"/>
                    </a:lnTo>
                    <a:lnTo>
                      <a:pt x="178" y="845"/>
                    </a:lnTo>
                    <a:lnTo>
                      <a:pt x="177" y="8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812880" y="5724360"/>
              <a:ext cx="630000" cy="675000"/>
              <a:chOff x="812880" y="5724360"/>
              <a:chExt cx="630000" cy="675000"/>
            </a:xfrm>
          </p:grpSpPr>
          <p:sp>
            <p:nvSpPr>
              <p:cNvPr id="399" name=""/>
              <p:cNvSpPr/>
              <p:nvPr/>
            </p:nvSpPr>
            <p:spPr>
              <a:xfrm>
                <a:off x="921600" y="5724360"/>
                <a:ext cx="161280" cy="564840"/>
              </a:xfrm>
              <a:custGeom>
                <a:avLst/>
                <a:gdLst/>
                <a:ahLst/>
                <a:rect l="l" t="t" r="r" b="b"/>
                <a:pathLst>
                  <a:path w="378" h="1423">
                    <a:moveTo>
                      <a:pt x="203" y="76"/>
                    </a:moveTo>
                    <a:cubicBezTo>
                      <a:pt x="142" y="152"/>
                      <a:pt x="5" y="388"/>
                      <a:pt x="5" y="530"/>
                    </a:cubicBezTo>
                    <a:cubicBezTo>
                      <a:pt x="5" y="672"/>
                      <a:pt x="203" y="790"/>
                      <a:pt x="203" y="927"/>
                    </a:cubicBezTo>
                    <a:cubicBezTo>
                      <a:pt x="203" y="1064"/>
                      <a:pt x="10" y="1281"/>
                      <a:pt x="5" y="1352"/>
                    </a:cubicBezTo>
                    <a:cubicBezTo>
                      <a:pt x="0" y="1423"/>
                      <a:pt x="114" y="1423"/>
                      <a:pt x="175" y="1352"/>
                    </a:cubicBezTo>
                    <a:cubicBezTo>
                      <a:pt x="236" y="1281"/>
                      <a:pt x="373" y="1069"/>
                      <a:pt x="373" y="927"/>
                    </a:cubicBezTo>
                    <a:cubicBezTo>
                      <a:pt x="373" y="785"/>
                      <a:pt x="175" y="644"/>
                      <a:pt x="175" y="502"/>
                    </a:cubicBezTo>
                    <a:cubicBezTo>
                      <a:pt x="175" y="360"/>
                      <a:pt x="368" y="147"/>
                      <a:pt x="373" y="76"/>
                    </a:cubicBezTo>
                    <a:cubicBezTo>
                      <a:pt x="378" y="5"/>
                      <a:pt x="264" y="0"/>
                      <a:pt x="203" y="7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067040" y="5724360"/>
                <a:ext cx="161280" cy="564840"/>
              </a:xfrm>
              <a:custGeom>
                <a:avLst/>
                <a:gdLst/>
                <a:ahLst/>
                <a:rect l="l" t="t" r="r" b="b"/>
                <a:pathLst>
                  <a:path w="378" h="1423">
                    <a:moveTo>
                      <a:pt x="203" y="76"/>
                    </a:moveTo>
                    <a:cubicBezTo>
                      <a:pt x="142" y="152"/>
                      <a:pt x="5" y="388"/>
                      <a:pt x="5" y="530"/>
                    </a:cubicBezTo>
                    <a:cubicBezTo>
                      <a:pt x="5" y="672"/>
                      <a:pt x="203" y="790"/>
                      <a:pt x="203" y="927"/>
                    </a:cubicBezTo>
                    <a:cubicBezTo>
                      <a:pt x="203" y="1064"/>
                      <a:pt x="10" y="1281"/>
                      <a:pt x="5" y="1352"/>
                    </a:cubicBezTo>
                    <a:cubicBezTo>
                      <a:pt x="0" y="1423"/>
                      <a:pt x="114" y="1423"/>
                      <a:pt x="175" y="1352"/>
                    </a:cubicBezTo>
                    <a:cubicBezTo>
                      <a:pt x="236" y="1281"/>
                      <a:pt x="373" y="1069"/>
                      <a:pt x="373" y="927"/>
                    </a:cubicBezTo>
                    <a:cubicBezTo>
                      <a:pt x="373" y="785"/>
                      <a:pt x="175" y="644"/>
                      <a:pt x="175" y="502"/>
                    </a:cubicBezTo>
                    <a:cubicBezTo>
                      <a:pt x="175" y="360"/>
                      <a:pt x="368" y="147"/>
                      <a:pt x="373" y="76"/>
                    </a:cubicBezTo>
                    <a:cubicBezTo>
                      <a:pt x="378" y="5"/>
                      <a:pt x="264" y="0"/>
                      <a:pt x="203" y="7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212480" y="5724360"/>
                <a:ext cx="161280" cy="564840"/>
              </a:xfrm>
              <a:custGeom>
                <a:avLst/>
                <a:gdLst/>
                <a:ahLst/>
                <a:rect l="l" t="t" r="r" b="b"/>
                <a:pathLst>
                  <a:path w="378" h="1423">
                    <a:moveTo>
                      <a:pt x="203" y="76"/>
                    </a:moveTo>
                    <a:cubicBezTo>
                      <a:pt x="142" y="152"/>
                      <a:pt x="5" y="388"/>
                      <a:pt x="5" y="530"/>
                    </a:cubicBezTo>
                    <a:cubicBezTo>
                      <a:pt x="5" y="672"/>
                      <a:pt x="203" y="790"/>
                      <a:pt x="203" y="927"/>
                    </a:cubicBezTo>
                    <a:cubicBezTo>
                      <a:pt x="203" y="1064"/>
                      <a:pt x="10" y="1281"/>
                      <a:pt x="5" y="1352"/>
                    </a:cubicBezTo>
                    <a:cubicBezTo>
                      <a:pt x="0" y="1423"/>
                      <a:pt x="114" y="1423"/>
                      <a:pt x="175" y="1352"/>
                    </a:cubicBezTo>
                    <a:cubicBezTo>
                      <a:pt x="236" y="1281"/>
                      <a:pt x="373" y="1069"/>
                      <a:pt x="373" y="927"/>
                    </a:cubicBezTo>
                    <a:cubicBezTo>
                      <a:pt x="373" y="785"/>
                      <a:pt x="175" y="644"/>
                      <a:pt x="175" y="502"/>
                    </a:cubicBezTo>
                    <a:cubicBezTo>
                      <a:pt x="175" y="360"/>
                      <a:pt x="368" y="147"/>
                      <a:pt x="373" y="76"/>
                    </a:cubicBezTo>
                    <a:cubicBezTo>
                      <a:pt x="378" y="5"/>
                      <a:pt x="264" y="0"/>
                      <a:pt x="203" y="7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12880" y="6332040"/>
                <a:ext cx="630000" cy="67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3" name=""/>
          <p:cNvGrpSpPr/>
          <p:nvPr/>
        </p:nvGrpSpPr>
        <p:grpSpPr>
          <a:xfrm>
            <a:off x="2217600" y="5114880"/>
            <a:ext cx="1719360" cy="1535040"/>
            <a:chOff x="2217600" y="5114880"/>
            <a:chExt cx="1719360" cy="1535040"/>
          </a:xfrm>
        </p:grpSpPr>
        <p:grpSp>
          <p:nvGrpSpPr>
            <p:cNvPr id="404" name=""/>
            <p:cNvGrpSpPr/>
            <p:nvPr/>
          </p:nvGrpSpPr>
          <p:grpSpPr>
            <a:xfrm>
              <a:off x="2217600" y="5114880"/>
              <a:ext cx="1719360" cy="1535040"/>
              <a:chOff x="2217600" y="5114880"/>
              <a:chExt cx="1719360" cy="1535040"/>
            </a:xfrm>
          </p:grpSpPr>
          <p:sp>
            <p:nvSpPr>
              <p:cNvPr id="405" name=""/>
              <p:cNvSpPr/>
              <p:nvPr/>
            </p:nvSpPr>
            <p:spPr>
              <a:xfrm>
                <a:off x="2241720" y="513720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17600" y="5114880"/>
                <a:ext cx="1719360" cy="1535040"/>
              </a:xfrm>
              <a:custGeom>
                <a:avLst/>
                <a:gdLst/>
                <a:ahLst/>
                <a:rect l="l" t="t" r="r" b="b"/>
                <a:pathLst>
                  <a:path w="1083" h="967">
                    <a:moveTo>
                      <a:pt x="177" y="851"/>
                    </a:moveTo>
                    <a:lnTo>
                      <a:pt x="184" y="854"/>
                    </a:lnTo>
                    <a:lnTo>
                      <a:pt x="541" y="854"/>
                    </a:lnTo>
                    <a:lnTo>
                      <a:pt x="541" y="967"/>
                    </a:lnTo>
                    <a:lnTo>
                      <a:pt x="30" y="967"/>
                    </a:lnTo>
                    <a:lnTo>
                      <a:pt x="16" y="957"/>
                    </a:lnTo>
                    <a:lnTo>
                      <a:pt x="2" y="939"/>
                    </a:lnTo>
                    <a:lnTo>
                      <a:pt x="0" y="923"/>
                    </a:lnTo>
                    <a:lnTo>
                      <a:pt x="2" y="911"/>
                    </a:lnTo>
                    <a:lnTo>
                      <a:pt x="484" y="32"/>
                    </a:lnTo>
                    <a:lnTo>
                      <a:pt x="493" y="17"/>
                    </a:lnTo>
                    <a:lnTo>
                      <a:pt x="512" y="4"/>
                    </a:lnTo>
                    <a:lnTo>
                      <a:pt x="541" y="0"/>
                    </a:lnTo>
                    <a:lnTo>
                      <a:pt x="569" y="4"/>
                    </a:lnTo>
                    <a:lnTo>
                      <a:pt x="585" y="18"/>
                    </a:lnTo>
                    <a:lnTo>
                      <a:pt x="597" y="32"/>
                    </a:lnTo>
                    <a:lnTo>
                      <a:pt x="1079" y="911"/>
                    </a:lnTo>
                    <a:lnTo>
                      <a:pt x="1083" y="926"/>
                    </a:lnTo>
                    <a:lnTo>
                      <a:pt x="1079" y="939"/>
                    </a:lnTo>
                    <a:lnTo>
                      <a:pt x="1068" y="956"/>
                    </a:lnTo>
                    <a:lnTo>
                      <a:pt x="1051" y="967"/>
                    </a:lnTo>
                    <a:lnTo>
                      <a:pt x="541" y="967"/>
                    </a:lnTo>
                    <a:lnTo>
                      <a:pt x="541" y="854"/>
                    </a:lnTo>
                    <a:lnTo>
                      <a:pt x="895" y="854"/>
                    </a:lnTo>
                    <a:lnTo>
                      <a:pt x="901" y="846"/>
                    </a:lnTo>
                    <a:lnTo>
                      <a:pt x="900" y="839"/>
                    </a:lnTo>
                    <a:lnTo>
                      <a:pt x="550" y="194"/>
                    </a:lnTo>
                    <a:lnTo>
                      <a:pt x="541" y="185"/>
                    </a:lnTo>
                    <a:lnTo>
                      <a:pt x="529" y="194"/>
                    </a:lnTo>
                    <a:lnTo>
                      <a:pt x="178" y="845"/>
                    </a:lnTo>
                    <a:lnTo>
                      <a:pt x="177" y="8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2703600" y="5724360"/>
              <a:ext cx="630000" cy="675000"/>
              <a:chOff x="2703600" y="5724360"/>
              <a:chExt cx="630000" cy="675000"/>
            </a:xfrm>
          </p:grpSpPr>
          <p:sp>
            <p:nvSpPr>
              <p:cNvPr id="408" name=""/>
              <p:cNvSpPr/>
              <p:nvPr/>
            </p:nvSpPr>
            <p:spPr>
              <a:xfrm>
                <a:off x="2812320" y="5724360"/>
                <a:ext cx="161280" cy="564840"/>
              </a:xfrm>
              <a:custGeom>
                <a:avLst/>
                <a:gdLst/>
                <a:ahLst/>
                <a:rect l="l" t="t" r="r" b="b"/>
                <a:pathLst>
                  <a:path w="378" h="1423">
                    <a:moveTo>
                      <a:pt x="203" y="76"/>
                    </a:moveTo>
                    <a:cubicBezTo>
                      <a:pt x="142" y="152"/>
                      <a:pt x="5" y="388"/>
                      <a:pt x="5" y="530"/>
                    </a:cubicBezTo>
                    <a:cubicBezTo>
                      <a:pt x="5" y="672"/>
                      <a:pt x="203" y="790"/>
                      <a:pt x="203" y="927"/>
                    </a:cubicBezTo>
                    <a:cubicBezTo>
                      <a:pt x="203" y="1064"/>
                      <a:pt x="10" y="1281"/>
                      <a:pt x="5" y="1352"/>
                    </a:cubicBezTo>
                    <a:cubicBezTo>
                      <a:pt x="0" y="1423"/>
                      <a:pt x="114" y="1423"/>
                      <a:pt x="175" y="1352"/>
                    </a:cubicBezTo>
                    <a:cubicBezTo>
                      <a:pt x="236" y="1281"/>
                      <a:pt x="373" y="1069"/>
                      <a:pt x="373" y="927"/>
                    </a:cubicBezTo>
                    <a:cubicBezTo>
                      <a:pt x="373" y="785"/>
                      <a:pt x="175" y="644"/>
                      <a:pt x="175" y="502"/>
                    </a:cubicBezTo>
                    <a:cubicBezTo>
                      <a:pt x="175" y="360"/>
                      <a:pt x="368" y="147"/>
                      <a:pt x="373" y="76"/>
                    </a:cubicBezTo>
                    <a:cubicBezTo>
                      <a:pt x="378" y="5"/>
                      <a:pt x="264" y="0"/>
                      <a:pt x="203" y="7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957760" y="5724360"/>
                <a:ext cx="161280" cy="564840"/>
              </a:xfrm>
              <a:custGeom>
                <a:avLst/>
                <a:gdLst/>
                <a:ahLst/>
                <a:rect l="l" t="t" r="r" b="b"/>
                <a:pathLst>
                  <a:path w="378" h="1423">
                    <a:moveTo>
                      <a:pt x="203" y="76"/>
                    </a:moveTo>
                    <a:cubicBezTo>
                      <a:pt x="142" y="152"/>
                      <a:pt x="5" y="388"/>
                      <a:pt x="5" y="530"/>
                    </a:cubicBezTo>
                    <a:cubicBezTo>
                      <a:pt x="5" y="672"/>
                      <a:pt x="203" y="790"/>
                      <a:pt x="203" y="927"/>
                    </a:cubicBezTo>
                    <a:cubicBezTo>
                      <a:pt x="203" y="1064"/>
                      <a:pt x="10" y="1281"/>
                      <a:pt x="5" y="1352"/>
                    </a:cubicBezTo>
                    <a:cubicBezTo>
                      <a:pt x="0" y="1423"/>
                      <a:pt x="114" y="1423"/>
                      <a:pt x="175" y="1352"/>
                    </a:cubicBezTo>
                    <a:cubicBezTo>
                      <a:pt x="236" y="1281"/>
                      <a:pt x="373" y="1069"/>
                      <a:pt x="373" y="927"/>
                    </a:cubicBezTo>
                    <a:cubicBezTo>
                      <a:pt x="373" y="785"/>
                      <a:pt x="175" y="644"/>
                      <a:pt x="175" y="502"/>
                    </a:cubicBezTo>
                    <a:cubicBezTo>
                      <a:pt x="175" y="360"/>
                      <a:pt x="368" y="147"/>
                      <a:pt x="373" y="76"/>
                    </a:cubicBezTo>
                    <a:cubicBezTo>
                      <a:pt x="378" y="5"/>
                      <a:pt x="264" y="0"/>
                      <a:pt x="203" y="7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103200" y="5724360"/>
                <a:ext cx="161280" cy="564840"/>
              </a:xfrm>
              <a:custGeom>
                <a:avLst/>
                <a:gdLst/>
                <a:ahLst/>
                <a:rect l="l" t="t" r="r" b="b"/>
                <a:pathLst>
                  <a:path w="378" h="1423">
                    <a:moveTo>
                      <a:pt x="203" y="76"/>
                    </a:moveTo>
                    <a:cubicBezTo>
                      <a:pt x="142" y="152"/>
                      <a:pt x="5" y="388"/>
                      <a:pt x="5" y="530"/>
                    </a:cubicBezTo>
                    <a:cubicBezTo>
                      <a:pt x="5" y="672"/>
                      <a:pt x="203" y="790"/>
                      <a:pt x="203" y="927"/>
                    </a:cubicBezTo>
                    <a:cubicBezTo>
                      <a:pt x="203" y="1064"/>
                      <a:pt x="10" y="1281"/>
                      <a:pt x="5" y="1352"/>
                    </a:cubicBezTo>
                    <a:cubicBezTo>
                      <a:pt x="0" y="1423"/>
                      <a:pt x="114" y="1423"/>
                      <a:pt x="175" y="1352"/>
                    </a:cubicBezTo>
                    <a:cubicBezTo>
                      <a:pt x="236" y="1281"/>
                      <a:pt x="373" y="1069"/>
                      <a:pt x="373" y="927"/>
                    </a:cubicBezTo>
                    <a:cubicBezTo>
                      <a:pt x="373" y="785"/>
                      <a:pt x="175" y="644"/>
                      <a:pt x="175" y="502"/>
                    </a:cubicBezTo>
                    <a:cubicBezTo>
                      <a:pt x="175" y="360"/>
                      <a:pt x="368" y="147"/>
                      <a:pt x="373" y="76"/>
                    </a:cubicBezTo>
                    <a:cubicBezTo>
                      <a:pt x="378" y="5"/>
                      <a:pt x="264" y="0"/>
                      <a:pt x="203" y="7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703600" y="6332040"/>
                <a:ext cx="630000" cy="67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2" name=""/>
          <p:cNvGrpSpPr/>
          <p:nvPr/>
        </p:nvGrpSpPr>
        <p:grpSpPr>
          <a:xfrm>
            <a:off x="4108320" y="5108400"/>
            <a:ext cx="1719360" cy="1535400"/>
            <a:chOff x="4108320" y="5108400"/>
            <a:chExt cx="1719360" cy="1535400"/>
          </a:xfrm>
        </p:grpSpPr>
        <p:grpSp>
          <p:nvGrpSpPr>
            <p:cNvPr id="413" name=""/>
            <p:cNvGrpSpPr/>
            <p:nvPr/>
          </p:nvGrpSpPr>
          <p:grpSpPr>
            <a:xfrm>
              <a:off x="4108320" y="5108400"/>
              <a:ext cx="1719360" cy="1535400"/>
              <a:chOff x="4108320" y="5108400"/>
              <a:chExt cx="1719360" cy="1535400"/>
            </a:xfrm>
          </p:grpSpPr>
          <p:sp>
            <p:nvSpPr>
              <p:cNvPr id="414" name=""/>
              <p:cNvSpPr/>
              <p:nvPr/>
            </p:nvSpPr>
            <p:spPr>
              <a:xfrm>
                <a:off x="4132440" y="513072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108320" y="5108400"/>
                <a:ext cx="1719360" cy="1535400"/>
              </a:xfrm>
              <a:custGeom>
                <a:avLst/>
                <a:gdLst/>
                <a:ahLst/>
                <a:rect l="l" t="t" r="r" b="b"/>
                <a:pathLst>
                  <a:path w="1083" h="967">
                    <a:moveTo>
                      <a:pt x="177" y="851"/>
                    </a:moveTo>
                    <a:lnTo>
                      <a:pt x="184" y="854"/>
                    </a:lnTo>
                    <a:lnTo>
                      <a:pt x="541" y="854"/>
                    </a:lnTo>
                    <a:lnTo>
                      <a:pt x="541" y="967"/>
                    </a:lnTo>
                    <a:lnTo>
                      <a:pt x="30" y="967"/>
                    </a:lnTo>
                    <a:lnTo>
                      <a:pt x="16" y="957"/>
                    </a:lnTo>
                    <a:lnTo>
                      <a:pt x="2" y="939"/>
                    </a:lnTo>
                    <a:lnTo>
                      <a:pt x="0" y="923"/>
                    </a:lnTo>
                    <a:lnTo>
                      <a:pt x="2" y="911"/>
                    </a:lnTo>
                    <a:lnTo>
                      <a:pt x="484" y="32"/>
                    </a:lnTo>
                    <a:lnTo>
                      <a:pt x="493" y="17"/>
                    </a:lnTo>
                    <a:lnTo>
                      <a:pt x="512" y="4"/>
                    </a:lnTo>
                    <a:lnTo>
                      <a:pt x="541" y="0"/>
                    </a:lnTo>
                    <a:lnTo>
                      <a:pt x="569" y="4"/>
                    </a:lnTo>
                    <a:lnTo>
                      <a:pt x="585" y="18"/>
                    </a:lnTo>
                    <a:lnTo>
                      <a:pt x="597" y="32"/>
                    </a:lnTo>
                    <a:lnTo>
                      <a:pt x="1079" y="911"/>
                    </a:lnTo>
                    <a:lnTo>
                      <a:pt x="1083" y="926"/>
                    </a:lnTo>
                    <a:lnTo>
                      <a:pt x="1079" y="939"/>
                    </a:lnTo>
                    <a:lnTo>
                      <a:pt x="1068" y="956"/>
                    </a:lnTo>
                    <a:lnTo>
                      <a:pt x="1051" y="967"/>
                    </a:lnTo>
                    <a:lnTo>
                      <a:pt x="541" y="967"/>
                    </a:lnTo>
                    <a:lnTo>
                      <a:pt x="541" y="854"/>
                    </a:lnTo>
                    <a:lnTo>
                      <a:pt x="895" y="854"/>
                    </a:lnTo>
                    <a:lnTo>
                      <a:pt x="901" y="846"/>
                    </a:lnTo>
                    <a:lnTo>
                      <a:pt x="900" y="839"/>
                    </a:lnTo>
                    <a:lnTo>
                      <a:pt x="550" y="194"/>
                    </a:lnTo>
                    <a:lnTo>
                      <a:pt x="541" y="185"/>
                    </a:lnTo>
                    <a:lnTo>
                      <a:pt x="529" y="194"/>
                    </a:lnTo>
                    <a:lnTo>
                      <a:pt x="178" y="845"/>
                    </a:lnTo>
                    <a:lnTo>
                      <a:pt x="177" y="8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608360" y="5724360"/>
              <a:ext cx="630360" cy="675000"/>
              <a:chOff x="4608360" y="5724360"/>
              <a:chExt cx="630360" cy="675000"/>
            </a:xfrm>
          </p:grpSpPr>
          <p:sp>
            <p:nvSpPr>
              <p:cNvPr id="417" name=""/>
              <p:cNvSpPr/>
              <p:nvPr/>
            </p:nvSpPr>
            <p:spPr>
              <a:xfrm>
                <a:off x="4717080" y="5724360"/>
                <a:ext cx="161640" cy="564840"/>
              </a:xfrm>
              <a:custGeom>
                <a:avLst/>
                <a:gdLst/>
                <a:ahLst/>
                <a:rect l="l" t="t" r="r" b="b"/>
                <a:pathLst>
                  <a:path w="378" h="1423">
                    <a:moveTo>
                      <a:pt x="203" y="76"/>
                    </a:moveTo>
                    <a:cubicBezTo>
                      <a:pt x="142" y="152"/>
                      <a:pt x="5" y="388"/>
                      <a:pt x="5" y="530"/>
                    </a:cubicBezTo>
                    <a:cubicBezTo>
                      <a:pt x="5" y="672"/>
                      <a:pt x="203" y="790"/>
                      <a:pt x="203" y="927"/>
                    </a:cubicBezTo>
                    <a:cubicBezTo>
                      <a:pt x="203" y="1064"/>
                      <a:pt x="10" y="1281"/>
                      <a:pt x="5" y="1352"/>
                    </a:cubicBezTo>
                    <a:cubicBezTo>
                      <a:pt x="0" y="1423"/>
                      <a:pt x="114" y="1423"/>
                      <a:pt x="175" y="1352"/>
                    </a:cubicBezTo>
                    <a:cubicBezTo>
                      <a:pt x="236" y="1281"/>
                      <a:pt x="373" y="1069"/>
                      <a:pt x="373" y="927"/>
                    </a:cubicBezTo>
                    <a:cubicBezTo>
                      <a:pt x="373" y="785"/>
                      <a:pt x="175" y="644"/>
                      <a:pt x="175" y="502"/>
                    </a:cubicBezTo>
                    <a:cubicBezTo>
                      <a:pt x="175" y="360"/>
                      <a:pt x="368" y="147"/>
                      <a:pt x="373" y="76"/>
                    </a:cubicBezTo>
                    <a:cubicBezTo>
                      <a:pt x="378" y="5"/>
                      <a:pt x="264" y="0"/>
                      <a:pt x="203" y="7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862880" y="5724360"/>
                <a:ext cx="161640" cy="564840"/>
              </a:xfrm>
              <a:custGeom>
                <a:avLst/>
                <a:gdLst/>
                <a:ahLst/>
                <a:rect l="l" t="t" r="r" b="b"/>
                <a:pathLst>
                  <a:path w="378" h="1423">
                    <a:moveTo>
                      <a:pt x="203" y="76"/>
                    </a:moveTo>
                    <a:cubicBezTo>
                      <a:pt x="142" y="152"/>
                      <a:pt x="5" y="388"/>
                      <a:pt x="5" y="530"/>
                    </a:cubicBezTo>
                    <a:cubicBezTo>
                      <a:pt x="5" y="672"/>
                      <a:pt x="203" y="790"/>
                      <a:pt x="203" y="927"/>
                    </a:cubicBezTo>
                    <a:cubicBezTo>
                      <a:pt x="203" y="1064"/>
                      <a:pt x="10" y="1281"/>
                      <a:pt x="5" y="1352"/>
                    </a:cubicBezTo>
                    <a:cubicBezTo>
                      <a:pt x="0" y="1423"/>
                      <a:pt x="114" y="1423"/>
                      <a:pt x="175" y="1352"/>
                    </a:cubicBezTo>
                    <a:cubicBezTo>
                      <a:pt x="236" y="1281"/>
                      <a:pt x="373" y="1069"/>
                      <a:pt x="373" y="927"/>
                    </a:cubicBezTo>
                    <a:cubicBezTo>
                      <a:pt x="373" y="785"/>
                      <a:pt x="175" y="644"/>
                      <a:pt x="175" y="502"/>
                    </a:cubicBezTo>
                    <a:cubicBezTo>
                      <a:pt x="175" y="360"/>
                      <a:pt x="368" y="147"/>
                      <a:pt x="373" y="76"/>
                    </a:cubicBezTo>
                    <a:cubicBezTo>
                      <a:pt x="378" y="5"/>
                      <a:pt x="264" y="0"/>
                      <a:pt x="203" y="7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008320" y="5724360"/>
                <a:ext cx="161640" cy="564840"/>
              </a:xfrm>
              <a:custGeom>
                <a:avLst/>
                <a:gdLst/>
                <a:ahLst/>
                <a:rect l="l" t="t" r="r" b="b"/>
                <a:pathLst>
                  <a:path w="378" h="1423">
                    <a:moveTo>
                      <a:pt x="203" y="76"/>
                    </a:moveTo>
                    <a:cubicBezTo>
                      <a:pt x="142" y="152"/>
                      <a:pt x="5" y="388"/>
                      <a:pt x="5" y="530"/>
                    </a:cubicBezTo>
                    <a:cubicBezTo>
                      <a:pt x="5" y="672"/>
                      <a:pt x="203" y="790"/>
                      <a:pt x="203" y="927"/>
                    </a:cubicBezTo>
                    <a:cubicBezTo>
                      <a:pt x="203" y="1064"/>
                      <a:pt x="10" y="1281"/>
                      <a:pt x="5" y="1352"/>
                    </a:cubicBezTo>
                    <a:cubicBezTo>
                      <a:pt x="0" y="1423"/>
                      <a:pt x="114" y="1423"/>
                      <a:pt x="175" y="1352"/>
                    </a:cubicBezTo>
                    <a:cubicBezTo>
                      <a:pt x="236" y="1281"/>
                      <a:pt x="373" y="1069"/>
                      <a:pt x="373" y="927"/>
                    </a:cubicBezTo>
                    <a:cubicBezTo>
                      <a:pt x="373" y="785"/>
                      <a:pt x="175" y="644"/>
                      <a:pt x="175" y="502"/>
                    </a:cubicBezTo>
                    <a:cubicBezTo>
                      <a:pt x="175" y="360"/>
                      <a:pt x="368" y="147"/>
                      <a:pt x="373" y="76"/>
                    </a:cubicBezTo>
                    <a:cubicBezTo>
                      <a:pt x="378" y="5"/>
                      <a:pt x="264" y="0"/>
                      <a:pt x="203" y="7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608360" y="6332040"/>
                <a:ext cx="630360" cy="67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1" name=""/>
          <p:cNvGrpSpPr/>
          <p:nvPr/>
        </p:nvGrpSpPr>
        <p:grpSpPr>
          <a:xfrm>
            <a:off x="5987880" y="5094360"/>
            <a:ext cx="1719360" cy="1535040"/>
            <a:chOff x="5987880" y="5094360"/>
            <a:chExt cx="1719360" cy="1535040"/>
          </a:xfrm>
        </p:grpSpPr>
        <p:grpSp>
          <p:nvGrpSpPr>
            <p:cNvPr id="422" name=""/>
            <p:cNvGrpSpPr/>
            <p:nvPr/>
          </p:nvGrpSpPr>
          <p:grpSpPr>
            <a:xfrm>
              <a:off x="5987880" y="5094360"/>
              <a:ext cx="1719360" cy="1535040"/>
              <a:chOff x="5987880" y="5094360"/>
              <a:chExt cx="1719360" cy="1535040"/>
            </a:xfrm>
          </p:grpSpPr>
          <p:sp>
            <p:nvSpPr>
              <p:cNvPr id="423" name=""/>
              <p:cNvSpPr/>
              <p:nvPr/>
            </p:nvSpPr>
            <p:spPr>
              <a:xfrm>
                <a:off x="6011640" y="5116680"/>
                <a:ext cx="1670040" cy="149040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987880" y="5094360"/>
                <a:ext cx="1719360" cy="1535040"/>
              </a:xfrm>
              <a:custGeom>
                <a:avLst/>
                <a:gdLst/>
                <a:ahLst/>
                <a:rect l="l" t="t" r="r" b="b"/>
                <a:pathLst>
                  <a:path w="1083" h="967">
                    <a:moveTo>
                      <a:pt x="177" y="851"/>
                    </a:moveTo>
                    <a:lnTo>
                      <a:pt x="184" y="854"/>
                    </a:lnTo>
                    <a:lnTo>
                      <a:pt x="541" y="854"/>
                    </a:lnTo>
                    <a:lnTo>
                      <a:pt x="541" y="967"/>
                    </a:lnTo>
                    <a:lnTo>
                      <a:pt x="30" y="967"/>
                    </a:lnTo>
                    <a:lnTo>
                      <a:pt x="16" y="957"/>
                    </a:lnTo>
                    <a:lnTo>
                      <a:pt x="2" y="939"/>
                    </a:lnTo>
                    <a:lnTo>
                      <a:pt x="0" y="923"/>
                    </a:lnTo>
                    <a:lnTo>
                      <a:pt x="2" y="911"/>
                    </a:lnTo>
                    <a:lnTo>
                      <a:pt x="484" y="32"/>
                    </a:lnTo>
                    <a:lnTo>
                      <a:pt x="493" y="17"/>
                    </a:lnTo>
                    <a:lnTo>
                      <a:pt x="512" y="4"/>
                    </a:lnTo>
                    <a:lnTo>
                      <a:pt x="541" y="0"/>
                    </a:lnTo>
                    <a:lnTo>
                      <a:pt x="569" y="4"/>
                    </a:lnTo>
                    <a:lnTo>
                      <a:pt x="585" y="18"/>
                    </a:lnTo>
                    <a:lnTo>
                      <a:pt x="597" y="32"/>
                    </a:lnTo>
                    <a:lnTo>
                      <a:pt x="1079" y="911"/>
                    </a:lnTo>
                    <a:lnTo>
                      <a:pt x="1083" y="926"/>
                    </a:lnTo>
                    <a:lnTo>
                      <a:pt x="1079" y="939"/>
                    </a:lnTo>
                    <a:lnTo>
                      <a:pt x="1068" y="956"/>
                    </a:lnTo>
                    <a:lnTo>
                      <a:pt x="1051" y="967"/>
                    </a:lnTo>
                    <a:lnTo>
                      <a:pt x="541" y="967"/>
                    </a:lnTo>
                    <a:lnTo>
                      <a:pt x="541" y="854"/>
                    </a:lnTo>
                    <a:lnTo>
                      <a:pt x="895" y="854"/>
                    </a:lnTo>
                    <a:lnTo>
                      <a:pt x="901" y="846"/>
                    </a:lnTo>
                    <a:lnTo>
                      <a:pt x="900" y="839"/>
                    </a:lnTo>
                    <a:lnTo>
                      <a:pt x="550" y="194"/>
                    </a:lnTo>
                    <a:lnTo>
                      <a:pt x="541" y="185"/>
                    </a:lnTo>
                    <a:lnTo>
                      <a:pt x="529" y="194"/>
                    </a:lnTo>
                    <a:lnTo>
                      <a:pt x="178" y="845"/>
                    </a:lnTo>
                    <a:lnTo>
                      <a:pt x="177" y="8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6456240" y="5724360"/>
              <a:ext cx="630360" cy="675000"/>
              <a:chOff x="6456240" y="5724360"/>
              <a:chExt cx="630360" cy="675000"/>
            </a:xfrm>
          </p:grpSpPr>
          <p:sp>
            <p:nvSpPr>
              <p:cNvPr id="426" name=""/>
              <p:cNvSpPr/>
              <p:nvPr/>
            </p:nvSpPr>
            <p:spPr>
              <a:xfrm>
                <a:off x="6564960" y="5724360"/>
                <a:ext cx="161640" cy="564840"/>
              </a:xfrm>
              <a:custGeom>
                <a:avLst/>
                <a:gdLst/>
                <a:ahLst/>
                <a:rect l="l" t="t" r="r" b="b"/>
                <a:pathLst>
                  <a:path w="378" h="1423">
                    <a:moveTo>
                      <a:pt x="203" y="76"/>
                    </a:moveTo>
                    <a:cubicBezTo>
                      <a:pt x="142" y="152"/>
                      <a:pt x="5" y="388"/>
                      <a:pt x="5" y="530"/>
                    </a:cubicBezTo>
                    <a:cubicBezTo>
                      <a:pt x="5" y="672"/>
                      <a:pt x="203" y="790"/>
                      <a:pt x="203" y="927"/>
                    </a:cubicBezTo>
                    <a:cubicBezTo>
                      <a:pt x="203" y="1064"/>
                      <a:pt x="10" y="1281"/>
                      <a:pt x="5" y="1352"/>
                    </a:cubicBezTo>
                    <a:cubicBezTo>
                      <a:pt x="0" y="1423"/>
                      <a:pt x="114" y="1423"/>
                      <a:pt x="175" y="1352"/>
                    </a:cubicBezTo>
                    <a:cubicBezTo>
                      <a:pt x="236" y="1281"/>
                      <a:pt x="373" y="1069"/>
                      <a:pt x="373" y="927"/>
                    </a:cubicBezTo>
                    <a:cubicBezTo>
                      <a:pt x="373" y="785"/>
                      <a:pt x="175" y="644"/>
                      <a:pt x="175" y="502"/>
                    </a:cubicBezTo>
                    <a:cubicBezTo>
                      <a:pt x="175" y="360"/>
                      <a:pt x="368" y="147"/>
                      <a:pt x="373" y="76"/>
                    </a:cubicBezTo>
                    <a:cubicBezTo>
                      <a:pt x="378" y="5"/>
                      <a:pt x="264" y="0"/>
                      <a:pt x="203" y="7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710760" y="5724360"/>
                <a:ext cx="161640" cy="564840"/>
              </a:xfrm>
              <a:custGeom>
                <a:avLst/>
                <a:gdLst/>
                <a:ahLst/>
                <a:rect l="l" t="t" r="r" b="b"/>
                <a:pathLst>
                  <a:path w="378" h="1423">
                    <a:moveTo>
                      <a:pt x="203" y="76"/>
                    </a:moveTo>
                    <a:cubicBezTo>
                      <a:pt x="142" y="152"/>
                      <a:pt x="5" y="388"/>
                      <a:pt x="5" y="530"/>
                    </a:cubicBezTo>
                    <a:cubicBezTo>
                      <a:pt x="5" y="672"/>
                      <a:pt x="203" y="790"/>
                      <a:pt x="203" y="927"/>
                    </a:cubicBezTo>
                    <a:cubicBezTo>
                      <a:pt x="203" y="1064"/>
                      <a:pt x="10" y="1281"/>
                      <a:pt x="5" y="1352"/>
                    </a:cubicBezTo>
                    <a:cubicBezTo>
                      <a:pt x="0" y="1423"/>
                      <a:pt x="114" y="1423"/>
                      <a:pt x="175" y="1352"/>
                    </a:cubicBezTo>
                    <a:cubicBezTo>
                      <a:pt x="236" y="1281"/>
                      <a:pt x="373" y="1069"/>
                      <a:pt x="373" y="927"/>
                    </a:cubicBezTo>
                    <a:cubicBezTo>
                      <a:pt x="373" y="785"/>
                      <a:pt x="175" y="644"/>
                      <a:pt x="175" y="502"/>
                    </a:cubicBezTo>
                    <a:cubicBezTo>
                      <a:pt x="175" y="360"/>
                      <a:pt x="368" y="147"/>
                      <a:pt x="373" y="76"/>
                    </a:cubicBezTo>
                    <a:cubicBezTo>
                      <a:pt x="378" y="5"/>
                      <a:pt x="264" y="0"/>
                      <a:pt x="203" y="7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856200" y="5724360"/>
                <a:ext cx="161640" cy="564840"/>
              </a:xfrm>
              <a:custGeom>
                <a:avLst/>
                <a:gdLst/>
                <a:ahLst/>
                <a:rect l="l" t="t" r="r" b="b"/>
                <a:pathLst>
                  <a:path w="378" h="1423">
                    <a:moveTo>
                      <a:pt x="203" y="76"/>
                    </a:moveTo>
                    <a:cubicBezTo>
                      <a:pt x="142" y="152"/>
                      <a:pt x="5" y="388"/>
                      <a:pt x="5" y="530"/>
                    </a:cubicBezTo>
                    <a:cubicBezTo>
                      <a:pt x="5" y="672"/>
                      <a:pt x="203" y="790"/>
                      <a:pt x="203" y="927"/>
                    </a:cubicBezTo>
                    <a:cubicBezTo>
                      <a:pt x="203" y="1064"/>
                      <a:pt x="10" y="1281"/>
                      <a:pt x="5" y="1352"/>
                    </a:cubicBezTo>
                    <a:cubicBezTo>
                      <a:pt x="0" y="1423"/>
                      <a:pt x="114" y="1423"/>
                      <a:pt x="175" y="1352"/>
                    </a:cubicBezTo>
                    <a:cubicBezTo>
                      <a:pt x="236" y="1281"/>
                      <a:pt x="373" y="1069"/>
                      <a:pt x="373" y="927"/>
                    </a:cubicBezTo>
                    <a:cubicBezTo>
                      <a:pt x="373" y="785"/>
                      <a:pt x="175" y="644"/>
                      <a:pt x="175" y="502"/>
                    </a:cubicBezTo>
                    <a:cubicBezTo>
                      <a:pt x="175" y="360"/>
                      <a:pt x="368" y="147"/>
                      <a:pt x="373" y="76"/>
                    </a:cubicBezTo>
                    <a:cubicBezTo>
                      <a:pt x="378" y="5"/>
                      <a:pt x="264" y="0"/>
                      <a:pt x="203" y="7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56240" y="6332040"/>
                <a:ext cx="630360" cy="67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"/>
          <p:cNvGrpSpPr/>
          <p:nvPr/>
        </p:nvGrpSpPr>
        <p:grpSpPr>
          <a:xfrm>
            <a:off x="7859880" y="5089680"/>
            <a:ext cx="1719000" cy="1535040"/>
            <a:chOff x="7859880" y="5089680"/>
            <a:chExt cx="1719000" cy="1535040"/>
          </a:xfrm>
        </p:grpSpPr>
        <p:grpSp>
          <p:nvGrpSpPr>
            <p:cNvPr id="431" name=""/>
            <p:cNvGrpSpPr/>
            <p:nvPr/>
          </p:nvGrpSpPr>
          <p:grpSpPr>
            <a:xfrm>
              <a:off x="7859880" y="5089680"/>
              <a:ext cx="1719000" cy="1535040"/>
              <a:chOff x="7859880" y="5089680"/>
              <a:chExt cx="1719000" cy="1535040"/>
            </a:xfrm>
          </p:grpSpPr>
          <p:sp>
            <p:nvSpPr>
              <p:cNvPr id="432" name=""/>
              <p:cNvSpPr/>
              <p:nvPr/>
            </p:nvSpPr>
            <p:spPr>
              <a:xfrm>
                <a:off x="7883640" y="511164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859880" y="5089680"/>
                <a:ext cx="1719000" cy="1535040"/>
              </a:xfrm>
              <a:custGeom>
                <a:avLst/>
                <a:gdLst/>
                <a:ahLst/>
                <a:rect l="l" t="t" r="r" b="b"/>
                <a:pathLst>
                  <a:path w="1083" h="967">
                    <a:moveTo>
                      <a:pt x="177" y="851"/>
                    </a:moveTo>
                    <a:lnTo>
                      <a:pt x="184" y="854"/>
                    </a:lnTo>
                    <a:lnTo>
                      <a:pt x="541" y="854"/>
                    </a:lnTo>
                    <a:lnTo>
                      <a:pt x="541" y="967"/>
                    </a:lnTo>
                    <a:lnTo>
                      <a:pt x="30" y="967"/>
                    </a:lnTo>
                    <a:lnTo>
                      <a:pt x="16" y="957"/>
                    </a:lnTo>
                    <a:lnTo>
                      <a:pt x="2" y="939"/>
                    </a:lnTo>
                    <a:lnTo>
                      <a:pt x="0" y="923"/>
                    </a:lnTo>
                    <a:lnTo>
                      <a:pt x="2" y="911"/>
                    </a:lnTo>
                    <a:lnTo>
                      <a:pt x="484" y="32"/>
                    </a:lnTo>
                    <a:lnTo>
                      <a:pt x="493" y="17"/>
                    </a:lnTo>
                    <a:lnTo>
                      <a:pt x="512" y="4"/>
                    </a:lnTo>
                    <a:lnTo>
                      <a:pt x="541" y="0"/>
                    </a:lnTo>
                    <a:lnTo>
                      <a:pt x="569" y="4"/>
                    </a:lnTo>
                    <a:lnTo>
                      <a:pt x="585" y="18"/>
                    </a:lnTo>
                    <a:lnTo>
                      <a:pt x="597" y="32"/>
                    </a:lnTo>
                    <a:lnTo>
                      <a:pt x="1079" y="911"/>
                    </a:lnTo>
                    <a:lnTo>
                      <a:pt x="1083" y="926"/>
                    </a:lnTo>
                    <a:lnTo>
                      <a:pt x="1079" y="939"/>
                    </a:lnTo>
                    <a:lnTo>
                      <a:pt x="1068" y="956"/>
                    </a:lnTo>
                    <a:lnTo>
                      <a:pt x="1051" y="967"/>
                    </a:lnTo>
                    <a:lnTo>
                      <a:pt x="541" y="967"/>
                    </a:lnTo>
                    <a:lnTo>
                      <a:pt x="541" y="854"/>
                    </a:lnTo>
                    <a:lnTo>
                      <a:pt x="895" y="854"/>
                    </a:lnTo>
                    <a:lnTo>
                      <a:pt x="901" y="846"/>
                    </a:lnTo>
                    <a:lnTo>
                      <a:pt x="900" y="839"/>
                    </a:lnTo>
                    <a:lnTo>
                      <a:pt x="550" y="194"/>
                    </a:lnTo>
                    <a:lnTo>
                      <a:pt x="541" y="185"/>
                    </a:lnTo>
                    <a:lnTo>
                      <a:pt x="529" y="194"/>
                    </a:lnTo>
                    <a:lnTo>
                      <a:pt x="178" y="845"/>
                    </a:lnTo>
                    <a:lnTo>
                      <a:pt x="177" y="85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8352000" y="5724360"/>
              <a:ext cx="630000" cy="675000"/>
              <a:chOff x="8352000" y="5724360"/>
              <a:chExt cx="630000" cy="675000"/>
            </a:xfrm>
          </p:grpSpPr>
          <p:sp>
            <p:nvSpPr>
              <p:cNvPr id="435" name=""/>
              <p:cNvSpPr/>
              <p:nvPr/>
            </p:nvSpPr>
            <p:spPr>
              <a:xfrm>
                <a:off x="8460720" y="5724360"/>
                <a:ext cx="161280" cy="564840"/>
              </a:xfrm>
              <a:custGeom>
                <a:avLst/>
                <a:gdLst/>
                <a:ahLst/>
                <a:rect l="l" t="t" r="r" b="b"/>
                <a:pathLst>
                  <a:path w="378" h="1423">
                    <a:moveTo>
                      <a:pt x="203" y="76"/>
                    </a:moveTo>
                    <a:cubicBezTo>
                      <a:pt x="142" y="152"/>
                      <a:pt x="5" y="388"/>
                      <a:pt x="5" y="530"/>
                    </a:cubicBezTo>
                    <a:cubicBezTo>
                      <a:pt x="5" y="672"/>
                      <a:pt x="203" y="790"/>
                      <a:pt x="203" y="927"/>
                    </a:cubicBezTo>
                    <a:cubicBezTo>
                      <a:pt x="203" y="1064"/>
                      <a:pt x="10" y="1281"/>
                      <a:pt x="5" y="1352"/>
                    </a:cubicBezTo>
                    <a:cubicBezTo>
                      <a:pt x="0" y="1423"/>
                      <a:pt x="114" y="1423"/>
                      <a:pt x="175" y="1352"/>
                    </a:cubicBezTo>
                    <a:cubicBezTo>
                      <a:pt x="236" y="1281"/>
                      <a:pt x="373" y="1069"/>
                      <a:pt x="373" y="927"/>
                    </a:cubicBezTo>
                    <a:cubicBezTo>
                      <a:pt x="373" y="785"/>
                      <a:pt x="175" y="644"/>
                      <a:pt x="175" y="502"/>
                    </a:cubicBezTo>
                    <a:cubicBezTo>
                      <a:pt x="175" y="360"/>
                      <a:pt x="368" y="147"/>
                      <a:pt x="373" y="76"/>
                    </a:cubicBezTo>
                    <a:cubicBezTo>
                      <a:pt x="378" y="5"/>
                      <a:pt x="264" y="0"/>
                      <a:pt x="203" y="7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606160" y="5724360"/>
                <a:ext cx="161280" cy="564840"/>
              </a:xfrm>
              <a:custGeom>
                <a:avLst/>
                <a:gdLst/>
                <a:ahLst/>
                <a:rect l="l" t="t" r="r" b="b"/>
                <a:pathLst>
                  <a:path w="378" h="1423">
                    <a:moveTo>
                      <a:pt x="203" y="76"/>
                    </a:moveTo>
                    <a:cubicBezTo>
                      <a:pt x="142" y="152"/>
                      <a:pt x="5" y="388"/>
                      <a:pt x="5" y="530"/>
                    </a:cubicBezTo>
                    <a:cubicBezTo>
                      <a:pt x="5" y="672"/>
                      <a:pt x="203" y="790"/>
                      <a:pt x="203" y="927"/>
                    </a:cubicBezTo>
                    <a:cubicBezTo>
                      <a:pt x="203" y="1064"/>
                      <a:pt x="10" y="1281"/>
                      <a:pt x="5" y="1352"/>
                    </a:cubicBezTo>
                    <a:cubicBezTo>
                      <a:pt x="0" y="1423"/>
                      <a:pt x="114" y="1423"/>
                      <a:pt x="175" y="1352"/>
                    </a:cubicBezTo>
                    <a:cubicBezTo>
                      <a:pt x="236" y="1281"/>
                      <a:pt x="373" y="1069"/>
                      <a:pt x="373" y="927"/>
                    </a:cubicBezTo>
                    <a:cubicBezTo>
                      <a:pt x="373" y="785"/>
                      <a:pt x="175" y="644"/>
                      <a:pt x="175" y="502"/>
                    </a:cubicBezTo>
                    <a:cubicBezTo>
                      <a:pt x="175" y="360"/>
                      <a:pt x="368" y="147"/>
                      <a:pt x="373" y="76"/>
                    </a:cubicBezTo>
                    <a:cubicBezTo>
                      <a:pt x="378" y="5"/>
                      <a:pt x="264" y="0"/>
                      <a:pt x="203" y="7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751600" y="5724360"/>
                <a:ext cx="161280" cy="564840"/>
              </a:xfrm>
              <a:custGeom>
                <a:avLst/>
                <a:gdLst/>
                <a:ahLst/>
                <a:rect l="l" t="t" r="r" b="b"/>
                <a:pathLst>
                  <a:path w="378" h="1423">
                    <a:moveTo>
                      <a:pt x="203" y="76"/>
                    </a:moveTo>
                    <a:cubicBezTo>
                      <a:pt x="142" y="152"/>
                      <a:pt x="5" y="388"/>
                      <a:pt x="5" y="530"/>
                    </a:cubicBezTo>
                    <a:cubicBezTo>
                      <a:pt x="5" y="672"/>
                      <a:pt x="203" y="790"/>
                      <a:pt x="203" y="927"/>
                    </a:cubicBezTo>
                    <a:cubicBezTo>
                      <a:pt x="203" y="1064"/>
                      <a:pt x="10" y="1281"/>
                      <a:pt x="5" y="1352"/>
                    </a:cubicBezTo>
                    <a:cubicBezTo>
                      <a:pt x="0" y="1423"/>
                      <a:pt x="114" y="1423"/>
                      <a:pt x="175" y="1352"/>
                    </a:cubicBezTo>
                    <a:cubicBezTo>
                      <a:pt x="236" y="1281"/>
                      <a:pt x="373" y="1069"/>
                      <a:pt x="373" y="927"/>
                    </a:cubicBezTo>
                    <a:cubicBezTo>
                      <a:pt x="373" y="785"/>
                      <a:pt x="175" y="644"/>
                      <a:pt x="175" y="502"/>
                    </a:cubicBezTo>
                    <a:cubicBezTo>
                      <a:pt x="175" y="360"/>
                      <a:pt x="368" y="147"/>
                      <a:pt x="373" y="76"/>
                    </a:cubicBezTo>
                    <a:cubicBezTo>
                      <a:pt x="378" y="5"/>
                      <a:pt x="264" y="0"/>
                      <a:pt x="203" y="7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352000" y="6332040"/>
                <a:ext cx="630000" cy="67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"/>
          <p:cNvGrpSpPr/>
          <p:nvPr/>
        </p:nvGrpSpPr>
        <p:grpSpPr>
          <a:xfrm>
            <a:off x="7859880" y="5089680"/>
            <a:ext cx="1719000" cy="1535040"/>
            <a:chOff x="7859880" y="5089680"/>
            <a:chExt cx="1719000" cy="1535040"/>
          </a:xfrm>
        </p:grpSpPr>
        <p:grpSp>
          <p:nvGrpSpPr>
            <p:cNvPr id="440" name=""/>
            <p:cNvGrpSpPr/>
            <p:nvPr/>
          </p:nvGrpSpPr>
          <p:grpSpPr>
            <a:xfrm>
              <a:off x="7859880" y="5089680"/>
              <a:ext cx="1719000" cy="1535040"/>
              <a:chOff x="7859880" y="5089680"/>
              <a:chExt cx="1719000" cy="1535040"/>
            </a:xfrm>
          </p:grpSpPr>
          <p:sp>
            <p:nvSpPr>
              <p:cNvPr id="441" name=""/>
              <p:cNvSpPr/>
              <p:nvPr/>
            </p:nvSpPr>
            <p:spPr>
              <a:xfrm>
                <a:off x="7883640" y="511164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859880" y="5089680"/>
                <a:ext cx="1719000" cy="1535040"/>
              </a:xfrm>
              <a:custGeom>
                <a:avLst/>
                <a:gdLst/>
                <a:ahLst/>
                <a:rect l="l" t="t" r="r" b="b"/>
                <a:pathLst>
                  <a:path w="1083" h="967">
                    <a:moveTo>
                      <a:pt x="177" y="851"/>
                    </a:moveTo>
                    <a:lnTo>
                      <a:pt x="184" y="854"/>
                    </a:lnTo>
                    <a:lnTo>
                      <a:pt x="541" y="854"/>
                    </a:lnTo>
                    <a:lnTo>
                      <a:pt x="541" y="967"/>
                    </a:lnTo>
                    <a:lnTo>
                      <a:pt x="30" y="967"/>
                    </a:lnTo>
                    <a:lnTo>
                      <a:pt x="16" y="957"/>
                    </a:lnTo>
                    <a:lnTo>
                      <a:pt x="2" y="939"/>
                    </a:lnTo>
                    <a:lnTo>
                      <a:pt x="0" y="923"/>
                    </a:lnTo>
                    <a:lnTo>
                      <a:pt x="2" y="911"/>
                    </a:lnTo>
                    <a:lnTo>
                      <a:pt x="484" y="32"/>
                    </a:lnTo>
                    <a:lnTo>
                      <a:pt x="493" y="17"/>
                    </a:lnTo>
                    <a:lnTo>
                      <a:pt x="512" y="4"/>
                    </a:lnTo>
                    <a:lnTo>
                      <a:pt x="541" y="0"/>
                    </a:lnTo>
                    <a:lnTo>
                      <a:pt x="569" y="4"/>
                    </a:lnTo>
                    <a:lnTo>
                      <a:pt x="585" y="18"/>
                    </a:lnTo>
                    <a:lnTo>
                      <a:pt x="597" y="32"/>
                    </a:lnTo>
                    <a:lnTo>
                      <a:pt x="1079" y="911"/>
                    </a:lnTo>
                    <a:lnTo>
                      <a:pt x="1083" y="926"/>
                    </a:lnTo>
                    <a:lnTo>
                      <a:pt x="1079" y="939"/>
                    </a:lnTo>
                    <a:lnTo>
                      <a:pt x="1068" y="956"/>
                    </a:lnTo>
                    <a:lnTo>
                      <a:pt x="1051" y="967"/>
                    </a:lnTo>
                    <a:lnTo>
                      <a:pt x="541" y="967"/>
                    </a:lnTo>
                    <a:lnTo>
                      <a:pt x="541" y="854"/>
                    </a:lnTo>
                    <a:lnTo>
                      <a:pt x="895" y="854"/>
                    </a:lnTo>
                    <a:lnTo>
                      <a:pt x="901" y="846"/>
                    </a:lnTo>
                    <a:lnTo>
                      <a:pt x="900" y="839"/>
                    </a:lnTo>
                    <a:lnTo>
                      <a:pt x="550" y="194"/>
                    </a:lnTo>
                    <a:lnTo>
                      <a:pt x="541" y="185"/>
                    </a:lnTo>
                    <a:lnTo>
                      <a:pt x="529" y="194"/>
                    </a:lnTo>
                    <a:lnTo>
                      <a:pt x="178" y="845"/>
                    </a:lnTo>
                    <a:lnTo>
                      <a:pt x="177" y="85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8342640" y="5724360"/>
              <a:ext cx="588600" cy="676440"/>
              <a:chOff x="8342640" y="5724360"/>
              <a:chExt cx="588600" cy="676440"/>
            </a:xfrm>
          </p:grpSpPr>
          <p:sp>
            <p:nvSpPr>
              <p:cNvPr id="444" name=""/>
              <p:cNvSpPr/>
              <p:nvPr/>
            </p:nvSpPr>
            <p:spPr>
              <a:xfrm rot="18900000">
                <a:off x="8462880" y="5942520"/>
                <a:ext cx="115200" cy="388080"/>
              </a:xfrm>
              <a:custGeom>
                <a:avLst/>
                <a:gdLst>
                  <a:gd name="textAreaLeft" fmla="*/ 16920 w 115200"/>
                  <a:gd name="textAreaRight" fmla="*/ 98280 w 115200"/>
                  <a:gd name="textAreaTop" fmla="*/ 16920 h 388080"/>
                  <a:gd name="textAreaBottom" fmla="*/ 371160 h 388080"/>
                </a:gdLst>
                <a:ahLst/>
                <a:rect l="textAreaLeft" t="textAreaTop" r="textAreaRight" b="textAreaBottom"/>
                <a:pathLst>
                  <a:path w="21600" h="72606">
                    <a:moveTo>
                      <a:pt x="10800" y="0"/>
                    </a:moveTo>
                    <a:arcTo wR="10800" hR="10800" stAng="16200000" swAng="-5400000"/>
                    <a:lnTo>
                      <a:pt x="0" y="61806"/>
                    </a:lnTo>
                    <a:arcTo wR="10800" hR="10800" stAng="10800000" swAng="-5400000"/>
                    <a:lnTo>
                      <a:pt x="10800" y="7260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657280" y="5724360"/>
                <a:ext cx="86040" cy="388800"/>
              </a:xfrm>
              <a:custGeom>
                <a:avLst/>
                <a:gdLst>
                  <a:gd name="textAreaLeft" fmla="*/ 12600 w 86040"/>
                  <a:gd name="textAreaRight" fmla="*/ 73440 w 86040"/>
                  <a:gd name="textAreaTop" fmla="*/ 12600 h 388800"/>
                  <a:gd name="textAreaBottom" fmla="*/ 376200 h 388800"/>
                </a:gdLst>
                <a:ahLst/>
                <a:rect l="textAreaLeft" t="textAreaTop" r="textAreaRight" b="textAreaBottom"/>
                <a:pathLst>
                  <a:path w="21600" h="97290">
                    <a:moveTo>
                      <a:pt x="10800" y="0"/>
                    </a:moveTo>
                    <a:arcTo wR="10800" hR="10800" stAng="16200000" swAng="-5400000"/>
                    <a:lnTo>
                      <a:pt x="0" y="86490"/>
                    </a:lnTo>
                    <a:arcTo wR="10800" hR="10800" stAng="10800000" swAng="-5400000"/>
                    <a:lnTo>
                      <a:pt x="10800" y="9729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8556120" y="5781960"/>
                <a:ext cx="86400" cy="374040"/>
              </a:xfrm>
              <a:custGeom>
                <a:avLst/>
                <a:gdLst>
                  <a:gd name="textAreaLeft" fmla="*/ 12600 w 86400"/>
                  <a:gd name="textAreaRight" fmla="*/ 73800 w 86400"/>
                  <a:gd name="textAreaTop" fmla="*/ 12600 h 374040"/>
                  <a:gd name="textAreaBottom" fmla="*/ 361440 h 374040"/>
                </a:gdLst>
                <a:ahLst/>
                <a:rect l="textAreaLeft" t="textAreaTop" r="textAreaRight" b="textAreaBottom"/>
                <a:pathLst>
                  <a:path w="21600" h="93212">
                    <a:moveTo>
                      <a:pt x="10800" y="0"/>
                    </a:moveTo>
                    <a:arcTo wR="10800" hR="10800" stAng="16200000" swAng="-5400000"/>
                    <a:lnTo>
                      <a:pt x="0" y="82412"/>
                    </a:lnTo>
                    <a:arcTo wR="10800" hR="10800" stAng="10800000" swAng="-5400000"/>
                    <a:lnTo>
                      <a:pt x="10800" y="9321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758080" y="5781960"/>
                <a:ext cx="86040" cy="345240"/>
              </a:xfrm>
              <a:custGeom>
                <a:avLst/>
                <a:gdLst>
                  <a:gd name="textAreaLeft" fmla="*/ 12600 w 86040"/>
                  <a:gd name="textAreaRight" fmla="*/ 73440 w 86040"/>
                  <a:gd name="textAreaTop" fmla="*/ 12600 h 345240"/>
                  <a:gd name="textAreaBottom" fmla="*/ 332640 h 345240"/>
                </a:gdLst>
                <a:ahLst/>
                <a:rect l="textAreaLeft" t="textAreaTop" r="textAreaRight" b="textAreaBottom"/>
                <a:pathLst>
                  <a:path w="21600" h="86400">
                    <a:moveTo>
                      <a:pt x="10800" y="0"/>
                    </a:moveTo>
                    <a:arcTo wR="10800" hR="10800" stAng="16200000" swAng="-5400000"/>
                    <a:lnTo>
                      <a:pt x="0" y="75600"/>
                    </a:lnTo>
                    <a:arcTo wR="10800" hR="10800" stAng="10800000" swAng="-5400000"/>
                    <a:lnTo>
                      <a:pt x="10800" y="8640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8858880" y="5868360"/>
                <a:ext cx="72000" cy="273600"/>
              </a:xfrm>
              <a:custGeom>
                <a:avLst/>
                <a:gdLst>
                  <a:gd name="textAreaLeft" fmla="*/ 10440 w 72000"/>
                  <a:gd name="textAreaRight" fmla="*/ 61560 w 72000"/>
                  <a:gd name="textAreaTop" fmla="*/ 10440 h 273600"/>
                  <a:gd name="textAreaBottom" fmla="*/ 263160 h 273600"/>
                </a:gdLst>
                <a:ahLst/>
                <a:rect l="textAreaLeft" t="textAreaTop" r="textAreaRight" b="textAreaBottom"/>
                <a:pathLst>
                  <a:path w="21600" h="81779">
                    <a:moveTo>
                      <a:pt x="10800" y="0"/>
                    </a:moveTo>
                    <a:arcTo wR="10800" hR="10800" stAng="16200000" swAng="-5400000"/>
                    <a:lnTo>
                      <a:pt x="0" y="70979"/>
                    </a:lnTo>
                    <a:arcTo wR="10800" hR="10800" stAng="10800000" swAng="-5400000"/>
                    <a:lnTo>
                      <a:pt x="10800" y="8177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8556120" y="6069960"/>
                <a:ext cx="375120" cy="330840"/>
              </a:xfrm>
              <a:prstGeom prst="roundRect">
                <a:avLst>
                  <a:gd name="adj" fmla="val 39704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556120" y="6026760"/>
                <a:ext cx="375120" cy="287640"/>
              </a:xfrm>
              <a:prstGeom prst="roundRect">
                <a:avLst>
                  <a:gd name="adj" fmla="val 17634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1" name=""/>
          <p:cNvGrpSpPr/>
          <p:nvPr/>
        </p:nvGrpSpPr>
        <p:grpSpPr>
          <a:xfrm>
            <a:off x="5973840" y="5091120"/>
            <a:ext cx="1719360" cy="1535040"/>
            <a:chOff x="5973840" y="5091120"/>
            <a:chExt cx="1719360" cy="1535040"/>
          </a:xfrm>
        </p:grpSpPr>
        <p:grpSp>
          <p:nvGrpSpPr>
            <p:cNvPr id="452" name=""/>
            <p:cNvGrpSpPr/>
            <p:nvPr/>
          </p:nvGrpSpPr>
          <p:grpSpPr>
            <a:xfrm>
              <a:off x="5973840" y="5091120"/>
              <a:ext cx="1719360" cy="1535040"/>
              <a:chOff x="5973840" y="5091120"/>
              <a:chExt cx="1719360" cy="1535040"/>
            </a:xfrm>
          </p:grpSpPr>
          <p:sp>
            <p:nvSpPr>
              <p:cNvPr id="453" name=""/>
              <p:cNvSpPr/>
              <p:nvPr/>
            </p:nvSpPr>
            <p:spPr>
              <a:xfrm>
                <a:off x="5997600" y="5113440"/>
                <a:ext cx="1670040" cy="149040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973840" y="5091120"/>
                <a:ext cx="1719360" cy="1535040"/>
              </a:xfrm>
              <a:custGeom>
                <a:avLst/>
                <a:gdLst/>
                <a:ahLst/>
                <a:rect l="l" t="t" r="r" b="b"/>
                <a:pathLst>
                  <a:path w="1083" h="967">
                    <a:moveTo>
                      <a:pt x="177" y="851"/>
                    </a:moveTo>
                    <a:lnTo>
                      <a:pt x="184" y="854"/>
                    </a:lnTo>
                    <a:lnTo>
                      <a:pt x="541" y="854"/>
                    </a:lnTo>
                    <a:lnTo>
                      <a:pt x="541" y="967"/>
                    </a:lnTo>
                    <a:lnTo>
                      <a:pt x="30" y="967"/>
                    </a:lnTo>
                    <a:lnTo>
                      <a:pt x="16" y="957"/>
                    </a:lnTo>
                    <a:lnTo>
                      <a:pt x="2" y="939"/>
                    </a:lnTo>
                    <a:lnTo>
                      <a:pt x="0" y="923"/>
                    </a:lnTo>
                    <a:lnTo>
                      <a:pt x="2" y="911"/>
                    </a:lnTo>
                    <a:lnTo>
                      <a:pt x="484" y="32"/>
                    </a:lnTo>
                    <a:lnTo>
                      <a:pt x="493" y="17"/>
                    </a:lnTo>
                    <a:lnTo>
                      <a:pt x="512" y="4"/>
                    </a:lnTo>
                    <a:lnTo>
                      <a:pt x="541" y="0"/>
                    </a:lnTo>
                    <a:lnTo>
                      <a:pt x="569" y="4"/>
                    </a:lnTo>
                    <a:lnTo>
                      <a:pt x="585" y="18"/>
                    </a:lnTo>
                    <a:lnTo>
                      <a:pt x="597" y="32"/>
                    </a:lnTo>
                    <a:lnTo>
                      <a:pt x="1079" y="911"/>
                    </a:lnTo>
                    <a:lnTo>
                      <a:pt x="1083" y="926"/>
                    </a:lnTo>
                    <a:lnTo>
                      <a:pt x="1079" y="939"/>
                    </a:lnTo>
                    <a:lnTo>
                      <a:pt x="1068" y="956"/>
                    </a:lnTo>
                    <a:lnTo>
                      <a:pt x="1051" y="967"/>
                    </a:lnTo>
                    <a:lnTo>
                      <a:pt x="541" y="967"/>
                    </a:lnTo>
                    <a:lnTo>
                      <a:pt x="541" y="854"/>
                    </a:lnTo>
                    <a:lnTo>
                      <a:pt x="895" y="854"/>
                    </a:lnTo>
                    <a:lnTo>
                      <a:pt x="901" y="846"/>
                    </a:lnTo>
                    <a:lnTo>
                      <a:pt x="900" y="839"/>
                    </a:lnTo>
                    <a:lnTo>
                      <a:pt x="550" y="194"/>
                    </a:lnTo>
                    <a:lnTo>
                      <a:pt x="541" y="185"/>
                    </a:lnTo>
                    <a:lnTo>
                      <a:pt x="529" y="194"/>
                    </a:lnTo>
                    <a:lnTo>
                      <a:pt x="178" y="845"/>
                    </a:lnTo>
                    <a:lnTo>
                      <a:pt x="177" y="8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6456600" y="5724360"/>
              <a:ext cx="588600" cy="676440"/>
              <a:chOff x="6456600" y="5724360"/>
              <a:chExt cx="588600" cy="676440"/>
            </a:xfrm>
          </p:grpSpPr>
          <p:sp>
            <p:nvSpPr>
              <p:cNvPr id="456" name=""/>
              <p:cNvSpPr/>
              <p:nvPr/>
            </p:nvSpPr>
            <p:spPr>
              <a:xfrm rot="18900000">
                <a:off x="6576840" y="5942520"/>
                <a:ext cx="115200" cy="388080"/>
              </a:xfrm>
              <a:custGeom>
                <a:avLst/>
                <a:gdLst>
                  <a:gd name="textAreaLeft" fmla="*/ 16920 w 115200"/>
                  <a:gd name="textAreaRight" fmla="*/ 98280 w 115200"/>
                  <a:gd name="textAreaTop" fmla="*/ 16920 h 388080"/>
                  <a:gd name="textAreaBottom" fmla="*/ 371160 h 388080"/>
                </a:gdLst>
                <a:ahLst/>
                <a:rect l="textAreaLeft" t="textAreaTop" r="textAreaRight" b="textAreaBottom"/>
                <a:pathLst>
                  <a:path w="21600" h="72606">
                    <a:moveTo>
                      <a:pt x="10800" y="0"/>
                    </a:moveTo>
                    <a:arcTo wR="10800" hR="10800" stAng="16200000" swAng="-5400000"/>
                    <a:lnTo>
                      <a:pt x="0" y="61806"/>
                    </a:lnTo>
                    <a:arcTo wR="10800" hR="10800" stAng="10800000" swAng="-5400000"/>
                    <a:lnTo>
                      <a:pt x="10800" y="7260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771240" y="5724360"/>
                <a:ext cx="86040" cy="388800"/>
              </a:xfrm>
              <a:custGeom>
                <a:avLst/>
                <a:gdLst>
                  <a:gd name="textAreaLeft" fmla="*/ 12600 w 86040"/>
                  <a:gd name="textAreaRight" fmla="*/ 73440 w 86040"/>
                  <a:gd name="textAreaTop" fmla="*/ 12600 h 388800"/>
                  <a:gd name="textAreaBottom" fmla="*/ 376200 h 388800"/>
                </a:gdLst>
                <a:ahLst/>
                <a:rect l="textAreaLeft" t="textAreaTop" r="textAreaRight" b="textAreaBottom"/>
                <a:pathLst>
                  <a:path w="21600" h="97290">
                    <a:moveTo>
                      <a:pt x="10800" y="0"/>
                    </a:moveTo>
                    <a:arcTo wR="10800" hR="10800" stAng="16200000" swAng="-5400000"/>
                    <a:lnTo>
                      <a:pt x="0" y="86490"/>
                    </a:lnTo>
                    <a:arcTo wR="10800" hR="10800" stAng="10800000" swAng="-5400000"/>
                    <a:lnTo>
                      <a:pt x="10800" y="9729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670080" y="5781960"/>
                <a:ext cx="86400" cy="374040"/>
              </a:xfrm>
              <a:custGeom>
                <a:avLst/>
                <a:gdLst>
                  <a:gd name="textAreaLeft" fmla="*/ 12600 w 86400"/>
                  <a:gd name="textAreaRight" fmla="*/ 73800 w 86400"/>
                  <a:gd name="textAreaTop" fmla="*/ 12600 h 374040"/>
                  <a:gd name="textAreaBottom" fmla="*/ 361440 h 374040"/>
                </a:gdLst>
                <a:ahLst/>
                <a:rect l="textAreaLeft" t="textAreaTop" r="textAreaRight" b="textAreaBottom"/>
                <a:pathLst>
                  <a:path w="21600" h="93212">
                    <a:moveTo>
                      <a:pt x="10800" y="0"/>
                    </a:moveTo>
                    <a:arcTo wR="10800" hR="10800" stAng="16200000" swAng="-5400000"/>
                    <a:lnTo>
                      <a:pt x="0" y="82412"/>
                    </a:lnTo>
                    <a:arcTo wR="10800" hR="10800" stAng="10800000" swAng="-5400000"/>
                    <a:lnTo>
                      <a:pt x="10800" y="9321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872040" y="5781960"/>
                <a:ext cx="86040" cy="345240"/>
              </a:xfrm>
              <a:custGeom>
                <a:avLst/>
                <a:gdLst>
                  <a:gd name="textAreaLeft" fmla="*/ 12600 w 86040"/>
                  <a:gd name="textAreaRight" fmla="*/ 73440 w 86040"/>
                  <a:gd name="textAreaTop" fmla="*/ 12600 h 345240"/>
                  <a:gd name="textAreaBottom" fmla="*/ 332640 h 345240"/>
                </a:gdLst>
                <a:ahLst/>
                <a:rect l="textAreaLeft" t="textAreaTop" r="textAreaRight" b="textAreaBottom"/>
                <a:pathLst>
                  <a:path w="21600" h="86400">
                    <a:moveTo>
                      <a:pt x="10800" y="0"/>
                    </a:moveTo>
                    <a:arcTo wR="10800" hR="10800" stAng="16200000" swAng="-5400000"/>
                    <a:lnTo>
                      <a:pt x="0" y="75600"/>
                    </a:lnTo>
                    <a:arcTo wR="10800" hR="10800" stAng="10800000" swAng="-5400000"/>
                    <a:lnTo>
                      <a:pt x="10800" y="8640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972840" y="5868360"/>
                <a:ext cx="72000" cy="273600"/>
              </a:xfrm>
              <a:custGeom>
                <a:avLst/>
                <a:gdLst>
                  <a:gd name="textAreaLeft" fmla="*/ 10440 w 72000"/>
                  <a:gd name="textAreaRight" fmla="*/ 61560 w 72000"/>
                  <a:gd name="textAreaTop" fmla="*/ 10440 h 273600"/>
                  <a:gd name="textAreaBottom" fmla="*/ 263160 h 273600"/>
                </a:gdLst>
                <a:ahLst/>
                <a:rect l="textAreaLeft" t="textAreaTop" r="textAreaRight" b="textAreaBottom"/>
                <a:pathLst>
                  <a:path w="21600" h="81779">
                    <a:moveTo>
                      <a:pt x="10800" y="0"/>
                    </a:moveTo>
                    <a:arcTo wR="10800" hR="10800" stAng="16200000" swAng="-5400000"/>
                    <a:lnTo>
                      <a:pt x="0" y="70979"/>
                    </a:lnTo>
                    <a:arcTo wR="10800" hR="10800" stAng="10800000" swAng="-5400000"/>
                    <a:lnTo>
                      <a:pt x="10800" y="8177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670080" y="6069960"/>
                <a:ext cx="375120" cy="330840"/>
              </a:xfrm>
              <a:prstGeom prst="roundRect">
                <a:avLst>
                  <a:gd name="adj" fmla="val 39704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670080" y="6026760"/>
                <a:ext cx="375120" cy="287640"/>
              </a:xfrm>
              <a:prstGeom prst="roundRect">
                <a:avLst>
                  <a:gd name="adj" fmla="val 17634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3" name=""/>
          <p:cNvGrpSpPr/>
          <p:nvPr/>
        </p:nvGrpSpPr>
        <p:grpSpPr>
          <a:xfrm>
            <a:off x="4108320" y="5108400"/>
            <a:ext cx="1719360" cy="1535400"/>
            <a:chOff x="4108320" y="5108400"/>
            <a:chExt cx="1719360" cy="1535400"/>
          </a:xfrm>
        </p:grpSpPr>
        <p:grpSp>
          <p:nvGrpSpPr>
            <p:cNvPr id="464" name=""/>
            <p:cNvGrpSpPr/>
            <p:nvPr/>
          </p:nvGrpSpPr>
          <p:grpSpPr>
            <a:xfrm>
              <a:off x="4108320" y="5108400"/>
              <a:ext cx="1719360" cy="1535400"/>
              <a:chOff x="4108320" y="5108400"/>
              <a:chExt cx="1719360" cy="1535400"/>
            </a:xfrm>
          </p:grpSpPr>
          <p:sp>
            <p:nvSpPr>
              <p:cNvPr id="465" name=""/>
              <p:cNvSpPr/>
              <p:nvPr/>
            </p:nvSpPr>
            <p:spPr>
              <a:xfrm>
                <a:off x="4132440" y="513072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108320" y="5108400"/>
                <a:ext cx="1719360" cy="1535400"/>
              </a:xfrm>
              <a:custGeom>
                <a:avLst/>
                <a:gdLst/>
                <a:ahLst/>
                <a:rect l="l" t="t" r="r" b="b"/>
                <a:pathLst>
                  <a:path w="1083" h="967">
                    <a:moveTo>
                      <a:pt x="177" y="851"/>
                    </a:moveTo>
                    <a:lnTo>
                      <a:pt x="184" y="854"/>
                    </a:lnTo>
                    <a:lnTo>
                      <a:pt x="541" y="854"/>
                    </a:lnTo>
                    <a:lnTo>
                      <a:pt x="541" y="967"/>
                    </a:lnTo>
                    <a:lnTo>
                      <a:pt x="30" y="967"/>
                    </a:lnTo>
                    <a:lnTo>
                      <a:pt x="16" y="957"/>
                    </a:lnTo>
                    <a:lnTo>
                      <a:pt x="2" y="939"/>
                    </a:lnTo>
                    <a:lnTo>
                      <a:pt x="0" y="923"/>
                    </a:lnTo>
                    <a:lnTo>
                      <a:pt x="2" y="911"/>
                    </a:lnTo>
                    <a:lnTo>
                      <a:pt x="484" y="32"/>
                    </a:lnTo>
                    <a:lnTo>
                      <a:pt x="493" y="17"/>
                    </a:lnTo>
                    <a:lnTo>
                      <a:pt x="512" y="4"/>
                    </a:lnTo>
                    <a:lnTo>
                      <a:pt x="541" y="0"/>
                    </a:lnTo>
                    <a:lnTo>
                      <a:pt x="569" y="4"/>
                    </a:lnTo>
                    <a:lnTo>
                      <a:pt x="585" y="18"/>
                    </a:lnTo>
                    <a:lnTo>
                      <a:pt x="597" y="32"/>
                    </a:lnTo>
                    <a:lnTo>
                      <a:pt x="1079" y="911"/>
                    </a:lnTo>
                    <a:lnTo>
                      <a:pt x="1083" y="926"/>
                    </a:lnTo>
                    <a:lnTo>
                      <a:pt x="1079" y="939"/>
                    </a:lnTo>
                    <a:lnTo>
                      <a:pt x="1068" y="956"/>
                    </a:lnTo>
                    <a:lnTo>
                      <a:pt x="1051" y="967"/>
                    </a:lnTo>
                    <a:lnTo>
                      <a:pt x="541" y="967"/>
                    </a:lnTo>
                    <a:lnTo>
                      <a:pt x="541" y="854"/>
                    </a:lnTo>
                    <a:lnTo>
                      <a:pt x="895" y="854"/>
                    </a:lnTo>
                    <a:lnTo>
                      <a:pt x="901" y="846"/>
                    </a:lnTo>
                    <a:lnTo>
                      <a:pt x="900" y="839"/>
                    </a:lnTo>
                    <a:lnTo>
                      <a:pt x="550" y="194"/>
                    </a:lnTo>
                    <a:lnTo>
                      <a:pt x="541" y="185"/>
                    </a:lnTo>
                    <a:lnTo>
                      <a:pt x="529" y="194"/>
                    </a:lnTo>
                    <a:lnTo>
                      <a:pt x="178" y="845"/>
                    </a:lnTo>
                    <a:lnTo>
                      <a:pt x="177" y="8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4609080" y="5724360"/>
              <a:ext cx="588240" cy="676440"/>
              <a:chOff x="4609080" y="5724360"/>
              <a:chExt cx="588240" cy="676440"/>
            </a:xfrm>
          </p:grpSpPr>
          <p:sp>
            <p:nvSpPr>
              <p:cNvPr id="468" name=""/>
              <p:cNvSpPr/>
              <p:nvPr/>
            </p:nvSpPr>
            <p:spPr>
              <a:xfrm rot="18900000">
                <a:off x="4729320" y="5942520"/>
                <a:ext cx="115200" cy="388080"/>
              </a:xfrm>
              <a:custGeom>
                <a:avLst/>
                <a:gdLst>
                  <a:gd name="textAreaLeft" fmla="*/ 16920 w 115200"/>
                  <a:gd name="textAreaRight" fmla="*/ 98280 w 115200"/>
                  <a:gd name="textAreaTop" fmla="*/ 16920 h 388080"/>
                  <a:gd name="textAreaBottom" fmla="*/ 371160 h 388080"/>
                </a:gdLst>
                <a:ahLst/>
                <a:rect l="textAreaLeft" t="textAreaTop" r="textAreaRight" b="textAreaBottom"/>
                <a:pathLst>
                  <a:path w="21600" h="72606">
                    <a:moveTo>
                      <a:pt x="10800" y="0"/>
                    </a:moveTo>
                    <a:arcTo wR="10800" hR="10800" stAng="16200000" swAng="-5400000"/>
                    <a:lnTo>
                      <a:pt x="0" y="61806"/>
                    </a:lnTo>
                    <a:arcTo wR="10800" hR="10800" stAng="10800000" swAng="-5400000"/>
                    <a:lnTo>
                      <a:pt x="10800" y="7260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923720" y="5724360"/>
                <a:ext cx="86040" cy="388800"/>
              </a:xfrm>
              <a:custGeom>
                <a:avLst/>
                <a:gdLst>
                  <a:gd name="textAreaLeft" fmla="*/ 12600 w 86040"/>
                  <a:gd name="textAreaRight" fmla="*/ 73440 w 86040"/>
                  <a:gd name="textAreaTop" fmla="*/ 12600 h 388800"/>
                  <a:gd name="textAreaBottom" fmla="*/ 376200 h 388800"/>
                </a:gdLst>
                <a:ahLst/>
                <a:rect l="textAreaLeft" t="textAreaTop" r="textAreaRight" b="textAreaBottom"/>
                <a:pathLst>
                  <a:path w="21600" h="97290">
                    <a:moveTo>
                      <a:pt x="10800" y="0"/>
                    </a:moveTo>
                    <a:arcTo wR="10800" hR="10800" stAng="16200000" swAng="-5400000"/>
                    <a:lnTo>
                      <a:pt x="0" y="86490"/>
                    </a:lnTo>
                    <a:arcTo wR="10800" hR="10800" stAng="10800000" swAng="-5400000"/>
                    <a:lnTo>
                      <a:pt x="10800" y="9729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822560" y="5781960"/>
                <a:ext cx="86040" cy="374040"/>
              </a:xfrm>
              <a:custGeom>
                <a:avLst/>
                <a:gdLst>
                  <a:gd name="textAreaLeft" fmla="*/ 12600 w 86040"/>
                  <a:gd name="textAreaRight" fmla="*/ 73440 w 86040"/>
                  <a:gd name="textAreaTop" fmla="*/ 12600 h 374040"/>
                  <a:gd name="textAreaBottom" fmla="*/ 361440 h 374040"/>
                </a:gdLst>
                <a:ahLst/>
                <a:rect l="textAreaLeft" t="textAreaTop" r="textAreaRight" b="textAreaBottom"/>
                <a:pathLst>
                  <a:path w="21600" h="93600">
                    <a:moveTo>
                      <a:pt x="10800" y="0"/>
                    </a:moveTo>
                    <a:arcTo wR="10800" hR="10800" stAng="16200000" swAng="-5400000"/>
                    <a:lnTo>
                      <a:pt x="0" y="82800"/>
                    </a:lnTo>
                    <a:arcTo wR="10800" hR="10800" stAng="10800000" swAng="-5400000"/>
                    <a:lnTo>
                      <a:pt x="10800" y="9360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24160" y="5781960"/>
                <a:ext cx="86040" cy="345240"/>
              </a:xfrm>
              <a:custGeom>
                <a:avLst/>
                <a:gdLst>
                  <a:gd name="textAreaLeft" fmla="*/ 12600 w 86040"/>
                  <a:gd name="textAreaRight" fmla="*/ 73440 w 86040"/>
                  <a:gd name="textAreaTop" fmla="*/ 12600 h 345240"/>
                  <a:gd name="textAreaBottom" fmla="*/ 332640 h 345240"/>
                </a:gdLst>
                <a:ahLst/>
                <a:rect l="textAreaLeft" t="textAreaTop" r="textAreaRight" b="textAreaBottom"/>
                <a:pathLst>
                  <a:path w="21600" h="86400">
                    <a:moveTo>
                      <a:pt x="10800" y="0"/>
                    </a:moveTo>
                    <a:arcTo wR="10800" hR="10800" stAng="16200000" swAng="-5400000"/>
                    <a:lnTo>
                      <a:pt x="0" y="75600"/>
                    </a:lnTo>
                    <a:arcTo wR="10800" hR="10800" stAng="10800000" swAng="-5400000"/>
                    <a:lnTo>
                      <a:pt x="10800" y="8640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125320" y="5868360"/>
                <a:ext cx="72000" cy="273600"/>
              </a:xfrm>
              <a:custGeom>
                <a:avLst/>
                <a:gdLst>
                  <a:gd name="textAreaLeft" fmla="*/ 10440 w 72000"/>
                  <a:gd name="textAreaRight" fmla="*/ 61560 w 72000"/>
                  <a:gd name="textAreaTop" fmla="*/ 10440 h 273600"/>
                  <a:gd name="textAreaBottom" fmla="*/ 263160 h 273600"/>
                </a:gdLst>
                <a:ahLst/>
                <a:rect l="textAreaLeft" t="textAreaTop" r="textAreaRight" b="textAreaBottom"/>
                <a:pathLst>
                  <a:path w="21600" h="81779">
                    <a:moveTo>
                      <a:pt x="10800" y="0"/>
                    </a:moveTo>
                    <a:arcTo wR="10800" hR="10800" stAng="16200000" swAng="-5400000"/>
                    <a:lnTo>
                      <a:pt x="0" y="70979"/>
                    </a:lnTo>
                    <a:arcTo wR="10800" hR="10800" stAng="10800000" swAng="-5400000"/>
                    <a:lnTo>
                      <a:pt x="10800" y="8177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822560" y="6069960"/>
                <a:ext cx="374760" cy="330840"/>
              </a:xfrm>
              <a:prstGeom prst="roundRect">
                <a:avLst>
                  <a:gd name="adj" fmla="val 39704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822560" y="6026760"/>
                <a:ext cx="374760" cy="287640"/>
              </a:xfrm>
              <a:prstGeom prst="roundRect">
                <a:avLst>
                  <a:gd name="adj" fmla="val 17634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5" name=""/>
          <p:cNvGrpSpPr/>
          <p:nvPr/>
        </p:nvGrpSpPr>
        <p:grpSpPr>
          <a:xfrm>
            <a:off x="2217600" y="5114880"/>
            <a:ext cx="1719360" cy="1535040"/>
            <a:chOff x="2217600" y="5114880"/>
            <a:chExt cx="1719360" cy="1535040"/>
          </a:xfrm>
        </p:grpSpPr>
        <p:grpSp>
          <p:nvGrpSpPr>
            <p:cNvPr id="476" name=""/>
            <p:cNvGrpSpPr/>
            <p:nvPr/>
          </p:nvGrpSpPr>
          <p:grpSpPr>
            <a:xfrm>
              <a:off x="2217600" y="5114880"/>
              <a:ext cx="1719360" cy="1535040"/>
              <a:chOff x="2217600" y="5114880"/>
              <a:chExt cx="1719360" cy="1535040"/>
            </a:xfrm>
          </p:grpSpPr>
          <p:sp>
            <p:nvSpPr>
              <p:cNvPr id="477" name=""/>
              <p:cNvSpPr/>
              <p:nvPr/>
            </p:nvSpPr>
            <p:spPr>
              <a:xfrm>
                <a:off x="2241720" y="513720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217600" y="5114880"/>
                <a:ext cx="1719360" cy="1535040"/>
              </a:xfrm>
              <a:custGeom>
                <a:avLst/>
                <a:gdLst/>
                <a:ahLst/>
                <a:rect l="l" t="t" r="r" b="b"/>
                <a:pathLst>
                  <a:path w="1083" h="967">
                    <a:moveTo>
                      <a:pt x="177" y="851"/>
                    </a:moveTo>
                    <a:lnTo>
                      <a:pt x="184" y="854"/>
                    </a:lnTo>
                    <a:lnTo>
                      <a:pt x="541" y="854"/>
                    </a:lnTo>
                    <a:lnTo>
                      <a:pt x="541" y="967"/>
                    </a:lnTo>
                    <a:lnTo>
                      <a:pt x="30" y="967"/>
                    </a:lnTo>
                    <a:lnTo>
                      <a:pt x="16" y="957"/>
                    </a:lnTo>
                    <a:lnTo>
                      <a:pt x="2" y="939"/>
                    </a:lnTo>
                    <a:lnTo>
                      <a:pt x="0" y="923"/>
                    </a:lnTo>
                    <a:lnTo>
                      <a:pt x="2" y="911"/>
                    </a:lnTo>
                    <a:lnTo>
                      <a:pt x="484" y="32"/>
                    </a:lnTo>
                    <a:lnTo>
                      <a:pt x="493" y="17"/>
                    </a:lnTo>
                    <a:lnTo>
                      <a:pt x="512" y="4"/>
                    </a:lnTo>
                    <a:lnTo>
                      <a:pt x="541" y="0"/>
                    </a:lnTo>
                    <a:lnTo>
                      <a:pt x="569" y="4"/>
                    </a:lnTo>
                    <a:lnTo>
                      <a:pt x="585" y="18"/>
                    </a:lnTo>
                    <a:lnTo>
                      <a:pt x="597" y="32"/>
                    </a:lnTo>
                    <a:lnTo>
                      <a:pt x="1079" y="911"/>
                    </a:lnTo>
                    <a:lnTo>
                      <a:pt x="1083" y="926"/>
                    </a:lnTo>
                    <a:lnTo>
                      <a:pt x="1079" y="939"/>
                    </a:lnTo>
                    <a:lnTo>
                      <a:pt x="1068" y="956"/>
                    </a:lnTo>
                    <a:lnTo>
                      <a:pt x="1051" y="967"/>
                    </a:lnTo>
                    <a:lnTo>
                      <a:pt x="541" y="967"/>
                    </a:lnTo>
                    <a:lnTo>
                      <a:pt x="541" y="854"/>
                    </a:lnTo>
                    <a:lnTo>
                      <a:pt x="895" y="854"/>
                    </a:lnTo>
                    <a:lnTo>
                      <a:pt x="901" y="846"/>
                    </a:lnTo>
                    <a:lnTo>
                      <a:pt x="900" y="839"/>
                    </a:lnTo>
                    <a:lnTo>
                      <a:pt x="550" y="194"/>
                    </a:lnTo>
                    <a:lnTo>
                      <a:pt x="541" y="185"/>
                    </a:lnTo>
                    <a:lnTo>
                      <a:pt x="529" y="194"/>
                    </a:lnTo>
                    <a:lnTo>
                      <a:pt x="178" y="845"/>
                    </a:lnTo>
                    <a:lnTo>
                      <a:pt x="177" y="8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2713320" y="5724360"/>
              <a:ext cx="588600" cy="676440"/>
              <a:chOff x="2713320" y="5724360"/>
              <a:chExt cx="588600" cy="676440"/>
            </a:xfrm>
          </p:grpSpPr>
          <p:sp>
            <p:nvSpPr>
              <p:cNvPr id="480" name=""/>
              <p:cNvSpPr/>
              <p:nvPr/>
            </p:nvSpPr>
            <p:spPr>
              <a:xfrm rot="18900000">
                <a:off x="2833560" y="5942520"/>
                <a:ext cx="115200" cy="388080"/>
              </a:xfrm>
              <a:custGeom>
                <a:avLst/>
                <a:gdLst>
                  <a:gd name="textAreaLeft" fmla="*/ 16920 w 115200"/>
                  <a:gd name="textAreaRight" fmla="*/ 98280 w 115200"/>
                  <a:gd name="textAreaTop" fmla="*/ 16920 h 388080"/>
                  <a:gd name="textAreaBottom" fmla="*/ 371160 h 388080"/>
                </a:gdLst>
                <a:ahLst/>
                <a:rect l="textAreaLeft" t="textAreaTop" r="textAreaRight" b="textAreaBottom"/>
                <a:pathLst>
                  <a:path w="21600" h="72606">
                    <a:moveTo>
                      <a:pt x="10800" y="0"/>
                    </a:moveTo>
                    <a:arcTo wR="10800" hR="10800" stAng="16200000" swAng="-5400000"/>
                    <a:lnTo>
                      <a:pt x="0" y="61806"/>
                    </a:lnTo>
                    <a:arcTo wR="10800" hR="10800" stAng="10800000" swAng="-5400000"/>
                    <a:lnTo>
                      <a:pt x="10800" y="7260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027960" y="5724360"/>
                <a:ext cx="86040" cy="388800"/>
              </a:xfrm>
              <a:custGeom>
                <a:avLst/>
                <a:gdLst>
                  <a:gd name="textAreaLeft" fmla="*/ 12600 w 86040"/>
                  <a:gd name="textAreaRight" fmla="*/ 73440 w 86040"/>
                  <a:gd name="textAreaTop" fmla="*/ 12600 h 388800"/>
                  <a:gd name="textAreaBottom" fmla="*/ 376200 h 388800"/>
                </a:gdLst>
                <a:ahLst/>
                <a:rect l="textAreaLeft" t="textAreaTop" r="textAreaRight" b="textAreaBottom"/>
                <a:pathLst>
                  <a:path w="21600" h="97290">
                    <a:moveTo>
                      <a:pt x="10800" y="0"/>
                    </a:moveTo>
                    <a:arcTo wR="10800" hR="10800" stAng="16200000" swAng="-5400000"/>
                    <a:lnTo>
                      <a:pt x="0" y="86490"/>
                    </a:lnTo>
                    <a:arcTo wR="10800" hR="10800" stAng="10800000" swAng="-5400000"/>
                    <a:lnTo>
                      <a:pt x="10800" y="9729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926800" y="5781960"/>
                <a:ext cx="86400" cy="374040"/>
              </a:xfrm>
              <a:custGeom>
                <a:avLst/>
                <a:gdLst>
                  <a:gd name="textAreaLeft" fmla="*/ 12600 w 86400"/>
                  <a:gd name="textAreaRight" fmla="*/ 73800 w 86400"/>
                  <a:gd name="textAreaTop" fmla="*/ 12600 h 374040"/>
                  <a:gd name="textAreaBottom" fmla="*/ 361440 h 374040"/>
                </a:gdLst>
                <a:ahLst/>
                <a:rect l="textAreaLeft" t="textAreaTop" r="textAreaRight" b="textAreaBottom"/>
                <a:pathLst>
                  <a:path w="21600" h="93212">
                    <a:moveTo>
                      <a:pt x="10800" y="0"/>
                    </a:moveTo>
                    <a:arcTo wR="10800" hR="10800" stAng="16200000" swAng="-5400000"/>
                    <a:lnTo>
                      <a:pt x="0" y="82412"/>
                    </a:lnTo>
                    <a:arcTo wR="10800" hR="10800" stAng="10800000" swAng="-5400000"/>
                    <a:lnTo>
                      <a:pt x="10800" y="9321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128760" y="5781960"/>
                <a:ext cx="86040" cy="345240"/>
              </a:xfrm>
              <a:custGeom>
                <a:avLst/>
                <a:gdLst>
                  <a:gd name="textAreaLeft" fmla="*/ 12600 w 86040"/>
                  <a:gd name="textAreaRight" fmla="*/ 73440 w 86040"/>
                  <a:gd name="textAreaTop" fmla="*/ 12600 h 345240"/>
                  <a:gd name="textAreaBottom" fmla="*/ 332640 h 345240"/>
                </a:gdLst>
                <a:ahLst/>
                <a:rect l="textAreaLeft" t="textAreaTop" r="textAreaRight" b="textAreaBottom"/>
                <a:pathLst>
                  <a:path w="21600" h="86400">
                    <a:moveTo>
                      <a:pt x="10800" y="0"/>
                    </a:moveTo>
                    <a:arcTo wR="10800" hR="10800" stAng="16200000" swAng="-5400000"/>
                    <a:lnTo>
                      <a:pt x="0" y="75600"/>
                    </a:lnTo>
                    <a:arcTo wR="10800" hR="10800" stAng="10800000" swAng="-5400000"/>
                    <a:lnTo>
                      <a:pt x="10800" y="8640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229560" y="5868360"/>
                <a:ext cx="72000" cy="273600"/>
              </a:xfrm>
              <a:custGeom>
                <a:avLst/>
                <a:gdLst>
                  <a:gd name="textAreaLeft" fmla="*/ 10440 w 72000"/>
                  <a:gd name="textAreaRight" fmla="*/ 61560 w 72000"/>
                  <a:gd name="textAreaTop" fmla="*/ 10440 h 273600"/>
                  <a:gd name="textAreaBottom" fmla="*/ 263160 h 273600"/>
                </a:gdLst>
                <a:ahLst/>
                <a:rect l="textAreaLeft" t="textAreaTop" r="textAreaRight" b="textAreaBottom"/>
                <a:pathLst>
                  <a:path w="21600" h="81779">
                    <a:moveTo>
                      <a:pt x="10800" y="0"/>
                    </a:moveTo>
                    <a:arcTo wR="10800" hR="10800" stAng="16200000" swAng="-5400000"/>
                    <a:lnTo>
                      <a:pt x="0" y="70979"/>
                    </a:lnTo>
                    <a:arcTo wR="10800" hR="10800" stAng="10800000" swAng="-5400000"/>
                    <a:lnTo>
                      <a:pt x="10800" y="8177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926800" y="6069960"/>
                <a:ext cx="375120" cy="330840"/>
              </a:xfrm>
              <a:prstGeom prst="roundRect">
                <a:avLst>
                  <a:gd name="adj" fmla="val 39704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926800" y="6026760"/>
                <a:ext cx="375120" cy="287640"/>
              </a:xfrm>
              <a:prstGeom prst="roundRect">
                <a:avLst>
                  <a:gd name="adj" fmla="val 17634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7" name=""/>
          <p:cNvGrpSpPr/>
          <p:nvPr/>
        </p:nvGrpSpPr>
        <p:grpSpPr>
          <a:xfrm>
            <a:off x="326880" y="5094360"/>
            <a:ext cx="1719360" cy="1535040"/>
            <a:chOff x="326880" y="5094360"/>
            <a:chExt cx="1719360" cy="1535040"/>
          </a:xfrm>
        </p:grpSpPr>
        <p:grpSp>
          <p:nvGrpSpPr>
            <p:cNvPr id="488" name=""/>
            <p:cNvGrpSpPr/>
            <p:nvPr/>
          </p:nvGrpSpPr>
          <p:grpSpPr>
            <a:xfrm>
              <a:off x="326880" y="5094360"/>
              <a:ext cx="1719360" cy="1535040"/>
              <a:chOff x="326880" y="5094360"/>
              <a:chExt cx="1719360" cy="1535040"/>
            </a:xfrm>
          </p:grpSpPr>
          <p:sp>
            <p:nvSpPr>
              <p:cNvPr id="489" name=""/>
              <p:cNvSpPr/>
              <p:nvPr/>
            </p:nvSpPr>
            <p:spPr>
              <a:xfrm>
                <a:off x="351000" y="5116680"/>
                <a:ext cx="1670040" cy="149040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26880" y="5094360"/>
                <a:ext cx="1719360" cy="1535040"/>
              </a:xfrm>
              <a:custGeom>
                <a:avLst/>
                <a:gdLst/>
                <a:ahLst/>
                <a:rect l="l" t="t" r="r" b="b"/>
                <a:pathLst>
                  <a:path w="1083" h="967">
                    <a:moveTo>
                      <a:pt x="177" y="851"/>
                    </a:moveTo>
                    <a:lnTo>
                      <a:pt x="184" y="854"/>
                    </a:lnTo>
                    <a:lnTo>
                      <a:pt x="541" y="854"/>
                    </a:lnTo>
                    <a:lnTo>
                      <a:pt x="541" y="967"/>
                    </a:lnTo>
                    <a:lnTo>
                      <a:pt x="30" y="967"/>
                    </a:lnTo>
                    <a:lnTo>
                      <a:pt x="16" y="957"/>
                    </a:lnTo>
                    <a:lnTo>
                      <a:pt x="2" y="939"/>
                    </a:lnTo>
                    <a:lnTo>
                      <a:pt x="0" y="923"/>
                    </a:lnTo>
                    <a:lnTo>
                      <a:pt x="2" y="911"/>
                    </a:lnTo>
                    <a:lnTo>
                      <a:pt x="484" y="32"/>
                    </a:lnTo>
                    <a:lnTo>
                      <a:pt x="493" y="17"/>
                    </a:lnTo>
                    <a:lnTo>
                      <a:pt x="512" y="4"/>
                    </a:lnTo>
                    <a:lnTo>
                      <a:pt x="541" y="0"/>
                    </a:lnTo>
                    <a:lnTo>
                      <a:pt x="569" y="4"/>
                    </a:lnTo>
                    <a:lnTo>
                      <a:pt x="585" y="18"/>
                    </a:lnTo>
                    <a:lnTo>
                      <a:pt x="597" y="32"/>
                    </a:lnTo>
                    <a:lnTo>
                      <a:pt x="1079" y="911"/>
                    </a:lnTo>
                    <a:lnTo>
                      <a:pt x="1083" y="926"/>
                    </a:lnTo>
                    <a:lnTo>
                      <a:pt x="1079" y="939"/>
                    </a:lnTo>
                    <a:lnTo>
                      <a:pt x="1068" y="956"/>
                    </a:lnTo>
                    <a:lnTo>
                      <a:pt x="1051" y="967"/>
                    </a:lnTo>
                    <a:lnTo>
                      <a:pt x="541" y="967"/>
                    </a:lnTo>
                    <a:lnTo>
                      <a:pt x="541" y="854"/>
                    </a:lnTo>
                    <a:lnTo>
                      <a:pt x="895" y="854"/>
                    </a:lnTo>
                    <a:lnTo>
                      <a:pt x="901" y="846"/>
                    </a:lnTo>
                    <a:lnTo>
                      <a:pt x="900" y="839"/>
                    </a:lnTo>
                    <a:lnTo>
                      <a:pt x="550" y="194"/>
                    </a:lnTo>
                    <a:lnTo>
                      <a:pt x="541" y="185"/>
                    </a:lnTo>
                    <a:lnTo>
                      <a:pt x="529" y="194"/>
                    </a:lnTo>
                    <a:lnTo>
                      <a:pt x="178" y="845"/>
                    </a:lnTo>
                    <a:lnTo>
                      <a:pt x="177" y="8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827640" y="5724360"/>
              <a:ext cx="588240" cy="676440"/>
              <a:chOff x="827640" y="5724360"/>
              <a:chExt cx="588240" cy="676440"/>
            </a:xfrm>
          </p:grpSpPr>
          <p:sp>
            <p:nvSpPr>
              <p:cNvPr id="492" name=""/>
              <p:cNvSpPr/>
              <p:nvPr/>
            </p:nvSpPr>
            <p:spPr>
              <a:xfrm rot="18900000">
                <a:off x="947880" y="5942520"/>
                <a:ext cx="115200" cy="388080"/>
              </a:xfrm>
              <a:custGeom>
                <a:avLst/>
                <a:gdLst>
                  <a:gd name="textAreaLeft" fmla="*/ 16920 w 115200"/>
                  <a:gd name="textAreaRight" fmla="*/ 98280 w 115200"/>
                  <a:gd name="textAreaTop" fmla="*/ 16920 h 388080"/>
                  <a:gd name="textAreaBottom" fmla="*/ 371160 h 388080"/>
                </a:gdLst>
                <a:ahLst/>
                <a:rect l="textAreaLeft" t="textAreaTop" r="textAreaRight" b="textAreaBottom"/>
                <a:pathLst>
                  <a:path w="21600" h="72606">
                    <a:moveTo>
                      <a:pt x="10800" y="0"/>
                    </a:moveTo>
                    <a:arcTo wR="10800" hR="10800" stAng="16200000" swAng="-5400000"/>
                    <a:lnTo>
                      <a:pt x="0" y="61806"/>
                    </a:lnTo>
                    <a:arcTo wR="10800" hR="10800" stAng="10800000" swAng="-5400000"/>
                    <a:lnTo>
                      <a:pt x="10800" y="7260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142280" y="5724360"/>
                <a:ext cx="86040" cy="388800"/>
              </a:xfrm>
              <a:custGeom>
                <a:avLst/>
                <a:gdLst>
                  <a:gd name="textAreaLeft" fmla="*/ 12600 w 86040"/>
                  <a:gd name="textAreaRight" fmla="*/ 73440 w 86040"/>
                  <a:gd name="textAreaTop" fmla="*/ 12600 h 388800"/>
                  <a:gd name="textAreaBottom" fmla="*/ 376200 h 388800"/>
                </a:gdLst>
                <a:ahLst/>
                <a:rect l="textAreaLeft" t="textAreaTop" r="textAreaRight" b="textAreaBottom"/>
                <a:pathLst>
                  <a:path w="21600" h="97290">
                    <a:moveTo>
                      <a:pt x="10800" y="0"/>
                    </a:moveTo>
                    <a:arcTo wR="10800" hR="10800" stAng="16200000" swAng="-5400000"/>
                    <a:lnTo>
                      <a:pt x="0" y="86490"/>
                    </a:lnTo>
                    <a:arcTo wR="10800" hR="10800" stAng="10800000" swAng="-5400000"/>
                    <a:lnTo>
                      <a:pt x="10800" y="9729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041120" y="5781960"/>
                <a:ext cx="86040" cy="374040"/>
              </a:xfrm>
              <a:custGeom>
                <a:avLst/>
                <a:gdLst>
                  <a:gd name="textAreaLeft" fmla="*/ 12600 w 86040"/>
                  <a:gd name="textAreaRight" fmla="*/ 73440 w 86040"/>
                  <a:gd name="textAreaTop" fmla="*/ 12600 h 374040"/>
                  <a:gd name="textAreaBottom" fmla="*/ 361440 h 374040"/>
                </a:gdLst>
                <a:ahLst/>
                <a:rect l="textAreaLeft" t="textAreaTop" r="textAreaRight" b="textAreaBottom"/>
                <a:pathLst>
                  <a:path w="21600" h="93600">
                    <a:moveTo>
                      <a:pt x="10800" y="0"/>
                    </a:moveTo>
                    <a:arcTo wR="10800" hR="10800" stAng="16200000" swAng="-5400000"/>
                    <a:lnTo>
                      <a:pt x="0" y="82800"/>
                    </a:lnTo>
                    <a:arcTo wR="10800" hR="10800" stAng="10800000" swAng="-5400000"/>
                    <a:lnTo>
                      <a:pt x="10800" y="9360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242720" y="5781960"/>
                <a:ext cx="86040" cy="345240"/>
              </a:xfrm>
              <a:custGeom>
                <a:avLst/>
                <a:gdLst>
                  <a:gd name="textAreaLeft" fmla="*/ 12600 w 86040"/>
                  <a:gd name="textAreaRight" fmla="*/ 73440 w 86040"/>
                  <a:gd name="textAreaTop" fmla="*/ 12600 h 345240"/>
                  <a:gd name="textAreaBottom" fmla="*/ 332640 h 345240"/>
                </a:gdLst>
                <a:ahLst/>
                <a:rect l="textAreaLeft" t="textAreaTop" r="textAreaRight" b="textAreaBottom"/>
                <a:pathLst>
                  <a:path w="21600" h="86400">
                    <a:moveTo>
                      <a:pt x="10800" y="0"/>
                    </a:moveTo>
                    <a:arcTo wR="10800" hR="10800" stAng="16200000" swAng="-5400000"/>
                    <a:lnTo>
                      <a:pt x="0" y="75600"/>
                    </a:lnTo>
                    <a:arcTo wR="10800" hR="10800" stAng="10800000" swAng="-5400000"/>
                    <a:lnTo>
                      <a:pt x="10800" y="8640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343880" y="5868360"/>
                <a:ext cx="72000" cy="273600"/>
              </a:xfrm>
              <a:custGeom>
                <a:avLst/>
                <a:gdLst>
                  <a:gd name="textAreaLeft" fmla="*/ 10440 w 72000"/>
                  <a:gd name="textAreaRight" fmla="*/ 61560 w 72000"/>
                  <a:gd name="textAreaTop" fmla="*/ 10440 h 273600"/>
                  <a:gd name="textAreaBottom" fmla="*/ 263160 h 273600"/>
                </a:gdLst>
                <a:ahLst/>
                <a:rect l="textAreaLeft" t="textAreaTop" r="textAreaRight" b="textAreaBottom"/>
                <a:pathLst>
                  <a:path w="21600" h="81779">
                    <a:moveTo>
                      <a:pt x="10800" y="0"/>
                    </a:moveTo>
                    <a:arcTo wR="10800" hR="10800" stAng="16200000" swAng="-5400000"/>
                    <a:lnTo>
                      <a:pt x="0" y="70979"/>
                    </a:lnTo>
                    <a:arcTo wR="10800" hR="10800" stAng="10800000" swAng="-5400000"/>
                    <a:lnTo>
                      <a:pt x="10800" y="8177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041120" y="6069960"/>
                <a:ext cx="374760" cy="330840"/>
              </a:xfrm>
              <a:prstGeom prst="roundRect">
                <a:avLst>
                  <a:gd name="adj" fmla="val 39704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041120" y="6026760"/>
                <a:ext cx="374760" cy="287640"/>
              </a:xfrm>
              <a:prstGeom prst="roundRect">
                <a:avLst>
                  <a:gd name="adj" fmla="val 17634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9" name=""/>
          <p:cNvGrpSpPr/>
          <p:nvPr/>
        </p:nvGrpSpPr>
        <p:grpSpPr>
          <a:xfrm>
            <a:off x="7864560" y="3500280"/>
            <a:ext cx="1709640" cy="1528920"/>
            <a:chOff x="7864560" y="3500280"/>
            <a:chExt cx="1709640" cy="1528920"/>
          </a:xfrm>
        </p:grpSpPr>
        <p:grpSp>
          <p:nvGrpSpPr>
            <p:cNvPr id="500" name=""/>
            <p:cNvGrpSpPr/>
            <p:nvPr/>
          </p:nvGrpSpPr>
          <p:grpSpPr>
            <a:xfrm>
              <a:off x="7864560" y="3500280"/>
              <a:ext cx="1709640" cy="1528920"/>
              <a:chOff x="7864560" y="3500280"/>
              <a:chExt cx="1709640" cy="1528920"/>
            </a:xfrm>
          </p:grpSpPr>
          <p:sp>
            <p:nvSpPr>
              <p:cNvPr id="501" name=""/>
              <p:cNvSpPr/>
              <p:nvPr/>
            </p:nvSpPr>
            <p:spPr>
              <a:xfrm>
                <a:off x="7883640" y="351936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864560" y="3500280"/>
                <a:ext cx="1709640" cy="1528920"/>
              </a:xfrm>
              <a:custGeom>
                <a:avLst/>
                <a:gdLst/>
                <a:ahLst/>
                <a:rect l="l" t="t" r="r" b="b"/>
                <a:pathLst>
                  <a:path w="1077" h="963">
                    <a:moveTo>
                      <a:pt x="113" y="878"/>
                    </a:moveTo>
                    <a:lnTo>
                      <a:pt x="539" y="878"/>
                    </a:lnTo>
                    <a:lnTo>
                      <a:pt x="539" y="963"/>
                    </a:lnTo>
                    <a:lnTo>
                      <a:pt x="28" y="963"/>
                    </a:lnTo>
                    <a:lnTo>
                      <a:pt x="0" y="935"/>
                    </a:lnTo>
                    <a:lnTo>
                      <a:pt x="0" y="907"/>
                    </a:lnTo>
                    <a:lnTo>
                      <a:pt x="482" y="28"/>
                    </a:lnTo>
                    <a:lnTo>
                      <a:pt x="510" y="0"/>
                    </a:lnTo>
                    <a:lnTo>
                      <a:pt x="567" y="0"/>
                    </a:lnTo>
                    <a:lnTo>
                      <a:pt x="595" y="28"/>
                    </a:lnTo>
                    <a:lnTo>
                      <a:pt x="1077" y="907"/>
                    </a:lnTo>
                    <a:lnTo>
                      <a:pt x="1077" y="935"/>
                    </a:lnTo>
                    <a:lnTo>
                      <a:pt x="1049" y="963"/>
                    </a:lnTo>
                    <a:lnTo>
                      <a:pt x="539" y="963"/>
                    </a:lnTo>
                    <a:lnTo>
                      <a:pt x="539" y="878"/>
                    </a:lnTo>
                    <a:lnTo>
                      <a:pt x="964" y="878"/>
                    </a:lnTo>
                    <a:lnTo>
                      <a:pt x="539" y="85"/>
                    </a:lnTo>
                    <a:lnTo>
                      <a:pt x="113" y="87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8290800" y="4057560"/>
              <a:ext cx="673920" cy="771480"/>
              <a:chOff x="8290800" y="4057560"/>
              <a:chExt cx="673920" cy="771480"/>
            </a:xfrm>
          </p:grpSpPr>
          <p:sp>
            <p:nvSpPr>
              <p:cNvPr id="504" name=""/>
              <p:cNvSpPr/>
              <p:nvPr/>
            </p:nvSpPr>
            <p:spPr>
              <a:xfrm rot="18900000">
                <a:off x="8427960" y="4306680"/>
                <a:ext cx="132120" cy="442800"/>
              </a:xfrm>
              <a:custGeom>
                <a:avLst/>
                <a:gdLst>
                  <a:gd name="textAreaLeft" fmla="*/ 19080 w 132120"/>
                  <a:gd name="textAreaRight" fmla="*/ 113040 w 132120"/>
                  <a:gd name="textAreaTop" fmla="*/ 19080 h 442800"/>
                  <a:gd name="textAreaBottom" fmla="*/ 423720 h 442800"/>
                </a:gdLst>
                <a:ahLst/>
                <a:rect l="textAreaLeft" t="textAreaTop" r="textAreaRight" b="textAreaBottom"/>
                <a:pathLst>
                  <a:path w="21600" h="72254">
                    <a:moveTo>
                      <a:pt x="10800" y="0"/>
                    </a:moveTo>
                    <a:arcTo wR="10800" hR="10800" stAng="16200000" swAng="-5400000"/>
                    <a:lnTo>
                      <a:pt x="0" y="61454"/>
                    </a:lnTo>
                    <a:arcTo wR="10800" hR="10800" stAng="10800000" swAng="-5400000"/>
                    <a:lnTo>
                      <a:pt x="10800" y="7225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8650800" y="4057560"/>
                <a:ext cx="98640" cy="443160"/>
              </a:xfrm>
              <a:custGeom>
                <a:avLst/>
                <a:gdLst>
                  <a:gd name="textAreaLeft" fmla="*/ 14400 w 98640"/>
                  <a:gd name="textAreaRight" fmla="*/ 84240 w 98640"/>
                  <a:gd name="textAreaTop" fmla="*/ 14400 h 443160"/>
                  <a:gd name="textAreaBottom" fmla="*/ 428760 h 443160"/>
                </a:gdLst>
                <a:ahLst/>
                <a:rect l="textAreaLeft" t="textAreaTop" r="textAreaRight" b="textAreaBottom"/>
                <a:pathLst>
                  <a:path w="21600" h="96768">
                    <a:moveTo>
                      <a:pt x="10800" y="0"/>
                    </a:moveTo>
                    <a:arcTo wR="10800" hR="10800" stAng="16200000" swAng="-5400000"/>
                    <a:lnTo>
                      <a:pt x="0" y="85968"/>
                    </a:lnTo>
                    <a:arcTo wR="10800" hR="10800" stAng="10800000" swAng="-5400000"/>
                    <a:lnTo>
                      <a:pt x="10800" y="96768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8534880" y="4123440"/>
                <a:ext cx="99000" cy="426600"/>
              </a:xfrm>
              <a:custGeom>
                <a:avLst/>
                <a:gdLst>
                  <a:gd name="textAreaLeft" fmla="*/ 14400 w 99000"/>
                  <a:gd name="textAreaRight" fmla="*/ 84600 w 99000"/>
                  <a:gd name="textAreaTop" fmla="*/ 14400 h 426600"/>
                  <a:gd name="textAreaBottom" fmla="*/ 412200 h 426600"/>
                </a:gdLst>
                <a:ahLst/>
                <a:rect l="textAreaLeft" t="textAreaTop" r="textAreaRight" b="textAreaBottom"/>
                <a:pathLst>
                  <a:path w="21600" h="92817">
                    <a:moveTo>
                      <a:pt x="10800" y="0"/>
                    </a:moveTo>
                    <a:arcTo wR="10800" hR="10800" stAng="16200000" swAng="-5400000"/>
                    <a:lnTo>
                      <a:pt x="0" y="82017"/>
                    </a:lnTo>
                    <a:arcTo wR="10800" hR="10800" stAng="10800000" swAng="-5400000"/>
                    <a:lnTo>
                      <a:pt x="10800" y="9281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8766000" y="4123440"/>
                <a:ext cx="98640" cy="393480"/>
              </a:xfrm>
              <a:custGeom>
                <a:avLst/>
                <a:gdLst>
                  <a:gd name="textAreaLeft" fmla="*/ 14400 w 98640"/>
                  <a:gd name="textAreaRight" fmla="*/ 84240 w 98640"/>
                  <a:gd name="textAreaTop" fmla="*/ 14400 h 393480"/>
                  <a:gd name="textAreaBottom" fmla="*/ 379080 h 393480"/>
                </a:gdLst>
                <a:ahLst/>
                <a:rect l="textAreaLeft" t="textAreaTop" r="textAreaRight" b="textAreaBottom"/>
                <a:pathLst>
                  <a:path w="21600" h="85929">
                    <a:moveTo>
                      <a:pt x="10800" y="0"/>
                    </a:moveTo>
                    <a:arcTo wR="10800" hR="10800" stAng="16200000" swAng="-5400000"/>
                    <a:lnTo>
                      <a:pt x="0" y="75129"/>
                    </a:lnTo>
                    <a:arcTo wR="10800" hR="10800" stAng="10800000" swAng="-5400000"/>
                    <a:lnTo>
                      <a:pt x="10800" y="8592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881920" y="4221720"/>
                <a:ext cx="82800" cy="311760"/>
              </a:xfrm>
              <a:custGeom>
                <a:avLst/>
                <a:gdLst>
                  <a:gd name="textAreaLeft" fmla="*/ 11880 w 82800"/>
                  <a:gd name="textAreaRight" fmla="*/ 70920 w 82800"/>
                  <a:gd name="textAreaTop" fmla="*/ 11880 h 311760"/>
                  <a:gd name="textAreaBottom" fmla="*/ 299880 h 311760"/>
                </a:gdLst>
                <a:ahLst/>
                <a:rect l="textAreaLeft" t="textAreaTop" r="textAreaRight" b="textAreaBottom"/>
                <a:pathLst>
                  <a:path w="21600" h="81070">
                    <a:moveTo>
                      <a:pt x="10800" y="0"/>
                    </a:moveTo>
                    <a:arcTo wR="10800" hR="10800" stAng="16200000" swAng="-5400000"/>
                    <a:lnTo>
                      <a:pt x="0" y="70270"/>
                    </a:lnTo>
                    <a:arcTo wR="10800" hR="10800" stAng="10800000" swAng="-5400000"/>
                    <a:lnTo>
                      <a:pt x="10800" y="8107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534880" y="4451760"/>
                <a:ext cx="429840" cy="377280"/>
              </a:xfrm>
              <a:prstGeom prst="roundRect">
                <a:avLst>
                  <a:gd name="adj" fmla="val 39704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534880" y="4402440"/>
                <a:ext cx="429840" cy="327960"/>
              </a:xfrm>
              <a:prstGeom prst="roundRect">
                <a:avLst>
                  <a:gd name="adj" fmla="val 17634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1" name=""/>
          <p:cNvGrpSpPr/>
          <p:nvPr/>
        </p:nvGrpSpPr>
        <p:grpSpPr>
          <a:xfrm>
            <a:off x="5978520" y="3475080"/>
            <a:ext cx="1709640" cy="1528560"/>
            <a:chOff x="5978520" y="3475080"/>
            <a:chExt cx="1709640" cy="1528560"/>
          </a:xfrm>
        </p:grpSpPr>
        <p:grpSp>
          <p:nvGrpSpPr>
            <p:cNvPr id="512" name=""/>
            <p:cNvGrpSpPr/>
            <p:nvPr/>
          </p:nvGrpSpPr>
          <p:grpSpPr>
            <a:xfrm>
              <a:off x="5978520" y="3475080"/>
              <a:ext cx="1709640" cy="1528560"/>
              <a:chOff x="5978520" y="3475080"/>
              <a:chExt cx="1709640" cy="1528560"/>
            </a:xfrm>
          </p:grpSpPr>
          <p:sp>
            <p:nvSpPr>
              <p:cNvPr id="513" name=""/>
              <p:cNvSpPr/>
              <p:nvPr/>
            </p:nvSpPr>
            <p:spPr>
              <a:xfrm>
                <a:off x="5997600" y="349416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978520" y="3475080"/>
                <a:ext cx="1709640" cy="1528560"/>
              </a:xfrm>
              <a:custGeom>
                <a:avLst/>
                <a:gdLst/>
                <a:ahLst/>
                <a:rect l="l" t="t" r="r" b="b"/>
                <a:pathLst>
                  <a:path w="1077" h="963">
                    <a:moveTo>
                      <a:pt x="113" y="878"/>
                    </a:moveTo>
                    <a:lnTo>
                      <a:pt x="539" y="878"/>
                    </a:lnTo>
                    <a:lnTo>
                      <a:pt x="539" y="963"/>
                    </a:lnTo>
                    <a:lnTo>
                      <a:pt x="28" y="963"/>
                    </a:lnTo>
                    <a:lnTo>
                      <a:pt x="0" y="935"/>
                    </a:lnTo>
                    <a:lnTo>
                      <a:pt x="0" y="907"/>
                    </a:lnTo>
                    <a:lnTo>
                      <a:pt x="482" y="28"/>
                    </a:lnTo>
                    <a:lnTo>
                      <a:pt x="510" y="0"/>
                    </a:lnTo>
                    <a:lnTo>
                      <a:pt x="567" y="0"/>
                    </a:lnTo>
                    <a:lnTo>
                      <a:pt x="595" y="28"/>
                    </a:lnTo>
                    <a:lnTo>
                      <a:pt x="1077" y="907"/>
                    </a:lnTo>
                    <a:lnTo>
                      <a:pt x="1077" y="935"/>
                    </a:lnTo>
                    <a:lnTo>
                      <a:pt x="1049" y="963"/>
                    </a:lnTo>
                    <a:lnTo>
                      <a:pt x="539" y="963"/>
                    </a:lnTo>
                    <a:lnTo>
                      <a:pt x="539" y="878"/>
                    </a:lnTo>
                    <a:lnTo>
                      <a:pt x="964" y="878"/>
                    </a:lnTo>
                    <a:lnTo>
                      <a:pt x="539" y="85"/>
                    </a:lnTo>
                    <a:lnTo>
                      <a:pt x="113" y="8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6404760" y="4057560"/>
              <a:ext cx="673920" cy="771480"/>
              <a:chOff x="6404760" y="4057560"/>
              <a:chExt cx="673920" cy="771480"/>
            </a:xfrm>
          </p:grpSpPr>
          <p:sp>
            <p:nvSpPr>
              <p:cNvPr id="516" name=""/>
              <p:cNvSpPr/>
              <p:nvPr/>
            </p:nvSpPr>
            <p:spPr>
              <a:xfrm rot="18900000">
                <a:off x="6541920" y="4306680"/>
                <a:ext cx="132120" cy="442800"/>
              </a:xfrm>
              <a:custGeom>
                <a:avLst/>
                <a:gdLst>
                  <a:gd name="textAreaLeft" fmla="*/ 19080 w 132120"/>
                  <a:gd name="textAreaRight" fmla="*/ 113040 w 132120"/>
                  <a:gd name="textAreaTop" fmla="*/ 19080 h 442800"/>
                  <a:gd name="textAreaBottom" fmla="*/ 423720 h 442800"/>
                </a:gdLst>
                <a:ahLst/>
                <a:rect l="textAreaLeft" t="textAreaTop" r="textAreaRight" b="textAreaBottom"/>
                <a:pathLst>
                  <a:path w="21600" h="72254">
                    <a:moveTo>
                      <a:pt x="10800" y="0"/>
                    </a:moveTo>
                    <a:arcTo wR="10800" hR="10800" stAng="16200000" swAng="-5400000"/>
                    <a:lnTo>
                      <a:pt x="0" y="61454"/>
                    </a:lnTo>
                    <a:arcTo wR="10800" hR="10800" stAng="10800000" swAng="-5400000"/>
                    <a:lnTo>
                      <a:pt x="10800" y="7225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764760" y="4057560"/>
                <a:ext cx="98640" cy="443160"/>
              </a:xfrm>
              <a:custGeom>
                <a:avLst/>
                <a:gdLst>
                  <a:gd name="textAreaLeft" fmla="*/ 14400 w 98640"/>
                  <a:gd name="textAreaRight" fmla="*/ 84240 w 98640"/>
                  <a:gd name="textAreaTop" fmla="*/ 14400 h 443160"/>
                  <a:gd name="textAreaBottom" fmla="*/ 428760 h 443160"/>
                </a:gdLst>
                <a:ahLst/>
                <a:rect l="textAreaLeft" t="textAreaTop" r="textAreaRight" b="textAreaBottom"/>
                <a:pathLst>
                  <a:path w="21600" h="96768">
                    <a:moveTo>
                      <a:pt x="10800" y="0"/>
                    </a:moveTo>
                    <a:arcTo wR="10800" hR="10800" stAng="16200000" swAng="-5400000"/>
                    <a:lnTo>
                      <a:pt x="0" y="85968"/>
                    </a:lnTo>
                    <a:arcTo wR="10800" hR="10800" stAng="10800000" swAng="-5400000"/>
                    <a:lnTo>
                      <a:pt x="10800" y="96768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648840" y="4123440"/>
                <a:ext cx="99000" cy="426600"/>
              </a:xfrm>
              <a:custGeom>
                <a:avLst/>
                <a:gdLst>
                  <a:gd name="textAreaLeft" fmla="*/ 14400 w 99000"/>
                  <a:gd name="textAreaRight" fmla="*/ 84600 w 99000"/>
                  <a:gd name="textAreaTop" fmla="*/ 14400 h 426600"/>
                  <a:gd name="textAreaBottom" fmla="*/ 412200 h 426600"/>
                </a:gdLst>
                <a:ahLst/>
                <a:rect l="textAreaLeft" t="textAreaTop" r="textAreaRight" b="textAreaBottom"/>
                <a:pathLst>
                  <a:path w="21600" h="92817">
                    <a:moveTo>
                      <a:pt x="10800" y="0"/>
                    </a:moveTo>
                    <a:arcTo wR="10800" hR="10800" stAng="16200000" swAng="-5400000"/>
                    <a:lnTo>
                      <a:pt x="0" y="82017"/>
                    </a:lnTo>
                    <a:arcTo wR="10800" hR="10800" stAng="10800000" swAng="-5400000"/>
                    <a:lnTo>
                      <a:pt x="10800" y="9281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879960" y="4123440"/>
                <a:ext cx="98640" cy="393480"/>
              </a:xfrm>
              <a:custGeom>
                <a:avLst/>
                <a:gdLst>
                  <a:gd name="textAreaLeft" fmla="*/ 14400 w 98640"/>
                  <a:gd name="textAreaRight" fmla="*/ 84240 w 98640"/>
                  <a:gd name="textAreaTop" fmla="*/ 14400 h 393480"/>
                  <a:gd name="textAreaBottom" fmla="*/ 379080 h 393480"/>
                </a:gdLst>
                <a:ahLst/>
                <a:rect l="textAreaLeft" t="textAreaTop" r="textAreaRight" b="textAreaBottom"/>
                <a:pathLst>
                  <a:path w="21600" h="85929">
                    <a:moveTo>
                      <a:pt x="10800" y="0"/>
                    </a:moveTo>
                    <a:arcTo wR="10800" hR="10800" stAng="16200000" swAng="-5400000"/>
                    <a:lnTo>
                      <a:pt x="0" y="75129"/>
                    </a:lnTo>
                    <a:arcTo wR="10800" hR="10800" stAng="10800000" swAng="-5400000"/>
                    <a:lnTo>
                      <a:pt x="10800" y="8592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995880" y="4221720"/>
                <a:ext cx="82800" cy="311760"/>
              </a:xfrm>
              <a:custGeom>
                <a:avLst/>
                <a:gdLst>
                  <a:gd name="textAreaLeft" fmla="*/ 11880 w 82800"/>
                  <a:gd name="textAreaRight" fmla="*/ 70920 w 82800"/>
                  <a:gd name="textAreaTop" fmla="*/ 11880 h 311760"/>
                  <a:gd name="textAreaBottom" fmla="*/ 299880 h 311760"/>
                </a:gdLst>
                <a:ahLst/>
                <a:rect l="textAreaLeft" t="textAreaTop" r="textAreaRight" b="textAreaBottom"/>
                <a:pathLst>
                  <a:path w="21600" h="81070">
                    <a:moveTo>
                      <a:pt x="10800" y="0"/>
                    </a:moveTo>
                    <a:arcTo wR="10800" hR="10800" stAng="16200000" swAng="-5400000"/>
                    <a:lnTo>
                      <a:pt x="0" y="70270"/>
                    </a:lnTo>
                    <a:arcTo wR="10800" hR="10800" stAng="10800000" swAng="-5400000"/>
                    <a:lnTo>
                      <a:pt x="10800" y="8107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648840" y="4451760"/>
                <a:ext cx="429840" cy="377280"/>
              </a:xfrm>
              <a:prstGeom prst="roundRect">
                <a:avLst>
                  <a:gd name="adj" fmla="val 39704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648840" y="4402440"/>
                <a:ext cx="429840" cy="327960"/>
              </a:xfrm>
              <a:prstGeom prst="roundRect">
                <a:avLst>
                  <a:gd name="adj" fmla="val 17634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3" name=""/>
          <p:cNvGrpSpPr/>
          <p:nvPr/>
        </p:nvGrpSpPr>
        <p:grpSpPr>
          <a:xfrm>
            <a:off x="4113360" y="3492360"/>
            <a:ext cx="1709640" cy="1528920"/>
            <a:chOff x="4113360" y="3492360"/>
            <a:chExt cx="1709640" cy="1528920"/>
          </a:xfrm>
        </p:grpSpPr>
        <p:grpSp>
          <p:nvGrpSpPr>
            <p:cNvPr id="524" name=""/>
            <p:cNvGrpSpPr/>
            <p:nvPr/>
          </p:nvGrpSpPr>
          <p:grpSpPr>
            <a:xfrm>
              <a:off x="4113360" y="3492360"/>
              <a:ext cx="1709640" cy="1528920"/>
              <a:chOff x="4113360" y="3492360"/>
              <a:chExt cx="1709640" cy="1528920"/>
            </a:xfrm>
          </p:grpSpPr>
          <p:sp>
            <p:nvSpPr>
              <p:cNvPr id="525" name=""/>
              <p:cNvSpPr/>
              <p:nvPr/>
            </p:nvSpPr>
            <p:spPr>
              <a:xfrm>
                <a:off x="4132440" y="351144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113360" y="3492360"/>
                <a:ext cx="1709640" cy="1528920"/>
              </a:xfrm>
              <a:custGeom>
                <a:avLst/>
                <a:gdLst/>
                <a:ahLst/>
                <a:rect l="l" t="t" r="r" b="b"/>
                <a:pathLst>
                  <a:path w="1077" h="963">
                    <a:moveTo>
                      <a:pt x="113" y="878"/>
                    </a:moveTo>
                    <a:lnTo>
                      <a:pt x="539" y="878"/>
                    </a:lnTo>
                    <a:lnTo>
                      <a:pt x="539" y="963"/>
                    </a:lnTo>
                    <a:lnTo>
                      <a:pt x="28" y="963"/>
                    </a:lnTo>
                    <a:lnTo>
                      <a:pt x="0" y="935"/>
                    </a:lnTo>
                    <a:lnTo>
                      <a:pt x="0" y="907"/>
                    </a:lnTo>
                    <a:lnTo>
                      <a:pt x="482" y="28"/>
                    </a:lnTo>
                    <a:lnTo>
                      <a:pt x="510" y="0"/>
                    </a:lnTo>
                    <a:lnTo>
                      <a:pt x="567" y="0"/>
                    </a:lnTo>
                    <a:lnTo>
                      <a:pt x="595" y="28"/>
                    </a:lnTo>
                    <a:lnTo>
                      <a:pt x="1077" y="907"/>
                    </a:lnTo>
                    <a:lnTo>
                      <a:pt x="1077" y="935"/>
                    </a:lnTo>
                    <a:lnTo>
                      <a:pt x="1049" y="963"/>
                    </a:lnTo>
                    <a:lnTo>
                      <a:pt x="539" y="963"/>
                    </a:lnTo>
                    <a:lnTo>
                      <a:pt x="539" y="878"/>
                    </a:lnTo>
                    <a:lnTo>
                      <a:pt x="964" y="878"/>
                    </a:lnTo>
                    <a:lnTo>
                      <a:pt x="539" y="85"/>
                    </a:lnTo>
                    <a:lnTo>
                      <a:pt x="113" y="8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4557240" y="4057560"/>
              <a:ext cx="673560" cy="771480"/>
              <a:chOff x="4557240" y="4057560"/>
              <a:chExt cx="673560" cy="771480"/>
            </a:xfrm>
          </p:grpSpPr>
          <p:sp>
            <p:nvSpPr>
              <p:cNvPr id="528" name=""/>
              <p:cNvSpPr/>
              <p:nvPr/>
            </p:nvSpPr>
            <p:spPr>
              <a:xfrm rot="18900000">
                <a:off x="4694400" y="4306680"/>
                <a:ext cx="131760" cy="442800"/>
              </a:xfrm>
              <a:custGeom>
                <a:avLst/>
                <a:gdLst>
                  <a:gd name="textAreaLeft" fmla="*/ 19080 w 131760"/>
                  <a:gd name="textAreaRight" fmla="*/ 112680 w 131760"/>
                  <a:gd name="textAreaTop" fmla="*/ 19080 h 442800"/>
                  <a:gd name="textAreaBottom" fmla="*/ 423720 h 442800"/>
                </a:gdLst>
                <a:ahLst/>
                <a:rect l="textAreaLeft" t="textAreaTop" r="textAreaRight" b="textAreaBottom"/>
                <a:pathLst>
                  <a:path w="21600" h="72451">
                    <a:moveTo>
                      <a:pt x="10800" y="0"/>
                    </a:moveTo>
                    <a:arcTo wR="10800" hR="10800" stAng="16200000" swAng="-5400000"/>
                    <a:lnTo>
                      <a:pt x="0" y="61651"/>
                    </a:lnTo>
                    <a:arcTo wR="10800" hR="10800" stAng="10800000" swAng="-5400000"/>
                    <a:lnTo>
                      <a:pt x="10800" y="7245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917240" y="4057560"/>
                <a:ext cx="98640" cy="443160"/>
              </a:xfrm>
              <a:custGeom>
                <a:avLst/>
                <a:gdLst>
                  <a:gd name="textAreaLeft" fmla="*/ 14400 w 98640"/>
                  <a:gd name="textAreaRight" fmla="*/ 84240 w 98640"/>
                  <a:gd name="textAreaTop" fmla="*/ 14400 h 443160"/>
                  <a:gd name="textAreaBottom" fmla="*/ 428760 h 443160"/>
                </a:gdLst>
                <a:ahLst/>
                <a:rect l="textAreaLeft" t="textAreaTop" r="textAreaRight" b="textAreaBottom"/>
                <a:pathLst>
                  <a:path w="21600" h="96768">
                    <a:moveTo>
                      <a:pt x="10800" y="0"/>
                    </a:moveTo>
                    <a:arcTo wR="10800" hR="10800" stAng="16200000" swAng="-5400000"/>
                    <a:lnTo>
                      <a:pt x="0" y="85968"/>
                    </a:lnTo>
                    <a:arcTo wR="10800" hR="10800" stAng="10800000" swAng="-5400000"/>
                    <a:lnTo>
                      <a:pt x="10800" y="96768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801320" y="4123440"/>
                <a:ext cx="98640" cy="426600"/>
              </a:xfrm>
              <a:custGeom>
                <a:avLst/>
                <a:gdLst>
                  <a:gd name="textAreaLeft" fmla="*/ 14400 w 98640"/>
                  <a:gd name="textAreaRight" fmla="*/ 84240 w 98640"/>
                  <a:gd name="textAreaTop" fmla="*/ 14400 h 426600"/>
                  <a:gd name="textAreaBottom" fmla="*/ 412200 h 426600"/>
                </a:gdLst>
                <a:ahLst/>
                <a:rect l="textAreaLeft" t="textAreaTop" r="textAreaRight" b="textAreaBottom"/>
                <a:pathLst>
                  <a:path w="21600" h="93155">
                    <a:moveTo>
                      <a:pt x="10800" y="0"/>
                    </a:moveTo>
                    <a:arcTo wR="10800" hR="10800" stAng="16200000" swAng="-5400000"/>
                    <a:lnTo>
                      <a:pt x="0" y="82355"/>
                    </a:lnTo>
                    <a:arcTo wR="10800" hR="10800" stAng="10800000" swAng="-5400000"/>
                    <a:lnTo>
                      <a:pt x="10800" y="93155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032440" y="4123440"/>
                <a:ext cx="98640" cy="393480"/>
              </a:xfrm>
              <a:custGeom>
                <a:avLst/>
                <a:gdLst>
                  <a:gd name="textAreaLeft" fmla="*/ 14400 w 98640"/>
                  <a:gd name="textAreaRight" fmla="*/ 84240 w 98640"/>
                  <a:gd name="textAreaTop" fmla="*/ 14400 h 393480"/>
                  <a:gd name="textAreaBottom" fmla="*/ 379080 h 393480"/>
                </a:gdLst>
                <a:ahLst/>
                <a:rect l="textAreaLeft" t="textAreaTop" r="textAreaRight" b="textAreaBottom"/>
                <a:pathLst>
                  <a:path w="21600" h="85929">
                    <a:moveTo>
                      <a:pt x="10800" y="0"/>
                    </a:moveTo>
                    <a:arcTo wR="10800" hR="10800" stAng="16200000" swAng="-5400000"/>
                    <a:lnTo>
                      <a:pt x="0" y="75129"/>
                    </a:lnTo>
                    <a:arcTo wR="10800" hR="10800" stAng="10800000" swAng="-5400000"/>
                    <a:lnTo>
                      <a:pt x="10800" y="8592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148000" y="4221720"/>
                <a:ext cx="82440" cy="311760"/>
              </a:xfrm>
              <a:custGeom>
                <a:avLst/>
                <a:gdLst>
                  <a:gd name="textAreaLeft" fmla="*/ 11880 w 82440"/>
                  <a:gd name="textAreaRight" fmla="*/ 70560 w 82440"/>
                  <a:gd name="textAreaTop" fmla="*/ 11880 h 311760"/>
                  <a:gd name="textAreaBottom" fmla="*/ 299880 h 311760"/>
                </a:gdLst>
                <a:ahLst/>
                <a:rect l="textAreaLeft" t="textAreaTop" r="textAreaRight" b="textAreaBottom"/>
                <a:pathLst>
                  <a:path w="21600" h="81423">
                    <a:moveTo>
                      <a:pt x="10800" y="0"/>
                    </a:moveTo>
                    <a:arcTo wR="10800" hR="10800" stAng="16200000" swAng="-5400000"/>
                    <a:lnTo>
                      <a:pt x="0" y="70623"/>
                    </a:lnTo>
                    <a:arcTo wR="10800" hR="10800" stAng="10800000" swAng="-5400000"/>
                    <a:lnTo>
                      <a:pt x="10800" y="8142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801320" y="4451760"/>
                <a:ext cx="429480" cy="377280"/>
              </a:xfrm>
              <a:prstGeom prst="roundRect">
                <a:avLst>
                  <a:gd name="adj" fmla="val 39704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801320" y="4402440"/>
                <a:ext cx="429480" cy="327960"/>
              </a:xfrm>
              <a:prstGeom prst="roundRect">
                <a:avLst>
                  <a:gd name="adj" fmla="val 17634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5" name=""/>
          <p:cNvGrpSpPr/>
          <p:nvPr/>
        </p:nvGrpSpPr>
        <p:grpSpPr>
          <a:xfrm>
            <a:off x="2222640" y="3498840"/>
            <a:ext cx="1709640" cy="1528920"/>
            <a:chOff x="2222640" y="3498840"/>
            <a:chExt cx="1709640" cy="1528920"/>
          </a:xfrm>
        </p:grpSpPr>
        <p:grpSp>
          <p:nvGrpSpPr>
            <p:cNvPr id="536" name=""/>
            <p:cNvGrpSpPr/>
            <p:nvPr/>
          </p:nvGrpSpPr>
          <p:grpSpPr>
            <a:xfrm>
              <a:off x="2222640" y="3498840"/>
              <a:ext cx="1709640" cy="1528920"/>
              <a:chOff x="2222640" y="3498840"/>
              <a:chExt cx="1709640" cy="1528920"/>
            </a:xfrm>
          </p:grpSpPr>
          <p:sp>
            <p:nvSpPr>
              <p:cNvPr id="537" name=""/>
              <p:cNvSpPr/>
              <p:nvPr/>
            </p:nvSpPr>
            <p:spPr>
              <a:xfrm>
                <a:off x="2241720" y="3521160"/>
                <a:ext cx="1670040" cy="149040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222640" y="3498840"/>
                <a:ext cx="1709640" cy="1528920"/>
              </a:xfrm>
              <a:custGeom>
                <a:avLst/>
                <a:gdLst/>
                <a:ahLst/>
                <a:rect l="l" t="t" r="r" b="b"/>
                <a:pathLst>
                  <a:path w="1077" h="963">
                    <a:moveTo>
                      <a:pt x="113" y="878"/>
                    </a:moveTo>
                    <a:lnTo>
                      <a:pt x="539" y="878"/>
                    </a:lnTo>
                    <a:lnTo>
                      <a:pt x="539" y="963"/>
                    </a:lnTo>
                    <a:lnTo>
                      <a:pt x="28" y="963"/>
                    </a:lnTo>
                    <a:lnTo>
                      <a:pt x="0" y="935"/>
                    </a:lnTo>
                    <a:lnTo>
                      <a:pt x="0" y="907"/>
                    </a:lnTo>
                    <a:lnTo>
                      <a:pt x="482" y="28"/>
                    </a:lnTo>
                    <a:lnTo>
                      <a:pt x="510" y="0"/>
                    </a:lnTo>
                    <a:lnTo>
                      <a:pt x="567" y="0"/>
                    </a:lnTo>
                    <a:lnTo>
                      <a:pt x="595" y="28"/>
                    </a:lnTo>
                    <a:lnTo>
                      <a:pt x="1077" y="907"/>
                    </a:lnTo>
                    <a:lnTo>
                      <a:pt x="1077" y="935"/>
                    </a:lnTo>
                    <a:lnTo>
                      <a:pt x="1049" y="963"/>
                    </a:lnTo>
                    <a:lnTo>
                      <a:pt x="539" y="963"/>
                    </a:lnTo>
                    <a:lnTo>
                      <a:pt x="539" y="878"/>
                    </a:lnTo>
                    <a:lnTo>
                      <a:pt x="964" y="878"/>
                    </a:lnTo>
                    <a:lnTo>
                      <a:pt x="539" y="85"/>
                    </a:lnTo>
                    <a:lnTo>
                      <a:pt x="113" y="8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2661480" y="4057560"/>
              <a:ext cx="673920" cy="771480"/>
              <a:chOff x="2661480" y="4057560"/>
              <a:chExt cx="673920" cy="771480"/>
            </a:xfrm>
          </p:grpSpPr>
          <p:sp>
            <p:nvSpPr>
              <p:cNvPr id="540" name=""/>
              <p:cNvSpPr/>
              <p:nvPr/>
            </p:nvSpPr>
            <p:spPr>
              <a:xfrm rot="18900000">
                <a:off x="2798640" y="4306680"/>
                <a:ext cx="132120" cy="442800"/>
              </a:xfrm>
              <a:custGeom>
                <a:avLst/>
                <a:gdLst>
                  <a:gd name="textAreaLeft" fmla="*/ 19080 w 132120"/>
                  <a:gd name="textAreaRight" fmla="*/ 113040 w 132120"/>
                  <a:gd name="textAreaTop" fmla="*/ 19080 h 442800"/>
                  <a:gd name="textAreaBottom" fmla="*/ 423720 h 442800"/>
                </a:gdLst>
                <a:ahLst/>
                <a:rect l="textAreaLeft" t="textAreaTop" r="textAreaRight" b="textAreaBottom"/>
                <a:pathLst>
                  <a:path w="21600" h="72254">
                    <a:moveTo>
                      <a:pt x="10800" y="0"/>
                    </a:moveTo>
                    <a:arcTo wR="10800" hR="10800" stAng="16200000" swAng="-5400000"/>
                    <a:lnTo>
                      <a:pt x="0" y="61454"/>
                    </a:lnTo>
                    <a:arcTo wR="10800" hR="10800" stAng="10800000" swAng="-5400000"/>
                    <a:lnTo>
                      <a:pt x="10800" y="7225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021480" y="4057560"/>
                <a:ext cx="98640" cy="443160"/>
              </a:xfrm>
              <a:custGeom>
                <a:avLst/>
                <a:gdLst>
                  <a:gd name="textAreaLeft" fmla="*/ 14400 w 98640"/>
                  <a:gd name="textAreaRight" fmla="*/ 84240 w 98640"/>
                  <a:gd name="textAreaTop" fmla="*/ 14400 h 443160"/>
                  <a:gd name="textAreaBottom" fmla="*/ 428760 h 443160"/>
                </a:gdLst>
                <a:ahLst/>
                <a:rect l="textAreaLeft" t="textAreaTop" r="textAreaRight" b="textAreaBottom"/>
                <a:pathLst>
                  <a:path w="21600" h="96768">
                    <a:moveTo>
                      <a:pt x="10800" y="0"/>
                    </a:moveTo>
                    <a:arcTo wR="10800" hR="10800" stAng="16200000" swAng="-5400000"/>
                    <a:lnTo>
                      <a:pt x="0" y="85968"/>
                    </a:lnTo>
                    <a:arcTo wR="10800" hR="10800" stAng="10800000" swAng="-5400000"/>
                    <a:lnTo>
                      <a:pt x="10800" y="96768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905560" y="4123440"/>
                <a:ext cx="99000" cy="426600"/>
              </a:xfrm>
              <a:custGeom>
                <a:avLst/>
                <a:gdLst>
                  <a:gd name="textAreaLeft" fmla="*/ 14400 w 99000"/>
                  <a:gd name="textAreaRight" fmla="*/ 84600 w 99000"/>
                  <a:gd name="textAreaTop" fmla="*/ 14400 h 426600"/>
                  <a:gd name="textAreaBottom" fmla="*/ 412200 h 426600"/>
                </a:gdLst>
                <a:ahLst/>
                <a:rect l="textAreaLeft" t="textAreaTop" r="textAreaRight" b="textAreaBottom"/>
                <a:pathLst>
                  <a:path w="21600" h="92817">
                    <a:moveTo>
                      <a:pt x="10800" y="0"/>
                    </a:moveTo>
                    <a:arcTo wR="10800" hR="10800" stAng="16200000" swAng="-5400000"/>
                    <a:lnTo>
                      <a:pt x="0" y="82017"/>
                    </a:lnTo>
                    <a:arcTo wR="10800" hR="10800" stAng="10800000" swAng="-5400000"/>
                    <a:lnTo>
                      <a:pt x="10800" y="9281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136680" y="4123440"/>
                <a:ext cx="98640" cy="393480"/>
              </a:xfrm>
              <a:custGeom>
                <a:avLst/>
                <a:gdLst>
                  <a:gd name="textAreaLeft" fmla="*/ 14400 w 98640"/>
                  <a:gd name="textAreaRight" fmla="*/ 84240 w 98640"/>
                  <a:gd name="textAreaTop" fmla="*/ 14400 h 393480"/>
                  <a:gd name="textAreaBottom" fmla="*/ 379080 h 393480"/>
                </a:gdLst>
                <a:ahLst/>
                <a:rect l="textAreaLeft" t="textAreaTop" r="textAreaRight" b="textAreaBottom"/>
                <a:pathLst>
                  <a:path w="21600" h="85929">
                    <a:moveTo>
                      <a:pt x="10800" y="0"/>
                    </a:moveTo>
                    <a:arcTo wR="10800" hR="10800" stAng="16200000" swAng="-5400000"/>
                    <a:lnTo>
                      <a:pt x="0" y="75129"/>
                    </a:lnTo>
                    <a:arcTo wR="10800" hR="10800" stAng="10800000" swAng="-5400000"/>
                    <a:lnTo>
                      <a:pt x="10800" y="8592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252600" y="4221720"/>
                <a:ext cx="82800" cy="311760"/>
              </a:xfrm>
              <a:custGeom>
                <a:avLst/>
                <a:gdLst>
                  <a:gd name="textAreaLeft" fmla="*/ 11880 w 82800"/>
                  <a:gd name="textAreaRight" fmla="*/ 70920 w 82800"/>
                  <a:gd name="textAreaTop" fmla="*/ 11880 h 311760"/>
                  <a:gd name="textAreaBottom" fmla="*/ 299880 h 311760"/>
                </a:gdLst>
                <a:ahLst/>
                <a:rect l="textAreaLeft" t="textAreaTop" r="textAreaRight" b="textAreaBottom"/>
                <a:pathLst>
                  <a:path w="21600" h="81070">
                    <a:moveTo>
                      <a:pt x="10800" y="0"/>
                    </a:moveTo>
                    <a:arcTo wR="10800" hR="10800" stAng="16200000" swAng="-5400000"/>
                    <a:lnTo>
                      <a:pt x="0" y="70270"/>
                    </a:lnTo>
                    <a:arcTo wR="10800" hR="10800" stAng="10800000" swAng="-5400000"/>
                    <a:lnTo>
                      <a:pt x="10800" y="8107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905560" y="4451760"/>
                <a:ext cx="429840" cy="377280"/>
              </a:xfrm>
              <a:prstGeom prst="roundRect">
                <a:avLst>
                  <a:gd name="adj" fmla="val 39704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905560" y="4402440"/>
                <a:ext cx="429840" cy="327960"/>
              </a:xfrm>
              <a:prstGeom prst="roundRect">
                <a:avLst>
                  <a:gd name="adj" fmla="val 17634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7" name=""/>
          <p:cNvGrpSpPr/>
          <p:nvPr/>
        </p:nvGrpSpPr>
        <p:grpSpPr>
          <a:xfrm>
            <a:off x="331920" y="3500280"/>
            <a:ext cx="1709640" cy="1528920"/>
            <a:chOff x="331920" y="3500280"/>
            <a:chExt cx="1709640" cy="1528920"/>
          </a:xfrm>
        </p:grpSpPr>
        <p:grpSp>
          <p:nvGrpSpPr>
            <p:cNvPr id="548" name=""/>
            <p:cNvGrpSpPr/>
            <p:nvPr/>
          </p:nvGrpSpPr>
          <p:grpSpPr>
            <a:xfrm>
              <a:off x="331920" y="3500280"/>
              <a:ext cx="1709640" cy="1528920"/>
              <a:chOff x="331920" y="3500280"/>
              <a:chExt cx="1709640" cy="1528920"/>
            </a:xfrm>
          </p:grpSpPr>
          <p:sp>
            <p:nvSpPr>
              <p:cNvPr id="549" name=""/>
              <p:cNvSpPr/>
              <p:nvPr/>
            </p:nvSpPr>
            <p:spPr>
              <a:xfrm>
                <a:off x="351000" y="351936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31920" y="3500280"/>
                <a:ext cx="1709640" cy="1528920"/>
              </a:xfrm>
              <a:custGeom>
                <a:avLst/>
                <a:gdLst/>
                <a:ahLst/>
                <a:rect l="l" t="t" r="r" b="b"/>
                <a:pathLst>
                  <a:path w="1077" h="963">
                    <a:moveTo>
                      <a:pt x="113" y="878"/>
                    </a:moveTo>
                    <a:lnTo>
                      <a:pt x="539" y="878"/>
                    </a:lnTo>
                    <a:lnTo>
                      <a:pt x="539" y="963"/>
                    </a:lnTo>
                    <a:lnTo>
                      <a:pt x="28" y="963"/>
                    </a:lnTo>
                    <a:lnTo>
                      <a:pt x="0" y="935"/>
                    </a:lnTo>
                    <a:lnTo>
                      <a:pt x="0" y="907"/>
                    </a:lnTo>
                    <a:lnTo>
                      <a:pt x="482" y="28"/>
                    </a:lnTo>
                    <a:lnTo>
                      <a:pt x="510" y="0"/>
                    </a:lnTo>
                    <a:lnTo>
                      <a:pt x="567" y="0"/>
                    </a:lnTo>
                    <a:lnTo>
                      <a:pt x="595" y="28"/>
                    </a:lnTo>
                    <a:lnTo>
                      <a:pt x="1077" y="907"/>
                    </a:lnTo>
                    <a:lnTo>
                      <a:pt x="1077" y="935"/>
                    </a:lnTo>
                    <a:lnTo>
                      <a:pt x="1049" y="963"/>
                    </a:lnTo>
                    <a:lnTo>
                      <a:pt x="539" y="963"/>
                    </a:lnTo>
                    <a:lnTo>
                      <a:pt x="539" y="878"/>
                    </a:lnTo>
                    <a:lnTo>
                      <a:pt x="964" y="878"/>
                    </a:lnTo>
                    <a:lnTo>
                      <a:pt x="539" y="85"/>
                    </a:lnTo>
                    <a:lnTo>
                      <a:pt x="113" y="8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775800" y="4057560"/>
              <a:ext cx="673560" cy="771480"/>
              <a:chOff x="775800" y="4057560"/>
              <a:chExt cx="673560" cy="771480"/>
            </a:xfrm>
          </p:grpSpPr>
          <p:sp>
            <p:nvSpPr>
              <p:cNvPr id="552" name=""/>
              <p:cNvSpPr/>
              <p:nvPr/>
            </p:nvSpPr>
            <p:spPr>
              <a:xfrm rot="18900000">
                <a:off x="912960" y="4306680"/>
                <a:ext cx="131760" cy="442800"/>
              </a:xfrm>
              <a:custGeom>
                <a:avLst/>
                <a:gdLst>
                  <a:gd name="textAreaLeft" fmla="*/ 19080 w 131760"/>
                  <a:gd name="textAreaRight" fmla="*/ 112680 w 131760"/>
                  <a:gd name="textAreaTop" fmla="*/ 19080 h 442800"/>
                  <a:gd name="textAreaBottom" fmla="*/ 423720 h 442800"/>
                </a:gdLst>
                <a:ahLst/>
                <a:rect l="textAreaLeft" t="textAreaTop" r="textAreaRight" b="textAreaBottom"/>
                <a:pathLst>
                  <a:path w="21600" h="72451">
                    <a:moveTo>
                      <a:pt x="10800" y="0"/>
                    </a:moveTo>
                    <a:arcTo wR="10800" hR="10800" stAng="16200000" swAng="-5400000"/>
                    <a:lnTo>
                      <a:pt x="0" y="61651"/>
                    </a:lnTo>
                    <a:arcTo wR="10800" hR="10800" stAng="10800000" swAng="-5400000"/>
                    <a:lnTo>
                      <a:pt x="10800" y="7245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135800" y="4057560"/>
                <a:ext cx="98640" cy="443160"/>
              </a:xfrm>
              <a:custGeom>
                <a:avLst/>
                <a:gdLst>
                  <a:gd name="textAreaLeft" fmla="*/ 14400 w 98640"/>
                  <a:gd name="textAreaRight" fmla="*/ 84240 w 98640"/>
                  <a:gd name="textAreaTop" fmla="*/ 14400 h 443160"/>
                  <a:gd name="textAreaBottom" fmla="*/ 428760 h 443160"/>
                </a:gdLst>
                <a:ahLst/>
                <a:rect l="textAreaLeft" t="textAreaTop" r="textAreaRight" b="textAreaBottom"/>
                <a:pathLst>
                  <a:path w="21600" h="96768">
                    <a:moveTo>
                      <a:pt x="10800" y="0"/>
                    </a:moveTo>
                    <a:arcTo wR="10800" hR="10800" stAng="16200000" swAng="-5400000"/>
                    <a:lnTo>
                      <a:pt x="0" y="85968"/>
                    </a:lnTo>
                    <a:arcTo wR="10800" hR="10800" stAng="10800000" swAng="-5400000"/>
                    <a:lnTo>
                      <a:pt x="10800" y="96768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019880" y="4123440"/>
                <a:ext cx="98640" cy="426600"/>
              </a:xfrm>
              <a:custGeom>
                <a:avLst/>
                <a:gdLst>
                  <a:gd name="textAreaLeft" fmla="*/ 14400 w 98640"/>
                  <a:gd name="textAreaRight" fmla="*/ 84240 w 98640"/>
                  <a:gd name="textAreaTop" fmla="*/ 14400 h 426600"/>
                  <a:gd name="textAreaBottom" fmla="*/ 412200 h 426600"/>
                </a:gdLst>
                <a:ahLst/>
                <a:rect l="textAreaLeft" t="textAreaTop" r="textAreaRight" b="textAreaBottom"/>
                <a:pathLst>
                  <a:path w="21600" h="93155">
                    <a:moveTo>
                      <a:pt x="10800" y="0"/>
                    </a:moveTo>
                    <a:arcTo wR="10800" hR="10800" stAng="16200000" swAng="-5400000"/>
                    <a:lnTo>
                      <a:pt x="0" y="82355"/>
                    </a:lnTo>
                    <a:arcTo wR="10800" hR="10800" stAng="10800000" swAng="-5400000"/>
                    <a:lnTo>
                      <a:pt x="10800" y="93155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251000" y="4123440"/>
                <a:ext cx="98640" cy="393480"/>
              </a:xfrm>
              <a:custGeom>
                <a:avLst/>
                <a:gdLst>
                  <a:gd name="textAreaLeft" fmla="*/ 14400 w 98640"/>
                  <a:gd name="textAreaRight" fmla="*/ 84240 w 98640"/>
                  <a:gd name="textAreaTop" fmla="*/ 14400 h 393480"/>
                  <a:gd name="textAreaBottom" fmla="*/ 379080 h 393480"/>
                </a:gdLst>
                <a:ahLst/>
                <a:rect l="textAreaLeft" t="textAreaTop" r="textAreaRight" b="textAreaBottom"/>
                <a:pathLst>
                  <a:path w="21600" h="85929">
                    <a:moveTo>
                      <a:pt x="10800" y="0"/>
                    </a:moveTo>
                    <a:arcTo wR="10800" hR="10800" stAng="16200000" swAng="-5400000"/>
                    <a:lnTo>
                      <a:pt x="0" y="75129"/>
                    </a:lnTo>
                    <a:arcTo wR="10800" hR="10800" stAng="10800000" swAng="-5400000"/>
                    <a:lnTo>
                      <a:pt x="10800" y="8592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366560" y="4221720"/>
                <a:ext cx="82440" cy="311760"/>
              </a:xfrm>
              <a:custGeom>
                <a:avLst/>
                <a:gdLst>
                  <a:gd name="textAreaLeft" fmla="*/ 11880 w 82440"/>
                  <a:gd name="textAreaRight" fmla="*/ 70560 w 82440"/>
                  <a:gd name="textAreaTop" fmla="*/ 11880 h 311760"/>
                  <a:gd name="textAreaBottom" fmla="*/ 299880 h 311760"/>
                </a:gdLst>
                <a:ahLst/>
                <a:rect l="textAreaLeft" t="textAreaTop" r="textAreaRight" b="textAreaBottom"/>
                <a:pathLst>
                  <a:path w="21600" h="81423">
                    <a:moveTo>
                      <a:pt x="10800" y="0"/>
                    </a:moveTo>
                    <a:arcTo wR="10800" hR="10800" stAng="16200000" swAng="-5400000"/>
                    <a:lnTo>
                      <a:pt x="0" y="70623"/>
                    </a:lnTo>
                    <a:arcTo wR="10800" hR="10800" stAng="10800000" swAng="-5400000"/>
                    <a:lnTo>
                      <a:pt x="10800" y="8142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019880" y="4451760"/>
                <a:ext cx="429480" cy="377280"/>
              </a:xfrm>
              <a:prstGeom prst="roundRect">
                <a:avLst>
                  <a:gd name="adj" fmla="val 39704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019880" y="4402440"/>
                <a:ext cx="429480" cy="327960"/>
              </a:xfrm>
              <a:prstGeom prst="roundRect">
                <a:avLst>
                  <a:gd name="adj" fmla="val 17634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9" name=""/>
          <p:cNvGrpSpPr/>
          <p:nvPr/>
        </p:nvGrpSpPr>
        <p:grpSpPr>
          <a:xfrm>
            <a:off x="7850160" y="1846440"/>
            <a:ext cx="1738440" cy="1538280"/>
            <a:chOff x="7850160" y="1846440"/>
            <a:chExt cx="1738440" cy="1538280"/>
          </a:xfrm>
        </p:grpSpPr>
        <p:grpSp>
          <p:nvGrpSpPr>
            <p:cNvPr id="560" name=""/>
            <p:cNvGrpSpPr/>
            <p:nvPr/>
          </p:nvGrpSpPr>
          <p:grpSpPr>
            <a:xfrm>
              <a:off x="7850160" y="1846440"/>
              <a:ext cx="1738440" cy="1538280"/>
              <a:chOff x="7850160" y="1846440"/>
              <a:chExt cx="1738440" cy="1538280"/>
            </a:xfrm>
          </p:grpSpPr>
          <p:sp>
            <p:nvSpPr>
              <p:cNvPr id="561" name=""/>
              <p:cNvSpPr/>
              <p:nvPr/>
            </p:nvSpPr>
            <p:spPr>
              <a:xfrm>
                <a:off x="7883640" y="1870200"/>
                <a:ext cx="1670040" cy="149040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850160" y="1846440"/>
                <a:ext cx="1738440" cy="1538280"/>
              </a:xfrm>
              <a:custGeom>
                <a:avLst/>
                <a:gdLst/>
                <a:ahLst/>
                <a:rect l="l" t="t" r="r" b="b"/>
                <a:pathLst>
                  <a:path w="1095" h="969">
                    <a:moveTo>
                      <a:pt x="519" y="91"/>
                    </a:moveTo>
                    <a:cubicBezTo>
                      <a:pt x="519" y="91"/>
                      <a:pt x="529" y="64"/>
                      <a:pt x="547" y="62"/>
                    </a:cubicBezTo>
                    <a:cubicBezTo>
                      <a:pt x="564" y="61"/>
                      <a:pt x="575" y="91"/>
                      <a:pt x="575" y="91"/>
                    </a:cubicBezTo>
                    <a:lnTo>
                      <a:pt x="1029" y="913"/>
                    </a:lnTo>
                    <a:lnTo>
                      <a:pt x="547" y="913"/>
                    </a:lnTo>
                    <a:lnTo>
                      <a:pt x="547" y="969"/>
                    </a:lnTo>
                    <a:lnTo>
                      <a:pt x="1057" y="969"/>
                    </a:lnTo>
                    <a:cubicBezTo>
                      <a:pt x="1057" y="969"/>
                      <a:pt x="1075" y="956"/>
                      <a:pt x="1086" y="941"/>
                    </a:cubicBezTo>
                    <a:cubicBezTo>
                      <a:pt x="1095" y="929"/>
                      <a:pt x="1086" y="913"/>
                      <a:pt x="1086" y="913"/>
                    </a:cubicBezTo>
                    <a:lnTo>
                      <a:pt x="604" y="34"/>
                    </a:lnTo>
                    <a:cubicBezTo>
                      <a:pt x="604" y="34"/>
                      <a:pt x="585" y="11"/>
                      <a:pt x="575" y="6"/>
                    </a:cubicBezTo>
                    <a:cubicBezTo>
                      <a:pt x="565" y="1"/>
                      <a:pt x="553" y="1"/>
                      <a:pt x="544" y="1"/>
                    </a:cubicBezTo>
                    <a:cubicBezTo>
                      <a:pt x="535" y="1"/>
                      <a:pt x="528" y="0"/>
                      <a:pt x="519" y="6"/>
                    </a:cubicBezTo>
                    <a:cubicBezTo>
                      <a:pt x="496" y="17"/>
                      <a:pt x="490" y="34"/>
                      <a:pt x="490" y="34"/>
                    </a:cubicBezTo>
                    <a:lnTo>
                      <a:pt x="8" y="913"/>
                    </a:lnTo>
                    <a:cubicBezTo>
                      <a:pt x="8" y="913"/>
                      <a:pt x="0" y="928"/>
                      <a:pt x="8" y="941"/>
                    </a:cubicBezTo>
                    <a:cubicBezTo>
                      <a:pt x="19" y="962"/>
                      <a:pt x="37" y="969"/>
                      <a:pt x="37" y="969"/>
                    </a:cubicBezTo>
                    <a:cubicBezTo>
                      <a:pt x="292" y="969"/>
                      <a:pt x="547" y="969"/>
                      <a:pt x="547" y="969"/>
                    </a:cubicBezTo>
                    <a:lnTo>
                      <a:pt x="547" y="913"/>
                    </a:lnTo>
                    <a:lnTo>
                      <a:pt x="65" y="913"/>
                    </a:lnTo>
                    <a:lnTo>
                      <a:pt x="519" y="9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8250120" y="2390760"/>
              <a:ext cx="741600" cy="847800"/>
              <a:chOff x="8250120" y="2390760"/>
              <a:chExt cx="741600" cy="847800"/>
            </a:xfrm>
          </p:grpSpPr>
          <p:sp>
            <p:nvSpPr>
              <p:cNvPr id="564" name=""/>
              <p:cNvSpPr/>
              <p:nvPr/>
            </p:nvSpPr>
            <p:spPr>
              <a:xfrm rot="18900000">
                <a:off x="8400600" y="2664720"/>
                <a:ext cx="145440" cy="486720"/>
              </a:xfrm>
              <a:custGeom>
                <a:avLst/>
                <a:gdLst>
                  <a:gd name="textAreaLeft" fmla="*/ 21240 w 145440"/>
                  <a:gd name="textAreaRight" fmla="*/ 124200 w 145440"/>
                  <a:gd name="textAreaTop" fmla="*/ 21240 h 486720"/>
                  <a:gd name="textAreaBottom" fmla="*/ 465480 h 486720"/>
                </a:gdLst>
                <a:ahLst/>
                <a:rect l="textAreaLeft" t="textAreaTop" r="textAreaRight" b="textAreaBottom"/>
                <a:pathLst>
                  <a:path w="21600" h="72160">
                    <a:moveTo>
                      <a:pt x="10800" y="0"/>
                    </a:moveTo>
                    <a:arcTo wR="10800" hR="10800" stAng="16200000" swAng="-5400000"/>
                    <a:lnTo>
                      <a:pt x="0" y="61360"/>
                    </a:lnTo>
                    <a:arcTo wR="10800" hR="10800" stAng="10800000" swAng="-5400000"/>
                    <a:lnTo>
                      <a:pt x="10800" y="7216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646120" y="2390760"/>
                <a:ext cx="108720" cy="487080"/>
              </a:xfrm>
              <a:custGeom>
                <a:avLst/>
                <a:gdLst>
                  <a:gd name="textAreaLeft" fmla="*/ 15840 w 108720"/>
                  <a:gd name="textAreaRight" fmla="*/ 92880 w 108720"/>
                  <a:gd name="textAreaTop" fmla="*/ 15840 h 487080"/>
                  <a:gd name="textAreaBottom" fmla="*/ 471240 h 487080"/>
                </a:gdLst>
                <a:ahLst/>
                <a:rect l="textAreaLeft" t="textAreaTop" r="textAreaRight" b="textAreaBottom"/>
                <a:pathLst>
                  <a:path w="21600" h="96523">
                    <a:moveTo>
                      <a:pt x="10800" y="0"/>
                    </a:moveTo>
                    <a:arcTo wR="10800" hR="10800" stAng="16200000" swAng="-5400000"/>
                    <a:lnTo>
                      <a:pt x="0" y="85723"/>
                    </a:lnTo>
                    <a:arcTo wR="10800" hR="10800" stAng="10800000" swAng="-5400000"/>
                    <a:lnTo>
                      <a:pt x="10800" y="9652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518680" y="2463120"/>
                <a:ext cx="108720" cy="468720"/>
              </a:xfrm>
              <a:custGeom>
                <a:avLst/>
                <a:gdLst>
                  <a:gd name="textAreaLeft" fmla="*/ 15840 w 108720"/>
                  <a:gd name="textAreaRight" fmla="*/ 92880 w 108720"/>
                  <a:gd name="textAreaTop" fmla="*/ 15840 h 468720"/>
                  <a:gd name="textAreaBottom" fmla="*/ 452880 h 468720"/>
                </a:gdLst>
                <a:ahLst/>
                <a:rect l="textAreaLeft" t="textAreaTop" r="textAreaRight" b="textAreaBottom"/>
                <a:pathLst>
                  <a:path w="21600" h="92887">
                    <a:moveTo>
                      <a:pt x="10800" y="0"/>
                    </a:moveTo>
                    <a:arcTo wR="10800" hR="10800" stAng="16200000" swAng="-5400000"/>
                    <a:lnTo>
                      <a:pt x="0" y="82087"/>
                    </a:lnTo>
                    <a:arcTo wR="10800" hR="10800" stAng="10800000" swAng="-5400000"/>
                    <a:lnTo>
                      <a:pt x="10800" y="9288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773200" y="2463120"/>
                <a:ext cx="108720" cy="432360"/>
              </a:xfrm>
              <a:custGeom>
                <a:avLst/>
                <a:gdLst>
                  <a:gd name="textAreaLeft" fmla="*/ 15840 w 108720"/>
                  <a:gd name="textAreaRight" fmla="*/ 92880 w 108720"/>
                  <a:gd name="textAreaTop" fmla="*/ 15840 h 432360"/>
                  <a:gd name="textAreaBottom" fmla="*/ 416520 h 432360"/>
                </a:gdLst>
                <a:ahLst/>
                <a:rect l="textAreaLeft" t="textAreaTop" r="textAreaRight" b="textAreaBottom"/>
                <a:pathLst>
                  <a:path w="21600" h="85687">
                    <a:moveTo>
                      <a:pt x="10800" y="0"/>
                    </a:moveTo>
                    <a:arcTo wR="10800" hR="10800" stAng="16200000" swAng="-5400000"/>
                    <a:lnTo>
                      <a:pt x="0" y="74887"/>
                    </a:lnTo>
                    <a:arcTo wR="10800" hR="10800" stAng="10800000" swAng="-5400000"/>
                    <a:lnTo>
                      <a:pt x="10800" y="8568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900640" y="2571120"/>
                <a:ext cx="91080" cy="342720"/>
              </a:xfrm>
              <a:custGeom>
                <a:avLst/>
                <a:gdLst>
                  <a:gd name="textAreaLeft" fmla="*/ 13320 w 91080"/>
                  <a:gd name="textAreaRight" fmla="*/ 77760 w 91080"/>
                  <a:gd name="textAreaTop" fmla="*/ 13320 h 342720"/>
                  <a:gd name="textAreaBottom" fmla="*/ 329400 h 342720"/>
                </a:gdLst>
                <a:ahLst/>
                <a:rect l="textAreaLeft" t="textAreaTop" r="textAreaRight" b="textAreaBottom"/>
                <a:pathLst>
                  <a:path w="21600" h="81043">
                    <a:moveTo>
                      <a:pt x="10800" y="0"/>
                    </a:moveTo>
                    <a:arcTo wR="10800" hR="10800" stAng="16200000" swAng="-5400000"/>
                    <a:lnTo>
                      <a:pt x="0" y="70243"/>
                    </a:lnTo>
                    <a:arcTo wR="10800" hR="10800" stAng="10800000" swAng="-5400000"/>
                    <a:lnTo>
                      <a:pt x="10800" y="8104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518680" y="2823840"/>
                <a:ext cx="473040" cy="414720"/>
              </a:xfrm>
              <a:prstGeom prst="roundRect">
                <a:avLst>
                  <a:gd name="adj" fmla="val 39704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518680" y="2769840"/>
                <a:ext cx="473040" cy="360360"/>
              </a:xfrm>
              <a:prstGeom prst="roundRect">
                <a:avLst>
                  <a:gd name="adj" fmla="val 17634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1" name=""/>
          <p:cNvGrpSpPr/>
          <p:nvPr/>
        </p:nvGrpSpPr>
        <p:grpSpPr>
          <a:xfrm>
            <a:off x="5964120" y="1847880"/>
            <a:ext cx="1738440" cy="1538280"/>
            <a:chOff x="5964120" y="1847880"/>
            <a:chExt cx="1738440" cy="1538280"/>
          </a:xfrm>
        </p:grpSpPr>
        <p:grpSp>
          <p:nvGrpSpPr>
            <p:cNvPr id="572" name=""/>
            <p:cNvGrpSpPr/>
            <p:nvPr/>
          </p:nvGrpSpPr>
          <p:grpSpPr>
            <a:xfrm>
              <a:off x="5964120" y="1847880"/>
              <a:ext cx="1738440" cy="1538280"/>
              <a:chOff x="5964120" y="1847880"/>
              <a:chExt cx="1738440" cy="1538280"/>
            </a:xfrm>
          </p:grpSpPr>
          <p:sp>
            <p:nvSpPr>
              <p:cNvPr id="573" name=""/>
              <p:cNvSpPr/>
              <p:nvPr/>
            </p:nvSpPr>
            <p:spPr>
              <a:xfrm>
                <a:off x="5997600" y="187164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964120" y="1847880"/>
                <a:ext cx="1738440" cy="1538280"/>
              </a:xfrm>
              <a:custGeom>
                <a:avLst/>
                <a:gdLst/>
                <a:ahLst/>
                <a:rect l="l" t="t" r="r" b="b"/>
                <a:pathLst>
                  <a:path w="1095" h="969">
                    <a:moveTo>
                      <a:pt x="519" y="91"/>
                    </a:moveTo>
                    <a:cubicBezTo>
                      <a:pt x="519" y="91"/>
                      <a:pt x="529" y="64"/>
                      <a:pt x="547" y="62"/>
                    </a:cubicBezTo>
                    <a:cubicBezTo>
                      <a:pt x="564" y="61"/>
                      <a:pt x="575" y="91"/>
                      <a:pt x="575" y="91"/>
                    </a:cubicBezTo>
                    <a:lnTo>
                      <a:pt x="1029" y="913"/>
                    </a:lnTo>
                    <a:lnTo>
                      <a:pt x="547" y="913"/>
                    </a:lnTo>
                    <a:lnTo>
                      <a:pt x="547" y="969"/>
                    </a:lnTo>
                    <a:lnTo>
                      <a:pt x="1057" y="969"/>
                    </a:lnTo>
                    <a:cubicBezTo>
                      <a:pt x="1057" y="969"/>
                      <a:pt x="1075" y="956"/>
                      <a:pt x="1086" y="941"/>
                    </a:cubicBezTo>
                    <a:cubicBezTo>
                      <a:pt x="1095" y="929"/>
                      <a:pt x="1086" y="913"/>
                      <a:pt x="1086" y="913"/>
                    </a:cubicBezTo>
                    <a:lnTo>
                      <a:pt x="604" y="34"/>
                    </a:lnTo>
                    <a:cubicBezTo>
                      <a:pt x="604" y="34"/>
                      <a:pt x="585" y="11"/>
                      <a:pt x="575" y="6"/>
                    </a:cubicBezTo>
                    <a:cubicBezTo>
                      <a:pt x="565" y="1"/>
                      <a:pt x="553" y="1"/>
                      <a:pt x="544" y="1"/>
                    </a:cubicBezTo>
                    <a:cubicBezTo>
                      <a:pt x="535" y="1"/>
                      <a:pt x="528" y="0"/>
                      <a:pt x="519" y="6"/>
                    </a:cubicBezTo>
                    <a:cubicBezTo>
                      <a:pt x="496" y="17"/>
                      <a:pt x="490" y="34"/>
                      <a:pt x="490" y="34"/>
                    </a:cubicBezTo>
                    <a:lnTo>
                      <a:pt x="8" y="913"/>
                    </a:lnTo>
                    <a:cubicBezTo>
                      <a:pt x="8" y="913"/>
                      <a:pt x="0" y="928"/>
                      <a:pt x="8" y="941"/>
                    </a:cubicBezTo>
                    <a:cubicBezTo>
                      <a:pt x="19" y="962"/>
                      <a:pt x="37" y="969"/>
                      <a:pt x="37" y="969"/>
                    </a:cubicBezTo>
                    <a:cubicBezTo>
                      <a:pt x="292" y="969"/>
                      <a:pt x="547" y="969"/>
                      <a:pt x="547" y="969"/>
                    </a:cubicBezTo>
                    <a:lnTo>
                      <a:pt x="547" y="913"/>
                    </a:lnTo>
                    <a:lnTo>
                      <a:pt x="65" y="913"/>
                    </a:lnTo>
                    <a:lnTo>
                      <a:pt x="519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6364440" y="2390760"/>
              <a:ext cx="741240" cy="847800"/>
              <a:chOff x="6364440" y="2390760"/>
              <a:chExt cx="741240" cy="847800"/>
            </a:xfrm>
          </p:grpSpPr>
          <p:sp>
            <p:nvSpPr>
              <p:cNvPr id="576" name=""/>
              <p:cNvSpPr/>
              <p:nvPr/>
            </p:nvSpPr>
            <p:spPr>
              <a:xfrm rot="18900000">
                <a:off x="6514920" y="2664360"/>
                <a:ext cx="145080" cy="486720"/>
              </a:xfrm>
              <a:custGeom>
                <a:avLst/>
                <a:gdLst>
                  <a:gd name="textAreaLeft" fmla="*/ 21240 w 145080"/>
                  <a:gd name="textAreaRight" fmla="*/ 123840 w 145080"/>
                  <a:gd name="textAreaTop" fmla="*/ 21240 h 486720"/>
                  <a:gd name="textAreaBottom" fmla="*/ 465480 h 486720"/>
                </a:gdLst>
                <a:ahLst/>
                <a:rect l="textAreaLeft" t="textAreaTop" r="textAreaRight" b="textAreaBottom"/>
                <a:pathLst>
                  <a:path w="21600" h="72339">
                    <a:moveTo>
                      <a:pt x="10800" y="0"/>
                    </a:moveTo>
                    <a:arcTo wR="10800" hR="10800" stAng="16200000" swAng="-5400000"/>
                    <a:lnTo>
                      <a:pt x="0" y="61539"/>
                    </a:lnTo>
                    <a:arcTo wR="10800" hR="10800" stAng="10800000" swAng="-5400000"/>
                    <a:lnTo>
                      <a:pt x="10800" y="7233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760440" y="2390760"/>
                <a:ext cx="108720" cy="487080"/>
              </a:xfrm>
              <a:custGeom>
                <a:avLst/>
                <a:gdLst>
                  <a:gd name="textAreaLeft" fmla="*/ 15840 w 108720"/>
                  <a:gd name="textAreaRight" fmla="*/ 92880 w 108720"/>
                  <a:gd name="textAreaTop" fmla="*/ 15840 h 487080"/>
                  <a:gd name="textAreaBottom" fmla="*/ 471240 h 487080"/>
                </a:gdLst>
                <a:ahLst/>
                <a:rect l="textAreaLeft" t="textAreaTop" r="textAreaRight" b="textAreaBottom"/>
                <a:pathLst>
                  <a:path w="21600" h="96523">
                    <a:moveTo>
                      <a:pt x="10800" y="0"/>
                    </a:moveTo>
                    <a:arcTo wR="10800" hR="10800" stAng="16200000" swAng="-5400000"/>
                    <a:lnTo>
                      <a:pt x="0" y="85723"/>
                    </a:lnTo>
                    <a:arcTo wR="10800" hR="10800" stAng="10800000" swAng="-5400000"/>
                    <a:lnTo>
                      <a:pt x="10800" y="9652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633000" y="2463120"/>
                <a:ext cx="108720" cy="468720"/>
              </a:xfrm>
              <a:custGeom>
                <a:avLst/>
                <a:gdLst>
                  <a:gd name="textAreaLeft" fmla="*/ 15840 w 108720"/>
                  <a:gd name="textAreaRight" fmla="*/ 92880 w 108720"/>
                  <a:gd name="textAreaTop" fmla="*/ 15840 h 468720"/>
                  <a:gd name="textAreaBottom" fmla="*/ 452880 h 468720"/>
                </a:gdLst>
                <a:ahLst/>
                <a:rect l="textAreaLeft" t="textAreaTop" r="textAreaRight" b="textAreaBottom"/>
                <a:pathLst>
                  <a:path w="21600" h="92887">
                    <a:moveTo>
                      <a:pt x="10800" y="0"/>
                    </a:moveTo>
                    <a:arcTo wR="10800" hR="10800" stAng="16200000" swAng="-5400000"/>
                    <a:lnTo>
                      <a:pt x="0" y="82087"/>
                    </a:lnTo>
                    <a:arcTo wR="10800" hR="10800" stAng="10800000" swAng="-5400000"/>
                    <a:lnTo>
                      <a:pt x="10800" y="9288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887160" y="2463120"/>
                <a:ext cx="108720" cy="432360"/>
              </a:xfrm>
              <a:custGeom>
                <a:avLst/>
                <a:gdLst>
                  <a:gd name="textAreaLeft" fmla="*/ 15840 w 108720"/>
                  <a:gd name="textAreaRight" fmla="*/ 92880 w 108720"/>
                  <a:gd name="textAreaTop" fmla="*/ 15840 h 432360"/>
                  <a:gd name="textAreaBottom" fmla="*/ 416520 h 432360"/>
                </a:gdLst>
                <a:ahLst/>
                <a:rect l="textAreaLeft" t="textAreaTop" r="textAreaRight" b="textAreaBottom"/>
                <a:pathLst>
                  <a:path w="21600" h="85687">
                    <a:moveTo>
                      <a:pt x="10800" y="0"/>
                    </a:moveTo>
                    <a:arcTo wR="10800" hR="10800" stAng="16200000" swAng="-5400000"/>
                    <a:lnTo>
                      <a:pt x="0" y="74887"/>
                    </a:lnTo>
                    <a:arcTo wR="10800" hR="10800" stAng="10800000" swAng="-5400000"/>
                    <a:lnTo>
                      <a:pt x="10800" y="8568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014600" y="2571120"/>
                <a:ext cx="90720" cy="342720"/>
              </a:xfrm>
              <a:custGeom>
                <a:avLst/>
                <a:gdLst>
                  <a:gd name="textAreaLeft" fmla="*/ 13320 w 90720"/>
                  <a:gd name="textAreaRight" fmla="*/ 77400 w 90720"/>
                  <a:gd name="textAreaTop" fmla="*/ 13320 h 342720"/>
                  <a:gd name="textAreaBottom" fmla="*/ 329400 h 342720"/>
                </a:gdLst>
                <a:ahLst/>
                <a:rect l="textAreaLeft" t="textAreaTop" r="textAreaRight" b="textAreaBottom"/>
                <a:pathLst>
                  <a:path w="21600" h="81363">
                    <a:moveTo>
                      <a:pt x="10800" y="0"/>
                    </a:moveTo>
                    <a:arcTo wR="10800" hR="10800" stAng="16200000" swAng="-5400000"/>
                    <a:lnTo>
                      <a:pt x="0" y="70563"/>
                    </a:lnTo>
                    <a:arcTo wR="10800" hR="10800" stAng="10800000" swAng="-5400000"/>
                    <a:lnTo>
                      <a:pt x="10800" y="8136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633000" y="2823840"/>
                <a:ext cx="472680" cy="414720"/>
              </a:xfrm>
              <a:prstGeom prst="roundRect">
                <a:avLst>
                  <a:gd name="adj" fmla="val 39704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633000" y="2769840"/>
                <a:ext cx="472680" cy="360360"/>
              </a:xfrm>
              <a:prstGeom prst="roundRect">
                <a:avLst>
                  <a:gd name="adj" fmla="val 17634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3" name=""/>
          <p:cNvGrpSpPr/>
          <p:nvPr/>
        </p:nvGrpSpPr>
        <p:grpSpPr>
          <a:xfrm>
            <a:off x="4098960" y="1865160"/>
            <a:ext cx="1738440" cy="1538280"/>
            <a:chOff x="4098960" y="1865160"/>
            <a:chExt cx="1738440" cy="1538280"/>
          </a:xfrm>
        </p:grpSpPr>
        <p:grpSp>
          <p:nvGrpSpPr>
            <p:cNvPr id="584" name=""/>
            <p:cNvGrpSpPr/>
            <p:nvPr/>
          </p:nvGrpSpPr>
          <p:grpSpPr>
            <a:xfrm>
              <a:off x="4098960" y="1865160"/>
              <a:ext cx="1738440" cy="1538280"/>
              <a:chOff x="4098960" y="1865160"/>
              <a:chExt cx="1738440" cy="1538280"/>
            </a:xfrm>
          </p:grpSpPr>
          <p:sp>
            <p:nvSpPr>
              <p:cNvPr id="585" name=""/>
              <p:cNvSpPr/>
              <p:nvPr/>
            </p:nvSpPr>
            <p:spPr>
              <a:xfrm>
                <a:off x="4132440" y="1889280"/>
                <a:ext cx="1670040" cy="149040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098960" y="1865160"/>
                <a:ext cx="1738440" cy="1538280"/>
              </a:xfrm>
              <a:custGeom>
                <a:avLst/>
                <a:gdLst/>
                <a:ahLst/>
                <a:rect l="l" t="t" r="r" b="b"/>
                <a:pathLst>
                  <a:path w="1095" h="969">
                    <a:moveTo>
                      <a:pt x="519" y="91"/>
                    </a:moveTo>
                    <a:cubicBezTo>
                      <a:pt x="519" y="91"/>
                      <a:pt x="529" y="64"/>
                      <a:pt x="547" y="62"/>
                    </a:cubicBezTo>
                    <a:cubicBezTo>
                      <a:pt x="564" y="61"/>
                      <a:pt x="575" y="91"/>
                      <a:pt x="575" y="91"/>
                    </a:cubicBezTo>
                    <a:lnTo>
                      <a:pt x="1029" y="913"/>
                    </a:lnTo>
                    <a:lnTo>
                      <a:pt x="547" y="913"/>
                    </a:lnTo>
                    <a:lnTo>
                      <a:pt x="547" y="969"/>
                    </a:lnTo>
                    <a:lnTo>
                      <a:pt x="1057" y="969"/>
                    </a:lnTo>
                    <a:cubicBezTo>
                      <a:pt x="1057" y="969"/>
                      <a:pt x="1075" y="956"/>
                      <a:pt x="1086" y="941"/>
                    </a:cubicBezTo>
                    <a:cubicBezTo>
                      <a:pt x="1095" y="929"/>
                      <a:pt x="1086" y="913"/>
                      <a:pt x="1086" y="913"/>
                    </a:cubicBezTo>
                    <a:lnTo>
                      <a:pt x="604" y="34"/>
                    </a:lnTo>
                    <a:cubicBezTo>
                      <a:pt x="604" y="34"/>
                      <a:pt x="585" y="11"/>
                      <a:pt x="575" y="6"/>
                    </a:cubicBezTo>
                    <a:cubicBezTo>
                      <a:pt x="565" y="1"/>
                      <a:pt x="553" y="1"/>
                      <a:pt x="544" y="1"/>
                    </a:cubicBezTo>
                    <a:cubicBezTo>
                      <a:pt x="535" y="1"/>
                      <a:pt x="528" y="0"/>
                      <a:pt x="519" y="6"/>
                    </a:cubicBezTo>
                    <a:cubicBezTo>
                      <a:pt x="496" y="17"/>
                      <a:pt x="490" y="34"/>
                      <a:pt x="490" y="34"/>
                    </a:cubicBezTo>
                    <a:lnTo>
                      <a:pt x="8" y="913"/>
                    </a:lnTo>
                    <a:cubicBezTo>
                      <a:pt x="8" y="913"/>
                      <a:pt x="0" y="928"/>
                      <a:pt x="8" y="941"/>
                    </a:cubicBezTo>
                    <a:cubicBezTo>
                      <a:pt x="19" y="962"/>
                      <a:pt x="37" y="969"/>
                      <a:pt x="37" y="969"/>
                    </a:cubicBezTo>
                    <a:cubicBezTo>
                      <a:pt x="292" y="969"/>
                      <a:pt x="547" y="969"/>
                      <a:pt x="547" y="969"/>
                    </a:cubicBezTo>
                    <a:lnTo>
                      <a:pt x="547" y="913"/>
                    </a:lnTo>
                    <a:lnTo>
                      <a:pt x="65" y="913"/>
                    </a:lnTo>
                    <a:lnTo>
                      <a:pt x="519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4516560" y="2390760"/>
              <a:ext cx="741240" cy="847800"/>
              <a:chOff x="4516560" y="2390760"/>
              <a:chExt cx="741240" cy="847800"/>
            </a:xfrm>
          </p:grpSpPr>
          <p:sp>
            <p:nvSpPr>
              <p:cNvPr id="588" name=""/>
              <p:cNvSpPr/>
              <p:nvPr/>
            </p:nvSpPr>
            <p:spPr>
              <a:xfrm rot="18900000">
                <a:off x="4667040" y="2664360"/>
                <a:ext cx="145080" cy="486720"/>
              </a:xfrm>
              <a:custGeom>
                <a:avLst/>
                <a:gdLst>
                  <a:gd name="textAreaLeft" fmla="*/ 21240 w 145080"/>
                  <a:gd name="textAreaRight" fmla="*/ 123840 w 145080"/>
                  <a:gd name="textAreaTop" fmla="*/ 21240 h 486720"/>
                  <a:gd name="textAreaBottom" fmla="*/ 465480 h 486720"/>
                </a:gdLst>
                <a:ahLst/>
                <a:rect l="textAreaLeft" t="textAreaTop" r="textAreaRight" b="textAreaBottom"/>
                <a:pathLst>
                  <a:path w="21600" h="72339">
                    <a:moveTo>
                      <a:pt x="10800" y="0"/>
                    </a:moveTo>
                    <a:arcTo wR="10800" hR="10800" stAng="16200000" swAng="-5400000"/>
                    <a:lnTo>
                      <a:pt x="0" y="61539"/>
                    </a:lnTo>
                    <a:arcTo wR="10800" hR="10800" stAng="10800000" swAng="-5400000"/>
                    <a:lnTo>
                      <a:pt x="10800" y="7233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912560" y="2390760"/>
                <a:ext cx="108720" cy="487080"/>
              </a:xfrm>
              <a:custGeom>
                <a:avLst/>
                <a:gdLst>
                  <a:gd name="textAreaLeft" fmla="*/ 15840 w 108720"/>
                  <a:gd name="textAreaRight" fmla="*/ 92880 w 108720"/>
                  <a:gd name="textAreaTop" fmla="*/ 15840 h 487080"/>
                  <a:gd name="textAreaBottom" fmla="*/ 471240 h 487080"/>
                </a:gdLst>
                <a:ahLst/>
                <a:rect l="textAreaLeft" t="textAreaTop" r="textAreaRight" b="textAreaBottom"/>
                <a:pathLst>
                  <a:path w="21600" h="96523">
                    <a:moveTo>
                      <a:pt x="10800" y="0"/>
                    </a:moveTo>
                    <a:arcTo wR="10800" hR="10800" stAng="16200000" swAng="-5400000"/>
                    <a:lnTo>
                      <a:pt x="0" y="85723"/>
                    </a:lnTo>
                    <a:arcTo wR="10800" hR="10800" stAng="10800000" swAng="-5400000"/>
                    <a:lnTo>
                      <a:pt x="10800" y="9652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785120" y="2463120"/>
                <a:ext cx="108720" cy="468720"/>
              </a:xfrm>
              <a:custGeom>
                <a:avLst/>
                <a:gdLst>
                  <a:gd name="textAreaLeft" fmla="*/ 15840 w 108720"/>
                  <a:gd name="textAreaRight" fmla="*/ 92880 w 108720"/>
                  <a:gd name="textAreaTop" fmla="*/ 15840 h 468720"/>
                  <a:gd name="textAreaBottom" fmla="*/ 452880 h 468720"/>
                </a:gdLst>
                <a:ahLst/>
                <a:rect l="textAreaLeft" t="textAreaTop" r="textAreaRight" b="textAreaBottom"/>
                <a:pathLst>
                  <a:path w="21600" h="92887">
                    <a:moveTo>
                      <a:pt x="10800" y="0"/>
                    </a:moveTo>
                    <a:arcTo wR="10800" hR="10800" stAng="16200000" swAng="-5400000"/>
                    <a:lnTo>
                      <a:pt x="0" y="82087"/>
                    </a:lnTo>
                    <a:arcTo wR="10800" hR="10800" stAng="10800000" swAng="-5400000"/>
                    <a:lnTo>
                      <a:pt x="10800" y="9288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039280" y="2463120"/>
                <a:ext cx="108720" cy="432360"/>
              </a:xfrm>
              <a:custGeom>
                <a:avLst/>
                <a:gdLst>
                  <a:gd name="textAreaLeft" fmla="*/ 15840 w 108720"/>
                  <a:gd name="textAreaRight" fmla="*/ 92880 w 108720"/>
                  <a:gd name="textAreaTop" fmla="*/ 15840 h 432360"/>
                  <a:gd name="textAreaBottom" fmla="*/ 416520 h 432360"/>
                </a:gdLst>
                <a:ahLst/>
                <a:rect l="textAreaLeft" t="textAreaTop" r="textAreaRight" b="textAreaBottom"/>
                <a:pathLst>
                  <a:path w="21600" h="85687">
                    <a:moveTo>
                      <a:pt x="10800" y="0"/>
                    </a:moveTo>
                    <a:arcTo wR="10800" hR="10800" stAng="16200000" swAng="-5400000"/>
                    <a:lnTo>
                      <a:pt x="0" y="74887"/>
                    </a:lnTo>
                    <a:arcTo wR="10800" hR="10800" stAng="10800000" swAng="-5400000"/>
                    <a:lnTo>
                      <a:pt x="10800" y="8568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166720" y="2571120"/>
                <a:ext cx="90720" cy="342720"/>
              </a:xfrm>
              <a:custGeom>
                <a:avLst/>
                <a:gdLst>
                  <a:gd name="textAreaLeft" fmla="*/ 13320 w 90720"/>
                  <a:gd name="textAreaRight" fmla="*/ 77400 w 90720"/>
                  <a:gd name="textAreaTop" fmla="*/ 13320 h 342720"/>
                  <a:gd name="textAreaBottom" fmla="*/ 329400 h 342720"/>
                </a:gdLst>
                <a:ahLst/>
                <a:rect l="textAreaLeft" t="textAreaTop" r="textAreaRight" b="textAreaBottom"/>
                <a:pathLst>
                  <a:path w="21600" h="81363">
                    <a:moveTo>
                      <a:pt x="10800" y="0"/>
                    </a:moveTo>
                    <a:arcTo wR="10800" hR="10800" stAng="16200000" swAng="-5400000"/>
                    <a:lnTo>
                      <a:pt x="0" y="70563"/>
                    </a:lnTo>
                    <a:arcTo wR="10800" hR="10800" stAng="10800000" swAng="-5400000"/>
                    <a:lnTo>
                      <a:pt x="10800" y="8136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785120" y="2823840"/>
                <a:ext cx="472680" cy="414720"/>
              </a:xfrm>
              <a:prstGeom prst="roundRect">
                <a:avLst>
                  <a:gd name="adj" fmla="val 39704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785120" y="2769840"/>
                <a:ext cx="472680" cy="360360"/>
              </a:xfrm>
              <a:prstGeom prst="roundRect">
                <a:avLst>
                  <a:gd name="adj" fmla="val 17634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5" name=""/>
          <p:cNvGrpSpPr/>
          <p:nvPr/>
        </p:nvGrpSpPr>
        <p:grpSpPr>
          <a:xfrm>
            <a:off x="2208240" y="1871640"/>
            <a:ext cx="1738440" cy="1538280"/>
            <a:chOff x="2208240" y="1871640"/>
            <a:chExt cx="1738440" cy="1538280"/>
          </a:xfrm>
        </p:grpSpPr>
        <p:grpSp>
          <p:nvGrpSpPr>
            <p:cNvPr id="596" name=""/>
            <p:cNvGrpSpPr/>
            <p:nvPr/>
          </p:nvGrpSpPr>
          <p:grpSpPr>
            <a:xfrm>
              <a:off x="2208240" y="1871640"/>
              <a:ext cx="1738440" cy="1538280"/>
              <a:chOff x="2208240" y="1871640"/>
              <a:chExt cx="1738440" cy="1538280"/>
            </a:xfrm>
          </p:grpSpPr>
          <p:sp>
            <p:nvSpPr>
              <p:cNvPr id="597" name=""/>
              <p:cNvSpPr/>
              <p:nvPr/>
            </p:nvSpPr>
            <p:spPr>
              <a:xfrm>
                <a:off x="2241720" y="189540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208240" y="1871640"/>
                <a:ext cx="1738440" cy="1538280"/>
              </a:xfrm>
              <a:custGeom>
                <a:avLst/>
                <a:gdLst/>
                <a:ahLst/>
                <a:rect l="l" t="t" r="r" b="b"/>
                <a:pathLst>
                  <a:path w="1095" h="969">
                    <a:moveTo>
                      <a:pt x="519" y="91"/>
                    </a:moveTo>
                    <a:cubicBezTo>
                      <a:pt x="519" y="91"/>
                      <a:pt x="529" y="64"/>
                      <a:pt x="547" y="62"/>
                    </a:cubicBezTo>
                    <a:cubicBezTo>
                      <a:pt x="564" y="61"/>
                      <a:pt x="575" y="91"/>
                      <a:pt x="575" y="91"/>
                    </a:cubicBezTo>
                    <a:lnTo>
                      <a:pt x="1029" y="913"/>
                    </a:lnTo>
                    <a:lnTo>
                      <a:pt x="547" y="913"/>
                    </a:lnTo>
                    <a:lnTo>
                      <a:pt x="547" y="969"/>
                    </a:lnTo>
                    <a:lnTo>
                      <a:pt x="1057" y="969"/>
                    </a:lnTo>
                    <a:cubicBezTo>
                      <a:pt x="1057" y="969"/>
                      <a:pt x="1075" y="956"/>
                      <a:pt x="1086" y="941"/>
                    </a:cubicBezTo>
                    <a:cubicBezTo>
                      <a:pt x="1095" y="929"/>
                      <a:pt x="1086" y="913"/>
                      <a:pt x="1086" y="913"/>
                    </a:cubicBezTo>
                    <a:lnTo>
                      <a:pt x="604" y="34"/>
                    </a:lnTo>
                    <a:cubicBezTo>
                      <a:pt x="604" y="34"/>
                      <a:pt x="585" y="11"/>
                      <a:pt x="575" y="6"/>
                    </a:cubicBezTo>
                    <a:cubicBezTo>
                      <a:pt x="565" y="1"/>
                      <a:pt x="553" y="1"/>
                      <a:pt x="544" y="1"/>
                    </a:cubicBezTo>
                    <a:cubicBezTo>
                      <a:pt x="535" y="1"/>
                      <a:pt x="528" y="0"/>
                      <a:pt x="519" y="6"/>
                    </a:cubicBezTo>
                    <a:cubicBezTo>
                      <a:pt x="496" y="17"/>
                      <a:pt x="490" y="34"/>
                      <a:pt x="490" y="34"/>
                    </a:cubicBezTo>
                    <a:lnTo>
                      <a:pt x="8" y="913"/>
                    </a:lnTo>
                    <a:cubicBezTo>
                      <a:pt x="8" y="913"/>
                      <a:pt x="0" y="928"/>
                      <a:pt x="8" y="941"/>
                    </a:cubicBezTo>
                    <a:cubicBezTo>
                      <a:pt x="19" y="962"/>
                      <a:pt x="37" y="969"/>
                      <a:pt x="37" y="969"/>
                    </a:cubicBezTo>
                    <a:cubicBezTo>
                      <a:pt x="292" y="969"/>
                      <a:pt x="547" y="969"/>
                      <a:pt x="547" y="969"/>
                    </a:cubicBezTo>
                    <a:lnTo>
                      <a:pt x="547" y="913"/>
                    </a:lnTo>
                    <a:lnTo>
                      <a:pt x="65" y="913"/>
                    </a:lnTo>
                    <a:lnTo>
                      <a:pt x="519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2620800" y="2390760"/>
              <a:ext cx="741600" cy="847800"/>
              <a:chOff x="2620800" y="2390760"/>
              <a:chExt cx="741600" cy="847800"/>
            </a:xfrm>
          </p:grpSpPr>
          <p:sp>
            <p:nvSpPr>
              <p:cNvPr id="600" name=""/>
              <p:cNvSpPr/>
              <p:nvPr/>
            </p:nvSpPr>
            <p:spPr>
              <a:xfrm rot="18900000">
                <a:off x="2771280" y="2664720"/>
                <a:ext cx="145440" cy="486720"/>
              </a:xfrm>
              <a:custGeom>
                <a:avLst/>
                <a:gdLst>
                  <a:gd name="textAreaLeft" fmla="*/ 21240 w 145440"/>
                  <a:gd name="textAreaRight" fmla="*/ 124200 w 145440"/>
                  <a:gd name="textAreaTop" fmla="*/ 21240 h 486720"/>
                  <a:gd name="textAreaBottom" fmla="*/ 465480 h 486720"/>
                </a:gdLst>
                <a:ahLst/>
                <a:rect l="textAreaLeft" t="textAreaTop" r="textAreaRight" b="textAreaBottom"/>
                <a:pathLst>
                  <a:path w="21600" h="72160">
                    <a:moveTo>
                      <a:pt x="10800" y="0"/>
                    </a:moveTo>
                    <a:arcTo wR="10800" hR="10800" stAng="16200000" swAng="-5400000"/>
                    <a:lnTo>
                      <a:pt x="0" y="61360"/>
                    </a:lnTo>
                    <a:arcTo wR="10800" hR="10800" stAng="10800000" swAng="-5400000"/>
                    <a:lnTo>
                      <a:pt x="10800" y="7216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016800" y="2390760"/>
                <a:ext cx="108720" cy="487080"/>
              </a:xfrm>
              <a:custGeom>
                <a:avLst/>
                <a:gdLst>
                  <a:gd name="textAreaLeft" fmla="*/ 15840 w 108720"/>
                  <a:gd name="textAreaRight" fmla="*/ 92880 w 108720"/>
                  <a:gd name="textAreaTop" fmla="*/ 15840 h 487080"/>
                  <a:gd name="textAreaBottom" fmla="*/ 471240 h 487080"/>
                </a:gdLst>
                <a:ahLst/>
                <a:rect l="textAreaLeft" t="textAreaTop" r="textAreaRight" b="textAreaBottom"/>
                <a:pathLst>
                  <a:path w="21600" h="96523">
                    <a:moveTo>
                      <a:pt x="10800" y="0"/>
                    </a:moveTo>
                    <a:arcTo wR="10800" hR="10800" stAng="16200000" swAng="-5400000"/>
                    <a:lnTo>
                      <a:pt x="0" y="85723"/>
                    </a:lnTo>
                    <a:arcTo wR="10800" hR="10800" stAng="10800000" swAng="-5400000"/>
                    <a:lnTo>
                      <a:pt x="10800" y="9652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889360" y="2463120"/>
                <a:ext cx="108720" cy="468720"/>
              </a:xfrm>
              <a:custGeom>
                <a:avLst/>
                <a:gdLst>
                  <a:gd name="textAreaLeft" fmla="*/ 15840 w 108720"/>
                  <a:gd name="textAreaRight" fmla="*/ 92880 w 108720"/>
                  <a:gd name="textAreaTop" fmla="*/ 15840 h 468720"/>
                  <a:gd name="textAreaBottom" fmla="*/ 452880 h 468720"/>
                </a:gdLst>
                <a:ahLst/>
                <a:rect l="textAreaLeft" t="textAreaTop" r="textAreaRight" b="textAreaBottom"/>
                <a:pathLst>
                  <a:path w="21600" h="92887">
                    <a:moveTo>
                      <a:pt x="10800" y="0"/>
                    </a:moveTo>
                    <a:arcTo wR="10800" hR="10800" stAng="16200000" swAng="-5400000"/>
                    <a:lnTo>
                      <a:pt x="0" y="82087"/>
                    </a:lnTo>
                    <a:arcTo wR="10800" hR="10800" stAng="10800000" swAng="-5400000"/>
                    <a:lnTo>
                      <a:pt x="10800" y="9288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143880" y="2463120"/>
                <a:ext cx="108720" cy="432360"/>
              </a:xfrm>
              <a:custGeom>
                <a:avLst/>
                <a:gdLst>
                  <a:gd name="textAreaLeft" fmla="*/ 15840 w 108720"/>
                  <a:gd name="textAreaRight" fmla="*/ 92880 w 108720"/>
                  <a:gd name="textAreaTop" fmla="*/ 15840 h 432360"/>
                  <a:gd name="textAreaBottom" fmla="*/ 416520 h 432360"/>
                </a:gdLst>
                <a:ahLst/>
                <a:rect l="textAreaLeft" t="textAreaTop" r="textAreaRight" b="textAreaBottom"/>
                <a:pathLst>
                  <a:path w="21600" h="85687">
                    <a:moveTo>
                      <a:pt x="10800" y="0"/>
                    </a:moveTo>
                    <a:arcTo wR="10800" hR="10800" stAng="16200000" swAng="-5400000"/>
                    <a:lnTo>
                      <a:pt x="0" y="74887"/>
                    </a:lnTo>
                    <a:arcTo wR="10800" hR="10800" stAng="10800000" swAng="-5400000"/>
                    <a:lnTo>
                      <a:pt x="10800" y="8568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271320" y="2571120"/>
                <a:ext cx="91080" cy="342720"/>
              </a:xfrm>
              <a:custGeom>
                <a:avLst/>
                <a:gdLst>
                  <a:gd name="textAreaLeft" fmla="*/ 13320 w 91080"/>
                  <a:gd name="textAreaRight" fmla="*/ 77760 w 91080"/>
                  <a:gd name="textAreaTop" fmla="*/ 13320 h 342720"/>
                  <a:gd name="textAreaBottom" fmla="*/ 329400 h 342720"/>
                </a:gdLst>
                <a:ahLst/>
                <a:rect l="textAreaLeft" t="textAreaTop" r="textAreaRight" b="textAreaBottom"/>
                <a:pathLst>
                  <a:path w="21600" h="81043">
                    <a:moveTo>
                      <a:pt x="10800" y="0"/>
                    </a:moveTo>
                    <a:arcTo wR="10800" hR="10800" stAng="16200000" swAng="-5400000"/>
                    <a:lnTo>
                      <a:pt x="0" y="70243"/>
                    </a:lnTo>
                    <a:arcTo wR="10800" hR="10800" stAng="10800000" swAng="-5400000"/>
                    <a:lnTo>
                      <a:pt x="10800" y="8104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889360" y="2823840"/>
                <a:ext cx="473040" cy="414720"/>
              </a:xfrm>
              <a:prstGeom prst="roundRect">
                <a:avLst>
                  <a:gd name="adj" fmla="val 39704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889360" y="2769840"/>
                <a:ext cx="473040" cy="360360"/>
              </a:xfrm>
              <a:prstGeom prst="roundRect">
                <a:avLst>
                  <a:gd name="adj" fmla="val 17634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7" name=""/>
          <p:cNvGrpSpPr/>
          <p:nvPr/>
        </p:nvGrpSpPr>
        <p:grpSpPr>
          <a:xfrm>
            <a:off x="317520" y="1854360"/>
            <a:ext cx="1738440" cy="1550880"/>
            <a:chOff x="317520" y="1854360"/>
            <a:chExt cx="1738440" cy="1550880"/>
          </a:xfrm>
        </p:grpSpPr>
        <p:grpSp>
          <p:nvGrpSpPr>
            <p:cNvPr id="608" name=""/>
            <p:cNvGrpSpPr/>
            <p:nvPr/>
          </p:nvGrpSpPr>
          <p:grpSpPr>
            <a:xfrm>
              <a:off x="317520" y="1854360"/>
              <a:ext cx="1738440" cy="1550880"/>
              <a:chOff x="317520" y="1854360"/>
              <a:chExt cx="1738440" cy="1550880"/>
            </a:xfrm>
          </p:grpSpPr>
          <p:sp>
            <p:nvSpPr>
              <p:cNvPr id="609" name=""/>
              <p:cNvSpPr/>
              <p:nvPr/>
            </p:nvSpPr>
            <p:spPr>
              <a:xfrm>
                <a:off x="351000" y="191448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17520" y="1854360"/>
                <a:ext cx="1738440" cy="1538280"/>
              </a:xfrm>
              <a:custGeom>
                <a:avLst/>
                <a:gdLst/>
                <a:ahLst/>
                <a:rect l="l" t="t" r="r" b="b"/>
                <a:pathLst>
                  <a:path w="1095" h="969">
                    <a:moveTo>
                      <a:pt x="519" y="91"/>
                    </a:moveTo>
                    <a:cubicBezTo>
                      <a:pt x="519" y="91"/>
                      <a:pt x="529" y="64"/>
                      <a:pt x="547" y="62"/>
                    </a:cubicBezTo>
                    <a:cubicBezTo>
                      <a:pt x="564" y="61"/>
                      <a:pt x="575" y="91"/>
                      <a:pt x="575" y="91"/>
                    </a:cubicBezTo>
                    <a:lnTo>
                      <a:pt x="1029" y="913"/>
                    </a:lnTo>
                    <a:lnTo>
                      <a:pt x="547" y="913"/>
                    </a:lnTo>
                    <a:lnTo>
                      <a:pt x="547" y="969"/>
                    </a:lnTo>
                    <a:lnTo>
                      <a:pt x="1057" y="969"/>
                    </a:lnTo>
                    <a:cubicBezTo>
                      <a:pt x="1057" y="969"/>
                      <a:pt x="1075" y="956"/>
                      <a:pt x="1086" y="941"/>
                    </a:cubicBezTo>
                    <a:cubicBezTo>
                      <a:pt x="1095" y="929"/>
                      <a:pt x="1086" y="913"/>
                      <a:pt x="1086" y="913"/>
                    </a:cubicBezTo>
                    <a:lnTo>
                      <a:pt x="604" y="34"/>
                    </a:lnTo>
                    <a:cubicBezTo>
                      <a:pt x="604" y="34"/>
                      <a:pt x="585" y="11"/>
                      <a:pt x="575" y="6"/>
                    </a:cubicBezTo>
                    <a:cubicBezTo>
                      <a:pt x="565" y="1"/>
                      <a:pt x="553" y="1"/>
                      <a:pt x="544" y="1"/>
                    </a:cubicBezTo>
                    <a:cubicBezTo>
                      <a:pt x="535" y="1"/>
                      <a:pt x="528" y="0"/>
                      <a:pt x="519" y="6"/>
                    </a:cubicBezTo>
                    <a:cubicBezTo>
                      <a:pt x="496" y="17"/>
                      <a:pt x="490" y="34"/>
                      <a:pt x="490" y="34"/>
                    </a:cubicBezTo>
                    <a:lnTo>
                      <a:pt x="8" y="913"/>
                    </a:lnTo>
                    <a:cubicBezTo>
                      <a:pt x="8" y="913"/>
                      <a:pt x="0" y="928"/>
                      <a:pt x="8" y="941"/>
                    </a:cubicBezTo>
                    <a:cubicBezTo>
                      <a:pt x="19" y="962"/>
                      <a:pt x="37" y="969"/>
                      <a:pt x="37" y="969"/>
                    </a:cubicBezTo>
                    <a:cubicBezTo>
                      <a:pt x="292" y="969"/>
                      <a:pt x="547" y="969"/>
                      <a:pt x="547" y="969"/>
                    </a:cubicBezTo>
                    <a:lnTo>
                      <a:pt x="547" y="913"/>
                    </a:lnTo>
                    <a:lnTo>
                      <a:pt x="65" y="913"/>
                    </a:lnTo>
                    <a:lnTo>
                      <a:pt x="519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735120" y="2390760"/>
              <a:ext cx="741240" cy="847800"/>
              <a:chOff x="735120" y="2390760"/>
              <a:chExt cx="741240" cy="847800"/>
            </a:xfrm>
          </p:grpSpPr>
          <p:sp>
            <p:nvSpPr>
              <p:cNvPr id="612" name=""/>
              <p:cNvSpPr/>
              <p:nvPr/>
            </p:nvSpPr>
            <p:spPr>
              <a:xfrm rot="18900000">
                <a:off x="885600" y="2664360"/>
                <a:ext cx="145080" cy="486720"/>
              </a:xfrm>
              <a:custGeom>
                <a:avLst/>
                <a:gdLst>
                  <a:gd name="textAreaLeft" fmla="*/ 21240 w 145080"/>
                  <a:gd name="textAreaRight" fmla="*/ 123840 w 145080"/>
                  <a:gd name="textAreaTop" fmla="*/ 21240 h 486720"/>
                  <a:gd name="textAreaBottom" fmla="*/ 465480 h 486720"/>
                </a:gdLst>
                <a:ahLst/>
                <a:rect l="textAreaLeft" t="textAreaTop" r="textAreaRight" b="textAreaBottom"/>
                <a:pathLst>
                  <a:path w="21600" h="72339">
                    <a:moveTo>
                      <a:pt x="10800" y="0"/>
                    </a:moveTo>
                    <a:arcTo wR="10800" hR="10800" stAng="16200000" swAng="-5400000"/>
                    <a:lnTo>
                      <a:pt x="0" y="61539"/>
                    </a:lnTo>
                    <a:arcTo wR="10800" hR="10800" stAng="10800000" swAng="-5400000"/>
                    <a:lnTo>
                      <a:pt x="10800" y="7233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131120" y="2390760"/>
                <a:ext cx="108720" cy="487080"/>
              </a:xfrm>
              <a:custGeom>
                <a:avLst/>
                <a:gdLst>
                  <a:gd name="textAreaLeft" fmla="*/ 15840 w 108720"/>
                  <a:gd name="textAreaRight" fmla="*/ 92880 w 108720"/>
                  <a:gd name="textAreaTop" fmla="*/ 15840 h 487080"/>
                  <a:gd name="textAreaBottom" fmla="*/ 471240 h 487080"/>
                </a:gdLst>
                <a:ahLst/>
                <a:rect l="textAreaLeft" t="textAreaTop" r="textAreaRight" b="textAreaBottom"/>
                <a:pathLst>
                  <a:path w="21600" h="96523">
                    <a:moveTo>
                      <a:pt x="10800" y="0"/>
                    </a:moveTo>
                    <a:arcTo wR="10800" hR="10800" stAng="16200000" swAng="-5400000"/>
                    <a:lnTo>
                      <a:pt x="0" y="85723"/>
                    </a:lnTo>
                    <a:arcTo wR="10800" hR="10800" stAng="10800000" swAng="-5400000"/>
                    <a:lnTo>
                      <a:pt x="10800" y="9652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003680" y="2463120"/>
                <a:ext cx="108720" cy="468720"/>
              </a:xfrm>
              <a:custGeom>
                <a:avLst/>
                <a:gdLst>
                  <a:gd name="textAreaLeft" fmla="*/ 15840 w 108720"/>
                  <a:gd name="textAreaRight" fmla="*/ 92880 w 108720"/>
                  <a:gd name="textAreaTop" fmla="*/ 15840 h 468720"/>
                  <a:gd name="textAreaBottom" fmla="*/ 452880 h 468720"/>
                </a:gdLst>
                <a:ahLst/>
                <a:rect l="textAreaLeft" t="textAreaTop" r="textAreaRight" b="textAreaBottom"/>
                <a:pathLst>
                  <a:path w="21600" h="92887">
                    <a:moveTo>
                      <a:pt x="10800" y="0"/>
                    </a:moveTo>
                    <a:arcTo wR="10800" hR="10800" stAng="16200000" swAng="-5400000"/>
                    <a:lnTo>
                      <a:pt x="0" y="82087"/>
                    </a:lnTo>
                    <a:arcTo wR="10800" hR="10800" stAng="10800000" swAng="-5400000"/>
                    <a:lnTo>
                      <a:pt x="10800" y="9288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257840" y="2463120"/>
                <a:ext cx="108720" cy="432360"/>
              </a:xfrm>
              <a:custGeom>
                <a:avLst/>
                <a:gdLst>
                  <a:gd name="textAreaLeft" fmla="*/ 15840 w 108720"/>
                  <a:gd name="textAreaRight" fmla="*/ 92880 w 108720"/>
                  <a:gd name="textAreaTop" fmla="*/ 15840 h 432360"/>
                  <a:gd name="textAreaBottom" fmla="*/ 416520 h 432360"/>
                </a:gdLst>
                <a:ahLst/>
                <a:rect l="textAreaLeft" t="textAreaTop" r="textAreaRight" b="textAreaBottom"/>
                <a:pathLst>
                  <a:path w="21600" h="85687">
                    <a:moveTo>
                      <a:pt x="10800" y="0"/>
                    </a:moveTo>
                    <a:arcTo wR="10800" hR="10800" stAng="16200000" swAng="-5400000"/>
                    <a:lnTo>
                      <a:pt x="0" y="74887"/>
                    </a:lnTo>
                    <a:arcTo wR="10800" hR="10800" stAng="10800000" swAng="-5400000"/>
                    <a:lnTo>
                      <a:pt x="10800" y="8568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385280" y="2571120"/>
                <a:ext cx="90720" cy="342720"/>
              </a:xfrm>
              <a:custGeom>
                <a:avLst/>
                <a:gdLst>
                  <a:gd name="textAreaLeft" fmla="*/ 13320 w 90720"/>
                  <a:gd name="textAreaRight" fmla="*/ 77400 w 90720"/>
                  <a:gd name="textAreaTop" fmla="*/ 13320 h 342720"/>
                  <a:gd name="textAreaBottom" fmla="*/ 329400 h 342720"/>
                </a:gdLst>
                <a:ahLst/>
                <a:rect l="textAreaLeft" t="textAreaTop" r="textAreaRight" b="textAreaBottom"/>
                <a:pathLst>
                  <a:path w="21600" h="81363">
                    <a:moveTo>
                      <a:pt x="10800" y="0"/>
                    </a:moveTo>
                    <a:arcTo wR="10800" hR="10800" stAng="16200000" swAng="-5400000"/>
                    <a:lnTo>
                      <a:pt x="0" y="70563"/>
                    </a:lnTo>
                    <a:arcTo wR="10800" hR="10800" stAng="10800000" swAng="-5400000"/>
                    <a:lnTo>
                      <a:pt x="10800" y="8136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003680" y="2823840"/>
                <a:ext cx="472680" cy="414720"/>
              </a:xfrm>
              <a:prstGeom prst="roundRect">
                <a:avLst>
                  <a:gd name="adj" fmla="val 39704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003680" y="2769840"/>
                <a:ext cx="472680" cy="360360"/>
              </a:xfrm>
              <a:prstGeom prst="roundRect">
                <a:avLst>
                  <a:gd name="adj" fmla="val 17634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9" name=""/>
          <p:cNvGrpSpPr/>
          <p:nvPr/>
        </p:nvGrpSpPr>
        <p:grpSpPr>
          <a:xfrm>
            <a:off x="7862760" y="233280"/>
            <a:ext cx="1711440" cy="1528920"/>
            <a:chOff x="7862760" y="233280"/>
            <a:chExt cx="1711440" cy="1528920"/>
          </a:xfrm>
        </p:grpSpPr>
        <p:grpSp>
          <p:nvGrpSpPr>
            <p:cNvPr id="620" name=""/>
            <p:cNvGrpSpPr/>
            <p:nvPr/>
          </p:nvGrpSpPr>
          <p:grpSpPr>
            <a:xfrm>
              <a:off x="7862760" y="233280"/>
              <a:ext cx="1711440" cy="1528920"/>
              <a:chOff x="7862760" y="233280"/>
              <a:chExt cx="1711440" cy="1528920"/>
            </a:xfrm>
          </p:grpSpPr>
          <p:sp>
            <p:nvSpPr>
              <p:cNvPr id="621" name=""/>
              <p:cNvSpPr/>
              <p:nvPr/>
            </p:nvSpPr>
            <p:spPr>
              <a:xfrm>
                <a:off x="7883640" y="25236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862760" y="233280"/>
                <a:ext cx="1711440" cy="152892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49" y="936"/>
                    </a:moveTo>
                    <a:lnTo>
                      <a:pt x="539" y="935"/>
                    </a:lnTo>
                    <a:lnTo>
                      <a:pt x="539" y="963"/>
                    </a:lnTo>
                    <a:lnTo>
                      <a:pt x="29" y="963"/>
                    </a:lnTo>
                    <a:cubicBezTo>
                      <a:pt x="29" y="963"/>
                      <a:pt x="10" y="952"/>
                      <a:pt x="0" y="935"/>
                    </a:cubicBezTo>
                    <a:cubicBezTo>
                      <a:pt x="0" y="921"/>
                      <a:pt x="0" y="907"/>
                      <a:pt x="0" y="907"/>
                    </a:cubicBezTo>
                    <a:lnTo>
                      <a:pt x="511" y="28"/>
                    </a:lnTo>
                    <a:cubicBezTo>
                      <a:pt x="511" y="28"/>
                      <a:pt x="519" y="1"/>
                      <a:pt x="539" y="0"/>
                    </a:cubicBezTo>
                    <a:cubicBezTo>
                      <a:pt x="562" y="0"/>
                      <a:pt x="567" y="28"/>
                      <a:pt x="567" y="28"/>
                    </a:cubicBezTo>
                    <a:lnTo>
                      <a:pt x="1078" y="907"/>
                    </a:lnTo>
                    <a:cubicBezTo>
                      <a:pt x="1078" y="907"/>
                      <a:pt x="1078" y="921"/>
                      <a:pt x="1078" y="935"/>
                    </a:cubicBezTo>
                    <a:cubicBezTo>
                      <a:pt x="1068" y="955"/>
                      <a:pt x="1049" y="963"/>
                      <a:pt x="1049" y="963"/>
                    </a:cubicBezTo>
                    <a:lnTo>
                      <a:pt x="539" y="963"/>
                    </a:lnTo>
                    <a:lnTo>
                      <a:pt x="539" y="935"/>
                    </a:lnTo>
                    <a:lnTo>
                      <a:pt x="1024" y="936"/>
                    </a:lnTo>
                    <a:lnTo>
                      <a:pt x="1044" y="930"/>
                    </a:lnTo>
                    <a:lnTo>
                      <a:pt x="1048" y="918"/>
                    </a:lnTo>
                    <a:lnTo>
                      <a:pt x="1044" y="907"/>
                    </a:lnTo>
                    <a:lnTo>
                      <a:pt x="550" y="49"/>
                    </a:lnTo>
                    <a:cubicBezTo>
                      <a:pt x="550" y="49"/>
                      <a:pt x="547" y="40"/>
                      <a:pt x="538" y="37"/>
                    </a:cubicBezTo>
                    <a:cubicBezTo>
                      <a:pt x="526" y="42"/>
                      <a:pt x="526" y="52"/>
                      <a:pt x="526" y="52"/>
                    </a:cubicBezTo>
                    <a:lnTo>
                      <a:pt x="40" y="900"/>
                    </a:lnTo>
                    <a:lnTo>
                      <a:pt x="34" y="910"/>
                    </a:lnTo>
                    <a:lnTo>
                      <a:pt x="34" y="925"/>
                    </a:lnTo>
                    <a:lnTo>
                      <a:pt x="49" y="9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8250120" y="771480"/>
              <a:ext cx="741600" cy="847800"/>
              <a:chOff x="8250120" y="771480"/>
              <a:chExt cx="741600" cy="847800"/>
            </a:xfrm>
          </p:grpSpPr>
          <p:sp>
            <p:nvSpPr>
              <p:cNvPr id="624" name=""/>
              <p:cNvSpPr/>
              <p:nvPr/>
            </p:nvSpPr>
            <p:spPr>
              <a:xfrm rot="18900000">
                <a:off x="8400600" y="1045440"/>
                <a:ext cx="145440" cy="486720"/>
              </a:xfrm>
              <a:custGeom>
                <a:avLst/>
                <a:gdLst>
                  <a:gd name="textAreaLeft" fmla="*/ 21240 w 145440"/>
                  <a:gd name="textAreaRight" fmla="*/ 124200 w 145440"/>
                  <a:gd name="textAreaTop" fmla="*/ 21240 h 486720"/>
                  <a:gd name="textAreaBottom" fmla="*/ 465480 h 486720"/>
                </a:gdLst>
                <a:ahLst/>
                <a:rect l="textAreaLeft" t="textAreaTop" r="textAreaRight" b="textAreaBottom"/>
                <a:pathLst>
                  <a:path w="21600" h="72160">
                    <a:moveTo>
                      <a:pt x="10800" y="0"/>
                    </a:moveTo>
                    <a:arcTo wR="10800" hR="10800" stAng="16200000" swAng="-5400000"/>
                    <a:lnTo>
                      <a:pt x="0" y="61360"/>
                    </a:lnTo>
                    <a:arcTo wR="10800" hR="10800" stAng="10800000" swAng="-5400000"/>
                    <a:lnTo>
                      <a:pt x="10800" y="7216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646120" y="771480"/>
                <a:ext cx="108720" cy="487080"/>
              </a:xfrm>
              <a:custGeom>
                <a:avLst/>
                <a:gdLst>
                  <a:gd name="textAreaLeft" fmla="*/ 15840 w 108720"/>
                  <a:gd name="textAreaRight" fmla="*/ 92880 w 108720"/>
                  <a:gd name="textAreaTop" fmla="*/ 15840 h 487080"/>
                  <a:gd name="textAreaBottom" fmla="*/ 471240 h 487080"/>
                </a:gdLst>
                <a:ahLst/>
                <a:rect l="textAreaLeft" t="textAreaTop" r="textAreaRight" b="textAreaBottom"/>
                <a:pathLst>
                  <a:path w="21600" h="96523">
                    <a:moveTo>
                      <a:pt x="10800" y="0"/>
                    </a:moveTo>
                    <a:arcTo wR="10800" hR="10800" stAng="16200000" swAng="-5400000"/>
                    <a:lnTo>
                      <a:pt x="0" y="85723"/>
                    </a:lnTo>
                    <a:arcTo wR="10800" hR="10800" stAng="10800000" swAng="-5400000"/>
                    <a:lnTo>
                      <a:pt x="10800" y="9652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518680" y="843840"/>
                <a:ext cx="108720" cy="468720"/>
              </a:xfrm>
              <a:custGeom>
                <a:avLst/>
                <a:gdLst>
                  <a:gd name="textAreaLeft" fmla="*/ 15840 w 108720"/>
                  <a:gd name="textAreaRight" fmla="*/ 92880 w 108720"/>
                  <a:gd name="textAreaTop" fmla="*/ 15840 h 468720"/>
                  <a:gd name="textAreaBottom" fmla="*/ 452880 h 468720"/>
                </a:gdLst>
                <a:ahLst/>
                <a:rect l="textAreaLeft" t="textAreaTop" r="textAreaRight" b="textAreaBottom"/>
                <a:pathLst>
                  <a:path w="21600" h="92887">
                    <a:moveTo>
                      <a:pt x="10800" y="0"/>
                    </a:moveTo>
                    <a:arcTo wR="10800" hR="10800" stAng="16200000" swAng="-5400000"/>
                    <a:lnTo>
                      <a:pt x="0" y="82087"/>
                    </a:lnTo>
                    <a:arcTo wR="10800" hR="10800" stAng="10800000" swAng="-5400000"/>
                    <a:lnTo>
                      <a:pt x="10800" y="9288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773200" y="843840"/>
                <a:ext cx="108720" cy="432360"/>
              </a:xfrm>
              <a:custGeom>
                <a:avLst/>
                <a:gdLst>
                  <a:gd name="textAreaLeft" fmla="*/ 15840 w 108720"/>
                  <a:gd name="textAreaRight" fmla="*/ 92880 w 108720"/>
                  <a:gd name="textAreaTop" fmla="*/ 15840 h 432360"/>
                  <a:gd name="textAreaBottom" fmla="*/ 416520 h 432360"/>
                </a:gdLst>
                <a:ahLst/>
                <a:rect l="textAreaLeft" t="textAreaTop" r="textAreaRight" b="textAreaBottom"/>
                <a:pathLst>
                  <a:path w="21600" h="85687">
                    <a:moveTo>
                      <a:pt x="10800" y="0"/>
                    </a:moveTo>
                    <a:arcTo wR="10800" hR="10800" stAng="16200000" swAng="-5400000"/>
                    <a:lnTo>
                      <a:pt x="0" y="74887"/>
                    </a:lnTo>
                    <a:arcTo wR="10800" hR="10800" stAng="10800000" swAng="-5400000"/>
                    <a:lnTo>
                      <a:pt x="10800" y="8568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00640" y="951840"/>
                <a:ext cx="91080" cy="342720"/>
              </a:xfrm>
              <a:custGeom>
                <a:avLst/>
                <a:gdLst>
                  <a:gd name="textAreaLeft" fmla="*/ 13320 w 91080"/>
                  <a:gd name="textAreaRight" fmla="*/ 77760 w 91080"/>
                  <a:gd name="textAreaTop" fmla="*/ 13320 h 342720"/>
                  <a:gd name="textAreaBottom" fmla="*/ 329400 h 342720"/>
                </a:gdLst>
                <a:ahLst/>
                <a:rect l="textAreaLeft" t="textAreaTop" r="textAreaRight" b="textAreaBottom"/>
                <a:pathLst>
                  <a:path w="21600" h="81043">
                    <a:moveTo>
                      <a:pt x="10800" y="0"/>
                    </a:moveTo>
                    <a:arcTo wR="10800" hR="10800" stAng="16200000" swAng="-5400000"/>
                    <a:lnTo>
                      <a:pt x="0" y="70243"/>
                    </a:lnTo>
                    <a:arcTo wR="10800" hR="10800" stAng="10800000" swAng="-5400000"/>
                    <a:lnTo>
                      <a:pt x="10800" y="8104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8518680" y="1204560"/>
                <a:ext cx="473040" cy="414720"/>
              </a:xfrm>
              <a:prstGeom prst="roundRect">
                <a:avLst>
                  <a:gd name="adj" fmla="val 39704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8518680" y="1150560"/>
                <a:ext cx="473040" cy="360360"/>
              </a:xfrm>
              <a:prstGeom prst="roundRect">
                <a:avLst>
                  <a:gd name="adj" fmla="val 17634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1" name=""/>
          <p:cNvGrpSpPr/>
          <p:nvPr/>
        </p:nvGrpSpPr>
        <p:grpSpPr>
          <a:xfrm>
            <a:off x="5977080" y="235080"/>
            <a:ext cx="1711080" cy="1528560"/>
            <a:chOff x="5977080" y="235080"/>
            <a:chExt cx="1711080" cy="1528560"/>
          </a:xfrm>
        </p:grpSpPr>
        <p:grpSp>
          <p:nvGrpSpPr>
            <p:cNvPr id="632" name=""/>
            <p:cNvGrpSpPr/>
            <p:nvPr/>
          </p:nvGrpSpPr>
          <p:grpSpPr>
            <a:xfrm>
              <a:off x="5977080" y="235080"/>
              <a:ext cx="1711080" cy="1528560"/>
              <a:chOff x="5977080" y="235080"/>
              <a:chExt cx="1711080" cy="1528560"/>
            </a:xfrm>
          </p:grpSpPr>
          <p:sp>
            <p:nvSpPr>
              <p:cNvPr id="633" name=""/>
              <p:cNvSpPr/>
              <p:nvPr/>
            </p:nvSpPr>
            <p:spPr>
              <a:xfrm>
                <a:off x="5997600" y="254160"/>
                <a:ext cx="1670040" cy="149040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977080" y="235080"/>
                <a:ext cx="1711080" cy="15285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49" y="936"/>
                    </a:moveTo>
                    <a:lnTo>
                      <a:pt x="539" y="935"/>
                    </a:lnTo>
                    <a:lnTo>
                      <a:pt x="539" y="963"/>
                    </a:lnTo>
                    <a:lnTo>
                      <a:pt x="29" y="963"/>
                    </a:lnTo>
                    <a:cubicBezTo>
                      <a:pt x="29" y="963"/>
                      <a:pt x="10" y="952"/>
                      <a:pt x="0" y="935"/>
                    </a:cubicBezTo>
                    <a:cubicBezTo>
                      <a:pt x="0" y="921"/>
                      <a:pt x="0" y="907"/>
                      <a:pt x="0" y="907"/>
                    </a:cubicBezTo>
                    <a:lnTo>
                      <a:pt x="511" y="28"/>
                    </a:lnTo>
                    <a:cubicBezTo>
                      <a:pt x="511" y="28"/>
                      <a:pt x="519" y="1"/>
                      <a:pt x="539" y="0"/>
                    </a:cubicBezTo>
                    <a:cubicBezTo>
                      <a:pt x="562" y="0"/>
                      <a:pt x="567" y="28"/>
                      <a:pt x="567" y="28"/>
                    </a:cubicBezTo>
                    <a:lnTo>
                      <a:pt x="1078" y="907"/>
                    </a:lnTo>
                    <a:cubicBezTo>
                      <a:pt x="1078" y="907"/>
                      <a:pt x="1078" y="921"/>
                      <a:pt x="1078" y="935"/>
                    </a:cubicBezTo>
                    <a:cubicBezTo>
                      <a:pt x="1068" y="955"/>
                      <a:pt x="1049" y="963"/>
                      <a:pt x="1049" y="963"/>
                    </a:cubicBezTo>
                    <a:lnTo>
                      <a:pt x="539" y="963"/>
                    </a:lnTo>
                    <a:lnTo>
                      <a:pt x="539" y="935"/>
                    </a:lnTo>
                    <a:lnTo>
                      <a:pt x="1024" y="936"/>
                    </a:lnTo>
                    <a:lnTo>
                      <a:pt x="1044" y="930"/>
                    </a:lnTo>
                    <a:lnTo>
                      <a:pt x="1048" y="918"/>
                    </a:lnTo>
                    <a:lnTo>
                      <a:pt x="1044" y="907"/>
                    </a:lnTo>
                    <a:lnTo>
                      <a:pt x="550" y="49"/>
                    </a:lnTo>
                    <a:cubicBezTo>
                      <a:pt x="550" y="49"/>
                      <a:pt x="547" y="40"/>
                      <a:pt x="538" y="37"/>
                    </a:cubicBezTo>
                    <a:cubicBezTo>
                      <a:pt x="526" y="42"/>
                      <a:pt x="526" y="52"/>
                      <a:pt x="526" y="52"/>
                    </a:cubicBezTo>
                    <a:lnTo>
                      <a:pt x="40" y="900"/>
                    </a:lnTo>
                    <a:lnTo>
                      <a:pt x="34" y="910"/>
                    </a:lnTo>
                    <a:lnTo>
                      <a:pt x="34" y="925"/>
                    </a:lnTo>
                    <a:lnTo>
                      <a:pt x="49" y="9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6364440" y="771480"/>
              <a:ext cx="741240" cy="847800"/>
              <a:chOff x="6364440" y="771480"/>
              <a:chExt cx="741240" cy="847800"/>
            </a:xfrm>
          </p:grpSpPr>
          <p:sp>
            <p:nvSpPr>
              <p:cNvPr id="636" name=""/>
              <p:cNvSpPr/>
              <p:nvPr/>
            </p:nvSpPr>
            <p:spPr>
              <a:xfrm rot="18900000">
                <a:off x="6514920" y="1045080"/>
                <a:ext cx="145080" cy="486720"/>
              </a:xfrm>
              <a:custGeom>
                <a:avLst/>
                <a:gdLst>
                  <a:gd name="textAreaLeft" fmla="*/ 21240 w 145080"/>
                  <a:gd name="textAreaRight" fmla="*/ 123840 w 145080"/>
                  <a:gd name="textAreaTop" fmla="*/ 21240 h 486720"/>
                  <a:gd name="textAreaBottom" fmla="*/ 465480 h 486720"/>
                </a:gdLst>
                <a:ahLst/>
                <a:rect l="textAreaLeft" t="textAreaTop" r="textAreaRight" b="textAreaBottom"/>
                <a:pathLst>
                  <a:path w="21600" h="72339">
                    <a:moveTo>
                      <a:pt x="10800" y="0"/>
                    </a:moveTo>
                    <a:arcTo wR="10800" hR="10800" stAng="16200000" swAng="-5400000"/>
                    <a:lnTo>
                      <a:pt x="0" y="61539"/>
                    </a:lnTo>
                    <a:arcTo wR="10800" hR="10800" stAng="10800000" swAng="-5400000"/>
                    <a:lnTo>
                      <a:pt x="10800" y="7233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760440" y="771480"/>
                <a:ext cx="108720" cy="487080"/>
              </a:xfrm>
              <a:custGeom>
                <a:avLst/>
                <a:gdLst>
                  <a:gd name="textAreaLeft" fmla="*/ 15840 w 108720"/>
                  <a:gd name="textAreaRight" fmla="*/ 92880 w 108720"/>
                  <a:gd name="textAreaTop" fmla="*/ 15840 h 487080"/>
                  <a:gd name="textAreaBottom" fmla="*/ 471240 h 487080"/>
                </a:gdLst>
                <a:ahLst/>
                <a:rect l="textAreaLeft" t="textAreaTop" r="textAreaRight" b="textAreaBottom"/>
                <a:pathLst>
                  <a:path w="21600" h="96523">
                    <a:moveTo>
                      <a:pt x="10800" y="0"/>
                    </a:moveTo>
                    <a:arcTo wR="10800" hR="10800" stAng="16200000" swAng="-5400000"/>
                    <a:lnTo>
                      <a:pt x="0" y="85723"/>
                    </a:lnTo>
                    <a:arcTo wR="10800" hR="10800" stAng="10800000" swAng="-5400000"/>
                    <a:lnTo>
                      <a:pt x="10800" y="9652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633000" y="843840"/>
                <a:ext cx="108720" cy="468720"/>
              </a:xfrm>
              <a:custGeom>
                <a:avLst/>
                <a:gdLst>
                  <a:gd name="textAreaLeft" fmla="*/ 15840 w 108720"/>
                  <a:gd name="textAreaRight" fmla="*/ 92880 w 108720"/>
                  <a:gd name="textAreaTop" fmla="*/ 15840 h 468720"/>
                  <a:gd name="textAreaBottom" fmla="*/ 452880 h 468720"/>
                </a:gdLst>
                <a:ahLst/>
                <a:rect l="textAreaLeft" t="textAreaTop" r="textAreaRight" b="textAreaBottom"/>
                <a:pathLst>
                  <a:path w="21600" h="92887">
                    <a:moveTo>
                      <a:pt x="10800" y="0"/>
                    </a:moveTo>
                    <a:arcTo wR="10800" hR="10800" stAng="16200000" swAng="-5400000"/>
                    <a:lnTo>
                      <a:pt x="0" y="82087"/>
                    </a:lnTo>
                    <a:arcTo wR="10800" hR="10800" stAng="10800000" swAng="-5400000"/>
                    <a:lnTo>
                      <a:pt x="10800" y="9288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887160" y="843840"/>
                <a:ext cx="108720" cy="432360"/>
              </a:xfrm>
              <a:custGeom>
                <a:avLst/>
                <a:gdLst>
                  <a:gd name="textAreaLeft" fmla="*/ 15840 w 108720"/>
                  <a:gd name="textAreaRight" fmla="*/ 92880 w 108720"/>
                  <a:gd name="textAreaTop" fmla="*/ 15840 h 432360"/>
                  <a:gd name="textAreaBottom" fmla="*/ 416520 h 432360"/>
                </a:gdLst>
                <a:ahLst/>
                <a:rect l="textAreaLeft" t="textAreaTop" r="textAreaRight" b="textAreaBottom"/>
                <a:pathLst>
                  <a:path w="21600" h="85687">
                    <a:moveTo>
                      <a:pt x="10800" y="0"/>
                    </a:moveTo>
                    <a:arcTo wR="10800" hR="10800" stAng="16200000" swAng="-5400000"/>
                    <a:lnTo>
                      <a:pt x="0" y="74887"/>
                    </a:lnTo>
                    <a:arcTo wR="10800" hR="10800" stAng="10800000" swAng="-5400000"/>
                    <a:lnTo>
                      <a:pt x="10800" y="8568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014600" y="951840"/>
                <a:ext cx="90720" cy="342720"/>
              </a:xfrm>
              <a:custGeom>
                <a:avLst/>
                <a:gdLst>
                  <a:gd name="textAreaLeft" fmla="*/ 13320 w 90720"/>
                  <a:gd name="textAreaRight" fmla="*/ 77400 w 90720"/>
                  <a:gd name="textAreaTop" fmla="*/ 13320 h 342720"/>
                  <a:gd name="textAreaBottom" fmla="*/ 329400 h 342720"/>
                </a:gdLst>
                <a:ahLst/>
                <a:rect l="textAreaLeft" t="textAreaTop" r="textAreaRight" b="textAreaBottom"/>
                <a:pathLst>
                  <a:path w="21600" h="81363">
                    <a:moveTo>
                      <a:pt x="10800" y="0"/>
                    </a:moveTo>
                    <a:arcTo wR="10800" hR="10800" stAng="16200000" swAng="-5400000"/>
                    <a:lnTo>
                      <a:pt x="0" y="70563"/>
                    </a:lnTo>
                    <a:arcTo wR="10800" hR="10800" stAng="10800000" swAng="-5400000"/>
                    <a:lnTo>
                      <a:pt x="10800" y="8136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633000" y="1204560"/>
                <a:ext cx="472680" cy="414720"/>
              </a:xfrm>
              <a:prstGeom prst="roundRect">
                <a:avLst>
                  <a:gd name="adj" fmla="val 39704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633000" y="1150560"/>
                <a:ext cx="472680" cy="360360"/>
              </a:xfrm>
              <a:prstGeom prst="roundRect">
                <a:avLst>
                  <a:gd name="adj" fmla="val 17634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3" name=""/>
          <p:cNvGrpSpPr/>
          <p:nvPr/>
        </p:nvGrpSpPr>
        <p:grpSpPr>
          <a:xfrm>
            <a:off x="4111560" y="252360"/>
            <a:ext cx="1711440" cy="1528920"/>
            <a:chOff x="4111560" y="252360"/>
            <a:chExt cx="1711440" cy="1528920"/>
          </a:xfrm>
        </p:grpSpPr>
        <p:grpSp>
          <p:nvGrpSpPr>
            <p:cNvPr id="644" name=""/>
            <p:cNvGrpSpPr/>
            <p:nvPr/>
          </p:nvGrpSpPr>
          <p:grpSpPr>
            <a:xfrm>
              <a:off x="4111560" y="252360"/>
              <a:ext cx="1711440" cy="1528920"/>
              <a:chOff x="4111560" y="252360"/>
              <a:chExt cx="1711440" cy="1528920"/>
            </a:xfrm>
          </p:grpSpPr>
          <p:sp>
            <p:nvSpPr>
              <p:cNvPr id="645" name=""/>
              <p:cNvSpPr/>
              <p:nvPr/>
            </p:nvSpPr>
            <p:spPr>
              <a:xfrm>
                <a:off x="4132440" y="27144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111560" y="252360"/>
                <a:ext cx="1711440" cy="152892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49" y="936"/>
                    </a:moveTo>
                    <a:lnTo>
                      <a:pt x="539" y="935"/>
                    </a:lnTo>
                    <a:lnTo>
                      <a:pt x="539" y="963"/>
                    </a:lnTo>
                    <a:lnTo>
                      <a:pt x="29" y="963"/>
                    </a:lnTo>
                    <a:cubicBezTo>
                      <a:pt x="29" y="963"/>
                      <a:pt x="10" y="952"/>
                      <a:pt x="0" y="935"/>
                    </a:cubicBezTo>
                    <a:cubicBezTo>
                      <a:pt x="0" y="921"/>
                      <a:pt x="0" y="907"/>
                      <a:pt x="0" y="907"/>
                    </a:cubicBezTo>
                    <a:lnTo>
                      <a:pt x="511" y="28"/>
                    </a:lnTo>
                    <a:cubicBezTo>
                      <a:pt x="511" y="28"/>
                      <a:pt x="519" y="1"/>
                      <a:pt x="539" y="0"/>
                    </a:cubicBezTo>
                    <a:cubicBezTo>
                      <a:pt x="562" y="0"/>
                      <a:pt x="567" y="28"/>
                      <a:pt x="567" y="28"/>
                    </a:cubicBezTo>
                    <a:lnTo>
                      <a:pt x="1078" y="907"/>
                    </a:lnTo>
                    <a:cubicBezTo>
                      <a:pt x="1078" y="907"/>
                      <a:pt x="1078" y="921"/>
                      <a:pt x="1078" y="935"/>
                    </a:cubicBezTo>
                    <a:cubicBezTo>
                      <a:pt x="1068" y="955"/>
                      <a:pt x="1049" y="963"/>
                      <a:pt x="1049" y="963"/>
                    </a:cubicBezTo>
                    <a:lnTo>
                      <a:pt x="539" y="963"/>
                    </a:lnTo>
                    <a:lnTo>
                      <a:pt x="539" y="935"/>
                    </a:lnTo>
                    <a:lnTo>
                      <a:pt x="1024" y="936"/>
                    </a:lnTo>
                    <a:lnTo>
                      <a:pt x="1044" y="930"/>
                    </a:lnTo>
                    <a:lnTo>
                      <a:pt x="1048" y="918"/>
                    </a:lnTo>
                    <a:lnTo>
                      <a:pt x="1044" y="907"/>
                    </a:lnTo>
                    <a:lnTo>
                      <a:pt x="550" y="49"/>
                    </a:lnTo>
                    <a:cubicBezTo>
                      <a:pt x="550" y="49"/>
                      <a:pt x="547" y="40"/>
                      <a:pt x="538" y="37"/>
                    </a:cubicBezTo>
                    <a:cubicBezTo>
                      <a:pt x="526" y="42"/>
                      <a:pt x="526" y="52"/>
                      <a:pt x="526" y="52"/>
                    </a:cubicBezTo>
                    <a:lnTo>
                      <a:pt x="40" y="900"/>
                    </a:lnTo>
                    <a:lnTo>
                      <a:pt x="34" y="910"/>
                    </a:lnTo>
                    <a:lnTo>
                      <a:pt x="34" y="925"/>
                    </a:lnTo>
                    <a:lnTo>
                      <a:pt x="49" y="9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4516560" y="771480"/>
              <a:ext cx="741240" cy="847800"/>
              <a:chOff x="4516560" y="771480"/>
              <a:chExt cx="741240" cy="847800"/>
            </a:xfrm>
          </p:grpSpPr>
          <p:sp>
            <p:nvSpPr>
              <p:cNvPr id="648" name=""/>
              <p:cNvSpPr/>
              <p:nvPr/>
            </p:nvSpPr>
            <p:spPr>
              <a:xfrm rot="18900000">
                <a:off x="4667040" y="1045080"/>
                <a:ext cx="145080" cy="486720"/>
              </a:xfrm>
              <a:custGeom>
                <a:avLst/>
                <a:gdLst>
                  <a:gd name="textAreaLeft" fmla="*/ 21240 w 145080"/>
                  <a:gd name="textAreaRight" fmla="*/ 123840 w 145080"/>
                  <a:gd name="textAreaTop" fmla="*/ 21240 h 486720"/>
                  <a:gd name="textAreaBottom" fmla="*/ 465480 h 486720"/>
                </a:gdLst>
                <a:ahLst/>
                <a:rect l="textAreaLeft" t="textAreaTop" r="textAreaRight" b="textAreaBottom"/>
                <a:pathLst>
                  <a:path w="21600" h="72339">
                    <a:moveTo>
                      <a:pt x="10800" y="0"/>
                    </a:moveTo>
                    <a:arcTo wR="10800" hR="10800" stAng="16200000" swAng="-5400000"/>
                    <a:lnTo>
                      <a:pt x="0" y="61539"/>
                    </a:lnTo>
                    <a:arcTo wR="10800" hR="10800" stAng="10800000" swAng="-5400000"/>
                    <a:lnTo>
                      <a:pt x="10800" y="7233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912560" y="771480"/>
                <a:ext cx="108720" cy="487080"/>
              </a:xfrm>
              <a:custGeom>
                <a:avLst/>
                <a:gdLst>
                  <a:gd name="textAreaLeft" fmla="*/ 15840 w 108720"/>
                  <a:gd name="textAreaRight" fmla="*/ 92880 w 108720"/>
                  <a:gd name="textAreaTop" fmla="*/ 15840 h 487080"/>
                  <a:gd name="textAreaBottom" fmla="*/ 471240 h 487080"/>
                </a:gdLst>
                <a:ahLst/>
                <a:rect l="textAreaLeft" t="textAreaTop" r="textAreaRight" b="textAreaBottom"/>
                <a:pathLst>
                  <a:path w="21600" h="96523">
                    <a:moveTo>
                      <a:pt x="10800" y="0"/>
                    </a:moveTo>
                    <a:arcTo wR="10800" hR="10800" stAng="16200000" swAng="-5400000"/>
                    <a:lnTo>
                      <a:pt x="0" y="85723"/>
                    </a:lnTo>
                    <a:arcTo wR="10800" hR="10800" stAng="10800000" swAng="-5400000"/>
                    <a:lnTo>
                      <a:pt x="10800" y="9652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785120" y="843840"/>
                <a:ext cx="108720" cy="468720"/>
              </a:xfrm>
              <a:custGeom>
                <a:avLst/>
                <a:gdLst>
                  <a:gd name="textAreaLeft" fmla="*/ 15840 w 108720"/>
                  <a:gd name="textAreaRight" fmla="*/ 92880 w 108720"/>
                  <a:gd name="textAreaTop" fmla="*/ 15840 h 468720"/>
                  <a:gd name="textAreaBottom" fmla="*/ 452880 h 468720"/>
                </a:gdLst>
                <a:ahLst/>
                <a:rect l="textAreaLeft" t="textAreaTop" r="textAreaRight" b="textAreaBottom"/>
                <a:pathLst>
                  <a:path w="21600" h="92887">
                    <a:moveTo>
                      <a:pt x="10800" y="0"/>
                    </a:moveTo>
                    <a:arcTo wR="10800" hR="10800" stAng="16200000" swAng="-5400000"/>
                    <a:lnTo>
                      <a:pt x="0" y="82087"/>
                    </a:lnTo>
                    <a:arcTo wR="10800" hR="10800" stAng="10800000" swAng="-5400000"/>
                    <a:lnTo>
                      <a:pt x="10800" y="9288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039280" y="843840"/>
                <a:ext cx="108720" cy="432360"/>
              </a:xfrm>
              <a:custGeom>
                <a:avLst/>
                <a:gdLst>
                  <a:gd name="textAreaLeft" fmla="*/ 15840 w 108720"/>
                  <a:gd name="textAreaRight" fmla="*/ 92880 w 108720"/>
                  <a:gd name="textAreaTop" fmla="*/ 15840 h 432360"/>
                  <a:gd name="textAreaBottom" fmla="*/ 416520 h 432360"/>
                </a:gdLst>
                <a:ahLst/>
                <a:rect l="textAreaLeft" t="textAreaTop" r="textAreaRight" b="textAreaBottom"/>
                <a:pathLst>
                  <a:path w="21600" h="85687">
                    <a:moveTo>
                      <a:pt x="10800" y="0"/>
                    </a:moveTo>
                    <a:arcTo wR="10800" hR="10800" stAng="16200000" swAng="-5400000"/>
                    <a:lnTo>
                      <a:pt x="0" y="74887"/>
                    </a:lnTo>
                    <a:arcTo wR="10800" hR="10800" stAng="10800000" swAng="-5400000"/>
                    <a:lnTo>
                      <a:pt x="10800" y="8568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166720" y="951840"/>
                <a:ext cx="90720" cy="342720"/>
              </a:xfrm>
              <a:custGeom>
                <a:avLst/>
                <a:gdLst>
                  <a:gd name="textAreaLeft" fmla="*/ 13320 w 90720"/>
                  <a:gd name="textAreaRight" fmla="*/ 77400 w 90720"/>
                  <a:gd name="textAreaTop" fmla="*/ 13320 h 342720"/>
                  <a:gd name="textAreaBottom" fmla="*/ 329400 h 342720"/>
                </a:gdLst>
                <a:ahLst/>
                <a:rect l="textAreaLeft" t="textAreaTop" r="textAreaRight" b="textAreaBottom"/>
                <a:pathLst>
                  <a:path w="21600" h="81363">
                    <a:moveTo>
                      <a:pt x="10800" y="0"/>
                    </a:moveTo>
                    <a:arcTo wR="10800" hR="10800" stAng="16200000" swAng="-5400000"/>
                    <a:lnTo>
                      <a:pt x="0" y="70563"/>
                    </a:lnTo>
                    <a:arcTo wR="10800" hR="10800" stAng="10800000" swAng="-5400000"/>
                    <a:lnTo>
                      <a:pt x="10800" y="8136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785120" y="1204560"/>
                <a:ext cx="472680" cy="414720"/>
              </a:xfrm>
              <a:prstGeom prst="roundRect">
                <a:avLst>
                  <a:gd name="adj" fmla="val 39704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785120" y="1150560"/>
                <a:ext cx="472680" cy="360360"/>
              </a:xfrm>
              <a:prstGeom prst="roundRect">
                <a:avLst>
                  <a:gd name="adj" fmla="val 17634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5" name=""/>
          <p:cNvGrpSpPr/>
          <p:nvPr/>
        </p:nvGrpSpPr>
        <p:grpSpPr>
          <a:xfrm>
            <a:off x="2220840" y="258840"/>
            <a:ext cx="1711440" cy="1528560"/>
            <a:chOff x="2220840" y="258840"/>
            <a:chExt cx="1711440" cy="1528560"/>
          </a:xfrm>
        </p:grpSpPr>
        <p:grpSp>
          <p:nvGrpSpPr>
            <p:cNvPr id="656" name=""/>
            <p:cNvGrpSpPr/>
            <p:nvPr/>
          </p:nvGrpSpPr>
          <p:grpSpPr>
            <a:xfrm>
              <a:off x="2220840" y="258840"/>
              <a:ext cx="1711440" cy="1528560"/>
              <a:chOff x="2220840" y="258840"/>
              <a:chExt cx="1711440" cy="1528560"/>
            </a:xfrm>
          </p:grpSpPr>
          <p:sp>
            <p:nvSpPr>
              <p:cNvPr id="657" name=""/>
              <p:cNvSpPr/>
              <p:nvPr/>
            </p:nvSpPr>
            <p:spPr>
              <a:xfrm>
                <a:off x="2241720" y="277920"/>
                <a:ext cx="1670040" cy="149040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220840" y="258840"/>
                <a:ext cx="1711440" cy="15285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49" y="936"/>
                    </a:moveTo>
                    <a:lnTo>
                      <a:pt x="539" y="935"/>
                    </a:lnTo>
                    <a:lnTo>
                      <a:pt x="539" y="963"/>
                    </a:lnTo>
                    <a:lnTo>
                      <a:pt x="29" y="963"/>
                    </a:lnTo>
                    <a:cubicBezTo>
                      <a:pt x="29" y="963"/>
                      <a:pt x="10" y="952"/>
                      <a:pt x="0" y="935"/>
                    </a:cubicBezTo>
                    <a:cubicBezTo>
                      <a:pt x="0" y="921"/>
                      <a:pt x="0" y="907"/>
                      <a:pt x="0" y="907"/>
                    </a:cubicBezTo>
                    <a:lnTo>
                      <a:pt x="511" y="28"/>
                    </a:lnTo>
                    <a:cubicBezTo>
                      <a:pt x="511" y="28"/>
                      <a:pt x="519" y="1"/>
                      <a:pt x="539" y="0"/>
                    </a:cubicBezTo>
                    <a:cubicBezTo>
                      <a:pt x="562" y="0"/>
                      <a:pt x="567" y="28"/>
                      <a:pt x="567" y="28"/>
                    </a:cubicBezTo>
                    <a:lnTo>
                      <a:pt x="1078" y="907"/>
                    </a:lnTo>
                    <a:cubicBezTo>
                      <a:pt x="1078" y="907"/>
                      <a:pt x="1078" y="921"/>
                      <a:pt x="1078" y="935"/>
                    </a:cubicBezTo>
                    <a:cubicBezTo>
                      <a:pt x="1068" y="955"/>
                      <a:pt x="1049" y="963"/>
                      <a:pt x="1049" y="963"/>
                    </a:cubicBezTo>
                    <a:lnTo>
                      <a:pt x="539" y="963"/>
                    </a:lnTo>
                    <a:lnTo>
                      <a:pt x="539" y="935"/>
                    </a:lnTo>
                    <a:lnTo>
                      <a:pt x="1024" y="936"/>
                    </a:lnTo>
                    <a:lnTo>
                      <a:pt x="1044" y="930"/>
                    </a:lnTo>
                    <a:lnTo>
                      <a:pt x="1048" y="918"/>
                    </a:lnTo>
                    <a:lnTo>
                      <a:pt x="1044" y="907"/>
                    </a:lnTo>
                    <a:lnTo>
                      <a:pt x="550" y="49"/>
                    </a:lnTo>
                    <a:cubicBezTo>
                      <a:pt x="550" y="49"/>
                      <a:pt x="547" y="40"/>
                      <a:pt x="538" y="37"/>
                    </a:cubicBezTo>
                    <a:cubicBezTo>
                      <a:pt x="526" y="42"/>
                      <a:pt x="526" y="52"/>
                      <a:pt x="526" y="52"/>
                    </a:cubicBezTo>
                    <a:lnTo>
                      <a:pt x="40" y="900"/>
                    </a:lnTo>
                    <a:lnTo>
                      <a:pt x="34" y="910"/>
                    </a:lnTo>
                    <a:lnTo>
                      <a:pt x="34" y="925"/>
                    </a:lnTo>
                    <a:lnTo>
                      <a:pt x="49" y="9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2620800" y="771480"/>
              <a:ext cx="741600" cy="847800"/>
              <a:chOff x="2620800" y="771480"/>
              <a:chExt cx="741600" cy="847800"/>
            </a:xfrm>
          </p:grpSpPr>
          <p:sp>
            <p:nvSpPr>
              <p:cNvPr id="660" name=""/>
              <p:cNvSpPr/>
              <p:nvPr/>
            </p:nvSpPr>
            <p:spPr>
              <a:xfrm rot="18900000">
                <a:off x="2771280" y="1045440"/>
                <a:ext cx="145440" cy="486720"/>
              </a:xfrm>
              <a:custGeom>
                <a:avLst/>
                <a:gdLst>
                  <a:gd name="textAreaLeft" fmla="*/ 21240 w 145440"/>
                  <a:gd name="textAreaRight" fmla="*/ 124200 w 145440"/>
                  <a:gd name="textAreaTop" fmla="*/ 21240 h 486720"/>
                  <a:gd name="textAreaBottom" fmla="*/ 465480 h 486720"/>
                </a:gdLst>
                <a:ahLst/>
                <a:rect l="textAreaLeft" t="textAreaTop" r="textAreaRight" b="textAreaBottom"/>
                <a:pathLst>
                  <a:path w="21600" h="72160">
                    <a:moveTo>
                      <a:pt x="10800" y="0"/>
                    </a:moveTo>
                    <a:arcTo wR="10800" hR="10800" stAng="16200000" swAng="-5400000"/>
                    <a:lnTo>
                      <a:pt x="0" y="61360"/>
                    </a:lnTo>
                    <a:arcTo wR="10800" hR="10800" stAng="10800000" swAng="-5400000"/>
                    <a:lnTo>
                      <a:pt x="10800" y="7216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016800" y="771480"/>
                <a:ext cx="108720" cy="487080"/>
              </a:xfrm>
              <a:custGeom>
                <a:avLst/>
                <a:gdLst>
                  <a:gd name="textAreaLeft" fmla="*/ 15840 w 108720"/>
                  <a:gd name="textAreaRight" fmla="*/ 92880 w 108720"/>
                  <a:gd name="textAreaTop" fmla="*/ 15840 h 487080"/>
                  <a:gd name="textAreaBottom" fmla="*/ 471240 h 487080"/>
                </a:gdLst>
                <a:ahLst/>
                <a:rect l="textAreaLeft" t="textAreaTop" r="textAreaRight" b="textAreaBottom"/>
                <a:pathLst>
                  <a:path w="21600" h="96523">
                    <a:moveTo>
                      <a:pt x="10800" y="0"/>
                    </a:moveTo>
                    <a:arcTo wR="10800" hR="10800" stAng="16200000" swAng="-5400000"/>
                    <a:lnTo>
                      <a:pt x="0" y="85723"/>
                    </a:lnTo>
                    <a:arcTo wR="10800" hR="10800" stAng="10800000" swAng="-5400000"/>
                    <a:lnTo>
                      <a:pt x="10800" y="9652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889360" y="843840"/>
                <a:ext cx="108720" cy="468720"/>
              </a:xfrm>
              <a:custGeom>
                <a:avLst/>
                <a:gdLst>
                  <a:gd name="textAreaLeft" fmla="*/ 15840 w 108720"/>
                  <a:gd name="textAreaRight" fmla="*/ 92880 w 108720"/>
                  <a:gd name="textAreaTop" fmla="*/ 15840 h 468720"/>
                  <a:gd name="textAreaBottom" fmla="*/ 452880 h 468720"/>
                </a:gdLst>
                <a:ahLst/>
                <a:rect l="textAreaLeft" t="textAreaTop" r="textAreaRight" b="textAreaBottom"/>
                <a:pathLst>
                  <a:path w="21600" h="92887">
                    <a:moveTo>
                      <a:pt x="10800" y="0"/>
                    </a:moveTo>
                    <a:arcTo wR="10800" hR="10800" stAng="16200000" swAng="-5400000"/>
                    <a:lnTo>
                      <a:pt x="0" y="82087"/>
                    </a:lnTo>
                    <a:arcTo wR="10800" hR="10800" stAng="10800000" swAng="-5400000"/>
                    <a:lnTo>
                      <a:pt x="10800" y="9288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143880" y="843840"/>
                <a:ext cx="108720" cy="432360"/>
              </a:xfrm>
              <a:custGeom>
                <a:avLst/>
                <a:gdLst>
                  <a:gd name="textAreaLeft" fmla="*/ 15840 w 108720"/>
                  <a:gd name="textAreaRight" fmla="*/ 92880 w 108720"/>
                  <a:gd name="textAreaTop" fmla="*/ 15840 h 432360"/>
                  <a:gd name="textAreaBottom" fmla="*/ 416520 h 432360"/>
                </a:gdLst>
                <a:ahLst/>
                <a:rect l="textAreaLeft" t="textAreaTop" r="textAreaRight" b="textAreaBottom"/>
                <a:pathLst>
                  <a:path w="21600" h="85687">
                    <a:moveTo>
                      <a:pt x="10800" y="0"/>
                    </a:moveTo>
                    <a:arcTo wR="10800" hR="10800" stAng="16200000" swAng="-5400000"/>
                    <a:lnTo>
                      <a:pt x="0" y="74887"/>
                    </a:lnTo>
                    <a:arcTo wR="10800" hR="10800" stAng="10800000" swAng="-5400000"/>
                    <a:lnTo>
                      <a:pt x="10800" y="8568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271320" y="951840"/>
                <a:ext cx="91080" cy="342720"/>
              </a:xfrm>
              <a:custGeom>
                <a:avLst/>
                <a:gdLst>
                  <a:gd name="textAreaLeft" fmla="*/ 13320 w 91080"/>
                  <a:gd name="textAreaRight" fmla="*/ 77760 w 91080"/>
                  <a:gd name="textAreaTop" fmla="*/ 13320 h 342720"/>
                  <a:gd name="textAreaBottom" fmla="*/ 329400 h 342720"/>
                </a:gdLst>
                <a:ahLst/>
                <a:rect l="textAreaLeft" t="textAreaTop" r="textAreaRight" b="textAreaBottom"/>
                <a:pathLst>
                  <a:path w="21600" h="81043">
                    <a:moveTo>
                      <a:pt x="10800" y="0"/>
                    </a:moveTo>
                    <a:arcTo wR="10800" hR="10800" stAng="16200000" swAng="-5400000"/>
                    <a:lnTo>
                      <a:pt x="0" y="70243"/>
                    </a:lnTo>
                    <a:arcTo wR="10800" hR="10800" stAng="10800000" swAng="-5400000"/>
                    <a:lnTo>
                      <a:pt x="10800" y="8104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889360" y="1204560"/>
                <a:ext cx="473040" cy="414720"/>
              </a:xfrm>
              <a:prstGeom prst="roundRect">
                <a:avLst>
                  <a:gd name="adj" fmla="val 39704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889360" y="1150560"/>
                <a:ext cx="473040" cy="360360"/>
              </a:xfrm>
              <a:prstGeom prst="roundRect">
                <a:avLst>
                  <a:gd name="adj" fmla="val 17634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7" name=""/>
          <p:cNvGrpSpPr/>
          <p:nvPr/>
        </p:nvGrpSpPr>
        <p:grpSpPr>
          <a:xfrm>
            <a:off x="330120" y="277920"/>
            <a:ext cx="1711440" cy="1528560"/>
            <a:chOff x="330120" y="277920"/>
            <a:chExt cx="1711440" cy="1528560"/>
          </a:xfrm>
        </p:grpSpPr>
        <p:grpSp>
          <p:nvGrpSpPr>
            <p:cNvPr id="668" name=""/>
            <p:cNvGrpSpPr/>
            <p:nvPr/>
          </p:nvGrpSpPr>
          <p:grpSpPr>
            <a:xfrm>
              <a:off x="330120" y="277920"/>
              <a:ext cx="1711440" cy="1528560"/>
              <a:chOff x="330120" y="277920"/>
              <a:chExt cx="1711440" cy="1528560"/>
            </a:xfrm>
          </p:grpSpPr>
          <p:sp>
            <p:nvSpPr>
              <p:cNvPr id="669" name=""/>
              <p:cNvSpPr/>
              <p:nvPr/>
            </p:nvSpPr>
            <p:spPr>
              <a:xfrm>
                <a:off x="351000" y="297000"/>
                <a:ext cx="1670040" cy="149040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30120" y="277920"/>
                <a:ext cx="1711440" cy="15285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49" y="936"/>
                    </a:moveTo>
                    <a:lnTo>
                      <a:pt x="539" y="935"/>
                    </a:lnTo>
                    <a:lnTo>
                      <a:pt x="539" y="963"/>
                    </a:lnTo>
                    <a:lnTo>
                      <a:pt x="29" y="963"/>
                    </a:lnTo>
                    <a:cubicBezTo>
                      <a:pt x="29" y="963"/>
                      <a:pt x="10" y="952"/>
                      <a:pt x="0" y="935"/>
                    </a:cubicBezTo>
                    <a:cubicBezTo>
                      <a:pt x="0" y="921"/>
                      <a:pt x="0" y="907"/>
                      <a:pt x="0" y="907"/>
                    </a:cubicBezTo>
                    <a:lnTo>
                      <a:pt x="511" y="28"/>
                    </a:lnTo>
                    <a:cubicBezTo>
                      <a:pt x="511" y="28"/>
                      <a:pt x="519" y="1"/>
                      <a:pt x="539" y="0"/>
                    </a:cubicBezTo>
                    <a:cubicBezTo>
                      <a:pt x="562" y="0"/>
                      <a:pt x="567" y="28"/>
                      <a:pt x="567" y="28"/>
                    </a:cubicBezTo>
                    <a:lnTo>
                      <a:pt x="1078" y="907"/>
                    </a:lnTo>
                    <a:cubicBezTo>
                      <a:pt x="1078" y="907"/>
                      <a:pt x="1078" y="921"/>
                      <a:pt x="1078" y="935"/>
                    </a:cubicBezTo>
                    <a:cubicBezTo>
                      <a:pt x="1068" y="955"/>
                      <a:pt x="1049" y="963"/>
                      <a:pt x="1049" y="963"/>
                    </a:cubicBezTo>
                    <a:lnTo>
                      <a:pt x="539" y="963"/>
                    </a:lnTo>
                    <a:lnTo>
                      <a:pt x="539" y="935"/>
                    </a:lnTo>
                    <a:lnTo>
                      <a:pt x="1024" y="936"/>
                    </a:lnTo>
                    <a:lnTo>
                      <a:pt x="1044" y="930"/>
                    </a:lnTo>
                    <a:lnTo>
                      <a:pt x="1048" y="918"/>
                    </a:lnTo>
                    <a:lnTo>
                      <a:pt x="1044" y="907"/>
                    </a:lnTo>
                    <a:lnTo>
                      <a:pt x="550" y="49"/>
                    </a:lnTo>
                    <a:cubicBezTo>
                      <a:pt x="550" y="49"/>
                      <a:pt x="547" y="40"/>
                      <a:pt x="538" y="37"/>
                    </a:cubicBezTo>
                    <a:cubicBezTo>
                      <a:pt x="526" y="42"/>
                      <a:pt x="526" y="52"/>
                      <a:pt x="526" y="52"/>
                    </a:cubicBezTo>
                    <a:lnTo>
                      <a:pt x="40" y="900"/>
                    </a:lnTo>
                    <a:lnTo>
                      <a:pt x="34" y="910"/>
                    </a:lnTo>
                    <a:lnTo>
                      <a:pt x="34" y="925"/>
                    </a:lnTo>
                    <a:lnTo>
                      <a:pt x="49" y="9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735120" y="771480"/>
              <a:ext cx="741240" cy="847800"/>
              <a:chOff x="735120" y="771480"/>
              <a:chExt cx="741240" cy="847800"/>
            </a:xfrm>
          </p:grpSpPr>
          <p:sp>
            <p:nvSpPr>
              <p:cNvPr id="672" name=""/>
              <p:cNvSpPr/>
              <p:nvPr/>
            </p:nvSpPr>
            <p:spPr>
              <a:xfrm rot="18900000">
                <a:off x="885600" y="1045080"/>
                <a:ext cx="145080" cy="486720"/>
              </a:xfrm>
              <a:custGeom>
                <a:avLst/>
                <a:gdLst>
                  <a:gd name="textAreaLeft" fmla="*/ 21240 w 145080"/>
                  <a:gd name="textAreaRight" fmla="*/ 123840 w 145080"/>
                  <a:gd name="textAreaTop" fmla="*/ 21240 h 486720"/>
                  <a:gd name="textAreaBottom" fmla="*/ 465480 h 486720"/>
                </a:gdLst>
                <a:ahLst/>
                <a:rect l="textAreaLeft" t="textAreaTop" r="textAreaRight" b="textAreaBottom"/>
                <a:pathLst>
                  <a:path w="21600" h="72339">
                    <a:moveTo>
                      <a:pt x="10800" y="0"/>
                    </a:moveTo>
                    <a:arcTo wR="10800" hR="10800" stAng="16200000" swAng="-5400000"/>
                    <a:lnTo>
                      <a:pt x="0" y="61539"/>
                    </a:lnTo>
                    <a:arcTo wR="10800" hR="10800" stAng="10800000" swAng="-5400000"/>
                    <a:lnTo>
                      <a:pt x="10800" y="7233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131120" y="771480"/>
                <a:ext cx="108720" cy="487080"/>
              </a:xfrm>
              <a:custGeom>
                <a:avLst/>
                <a:gdLst>
                  <a:gd name="textAreaLeft" fmla="*/ 15840 w 108720"/>
                  <a:gd name="textAreaRight" fmla="*/ 92880 w 108720"/>
                  <a:gd name="textAreaTop" fmla="*/ 15840 h 487080"/>
                  <a:gd name="textAreaBottom" fmla="*/ 471240 h 487080"/>
                </a:gdLst>
                <a:ahLst/>
                <a:rect l="textAreaLeft" t="textAreaTop" r="textAreaRight" b="textAreaBottom"/>
                <a:pathLst>
                  <a:path w="21600" h="96523">
                    <a:moveTo>
                      <a:pt x="10800" y="0"/>
                    </a:moveTo>
                    <a:arcTo wR="10800" hR="10800" stAng="16200000" swAng="-5400000"/>
                    <a:lnTo>
                      <a:pt x="0" y="85723"/>
                    </a:lnTo>
                    <a:arcTo wR="10800" hR="10800" stAng="10800000" swAng="-5400000"/>
                    <a:lnTo>
                      <a:pt x="10800" y="9652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003680" y="843840"/>
                <a:ext cx="108720" cy="468720"/>
              </a:xfrm>
              <a:custGeom>
                <a:avLst/>
                <a:gdLst>
                  <a:gd name="textAreaLeft" fmla="*/ 15840 w 108720"/>
                  <a:gd name="textAreaRight" fmla="*/ 92880 w 108720"/>
                  <a:gd name="textAreaTop" fmla="*/ 15840 h 468720"/>
                  <a:gd name="textAreaBottom" fmla="*/ 452880 h 468720"/>
                </a:gdLst>
                <a:ahLst/>
                <a:rect l="textAreaLeft" t="textAreaTop" r="textAreaRight" b="textAreaBottom"/>
                <a:pathLst>
                  <a:path w="21600" h="92887">
                    <a:moveTo>
                      <a:pt x="10800" y="0"/>
                    </a:moveTo>
                    <a:arcTo wR="10800" hR="10800" stAng="16200000" swAng="-5400000"/>
                    <a:lnTo>
                      <a:pt x="0" y="82087"/>
                    </a:lnTo>
                    <a:arcTo wR="10800" hR="10800" stAng="10800000" swAng="-5400000"/>
                    <a:lnTo>
                      <a:pt x="10800" y="9288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257840" y="843840"/>
                <a:ext cx="108720" cy="432360"/>
              </a:xfrm>
              <a:custGeom>
                <a:avLst/>
                <a:gdLst>
                  <a:gd name="textAreaLeft" fmla="*/ 15840 w 108720"/>
                  <a:gd name="textAreaRight" fmla="*/ 92880 w 108720"/>
                  <a:gd name="textAreaTop" fmla="*/ 15840 h 432360"/>
                  <a:gd name="textAreaBottom" fmla="*/ 416520 h 432360"/>
                </a:gdLst>
                <a:ahLst/>
                <a:rect l="textAreaLeft" t="textAreaTop" r="textAreaRight" b="textAreaBottom"/>
                <a:pathLst>
                  <a:path w="21600" h="85687">
                    <a:moveTo>
                      <a:pt x="10800" y="0"/>
                    </a:moveTo>
                    <a:arcTo wR="10800" hR="10800" stAng="16200000" swAng="-5400000"/>
                    <a:lnTo>
                      <a:pt x="0" y="74887"/>
                    </a:lnTo>
                    <a:arcTo wR="10800" hR="10800" stAng="10800000" swAng="-5400000"/>
                    <a:lnTo>
                      <a:pt x="10800" y="8568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385280" y="951840"/>
                <a:ext cx="90720" cy="342720"/>
              </a:xfrm>
              <a:custGeom>
                <a:avLst/>
                <a:gdLst>
                  <a:gd name="textAreaLeft" fmla="*/ 13320 w 90720"/>
                  <a:gd name="textAreaRight" fmla="*/ 77400 w 90720"/>
                  <a:gd name="textAreaTop" fmla="*/ 13320 h 342720"/>
                  <a:gd name="textAreaBottom" fmla="*/ 329400 h 342720"/>
                </a:gdLst>
                <a:ahLst/>
                <a:rect l="textAreaLeft" t="textAreaTop" r="textAreaRight" b="textAreaBottom"/>
                <a:pathLst>
                  <a:path w="21600" h="81363">
                    <a:moveTo>
                      <a:pt x="10800" y="0"/>
                    </a:moveTo>
                    <a:arcTo wR="10800" hR="10800" stAng="16200000" swAng="-5400000"/>
                    <a:lnTo>
                      <a:pt x="0" y="70563"/>
                    </a:lnTo>
                    <a:arcTo wR="10800" hR="10800" stAng="10800000" swAng="-5400000"/>
                    <a:lnTo>
                      <a:pt x="10800" y="8136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003680" y="1204560"/>
                <a:ext cx="472680" cy="414720"/>
              </a:xfrm>
              <a:prstGeom prst="roundRect">
                <a:avLst>
                  <a:gd name="adj" fmla="val 39704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003680" y="1150560"/>
                <a:ext cx="472680" cy="360360"/>
              </a:xfrm>
              <a:prstGeom prst="roundRect">
                <a:avLst>
                  <a:gd name="adj" fmla="val 17634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"/>
          <p:cNvGrpSpPr/>
          <p:nvPr/>
        </p:nvGrpSpPr>
        <p:grpSpPr>
          <a:xfrm>
            <a:off x="7862760" y="233280"/>
            <a:ext cx="1711440" cy="1528920"/>
            <a:chOff x="7862760" y="233280"/>
            <a:chExt cx="1711440" cy="1528920"/>
          </a:xfrm>
        </p:grpSpPr>
        <p:grpSp>
          <p:nvGrpSpPr>
            <p:cNvPr id="680" name=""/>
            <p:cNvGrpSpPr/>
            <p:nvPr/>
          </p:nvGrpSpPr>
          <p:grpSpPr>
            <a:xfrm>
              <a:off x="7862760" y="233280"/>
              <a:ext cx="1711440" cy="1528920"/>
              <a:chOff x="7862760" y="233280"/>
              <a:chExt cx="1711440" cy="1528920"/>
            </a:xfrm>
          </p:grpSpPr>
          <p:sp>
            <p:nvSpPr>
              <p:cNvPr id="681" name=""/>
              <p:cNvSpPr/>
              <p:nvPr/>
            </p:nvSpPr>
            <p:spPr>
              <a:xfrm>
                <a:off x="7883640" y="25236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862760" y="233280"/>
                <a:ext cx="1711440" cy="152892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49" y="936"/>
                    </a:moveTo>
                    <a:lnTo>
                      <a:pt x="539" y="935"/>
                    </a:lnTo>
                    <a:lnTo>
                      <a:pt x="539" y="963"/>
                    </a:lnTo>
                    <a:lnTo>
                      <a:pt x="29" y="963"/>
                    </a:lnTo>
                    <a:cubicBezTo>
                      <a:pt x="29" y="963"/>
                      <a:pt x="10" y="952"/>
                      <a:pt x="0" y="935"/>
                    </a:cubicBezTo>
                    <a:cubicBezTo>
                      <a:pt x="0" y="921"/>
                      <a:pt x="0" y="907"/>
                      <a:pt x="0" y="907"/>
                    </a:cubicBezTo>
                    <a:lnTo>
                      <a:pt x="511" y="28"/>
                    </a:lnTo>
                    <a:cubicBezTo>
                      <a:pt x="511" y="28"/>
                      <a:pt x="519" y="1"/>
                      <a:pt x="539" y="0"/>
                    </a:cubicBezTo>
                    <a:cubicBezTo>
                      <a:pt x="562" y="0"/>
                      <a:pt x="567" y="28"/>
                      <a:pt x="567" y="28"/>
                    </a:cubicBezTo>
                    <a:lnTo>
                      <a:pt x="1078" y="907"/>
                    </a:lnTo>
                    <a:cubicBezTo>
                      <a:pt x="1078" y="907"/>
                      <a:pt x="1078" y="921"/>
                      <a:pt x="1078" y="935"/>
                    </a:cubicBezTo>
                    <a:cubicBezTo>
                      <a:pt x="1068" y="955"/>
                      <a:pt x="1049" y="963"/>
                      <a:pt x="1049" y="963"/>
                    </a:cubicBezTo>
                    <a:lnTo>
                      <a:pt x="539" y="963"/>
                    </a:lnTo>
                    <a:lnTo>
                      <a:pt x="539" y="935"/>
                    </a:lnTo>
                    <a:lnTo>
                      <a:pt x="1024" y="936"/>
                    </a:lnTo>
                    <a:lnTo>
                      <a:pt x="1044" y="930"/>
                    </a:lnTo>
                    <a:lnTo>
                      <a:pt x="1048" y="918"/>
                    </a:lnTo>
                    <a:lnTo>
                      <a:pt x="1044" y="907"/>
                    </a:lnTo>
                    <a:lnTo>
                      <a:pt x="550" y="49"/>
                    </a:lnTo>
                    <a:cubicBezTo>
                      <a:pt x="550" y="49"/>
                      <a:pt x="547" y="40"/>
                      <a:pt x="538" y="37"/>
                    </a:cubicBezTo>
                    <a:cubicBezTo>
                      <a:pt x="526" y="42"/>
                      <a:pt x="526" y="52"/>
                      <a:pt x="526" y="52"/>
                    </a:cubicBezTo>
                    <a:lnTo>
                      <a:pt x="40" y="900"/>
                    </a:lnTo>
                    <a:lnTo>
                      <a:pt x="34" y="910"/>
                    </a:lnTo>
                    <a:lnTo>
                      <a:pt x="34" y="925"/>
                    </a:lnTo>
                    <a:lnTo>
                      <a:pt x="49" y="9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8373960" y="728640"/>
              <a:ext cx="673200" cy="900000"/>
              <a:chOff x="8373960" y="728640"/>
              <a:chExt cx="673200" cy="900000"/>
            </a:xfrm>
          </p:grpSpPr>
          <p:sp>
            <p:nvSpPr>
              <p:cNvPr id="684" name=""/>
              <p:cNvSpPr/>
              <p:nvPr/>
            </p:nvSpPr>
            <p:spPr>
              <a:xfrm>
                <a:off x="8373960" y="1556640"/>
                <a:ext cx="673200" cy="72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417160" y="728640"/>
                <a:ext cx="581400" cy="805680"/>
              </a:xfrm>
              <a:custGeom>
                <a:avLst/>
                <a:gdLst/>
                <a:ahLst/>
                <a:rect l="l" t="t" r="r" b="b"/>
                <a:pathLst>
                  <a:path w="1592" h="2207">
                    <a:moveTo>
                      <a:pt x="448" y="2154"/>
                    </a:moveTo>
                    <a:cubicBezTo>
                      <a:pt x="358" y="2111"/>
                      <a:pt x="104" y="2050"/>
                      <a:pt x="52" y="1899"/>
                    </a:cubicBezTo>
                    <a:cubicBezTo>
                      <a:pt x="0" y="1748"/>
                      <a:pt x="104" y="1332"/>
                      <a:pt x="137" y="1247"/>
                    </a:cubicBezTo>
                    <a:cubicBezTo>
                      <a:pt x="170" y="1162"/>
                      <a:pt x="236" y="1431"/>
                      <a:pt x="250" y="1389"/>
                    </a:cubicBezTo>
                    <a:cubicBezTo>
                      <a:pt x="264" y="1347"/>
                      <a:pt x="217" y="1086"/>
                      <a:pt x="222" y="992"/>
                    </a:cubicBezTo>
                    <a:cubicBezTo>
                      <a:pt x="227" y="898"/>
                      <a:pt x="287" y="869"/>
                      <a:pt x="278" y="822"/>
                    </a:cubicBezTo>
                    <a:cubicBezTo>
                      <a:pt x="269" y="775"/>
                      <a:pt x="146" y="718"/>
                      <a:pt x="165" y="709"/>
                    </a:cubicBezTo>
                    <a:cubicBezTo>
                      <a:pt x="184" y="700"/>
                      <a:pt x="335" y="798"/>
                      <a:pt x="392" y="765"/>
                    </a:cubicBezTo>
                    <a:cubicBezTo>
                      <a:pt x="449" y="732"/>
                      <a:pt x="496" y="590"/>
                      <a:pt x="505" y="510"/>
                    </a:cubicBezTo>
                    <a:cubicBezTo>
                      <a:pt x="514" y="430"/>
                      <a:pt x="424" y="368"/>
                      <a:pt x="448" y="283"/>
                    </a:cubicBezTo>
                    <a:cubicBezTo>
                      <a:pt x="472" y="198"/>
                      <a:pt x="586" y="0"/>
                      <a:pt x="647" y="0"/>
                    </a:cubicBezTo>
                    <a:cubicBezTo>
                      <a:pt x="708" y="0"/>
                      <a:pt x="756" y="203"/>
                      <a:pt x="817" y="283"/>
                    </a:cubicBezTo>
                    <a:cubicBezTo>
                      <a:pt x="878" y="363"/>
                      <a:pt x="977" y="411"/>
                      <a:pt x="1015" y="482"/>
                    </a:cubicBezTo>
                    <a:cubicBezTo>
                      <a:pt x="1053" y="553"/>
                      <a:pt x="1016" y="704"/>
                      <a:pt x="1044" y="709"/>
                    </a:cubicBezTo>
                    <a:cubicBezTo>
                      <a:pt x="1072" y="714"/>
                      <a:pt x="1166" y="562"/>
                      <a:pt x="1185" y="510"/>
                    </a:cubicBezTo>
                    <a:cubicBezTo>
                      <a:pt x="1204" y="458"/>
                      <a:pt x="1143" y="406"/>
                      <a:pt x="1157" y="397"/>
                    </a:cubicBezTo>
                    <a:cubicBezTo>
                      <a:pt x="1171" y="388"/>
                      <a:pt x="1252" y="411"/>
                      <a:pt x="1271" y="453"/>
                    </a:cubicBezTo>
                    <a:cubicBezTo>
                      <a:pt x="1290" y="495"/>
                      <a:pt x="1276" y="586"/>
                      <a:pt x="1271" y="652"/>
                    </a:cubicBezTo>
                    <a:cubicBezTo>
                      <a:pt x="1266" y="718"/>
                      <a:pt x="1233" y="793"/>
                      <a:pt x="1242" y="850"/>
                    </a:cubicBezTo>
                    <a:cubicBezTo>
                      <a:pt x="1251" y="907"/>
                      <a:pt x="1303" y="992"/>
                      <a:pt x="1327" y="992"/>
                    </a:cubicBezTo>
                    <a:cubicBezTo>
                      <a:pt x="1351" y="992"/>
                      <a:pt x="1342" y="883"/>
                      <a:pt x="1384" y="850"/>
                    </a:cubicBezTo>
                    <a:cubicBezTo>
                      <a:pt x="1426" y="817"/>
                      <a:pt x="1572" y="775"/>
                      <a:pt x="1582" y="794"/>
                    </a:cubicBezTo>
                    <a:cubicBezTo>
                      <a:pt x="1592" y="813"/>
                      <a:pt x="1455" y="879"/>
                      <a:pt x="1441" y="964"/>
                    </a:cubicBezTo>
                    <a:cubicBezTo>
                      <a:pt x="1427" y="1049"/>
                      <a:pt x="1488" y="1205"/>
                      <a:pt x="1497" y="1304"/>
                    </a:cubicBezTo>
                    <a:cubicBezTo>
                      <a:pt x="1506" y="1403"/>
                      <a:pt x="1525" y="1441"/>
                      <a:pt x="1497" y="1559"/>
                    </a:cubicBezTo>
                    <a:cubicBezTo>
                      <a:pt x="1469" y="1677"/>
                      <a:pt x="1422" y="1909"/>
                      <a:pt x="1327" y="2013"/>
                    </a:cubicBezTo>
                    <a:cubicBezTo>
                      <a:pt x="1232" y="2117"/>
                      <a:pt x="949" y="2207"/>
                      <a:pt x="930" y="2183"/>
                    </a:cubicBezTo>
                    <a:cubicBezTo>
                      <a:pt x="911" y="2159"/>
                      <a:pt x="1162" y="1975"/>
                      <a:pt x="1214" y="1871"/>
                    </a:cubicBezTo>
                    <a:cubicBezTo>
                      <a:pt x="1266" y="1767"/>
                      <a:pt x="1256" y="1649"/>
                      <a:pt x="1242" y="1559"/>
                    </a:cubicBezTo>
                    <a:cubicBezTo>
                      <a:pt x="1228" y="1469"/>
                      <a:pt x="1157" y="1337"/>
                      <a:pt x="1129" y="1332"/>
                    </a:cubicBezTo>
                    <a:cubicBezTo>
                      <a:pt x="1101" y="1327"/>
                      <a:pt x="1091" y="1498"/>
                      <a:pt x="1072" y="1531"/>
                    </a:cubicBezTo>
                    <a:cubicBezTo>
                      <a:pt x="1053" y="1564"/>
                      <a:pt x="1020" y="1578"/>
                      <a:pt x="1015" y="1531"/>
                    </a:cubicBezTo>
                    <a:cubicBezTo>
                      <a:pt x="1010" y="1484"/>
                      <a:pt x="1053" y="1323"/>
                      <a:pt x="1044" y="1247"/>
                    </a:cubicBezTo>
                    <a:cubicBezTo>
                      <a:pt x="1035" y="1171"/>
                      <a:pt x="992" y="1101"/>
                      <a:pt x="959" y="1077"/>
                    </a:cubicBezTo>
                    <a:cubicBezTo>
                      <a:pt x="926" y="1053"/>
                      <a:pt x="854" y="1063"/>
                      <a:pt x="845" y="1105"/>
                    </a:cubicBezTo>
                    <a:cubicBezTo>
                      <a:pt x="836" y="1147"/>
                      <a:pt x="921" y="1256"/>
                      <a:pt x="902" y="1332"/>
                    </a:cubicBezTo>
                    <a:cubicBezTo>
                      <a:pt x="883" y="1408"/>
                      <a:pt x="774" y="1517"/>
                      <a:pt x="732" y="1559"/>
                    </a:cubicBezTo>
                    <a:cubicBezTo>
                      <a:pt x="690" y="1601"/>
                      <a:pt x="661" y="1629"/>
                      <a:pt x="647" y="1587"/>
                    </a:cubicBezTo>
                    <a:cubicBezTo>
                      <a:pt x="633" y="1545"/>
                      <a:pt x="666" y="1356"/>
                      <a:pt x="647" y="1304"/>
                    </a:cubicBezTo>
                    <a:cubicBezTo>
                      <a:pt x="628" y="1252"/>
                      <a:pt x="561" y="1218"/>
                      <a:pt x="533" y="1275"/>
                    </a:cubicBezTo>
                    <a:cubicBezTo>
                      <a:pt x="505" y="1332"/>
                      <a:pt x="505" y="1616"/>
                      <a:pt x="477" y="1644"/>
                    </a:cubicBezTo>
                    <a:cubicBezTo>
                      <a:pt x="449" y="1672"/>
                      <a:pt x="401" y="1451"/>
                      <a:pt x="363" y="1446"/>
                    </a:cubicBezTo>
                    <a:cubicBezTo>
                      <a:pt x="325" y="1441"/>
                      <a:pt x="240" y="1550"/>
                      <a:pt x="250" y="1616"/>
                    </a:cubicBezTo>
                    <a:cubicBezTo>
                      <a:pt x="260" y="1682"/>
                      <a:pt x="420" y="1809"/>
                      <a:pt x="420" y="1842"/>
                    </a:cubicBezTo>
                    <a:cubicBezTo>
                      <a:pt x="420" y="1875"/>
                      <a:pt x="278" y="1805"/>
                      <a:pt x="250" y="1814"/>
                    </a:cubicBezTo>
                    <a:cubicBezTo>
                      <a:pt x="222" y="1823"/>
                      <a:pt x="193" y="1842"/>
                      <a:pt x="250" y="1899"/>
                    </a:cubicBezTo>
                    <a:cubicBezTo>
                      <a:pt x="307" y="1956"/>
                      <a:pt x="557" y="2112"/>
                      <a:pt x="590" y="2154"/>
                    </a:cubicBezTo>
                    <a:cubicBezTo>
                      <a:pt x="623" y="2196"/>
                      <a:pt x="538" y="2197"/>
                      <a:pt x="448" y="215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6" name=""/>
          <p:cNvGrpSpPr/>
          <p:nvPr/>
        </p:nvGrpSpPr>
        <p:grpSpPr>
          <a:xfrm>
            <a:off x="4111560" y="252360"/>
            <a:ext cx="1711440" cy="1528920"/>
            <a:chOff x="4111560" y="252360"/>
            <a:chExt cx="1711440" cy="1528920"/>
          </a:xfrm>
        </p:grpSpPr>
        <p:grpSp>
          <p:nvGrpSpPr>
            <p:cNvPr id="687" name=""/>
            <p:cNvGrpSpPr/>
            <p:nvPr/>
          </p:nvGrpSpPr>
          <p:grpSpPr>
            <a:xfrm>
              <a:off x="4111560" y="252360"/>
              <a:ext cx="1711440" cy="1528920"/>
              <a:chOff x="4111560" y="252360"/>
              <a:chExt cx="1711440" cy="1528920"/>
            </a:xfrm>
          </p:grpSpPr>
          <p:sp>
            <p:nvSpPr>
              <p:cNvPr id="688" name=""/>
              <p:cNvSpPr/>
              <p:nvPr/>
            </p:nvSpPr>
            <p:spPr>
              <a:xfrm>
                <a:off x="4132440" y="27144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111560" y="252360"/>
                <a:ext cx="1711440" cy="152892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49" y="936"/>
                    </a:moveTo>
                    <a:lnTo>
                      <a:pt x="539" y="935"/>
                    </a:lnTo>
                    <a:lnTo>
                      <a:pt x="539" y="963"/>
                    </a:lnTo>
                    <a:lnTo>
                      <a:pt x="29" y="963"/>
                    </a:lnTo>
                    <a:cubicBezTo>
                      <a:pt x="29" y="963"/>
                      <a:pt x="10" y="952"/>
                      <a:pt x="0" y="935"/>
                    </a:cubicBezTo>
                    <a:cubicBezTo>
                      <a:pt x="0" y="921"/>
                      <a:pt x="0" y="907"/>
                      <a:pt x="0" y="907"/>
                    </a:cubicBezTo>
                    <a:lnTo>
                      <a:pt x="511" y="28"/>
                    </a:lnTo>
                    <a:cubicBezTo>
                      <a:pt x="511" y="28"/>
                      <a:pt x="519" y="1"/>
                      <a:pt x="539" y="0"/>
                    </a:cubicBezTo>
                    <a:cubicBezTo>
                      <a:pt x="562" y="0"/>
                      <a:pt x="567" y="28"/>
                      <a:pt x="567" y="28"/>
                    </a:cubicBezTo>
                    <a:lnTo>
                      <a:pt x="1078" y="907"/>
                    </a:lnTo>
                    <a:cubicBezTo>
                      <a:pt x="1078" y="907"/>
                      <a:pt x="1078" y="921"/>
                      <a:pt x="1078" y="935"/>
                    </a:cubicBezTo>
                    <a:cubicBezTo>
                      <a:pt x="1068" y="955"/>
                      <a:pt x="1049" y="963"/>
                      <a:pt x="1049" y="963"/>
                    </a:cubicBezTo>
                    <a:lnTo>
                      <a:pt x="539" y="963"/>
                    </a:lnTo>
                    <a:lnTo>
                      <a:pt x="539" y="935"/>
                    </a:lnTo>
                    <a:lnTo>
                      <a:pt x="1024" y="936"/>
                    </a:lnTo>
                    <a:lnTo>
                      <a:pt x="1044" y="930"/>
                    </a:lnTo>
                    <a:lnTo>
                      <a:pt x="1048" y="918"/>
                    </a:lnTo>
                    <a:lnTo>
                      <a:pt x="1044" y="907"/>
                    </a:lnTo>
                    <a:lnTo>
                      <a:pt x="550" y="49"/>
                    </a:lnTo>
                    <a:cubicBezTo>
                      <a:pt x="550" y="49"/>
                      <a:pt x="547" y="40"/>
                      <a:pt x="538" y="37"/>
                    </a:cubicBezTo>
                    <a:cubicBezTo>
                      <a:pt x="526" y="42"/>
                      <a:pt x="526" y="52"/>
                      <a:pt x="526" y="52"/>
                    </a:cubicBezTo>
                    <a:lnTo>
                      <a:pt x="40" y="900"/>
                    </a:lnTo>
                    <a:lnTo>
                      <a:pt x="34" y="910"/>
                    </a:lnTo>
                    <a:lnTo>
                      <a:pt x="34" y="925"/>
                    </a:lnTo>
                    <a:lnTo>
                      <a:pt x="49" y="9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4618080" y="728640"/>
              <a:ext cx="673200" cy="900000"/>
              <a:chOff x="4618080" y="728640"/>
              <a:chExt cx="673200" cy="900000"/>
            </a:xfrm>
          </p:grpSpPr>
          <p:sp>
            <p:nvSpPr>
              <p:cNvPr id="691" name=""/>
              <p:cNvSpPr/>
              <p:nvPr/>
            </p:nvSpPr>
            <p:spPr>
              <a:xfrm>
                <a:off x="4618080" y="1556640"/>
                <a:ext cx="673200" cy="72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661280" y="728640"/>
                <a:ext cx="581400" cy="805680"/>
              </a:xfrm>
              <a:custGeom>
                <a:avLst/>
                <a:gdLst/>
                <a:ahLst/>
                <a:rect l="l" t="t" r="r" b="b"/>
                <a:pathLst>
                  <a:path w="1592" h="2207">
                    <a:moveTo>
                      <a:pt x="448" y="2154"/>
                    </a:moveTo>
                    <a:cubicBezTo>
                      <a:pt x="358" y="2111"/>
                      <a:pt x="104" y="2050"/>
                      <a:pt x="52" y="1899"/>
                    </a:cubicBezTo>
                    <a:cubicBezTo>
                      <a:pt x="0" y="1748"/>
                      <a:pt x="104" y="1332"/>
                      <a:pt x="137" y="1247"/>
                    </a:cubicBezTo>
                    <a:cubicBezTo>
                      <a:pt x="170" y="1162"/>
                      <a:pt x="236" y="1431"/>
                      <a:pt x="250" y="1389"/>
                    </a:cubicBezTo>
                    <a:cubicBezTo>
                      <a:pt x="264" y="1347"/>
                      <a:pt x="217" y="1086"/>
                      <a:pt x="222" y="992"/>
                    </a:cubicBezTo>
                    <a:cubicBezTo>
                      <a:pt x="227" y="898"/>
                      <a:pt x="287" y="869"/>
                      <a:pt x="278" y="822"/>
                    </a:cubicBezTo>
                    <a:cubicBezTo>
                      <a:pt x="269" y="775"/>
                      <a:pt x="146" y="718"/>
                      <a:pt x="165" y="709"/>
                    </a:cubicBezTo>
                    <a:cubicBezTo>
                      <a:pt x="184" y="700"/>
                      <a:pt x="335" y="798"/>
                      <a:pt x="392" y="765"/>
                    </a:cubicBezTo>
                    <a:cubicBezTo>
                      <a:pt x="449" y="732"/>
                      <a:pt x="496" y="590"/>
                      <a:pt x="505" y="510"/>
                    </a:cubicBezTo>
                    <a:cubicBezTo>
                      <a:pt x="514" y="430"/>
                      <a:pt x="424" y="368"/>
                      <a:pt x="448" y="283"/>
                    </a:cubicBezTo>
                    <a:cubicBezTo>
                      <a:pt x="472" y="198"/>
                      <a:pt x="586" y="0"/>
                      <a:pt x="647" y="0"/>
                    </a:cubicBezTo>
                    <a:cubicBezTo>
                      <a:pt x="708" y="0"/>
                      <a:pt x="756" y="203"/>
                      <a:pt x="817" y="283"/>
                    </a:cubicBezTo>
                    <a:cubicBezTo>
                      <a:pt x="878" y="363"/>
                      <a:pt x="977" y="411"/>
                      <a:pt x="1015" y="482"/>
                    </a:cubicBezTo>
                    <a:cubicBezTo>
                      <a:pt x="1053" y="553"/>
                      <a:pt x="1016" y="704"/>
                      <a:pt x="1044" y="709"/>
                    </a:cubicBezTo>
                    <a:cubicBezTo>
                      <a:pt x="1072" y="714"/>
                      <a:pt x="1166" y="562"/>
                      <a:pt x="1185" y="510"/>
                    </a:cubicBezTo>
                    <a:cubicBezTo>
                      <a:pt x="1204" y="458"/>
                      <a:pt x="1143" y="406"/>
                      <a:pt x="1157" y="397"/>
                    </a:cubicBezTo>
                    <a:cubicBezTo>
                      <a:pt x="1171" y="388"/>
                      <a:pt x="1252" y="411"/>
                      <a:pt x="1271" y="453"/>
                    </a:cubicBezTo>
                    <a:cubicBezTo>
                      <a:pt x="1290" y="495"/>
                      <a:pt x="1276" y="586"/>
                      <a:pt x="1271" y="652"/>
                    </a:cubicBezTo>
                    <a:cubicBezTo>
                      <a:pt x="1266" y="718"/>
                      <a:pt x="1233" y="793"/>
                      <a:pt x="1242" y="850"/>
                    </a:cubicBezTo>
                    <a:cubicBezTo>
                      <a:pt x="1251" y="907"/>
                      <a:pt x="1303" y="992"/>
                      <a:pt x="1327" y="992"/>
                    </a:cubicBezTo>
                    <a:cubicBezTo>
                      <a:pt x="1351" y="992"/>
                      <a:pt x="1342" y="883"/>
                      <a:pt x="1384" y="850"/>
                    </a:cubicBezTo>
                    <a:cubicBezTo>
                      <a:pt x="1426" y="817"/>
                      <a:pt x="1572" y="775"/>
                      <a:pt x="1582" y="794"/>
                    </a:cubicBezTo>
                    <a:cubicBezTo>
                      <a:pt x="1592" y="813"/>
                      <a:pt x="1455" y="879"/>
                      <a:pt x="1441" y="964"/>
                    </a:cubicBezTo>
                    <a:cubicBezTo>
                      <a:pt x="1427" y="1049"/>
                      <a:pt x="1488" y="1205"/>
                      <a:pt x="1497" y="1304"/>
                    </a:cubicBezTo>
                    <a:cubicBezTo>
                      <a:pt x="1506" y="1403"/>
                      <a:pt x="1525" y="1441"/>
                      <a:pt x="1497" y="1559"/>
                    </a:cubicBezTo>
                    <a:cubicBezTo>
                      <a:pt x="1469" y="1677"/>
                      <a:pt x="1422" y="1909"/>
                      <a:pt x="1327" y="2013"/>
                    </a:cubicBezTo>
                    <a:cubicBezTo>
                      <a:pt x="1232" y="2117"/>
                      <a:pt x="949" y="2207"/>
                      <a:pt x="930" y="2183"/>
                    </a:cubicBezTo>
                    <a:cubicBezTo>
                      <a:pt x="911" y="2159"/>
                      <a:pt x="1162" y="1975"/>
                      <a:pt x="1214" y="1871"/>
                    </a:cubicBezTo>
                    <a:cubicBezTo>
                      <a:pt x="1266" y="1767"/>
                      <a:pt x="1256" y="1649"/>
                      <a:pt x="1242" y="1559"/>
                    </a:cubicBezTo>
                    <a:cubicBezTo>
                      <a:pt x="1228" y="1469"/>
                      <a:pt x="1157" y="1337"/>
                      <a:pt x="1129" y="1332"/>
                    </a:cubicBezTo>
                    <a:cubicBezTo>
                      <a:pt x="1101" y="1327"/>
                      <a:pt x="1091" y="1498"/>
                      <a:pt x="1072" y="1531"/>
                    </a:cubicBezTo>
                    <a:cubicBezTo>
                      <a:pt x="1053" y="1564"/>
                      <a:pt x="1020" y="1578"/>
                      <a:pt x="1015" y="1531"/>
                    </a:cubicBezTo>
                    <a:cubicBezTo>
                      <a:pt x="1010" y="1484"/>
                      <a:pt x="1053" y="1323"/>
                      <a:pt x="1044" y="1247"/>
                    </a:cubicBezTo>
                    <a:cubicBezTo>
                      <a:pt x="1035" y="1171"/>
                      <a:pt x="992" y="1101"/>
                      <a:pt x="959" y="1077"/>
                    </a:cubicBezTo>
                    <a:cubicBezTo>
                      <a:pt x="926" y="1053"/>
                      <a:pt x="854" y="1063"/>
                      <a:pt x="845" y="1105"/>
                    </a:cubicBezTo>
                    <a:cubicBezTo>
                      <a:pt x="836" y="1147"/>
                      <a:pt x="921" y="1256"/>
                      <a:pt x="902" y="1332"/>
                    </a:cubicBezTo>
                    <a:cubicBezTo>
                      <a:pt x="883" y="1408"/>
                      <a:pt x="774" y="1517"/>
                      <a:pt x="732" y="1559"/>
                    </a:cubicBezTo>
                    <a:cubicBezTo>
                      <a:pt x="690" y="1601"/>
                      <a:pt x="661" y="1629"/>
                      <a:pt x="647" y="1587"/>
                    </a:cubicBezTo>
                    <a:cubicBezTo>
                      <a:pt x="633" y="1545"/>
                      <a:pt x="666" y="1356"/>
                      <a:pt x="647" y="1304"/>
                    </a:cubicBezTo>
                    <a:cubicBezTo>
                      <a:pt x="628" y="1252"/>
                      <a:pt x="561" y="1218"/>
                      <a:pt x="533" y="1275"/>
                    </a:cubicBezTo>
                    <a:cubicBezTo>
                      <a:pt x="505" y="1332"/>
                      <a:pt x="505" y="1616"/>
                      <a:pt x="477" y="1644"/>
                    </a:cubicBezTo>
                    <a:cubicBezTo>
                      <a:pt x="449" y="1672"/>
                      <a:pt x="401" y="1451"/>
                      <a:pt x="363" y="1446"/>
                    </a:cubicBezTo>
                    <a:cubicBezTo>
                      <a:pt x="325" y="1441"/>
                      <a:pt x="240" y="1550"/>
                      <a:pt x="250" y="1616"/>
                    </a:cubicBezTo>
                    <a:cubicBezTo>
                      <a:pt x="260" y="1682"/>
                      <a:pt x="420" y="1809"/>
                      <a:pt x="420" y="1842"/>
                    </a:cubicBezTo>
                    <a:cubicBezTo>
                      <a:pt x="420" y="1875"/>
                      <a:pt x="278" y="1805"/>
                      <a:pt x="250" y="1814"/>
                    </a:cubicBezTo>
                    <a:cubicBezTo>
                      <a:pt x="222" y="1823"/>
                      <a:pt x="193" y="1842"/>
                      <a:pt x="250" y="1899"/>
                    </a:cubicBezTo>
                    <a:cubicBezTo>
                      <a:pt x="307" y="1956"/>
                      <a:pt x="557" y="2112"/>
                      <a:pt x="590" y="2154"/>
                    </a:cubicBezTo>
                    <a:cubicBezTo>
                      <a:pt x="623" y="2196"/>
                      <a:pt x="538" y="2197"/>
                      <a:pt x="448" y="215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3" name=""/>
          <p:cNvGrpSpPr/>
          <p:nvPr/>
        </p:nvGrpSpPr>
        <p:grpSpPr>
          <a:xfrm>
            <a:off x="5977080" y="235080"/>
            <a:ext cx="1711080" cy="1528560"/>
            <a:chOff x="5977080" y="235080"/>
            <a:chExt cx="1711080" cy="1528560"/>
          </a:xfrm>
        </p:grpSpPr>
        <p:grpSp>
          <p:nvGrpSpPr>
            <p:cNvPr id="694" name=""/>
            <p:cNvGrpSpPr/>
            <p:nvPr/>
          </p:nvGrpSpPr>
          <p:grpSpPr>
            <a:xfrm>
              <a:off x="5977080" y="235080"/>
              <a:ext cx="1711080" cy="1528560"/>
              <a:chOff x="5977080" y="235080"/>
              <a:chExt cx="1711080" cy="1528560"/>
            </a:xfrm>
          </p:grpSpPr>
          <p:sp>
            <p:nvSpPr>
              <p:cNvPr id="695" name=""/>
              <p:cNvSpPr/>
              <p:nvPr/>
            </p:nvSpPr>
            <p:spPr>
              <a:xfrm>
                <a:off x="5997600" y="254160"/>
                <a:ext cx="1670040" cy="149040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977080" y="235080"/>
                <a:ext cx="1711080" cy="15285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49" y="936"/>
                    </a:moveTo>
                    <a:lnTo>
                      <a:pt x="539" y="935"/>
                    </a:lnTo>
                    <a:lnTo>
                      <a:pt x="539" y="963"/>
                    </a:lnTo>
                    <a:lnTo>
                      <a:pt x="29" y="963"/>
                    </a:lnTo>
                    <a:cubicBezTo>
                      <a:pt x="29" y="963"/>
                      <a:pt x="10" y="952"/>
                      <a:pt x="0" y="935"/>
                    </a:cubicBezTo>
                    <a:cubicBezTo>
                      <a:pt x="0" y="921"/>
                      <a:pt x="0" y="907"/>
                      <a:pt x="0" y="907"/>
                    </a:cubicBezTo>
                    <a:lnTo>
                      <a:pt x="511" y="28"/>
                    </a:lnTo>
                    <a:cubicBezTo>
                      <a:pt x="511" y="28"/>
                      <a:pt x="519" y="1"/>
                      <a:pt x="539" y="0"/>
                    </a:cubicBezTo>
                    <a:cubicBezTo>
                      <a:pt x="562" y="0"/>
                      <a:pt x="567" y="28"/>
                      <a:pt x="567" y="28"/>
                    </a:cubicBezTo>
                    <a:lnTo>
                      <a:pt x="1078" y="907"/>
                    </a:lnTo>
                    <a:cubicBezTo>
                      <a:pt x="1078" y="907"/>
                      <a:pt x="1078" y="921"/>
                      <a:pt x="1078" y="935"/>
                    </a:cubicBezTo>
                    <a:cubicBezTo>
                      <a:pt x="1068" y="955"/>
                      <a:pt x="1049" y="963"/>
                      <a:pt x="1049" y="963"/>
                    </a:cubicBezTo>
                    <a:lnTo>
                      <a:pt x="539" y="963"/>
                    </a:lnTo>
                    <a:lnTo>
                      <a:pt x="539" y="935"/>
                    </a:lnTo>
                    <a:lnTo>
                      <a:pt x="1024" y="936"/>
                    </a:lnTo>
                    <a:lnTo>
                      <a:pt x="1044" y="930"/>
                    </a:lnTo>
                    <a:lnTo>
                      <a:pt x="1048" y="918"/>
                    </a:lnTo>
                    <a:lnTo>
                      <a:pt x="1044" y="907"/>
                    </a:lnTo>
                    <a:lnTo>
                      <a:pt x="550" y="49"/>
                    </a:lnTo>
                    <a:cubicBezTo>
                      <a:pt x="550" y="49"/>
                      <a:pt x="547" y="40"/>
                      <a:pt x="538" y="37"/>
                    </a:cubicBezTo>
                    <a:cubicBezTo>
                      <a:pt x="526" y="42"/>
                      <a:pt x="526" y="52"/>
                      <a:pt x="526" y="52"/>
                    </a:cubicBezTo>
                    <a:lnTo>
                      <a:pt x="40" y="900"/>
                    </a:lnTo>
                    <a:lnTo>
                      <a:pt x="34" y="910"/>
                    </a:lnTo>
                    <a:lnTo>
                      <a:pt x="34" y="925"/>
                    </a:lnTo>
                    <a:lnTo>
                      <a:pt x="49" y="9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6494400" y="728640"/>
              <a:ext cx="673200" cy="900000"/>
              <a:chOff x="6494400" y="728640"/>
              <a:chExt cx="673200" cy="900000"/>
            </a:xfrm>
          </p:grpSpPr>
          <p:sp>
            <p:nvSpPr>
              <p:cNvPr id="698" name=""/>
              <p:cNvSpPr/>
              <p:nvPr/>
            </p:nvSpPr>
            <p:spPr>
              <a:xfrm>
                <a:off x="6494400" y="1556640"/>
                <a:ext cx="673200" cy="72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537600" y="728640"/>
                <a:ext cx="581400" cy="805680"/>
              </a:xfrm>
              <a:custGeom>
                <a:avLst/>
                <a:gdLst/>
                <a:ahLst/>
                <a:rect l="l" t="t" r="r" b="b"/>
                <a:pathLst>
                  <a:path w="1592" h="2207">
                    <a:moveTo>
                      <a:pt x="448" y="2154"/>
                    </a:moveTo>
                    <a:cubicBezTo>
                      <a:pt x="358" y="2111"/>
                      <a:pt x="104" y="2050"/>
                      <a:pt x="52" y="1899"/>
                    </a:cubicBezTo>
                    <a:cubicBezTo>
                      <a:pt x="0" y="1748"/>
                      <a:pt x="104" y="1332"/>
                      <a:pt x="137" y="1247"/>
                    </a:cubicBezTo>
                    <a:cubicBezTo>
                      <a:pt x="170" y="1162"/>
                      <a:pt x="236" y="1431"/>
                      <a:pt x="250" y="1389"/>
                    </a:cubicBezTo>
                    <a:cubicBezTo>
                      <a:pt x="264" y="1347"/>
                      <a:pt x="217" y="1086"/>
                      <a:pt x="222" y="992"/>
                    </a:cubicBezTo>
                    <a:cubicBezTo>
                      <a:pt x="227" y="898"/>
                      <a:pt x="287" y="869"/>
                      <a:pt x="278" y="822"/>
                    </a:cubicBezTo>
                    <a:cubicBezTo>
                      <a:pt x="269" y="775"/>
                      <a:pt x="146" y="718"/>
                      <a:pt x="165" y="709"/>
                    </a:cubicBezTo>
                    <a:cubicBezTo>
                      <a:pt x="184" y="700"/>
                      <a:pt x="335" y="798"/>
                      <a:pt x="392" y="765"/>
                    </a:cubicBezTo>
                    <a:cubicBezTo>
                      <a:pt x="449" y="732"/>
                      <a:pt x="496" y="590"/>
                      <a:pt x="505" y="510"/>
                    </a:cubicBezTo>
                    <a:cubicBezTo>
                      <a:pt x="514" y="430"/>
                      <a:pt x="424" y="368"/>
                      <a:pt x="448" y="283"/>
                    </a:cubicBezTo>
                    <a:cubicBezTo>
                      <a:pt x="472" y="198"/>
                      <a:pt x="586" y="0"/>
                      <a:pt x="647" y="0"/>
                    </a:cubicBezTo>
                    <a:cubicBezTo>
                      <a:pt x="708" y="0"/>
                      <a:pt x="756" y="203"/>
                      <a:pt x="817" y="283"/>
                    </a:cubicBezTo>
                    <a:cubicBezTo>
                      <a:pt x="878" y="363"/>
                      <a:pt x="977" y="411"/>
                      <a:pt x="1015" y="482"/>
                    </a:cubicBezTo>
                    <a:cubicBezTo>
                      <a:pt x="1053" y="553"/>
                      <a:pt x="1016" y="704"/>
                      <a:pt x="1044" y="709"/>
                    </a:cubicBezTo>
                    <a:cubicBezTo>
                      <a:pt x="1072" y="714"/>
                      <a:pt x="1166" y="562"/>
                      <a:pt x="1185" y="510"/>
                    </a:cubicBezTo>
                    <a:cubicBezTo>
                      <a:pt x="1204" y="458"/>
                      <a:pt x="1143" y="406"/>
                      <a:pt x="1157" y="397"/>
                    </a:cubicBezTo>
                    <a:cubicBezTo>
                      <a:pt x="1171" y="388"/>
                      <a:pt x="1252" y="411"/>
                      <a:pt x="1271" y="453"/>
                    </a:cubicBezTo>
                    <a:cubicBezTo>
                      <a:pt x="1290" y="495"/>
                      <a:pt x="1276" y="586"/>
                      <a:pt x="1271" y="652"/>
                    </a:cubicBezTo>
                    <a:cubicBezTo>
                      <a:pt x="1266" y="718"/>
                      <a:pt x="1233" y="793"/>
                      <a:pt x="1242" y="850"/>
                    </a:cubicBezTo>
                    <a:cubicBezTo>
                      <a:pt x="1251" y="907"/>
                      <a:pt x="1303" y="992"/>
                      <a:pt x="1327" y="992"/>
                    </a:cubicBezTo>
                    <a:cubicBezTo>
                      <a:pt x="1351" y="992"/>
                      <a:pt x="1342" y="883"/>
                      <a:pt x="1384" y="850"/>
                    </a:cubicBezTo>
                    <a:cubicBezTo>
                      <a:pt x="1426" y="817"/>
                      <a:pt x="1572" y="775"/>
                      <a:pt x="1582" y="794"/>
                    </a:cubicBezTo>
                    <a:cubicBezTo>
                      <a:pt x="1592" y="813"/>
                      <a:pt x="1455" y="879"/>
                      <a:pt x="1441" y="964"/>
                    </a:cubicBezTo>
                    <a:cubicBezTo>
                      <a:pt x="1427" y="1049"/>
                      <a:pt x="1488" y="1205"/>
                      <a:pt x="1497" y="1304"/>
                    </a:cubicBezTo>
                    <a:cubicBezTo>
                      <a:pt x="1506" y="1403"/>
                      <a:pt x="1525" y="1441"/>
                      <a:pt x="1497" y="1559"/>
                    </a:cubicBezTo>
                    <a:cubicBezTo>
                      <a:pt x="1469" y="1677"/>
                      <a:pt x="1422" y="1909"/>
                      <a:pt x="1327" y="2013"/>
                    </a:cubicBezTo>
                    <a:cubicBezTo>
                      <a:pt x="1232" y="2117"/>
                      <a:pt x="949" y="2207"/>
                      <a:pt x="930" y="2183"/>
                    </a:cubicBezTo>
                    <a:cubicBezTo>
                      <a:pt x="911" y="2159"/>
                      <a:pt x="1162" y="1975"/>
                      <a:pt x="1214" y="1871"/>
                    </a:cubicBezTo>
                    <a:cubicBezTo>
                      <a:pt x="1266" y="1767"/>
                      <a:pt x="1256" y="1649"/>
                      <a:pt x="1242" y="1559"/>
                    </a:cubicBezTo>
                    <a:cubicBezTo>
                      <a:pt x="1228" y="1469"/>
                      <a:pt x="1157" y="1337"/>
                      <a:pt x="1129" y="1332"/>
                    </a:cubicBezTo>
                    <a:cubicBezTo>
                      <a:pt x="1101" y="1327"/>
                      <a:pt x="1091" y="1498"/>
                      <a:pt x="1072" y="1531"/>
                    </a:cubicBezTo>
                    <a:cubicBezTo>
                      <a:pt x="1053" y="1564"/>
                      <a:pt x="1020" y="1578"/>
                      <a:pt x="1015" y="1531"/>
                    </a:cubicBezTo>
                    <a:cubicBezTo>
                      <a:pt x="1010" y="1484"/>
                      <a:pt x="1053" y="1323"/>
                      <a:pt x="1044" y="1247"/>
                    </a:cubicBezTo>
                    <a:cubicBezTo>
                      <a:pt x="1035" y="1171"/>
                      <a:pt x="992" y="1101"/>
                      <a:pt x="959" y="1077"/>
                    </a:cubicBezTo>
                    <a:cubicBezTo>
                      <a:pt x="926" y="1053"/>
                      <a:pt x="854" y="1063"/>
                      <a:pt x="845" y="1105"/>
                    </a:cubicBezTo>
                    <a:cubicBezTo>
                      <a:pt x="836" y="1147"/>
                      <a:pt x="921" y="1256"/>
                      <a:pt x="902" y="1332"/>
                    </a:cubicBezTo>
                    <a:cubicBezTo>
                      <a:pt x="883" y="1408"/>
                      <a:pt x="774" y="1517"/>
                      <a:pt x="732" y="1559"/>
                    </a:cubicBezTo>
                    <a:cubicBezTo>
                      <a:pt x="690" y="1601"/>
                      <a:pt x="661" y="1629"/>
                      <a:pt x="647" y="1587"/>
                    </a:cubicBezTo>
                    <a:cubicBezTo>
                      <a:pt x="633" y="1545"/>
                      <a:pt x="666" y="1356"/>
                      <a:pt x="647" y="1304"/>
                    </a:cubicBezTo>
                    <a:cubicBezTo>
                      <a:pt x="628" y="1252"/>
                      <a:pt x="561" y="1218"/>
                      <a:pt x="533" y="1275"/>
                    </a:cubicBezTo>
                    <a:cubicBezTo>
                      <a:pt x="505" y="1332"/>
                      <a:pt x="505" y="1616"/>
                      <a:pt x="477" y="1644"/>
                    </a:cubicBezTo>
                    <a:cubicBezTo>
                      <a:pt x="449" y="1672"/>
                      <a:pt x="401" y="1451"/>
                      <a:pt x="363" y="1446"/>
                    </a:cubicBezTo>
                    <a:cubicBezTo>
                      <a:pt x="325" y="1441"/>
                      <a:pt x="240" y="1550"/>
                      <a:pt x="250" y="1616"/>
                    </a:cubicBezTo>
                    <a:cubicBezTo>
                      <a:pt x="260" y="1682"/>
                      <a:pt x="420" y="1809"/>
                      <a:pt x="420" y="1842"/>
                    </a:cubicBezTo>
                    <a:cubicBezTo>
                      <a:pt x="420" y="1875"/>
                      <a:pt x="278" y="1805"/>
                      <a:pt x="250" y="1814"/>
                    </a:cubicBezTo>
                    <a:cubicBezTo>
                      <a:pt x="222" y="1823"/>
                      <a:pt x="193" y="1842"/>
                      <a:pt x="250" y="1899"/>
                    </a:cubicBezTo>
                    <a:cubicBezTo>
                      <a:pt x="307" y="1956"/>
                      <a:pt x="557" y="2112"/>
                      <a:pt x="590" y="2154"/>
                    </a:cubicBezTo>
                    <a:cubicBezTo>
                      <a:pt x="623" y="2196"/>
                      <a:pt x="538" y="2197"/>
                      <a:pt x="448" y="215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0" name=""/>
          <p:cNvGrpSpPr/>
          <p:nvPr/>
        </p:nvGrpSpPr>
        <p:grpSpPr>
          <a:xfrm>
            <a:off x="2220840" y="258840"/>
            <a:ext cx="1711440" cy="1528560"/>
            <a:chOff x="2220840" y="258840"/>
            <a:chExt cx="1711440" cy="1528560"/>
          </a:xfrm>
        </p:grpSpPr>
        <p:grpSp>
          <p:nvGrpSpPr>
            <p:cNvPr id="701" name=""/>
            <p:cNvGrpSpPr/>
            <p:nvPr/>
          </p:nvGrpSpPr>
          <p:grpSpPr>
            <a:xfrm>
              <a:off x="2220840" y="258840"/>
              <a:ext cx="1711440" cy="1528560"/>
              <a:chOff x="2220840" y="258840"/>
              <a:chExt cx="1711440" cy="1528560"/>
            </a:xfrm>
          </p:grpSpPr>
          <p:sp>
            <p:nvSpPr>
              <p:cNvPr id="702" name=""/>
              <p:cNvSpPr/>
              <p:nvPr/>
            </p:nvSpPr>
            <p:spPr>
              <a:xfrm>
                <a:off x="2241720" y="277920"/>
                <a:ext cx="1670040" cy="149040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220840" y="258840"/>
                <a:ext cx="1711440" cy="15285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49" y="936"/>
                    </a:moveTo>
                    <a:lnTo>
                      <a:pt x="539" y="935"/>
                    </a:lnTo>
                    <a:lnTo>
                      <a:pt x="539" y="963"/>
                    </a:lnTo>
                    <a:lnTo>
                      <a:pt x="29" y="963"/>
                    </a:lnTo>
                    <a:cubicBezTo>
                      <a:pt x="29" y="963"/>
                      <a:pt x="10" y="952"/>
                      <a:pt x="0" y="935"/>
                    </a:cubicBezTo>
                    <a:cubicBezTo>
                      <a:pt x="0" y="921"/>
                      <a:pt x="0" y="907"/>
                      <a:pt x="0" y="907"/>
                    </a:cubicBezTo>
                    <a:lnTo>
                      <a:pt x="511" y="28"/>
                    </a:lnTo>
                    <a:cubicBezTo>
                      <a:pt x="511" y="28"/>
                      <a:pt x="519" y="1"/>
                      <a:pt x="539" y="0"/>
                    </a:cubicBezTo>
                    <a:cubicBezTo>
                      <a:pt x="562" y="0"/>
                      <a:pt x="567" y="28"/>
                      <a:pt x="567" y="28"/>
                    </a:cubicBezTo>
                    <a:lnTo>
                      <a:pt x="1078" y="907"/>
                    </a:lnTo>
                    <a:cubicBezTo>
                      <a:pt x="1078" y="907"/>
                      <a:pt x="1078" y="921"/>
                      <a:pt x="1078" y="935"/>
                    </a:cubicBezTo>
                    <a:cubicBezTo>
                      <a:pt x="1068" y="955"/>
                      <a:pt x="1049" y="963"/>
                      <a:pt x="1049" y="963"/>
                    </a:cubicBezTo>
                    <a:lnTo>
                      <a:pt x="539" y="963"/>
                    </a:lnTo>
                    <a:lnTo>
                      <a:pt x="539" y="935"/>
                    </a:lnTo>
                    <a:lnTo>
                      <a:pt x="1024" y="936"/>
                    </a:lnTo>
                    <a:lnTo>
                      <a:pt x="1044" y="930"/>
                    </a:lnTo>
                    <a:lnTo>
                      <a:pt x="1048" y="918"/>
                    </a:lnTo>
                    <a:lnTo>
                      <a:pt x="1044" y="907"/>
                    </a:lnTo>
                    <a:lnTo>
                      <a:pt x="550" y="49"/>
                    </a:lnTo>
                    <a:cubicBezTo>
                      <a:pt x="550" y="49"/>
                      <a:pt x="547" y="40"/>
                      <a:pt x="538" y="37"/>
                    </a:cubicBezTo>
                    <a:cubicBezTo>
                      <a:pt x="526" y="42"/>
                      <a:pt x="526" y="52"/>
                      <a:pt x="526" y="52"/>
                    </a:cubicBezTo>
                    <a:lnTo>
                      <a:pt x="40" y="900"/>
                    </a:lnTo>
                    <a:lnTo>
                      <a:pt x="34" y="910"/>
                    </a:lnTo>
                    <a:lnTo>
                      <a:pt x="34" y="925"/>
                    </a:lnTo>
                    <a:lnTo>
                      <a:pt x="49" y="9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2778120" y="728640"/>
              <a:ext cx="673200" cy="900000"/>
              <a:chOff x="2778120" y="728640"/>
              <a:chExt cx="673200" cy="900000"/>
            </a:xfrm>
          </p:grpSpPr>
          <p:sp>
            <p:nvSpPr>
              <p:cNvPr id="705" name=""/>
              <p:cNvSpPr/>
              <p:nvPr/>
            </p:nvSpPr>
            <p:spPr>
              <a:xfrm>
                <a:off x="2778120" y="1556640"/>
                <a:ext cx="673200" cy="72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821320" y="728640"/>
                <a:ext cx="581400" cy="805680"/>
              </a:xfrm>
              <a:custGeom>
                <a:avLst/>
                <a:gdLst/>
                <a:ahLst/>
                <a:rect l="l" t="t" r="r" b="b"/>
                <a:pathLst>
                  <a:path w="1592" h="2207">
                    <a:moveTo>
                      <a:pt x="448" y="2154"/>
                    </a:moveTo>
                    <a:cubicBezTo>
                      <a:pt x="358" y="2111"/>
                      <a:pt x="104" y="2050"/>
                      <a:pt x="52" y="1899"/>
                    </a:cubicBezTo>
                    <a:cubicBezTo>
                      <a:pt x="0" y="1748"/>
                      <a:pt x="104" y="1332"/>
                      <a:pt x="137" y="1247"/>
                    </a:cubicBezTo>
                    <a:cubicBezTo>
                      <a:pt x="170" y="1162"/>
                      <a:pt x="236" y="1431"/>
                      <a:pt x="250" y="1389"/>
                    </a:cubicBezTo>
                    <a:cubicBezTo>
                      <a:pt x="264" y="1347"/>
                      <a:pt x="217" y="1086"/>
                      <a:pt x="222" y="992"/>
                    </a:cubicBezTo>
                    <a:cubicBezTo>
                      <a:pt x="227" y="898"/>
                      <a:pt x="287" y="869"/>
                      <a:pt x="278" y="822"/>
                    </a:cubicBezTo>
                    <a:cubicBezTo>
                      <a:pt x="269" y="775"/>
                      <a:pt x="146" y="718"/>
                      <a:pt x="165" y="709"/>
                    </a:cubicBezTo>
                    <a:cubicBezTo>
                      <a:pt x="184" y="700"/>
                      <a:pt x="335" y="798"/>
                      <a:pt x="392" y="765"/>
                    </a:cubicBezTo>
                    <a:cubicBezTo>
                      <a:pt x="449" y="732"/>
                      <a:pt x="496" y="590"/>
                      <a:pt x="505" y="510"/>
                    </a:cubicBezTo>
                    <a:cubicBezTo>
                      <a:pt x="514" y="430"/>
                      <a:pt x="424" y="368"/>
                      <a:pt x="448" y="283"/>
                    </a:cubicBezTo>
                    <a:cubicBezTo>
                      <a:pt x="472" y="198"/>
                      <a:pt x="586" y="0"/>
                      <a:pt x="647" y="0"/>
                    </a:cubicBezTo>
                    <a:cubicBezTo>
                      <a:pt x="708" y="0"/>
                      <a:pt x="756" y="203"/>
                      <a:pt x="817" y="283"/>
                    </a:cubicBezTo>
                    <a:cubicBezTo>
                      <a:pt x="878" y="363"/>
                      <a:pt x="977" y="411"/>
                      <a:pt x="1015" y="482"/>
                    </a:cubicBezTo>
                    <a:cubicBezTo>
                      <a:pt x="1053" y="553"/>
                      <a:pt x="1016" y="704"/>
                      <a:pt x="1044" y="709"/>
                    </a:cubicBezTo>
                    <a:cubicBezTo>
                      <a:pt x="1072" y="714"/>
                      <a:pt x="1166" y="562"/>
                      <a:pt x="1185" y="510"/>
                    </a:cubicBezTo>
                    <a:cubicBezTo>
                      <a:pt x="1204" y="458"/>
                      <a:pt x="1143" y="406"/>
                      <a:pt x="1157" y="397"/>
                    </a:cubicBezTo>
                    <a:cubicBezTo>
                      <a:pt x="1171" y="388"/>
                      <a:pt x="1252" y="411"/>
                      <a:pt x="1271" y="453"/>
                    </a:cubicBezTo>
                    <a:cubicBezTo>
                      <a:pt x="1290" y="495"/>
                      <a:pt x="1276" y="586"/>
                      <a:pt x="1271" y="652"/>
                    </a:cubicBezTo>
                    <a:cubicBezTo>
                      <a:pt x="1266" y="718"/>
                      <a:pt x="1233" y="793"/>
                      <a:pt x="1242" y="850"/>
                    </a:cubicBezTo>
                    <a:cubicBezTo>
                      <a:pt x="1251" y="907"/>
                      <a:pt x="1303" y="992"/>
                      <a:pt x="1327" y="992"/>
                    </a:cubicBezTo>
                    <a:cubicBezTo>
                      <a:pt x="1351" y="992"/>
                      <a:pt x="1342" y="883"/>
                      <a:pt x="1384" y="850"/>
                    </a:cubicBezTo>
                    <a:cubicBezTo>
                      <a:pt x="1426" y="817"/>
                      <a:pt x="1572" y="775"/>
                      <a:pt x="1582" y="794"/>
                    </a:cubicBezTo>
                    <a:cubicBezTo>
                      <a:pt x="1592" y="813"/>
                      <a:pt x="1455" y="879"/>
                      <a:pt x="1441" y="964"/>
                    </a:cubicBezTo>
                    <a:cubicBezTo>
                      <a:pt x="1427" y="1049"/>
                      <a:pt x="1488" y="1205"/>
                      <a:pt x="1497" y="1304"/>
                    </a:cubicBezTo>
                    <a:cubicBezTo>
                      <a:pt x="1506" y="1403"/>
                      <a:pt x="1525" y="1441"/>
                      <a:pt x="1497" y="1559"/>
                    </a:cubicBezTo>
                    <a:cubicBezTo>
                      <a:pt x="1469" y="1677"/>
                      <a:pt x="1422" y="1909"/>
                      <a:pt x="1327" y="2013"/>
                    </a:cubicBezTo>
                    <a:cubicBezTo>
                      <a:pt x="1232" y="2117"/>
                      <a:pt x="949" y="2207"/>
                      <a:pt x="930" y="2183"/>
                    </a:cubicBezTo>
                    <a:cubicBezTo>
                      <a:pt x="911" y="2159"/>
                      <a:pt x="1162" y="1975"/>
                      <a:pt x="1214" y="1871"/>
                    </a:cubicBezTo>
                    <a:cubicBezTo>
                      <a:pt x="1266" y="1767"/>
                      <a:pt x="1256" y="1649"/>
                      <a:pt x="1242" y="1559"/>
                    </a:cubicBezTo>
                    <a:cubicBezTo>
                      <a:pt x="1228" y="1469"/>
                      <a:pt x="1157" y="1337"/>
                      <a:pt x="1129" y="1332"/>
                    </a:cubicBezTo>
                    <a:cubicBezTo>
                      <a:pt x="1101" y="1327"/>
                      <a:pt x="1091" y="1498"/>
                      <a:pt x="1072" y="1531"/>
                    </a:cubicBezTo>
                    <a:cubicBezTo>
                      <a:pt x="1053" y="1564"/>
                      <a:pt x="1020" y="1578"/>
                      <a:pt x="1015" y="1531"/>
                    </a:cubicBezTo>
                    <a:cubicBezTo>
                      <a:pt x="1010" y="1484"/>
                      <a:pt x="1053" y="1323"/>
                      <a:pt x="1044" y="1247"/>
                    </a:cubicBezTo>
                    <a:cubicBezTo>
                      <a:pt x="1035" y="1171"/>
                      <a:pt x="992" y="1101"/>
                      <a:pt x="959" y="1077"/>
                    </a:cubicBezTo>
                    <a:cubicBezTo>
                      <a:pt x="926" y="1053"/>
                      <a:pt x="854" y="1063"/>
                      <a:pt x="845" y="1105"/>
                    </a:cubicBezTo>
                    <a:cubicBezTo>
                      <a:pt x="836" y="1147"/>
                      <a:pt x="921" y="1256"/>
                      <a:pt x="902" y="1332"/>
                    </a:cubicBezTo>
                    <a:cubicBezTo>
                      <a:pt x="883" y="1408"/>
                      <a:pt x="774" y="1517"/>
                      <a:pt x="732" y="1559"/>
                    </a:cubicBezTo>
                    <a:cubicBezTo>
                      <a:pt x="690" y="1601"/>
                      <a:pt x="661" y="1629"/>
                      <a:pt x="647" y="1587"/>
                    </a:cubicBezTo>
                    <a:cubicBezTo>
                      <a:pt x="633" y="1545"/>
                      <a:pt x="666" y="1356"/>
                      <a:pt x="647" y="1304"/>
                    </a:cubicBezTo>
                    <a:cubicBezTo>
                      <a:pt x="628" y="1252"/>
                      <a:pt x="561" y="1218"/>
                      <a:pt x="533" y="1275"/>
                    </a:cubicBezTo>
                    <a:cubicBezTo>
                      <a:pt x="505" y="1332"/>
                      <a:pt x="505" y="1616"/>
                      <a:pt x="477" y="1644"/>
                    </a:cubicBezTo>
                    <a:cubicBezTo>
                      <a:pt x="449" y="1672"/>
                      <a:pt x="401" y="1451"/>
                      <a:pt x="363" y="1446"/>
                    </a:cubicBezTo>
                    <a:cubicBezTo>
                      <a:pt x="325" y="1441"/>
                      <a:pt x="240" y="1550"/>
                      <a:pt x="250" y="1616"/>
                    </a:cubicBezTo>
                    <a:cubicBezTo>
                      <a:pt x="260" y="1682"/>
                      <a:pt x="420" y="1809"/>
                      <a:pt x="420" y="1842"/>
                    </a:cubicBezTo>
                    <a:cubicBezTo>
                      <a:pt x="420" y="1875"/>
                      <a:pt x="278" y="1805"/>
                      <a:pt x="250" y="1814"/>
                    </a:cubicBezTo>
                    <a:cubicBezTo>
                      <a:pt x="222" y="1823"/>
                      <a:pt x="193" y="1842"/>
                      <a:pt x="250" y="1899"/>
                    </a:cubicBezTo>
                    <a:cubicBezTo>
                      <a:pt x="307" y="1956"/>
                      <a:pt x="557" y="2112"/>
                      <a:pt x="590" y="2154"/>
                    </a:cubicBezTo>
                    <a:cubicBezTo>
                      <a:pt x="623" y="2196"/>
                      <a:pt x="538" y="2197"/>
                      <a:pt x="448" y="215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7" name=""/>
          <p:cNvGrpSpPr/>
          <p:nvPr/>
        </p:nvGrpSpPr>
        <p:grpSpPr>
          <a:xfrm>
            <a:off x="330120" y="277920"/>
            <a:ext cx="1711440" cy="1528560"/>
            <a:chOff x="330120" y="277920"/>
            <a:chExt cx="1711440" cy="1528560"/>
          </a:xfrm>
        </p:grpSpPr>
        <p:grpSp>
          <p:nvGrpSpPr>
            <p:cNvPr id="708" name=""/>
            <p:cNvGrpSpPr/>
            <p:nvPr/>
          </p:nvGrpSpPr>
          <p:grpSpPr>
            <a:xfrm>
              <a:off x="330120" y="277920"/>
              <a:ext cx="1711440" cy="1528560"/>
              <a:chOff x="330120" y="277920"/>
              <a:chExt cx="1711440" cy="1528560"/>
            </a:xfrm>
          </p:grpSpPr>
          <p:sp>
            <p:nvSpPr>
              <p:cNvPr id="709" name=""/>
              <p:cNvSpPr/>
              <p:nvPr/>
            </p:nvSpPr>
            <p:spPr>
              <a:xfrm>
                <a:off x="351000" y="297000"/>
                <a:ext cx="1670040" cy="149040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30120" y="277920"/>
                <a:ext cx="1711440" cy="15285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49" y="936"/>
                    </a:moveTo>
                    <a:lnTo>
                      <a:pt x="539" y="935"/>
                    </a:lnTo>
                    <a:lnTo>
                      <a:pt x="539" y="963"/>
                    </a:lnTo>
                    <a:lnTo>
                      <a:pt x="29" y="963"/>
                    </a:lnTo>
                    <a:cubicBezTo>
                      <a:pt x="29" y="963"/>
                      <a:pt x="10" y="952"/>
                      <a:pt x="0" y="935"/>
                    </a:cubicBezTo>
                    <a:cubicBezTo>
                      <a:pt x="0" y="921"/>
                      <a:pt x="0" y="907"/>
                      <a:pt x="0" y="907"/>
                    </a:cubicBezTo>
                    <a:lnTo>
                      <a:pt x="511" y="28"/>
                    </a:lnTo>
                    <a:cubicBezTo>
                      <a:pt x="511" y="28"/>
                      <a:pt x="519" y="1"/>
                      <a:pt x="539" y="0"/>
                    </a:cubicBezTo>
                    <a:cubicBezTo>
                      <a:pt x="562" y="0"/>
                      <a:pt x="567" y="28"/>
                      <a:pt x="567" y="28"/>
                    </a:cubicBezTo>
                    <a:lnTo>
                      <a:pt x="1078" y="907"/>
                    </a:lnTo>
                    <a:cubicBezTo>
                      <a:pt x="1078" y="907"/>
                      <a:pt x="1078" y="921"/>
                      <a:pt x="1078" y="935"/>
                    </a:cubicBezTo>
                    <a:cubicBezTo>
                      <a:pt x="1068" y="955"/>
                      <a:pt x="1049" y="963"/>
                      <a:pt x="1049" y="963"/>
                    </a:cubicBezTo>
                    <a:lnTo>
                      <a:pt x="539" y="963"/>
                    </a:lnTo>
                    <a:lnTo>
                      <a:pt x="539" y="935"/>
                    </a:lnTo>
                    <a:lnTo>
                      <a:pt x="1024" y="936"/>
                    </a:lnTo>
                    <a:lnTo>
                      <a:pt x="1044" y="930"/>
                    </a:lnTo>
                    <a:lnTo>
                      <a:pt x="1048" y="918"/>
                    </a:lnTo>
                    <a:lnTo>
                      <a:pt x="1044" y="907"/>
                    </a:lnTo>
                    <a:lnTo>
                      <a:pt x="550" y="49"/>
                    </a:lnTo>
                    <a:cubicBezTo>
                      <a:pt x="550" y="49"/>
                      <a:pt x="547" y="40"/>
                      <a:pt x="538" y="37"/>
                    </a:cubicBezTo>
                    <a:cubicBezTo>
                      <a:pt x="526" y="42"/>
                      <a:pt x="526" y="52"/>
                      <a:pt x="526" y="52"/>
                    </a:cubicBezTo>
                    <a:lnTo>
                      <a:pt x="40" y="900"/>
                    </a:lnTo>
                    <a:lnTo>
                      <a:pt x="34" y="910"/>
                    </a:lnTo>
                    <a:lnTo>
                      <a:pt x="34" y="925"/>
                    </a:lnTo>
                    <a:lnTo>
                      <a:pt x="49" y="9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882720" y="728640"/>
              <a:ext cx="673200" cy="900000"/>
              <a:chOff x="882720" y="728640"/>
              <a:chExt cx="673200" cy="900000"/>
            </a:xfrm>
          </p:grpSpPr>
          <p:sp>
            <p:nvSpPr>
              <p:cNvPr id="712" name=""/>
              <p:cNvSpPr/>
              <p:nvPr/>
            </p:nvSpPr>
            <p:spPr>
              <a:xfrm>
                <a:off x="882720" y="1556640"/>
                <a:ext cx="673200" cy="72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925920" y="728640"/>
                <a:ext cx="581400" cy="805680"/>
              </a:xfrm>
              <a:custGeom>
                <a:avLst/>
                <a:gdLst/>
                <a:ahLst/>
                <a:rect l="l" t="t" r="r" b="b"/>
                <a:pathLst>
                  <a:path w="1592" h="2207">
                    <a:moveTo>
                      <a:pt x="448" y="2154"/>
                    </a:moveTo>
                    <a:cubicBezTo>
                      <a:pt x="358" y="2111"/>
                      <a:pt x="104" y="2050"/>
                      <a:pt x="52" y="1899"/>
                    </a:cubicBezTo>
                    <a:cubicBezTo>
                      <a:pt x="0" y="1748"/>
                      <a:pt x="104" y="1332"/>
                      <a:pt x="137" y="1247"/>
                    </a:cubicBezTo>
                    <a:cubicBezTo>
                      <a:pt x="170" y="1162"/>
                      <a:pt x="236" y="1431"/>
                      <a:pt x="250" y="1389"/>
                    </a:cubicBezTo>
                    <a:cubicBezTo>
                      <a:pt x="264" y="1347"/>
                      <a:pt x="217" y="1086"/>
                      <a:pt x="222" y="992"/>
                    </a:cubicBezTo>
                    <a:cubicBezTo>
                      <a:pt x="227" y="898"/>
                      <a:pt x="287" y="869"/>
                      <a:pt x="278" y="822"/>
                    </a:cubicBezTo>
                    <a:cubicBezTo>
                      <a:pt x="269" y="775"/>
                      <a:pt x="146" y="718"/>
                      <a:pt x="165" y="709"/>
                    </a:cubicBezTo>
                    <a:cubicBezTo>
                      <a:pt x="184" y="700"/>
                      <a:pt x="335" y="798"/>
                      <a:pt x="392" y="765"/>
                    </a:cubicBezTo>
                    <a:cubicBezTo>
                      <a:pt x="449" y="732"/>
                      <a:pt x="496" y="590"/>
                      <a:pt x="505" y="510"/>
                    </a:cubicBezTo>
                    <a:cubicBezTo>
                      <a:pt x="514" y="430"/>
                      <a:pt x="424" y="368"/>
                      <a:pt x="448" y="283"/>
                    </a:cubicBezTo>
                    <a:cubicBezTo>
                      <a:pt x="472" y="198"/>
                      <a:pt x="586" y="0"/>
                      <a:pt x="647" y="0"/>
                    </a:cubicBezTo>
                    <a:cubicBezTo>
                      <a:pt x="708" y="0"/>
                      <a:pt x="756" y="203"/>
                      <a:pt x="817" y="283"/>
                    </a:cubicBezTo>
                    <a:cubicBezTo>
                      <a:pt x="878" y="363"/>
                      <a:pt x="977" y="411"/>
                      <a:pt x="1015" y="482"/>
                    </a:cubicBezTo>
                    <a:cubicBezTo>
                      <a:pt x="1053" y="553"/>
                      <a:pt x="1016" y="704"/>
                      <a:pt x="1044" y="709"/>
                    </a:cubicBezTo>
                    <a:cubicBezTo>
                      <a:pt x="1072" y="714"/>
                      <a:pt x="1166" y="562"/>
                      <a:pt x="1185" y="510"/>
                    </a:cubicBezTo>
                    <a:cubicBezTo>
                      <a:pt x="1204" y="458"/>
                      <a:pt x="1143" y="406"/>
                      <a:pt x="1157" y="397"/>
                    </a:cubicBezTo>
                    <a:cubicBezTo>
                      <a:pt x="1171" y="388"/>
                      <a:pt x="1252" y="411"/>
                      <a:pt x="1271" y="453"/>
                    </a:cubicBezTo>
                    <a:cubicBezTo>
                      <a:pt x="1290" y="495"/>
                      <a:pt x="1276" y="586"/>
                      <a:pt x="1271" y="652"/>
                    </a:cubicBezTo>
                    <a:cubicBezTo>
                      <a:pt x="1266" y="718"/>
                      <a:pt x="1233" y="793"/>
                      <a:pt x="1242" y="850"/>
                    </a:cubicBezTo>
                    <a:cubicBezTo>
                      <a:pt x="1251" y="907"/>
                      <a:pt x="1303" y="992"/>
                      <a:pt x="1327" y="992"/>
                    </a:cubicBezTo>
                    <a:cubicBezTo>
                      <a:pt x="1351" y="992"/>
                      <a:pt x="1342" y="883"/>
                      <a:pt x="1384" y="850"/>
                    </a:cubicBezTo>
                    <a:cubicBezTo>
                      <a:pt x="1426" y="817"/>
                      <a:pt x="1572" y="775"/>
                      <a:pt x="1582" y="794"/>
                    </a:cubicBezTo>
                    <a:cubicBezTo>
                      <a:pt x="1592" y="813"/>
                      <a:pt x="1455" y="879"/>
                      <a:pt x="1441" y="964"/>
                    </a:cubicBezTo>
                    <a:cubicBezTo>
                      <a:pt x="1427" y="1049"/>
                      <a:pt x="1488" y="1205"/>
                      <a:pt x="1497" y="1304"/>
                    </a:cubicBezTo>
                    <a:cubicBezTo>
                      <a:pt x="1506" y="1403"/>
                      <a:pt x="1525" y="1441"/>
                      <a:pt x="1497" y="1559"/>
                    </a:cubicBezTo>
                    <a:cubicBezTo>
                      <a:pt x="1469" y="1677"/>
                      <a:pt x="1422" y="1909"/>
                      <a:pt x="1327" y="2013"/>
                    </a:cubicBezTo>
                    <a:cubicBezTo>
                      <a:pt x="1232" y="2117"/>
                      <a:pt x="949" y="2207"/>
                      <a:pt x="930" y="2183"/>
                    </a:cubicBezTo>
                    <a:cubicBezTo>
                      <a:pt x="911" y="2159"/>
                      <a:pt x="1162" y="1975"/>
                      <a:pt x="1214" y="1871"/>
                    </a:cubicBezTo>
                    <a:cubicBezTo>
                      <a:pt x="1266" y="1767"/>
                      <a:pt x="1256" y="1649"/>
                      <a:pt x="1242" y="1559"/>
                    </a:cubicBezTo>
                    <a:cubicBezTo>
                      <a:pt x="1228" y="1469"/>
                      <a:pt x="1157" y="1337"/>
                      <a:pt x="1129" y="1332"/>
                    </a:cubicBezTo>
                    <a:cubicBezTo>
                      <a:pt x="1101" y="1327"/>
                      <a:pt x="1091" y="1498"/>
                      <a:pt x="1072" y="1531"/>
                    </a:cubicBezTo>
                    <a:cubicBezTo>
                      <a:pt x="1053" y="1564"/>
                      <a:pt x="1020" y="1578"/>
                      <a:pt x="1015" y="1531"/>
                    </a:cubicBezTo>
                    <a:cubicBezTo>
                      <a:pt x="1010" y="1484"/>
                      <a:pt x="1053" y="1323"/>
                      <a:pt x="1044" y="1247"/>
                    </a:cubicBezTo>
                    <a:cubicBezTo>
                      <a:pt x="1035" y="1171"/>
                      <a:pt x="992" y="1101"/>
                      <a:pt x="959" y="1077"/>
                    </a:cubicBezTo>
                    <a:cubicBezTo>
                      <a:pt x="926" y="1053"/>
                      <a:pt x="854" y="1063"/>
                      <a:pt x="845" y="1105"/>
                    </a:cubicBezTo>
                    <a:cubicBezTo>
                      <a:pt x="836" y="1147"/>
                      <a:pt x="921" y="1256"/>
                      <a:pt x="902" y="1332"/>
                    </a:cubicBezTo>
                    <a:cubicBezTo>
                      <a:pt x="883" y="1408"/>
                      <a:pt x="774" y="1517"/>
                      <a:pt x="732" y="1559"/>
                    </a:cubicBezTo>
                    <a:cubicBezTo>
                      <a:pt x="690" y="1601"/>
                      <a:pt x="661" y="1629"/>
                      <a:pt x="647" y="1587"/>
                    </a:cubicBezTo>
                    <a:cubicBezTo>
                      <a:pt x="633" y="1545"/>
                      <a:pt x="666" y="1356"/>
                      <a:pt x="647" y="1304"/>
                    </a:cubicBezTo>
                    <a:cubicBezTo>
                      <a:pt x="628" y="1252"/>
                      <a:pt x="561" y="1218"/>
                      <a:pt x="533" y="1275"/>
                    </a:cubicBezTo>
                    <a:cubicBezTo>
                      <a:pt x="505" y="1332"/>
                      <a:pt x="505" y="1616"/>
                      <a:pt x="477" y="1644"/>
                    </a:cubicBezTo>
                    <a:cubicBezTo>
                      <a:pt x="449" y="1672"/>
                      <a:pt x="401" y="1451"/>
                      <a:pt x="363" y="1446"/>
                    </a:cubicBezTo>
                    <a:cubicBezTo>
                      <a:pt x="325" y="1441"/>
                      <a:pt x="240" y="1550"/>
                      <a:pt x="250" y="1616"/>
                    </a:cubicBezTo>
                    <a:cubicBezTo>
                      <a:pt x="260" y="1682"/>
                      <a:pt x="420" y="1809"/>
                      <a:pt x="420" y="1842"/>
                    </a:cubicBezTo>
                    <a:cubicBezTo>
                      <a:pt x="420" y="1875"/>
                      <a:pt x="278" y="1805"/>
                      <a:pt x="250" y="1814"/>
                    </a:cubicBezTo>
                    <a:cubicBezTo>
                      <a:pt x="222" y="1823"/>
                      <a:pt x="193" y="1842"/>
                      <a:pt x="250" y="1899"/>
                    </a:cubicBezTo>
                    <a:cubicBezTo>
                      <a:pt x="307" y="1956"/>
                      <a:pt x="557" y="2112"/>
                      <a:pt x="590" y="2154"/>
                    </a:cubicBezTo>
                    <a:cubicBezTo>
                      <a:pt x="623" y="2196"/>
                      <a:pt x="538" y="2197"/>
                      <a:pt x="448" y="215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4" name=""/>
          <p:cNvGrpSpPr/>
          <p:nvPr/>
        </p:nvGrpSpPr>
        <p:grpSpPr>
          <a:xfrm>
            <a:off x="7850160" y="1846440"/>
            <a:ext cx="1738440" cy="1538280"/>
            <a:chOff x="7850160" y="1846440"/>
            <a:chExt cx="1738440" cy="1538280"/>
          </a:xfrm>
        </p:grpSpPr>
        <p:grpSp>
          <p:nvGrpSpPr>
            <p:cNvPr id="715" name=""/>
            <p:cNvGrpSpPr/>
            <p:nvPr/>
          </p:nvGrpSpPr>
          <p:grpSpPr>
            <a:xfrm>
              <a:off x="7850160" y="1846440"/>
              <a:ext cx="1738440" cy="1538280"/>
              <a:chOff x="7850160" y="1846440"/>
              <a:chExt cx="1738440" cy="1538280"/>
            </a:xfrm>
          </p:grpSpPr>
          <p:sp>
            <p:nvSpPr>
              <p:cNvPr id="716" name=""/>
              <p:cNvSpPr/>
              <p:nvPr/>
            </p:nvSpPr>
            <p:spPr>
              <a:xfrm>
                <a:off x="7883640" y="1870200"/>
                <a:ext cx="1670040" cy="149040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850160" y="1846440"/>
                <a:ext cx="1738440" cy="1538280"/>
              </a:xfrm>
              <a:custGeom>
                <a:avLst/>
                <a:gdLst/>
                <a:ahLst/>
                <a:rect l="l" t="t" r="r" b="b"/>
                <a:pathLst>
                  <a:path w="1095" h="969">
                    <a:moveTo>
                      <a:pt x="519" y="91"/>
                    </a:moveTo>
                    <a:cubicBezTo>
                      <a:pt x="519" y="91"/>
                      <a:pt x="529" y="64"/>
                      <a:pt x="547" y="62"/>
                    </a:cubicBezTo>
                    <a:cubicBezTo>
                      <a:pt x="564" y="61"/>
                      <a:pt x="575" y="91"/>
                      <a:pt x="575" y="91"/>
                    </a:cubicBezTo>
                    <a:lnTo>
                      <a:pt x="1029" y="913"/>
                    </a:lnTo>
                    <a:lnTo>
                      <a:pt x="547" y="913"/>
                    </a:lnTo>
                    <a:lnTo>
                      <a:pt x="547" y="969"/>
                    </a:lnTo>
                    <a:lnTo>
                      <a:pt x="1057" y="969"/>
                    </a:lnTo>
                    <a:cubicBezTo>
                      <a:pt x="1057" y="969"/>
                      <a:pt x="1075" y="956"/>
                      <a:pt x="1086" y="941"/>
                    </a:cubicBezTo>
                    <a:cubicBezTo>
                      <a:pt x="1095" y="929"/>
                      <a:pt x="1086" y="913"/>
                      <a:pt x="1086" y="913"/>
                    </a:cubicBezTo>
                    <a:lnTo>
                      <a:pt x="604" y="34"/>
                    </a:lnTo>
                    <a:cubicBezTo>
                      <a:pt x="604" y="34"/>
                      <a:pt x="585" y="11"/>
                      <a:pt x="575" y="6"/>
                    </a:cubicBezTo>
                    <a:cubicBezTo>
                      <a:pt x="565" y="1"/>
                      <a:pt x="553" y="1"/>
                      <a:pt x="544" y="1"/>
                    </a:cubicBezTo>
                    <a:cubicBezTo>
                      <a:pt x="535" y="1"/>
                      <a:pt x="528" y="0"/>
                      <a:pt x="519" y="6"/>
                    </a:cubicBezTo>
                    <a:cubicBezTo>
                      <a:pt x="496" y="17"/>
                      <a:pt x="490" y="34"/>
                      <a:pt x="490" y="34"/>
                    </a:cubicBezTo>
                    <a:lnTo>
                      <a:pt x="8" y="913"/>
                    </a:lnTo>
                    <a:cubicBezTo>
                      <a:pt x="8" y="913"/>
                      <a:pt x="0" y="928"/>
                      <a:pt x="8" y="941"/>
                    </a:cubicBezTo>
                    <a:cubicBezTo>
                      <a:pt x="19" y="962"/>
                      <a:pt x="37" y="969"/>
                      <a:pt x="37" y="969"/>
                    </a:cubicBezTo>
                    <a:cubicBezTo>
                      <a:pt x="292" y="969"/>
                      <a:pt x="547" y="969"/>
                      <a:pt x="547" y="969"/>
                    </a:cubicBezTo>
                    <a:lnTo>
                      <a:pt x="547" y="913"/>
                    </a:lnTo>
                    <a:lnTo>
                      <a:pt x="65" y="913"/>
                    </a:lnTo>
                    <a:lnTo>
                      <a:pt x="519" y="9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8373960" y="2313000"/>
              <a:ext cx="673200" cy="900000"/>
              <a:chOff x="8373960" y="2313000"/>
              <a:chExt cx="673200" cy="900000"/>
            </a:xfrm>
          </p:grpSpPr>
          <p:sp>
            <p:nvSpPr>
              <p:cNvPr id="719" name=""/>
              <p:cNvSpPr/>
              <p:nvPr/>
            </p:nvSpPr>
            <p:spPr>
              <a:xfrm>
                <a:off x="8373960" y="3141000"/>
                <a:ext cx="673200" cy="72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417160" y="2313000"/>
                <a:ext cx="581400" cy="805680"/>
              </a:xfrm>
              <a:custGeom>
                <a:avLst/>
                <a:gdLst/>
                <a:ahLst/>
                <a:rect l="l" t="t" r="r" b="b"/>
                <a:pathLst>
                  <a:path w="1592" h="2207">
                    <a:moveTo>
                      <a:pt x="448" y="2154"/>
                    </a:moveTo>
                    <a:cubicBezTo>
                      <a:pt x="358" y="2111"/>
                      <a:pt x="104" y="2050"/>
                      <a:pt x="52" y="1899"/>
                    </a:cubicBezTo>
                    <a:cubicBezTo>
                      <a:pt x="0" y="1748"/>
                      <a:pt x="104" y="1332"/>
                      <a:pt x="137" y="1247"/>
                    </a:cubicBezTo>
                    <a:cubicBezTo>
                      <a:pt x="170" y="1162"/>
                      <a:pt x="236" y="1431"/>
                      <a:pt x="250" y="1389"/>
                    </a:cubicBezTo>
                    <a:cubicBezTo>
                      <a:pt x="264" y="1347"/>
                      <a:pt x="217" y="1086"/>
                      <a:pt x="222" y="992"/>
                    </a:cubicBezTo>
                    <a:cubicBezTo>
                      <a:pt x="227" y="898"/>
                      <a:pt x="287" y="869"/>
                      <a:pt x="278" y="822"/>
                    </a:cubicBezTo>
                    <a:cubicBezTo>
                      <a:pt x="269" y="775"/>
                      <a:pt x="146" y="718"/>
                      <a:pt x="165" y="709"/>
                    </a:cubicBezTo>
                    <a:cubicBezTo>
                      <a:pt x="184" y="700"/>
                      <a:pt x="335" y="798"/>
                      <a:pt x="392" y="765"/>
                    </a:cubicBezTo>
                    <a:cubicBezTo>
                      <a:pt x="449" y="732"/>
                      <a:pt x="496" y="590"/>
                      <a:pt x="505" y="510"/>
                    </a:cubicBezTo>
                    <a:cubicBezTo>
                      <a:pt x="514" y="430"/>
                      <a:pt x="424" y="368"/>
                      <a:pt x="448" y="283"/>
                    </a:cubicBezTo>
                    <a:cubicBezTo>
                      <a:pt x="472" y="198"/>
                      <a:pt x="586" y="0"/>
                      <a:pt x="647" y="0"/>
                    </a:cubicBezTo>
                    <a:cubicBezTo>
                      <a:pt x="708" y="0"/>
                      <a:pt x="756" y="203"/>
                      <a:pt x="817" y="283"/>
                    </a:cubicBezTo>
                    <a:cubicBezTo>
                      <a:pt x="878" y="363"/>
                      <a:pt x="977" y="411"/>
                      <a:pt x="1015" y="482"/>
                    </a:cubicBezTo>
                    <a:cubicBezTo>
                      <a:pt x="1053" y="553"/>
                      <a:pt x="1016" y="704"/>
                      <a:pt x="1044" y="709"/>
                    </a:cubicBezTo>
                    <a:cubicBezTo>
                      <a:pt x="1072" y="714"/>
                      <a:pt x="1166" y="562"/>
                      <a:pt x="1185" y="510"/>
                    </a:cubicBezTo>
                    <a:cubicBezTo>
                      <a:pt x="1204" y="458"/>
                      <a:pt x="1143" y="406"/>
                      <a:pt x="1157" y="397"/>
                    </a:cubicBezTo>
                    <a:cubicBezTo>
                      <a:pt x="1171" y="388"/>
                      <a:pt x="1252" y="411"/>
                      <a:pt x="1271" y="453"/>
                    </a:cubicBezTo>
                    <a:cubicBezTo>
                      <a:pt x="1290" y="495"/>
                      <a:pt x="1276" y="586"/>
                      <a:pt x="1271" y="652"/>
                    </a:cubicBezTo>
                    <a:cubicBezTo>
                      <a:pt x="1266" y="718"/>
                      <a:pt x="1233" y="793"/>
                      <a:pt x="1242" y="850"/>
                    </a:cubicBezTo>
                    <a:cubicBezTo>
                      <a:pt x="1251" y="907"/>
                      <a:pt x="1303" y="992"/>
                      <a:pt x="1327" y="992"/>
                    </a:cubicBezTo>
                    <a:cubicBezTo>
                      <a:pt x="1351" y="992"/>
                      <a:pt x="1342" y="883"/>
                      <a:pt x="1384" y="850"/>
                    </a:cubicBezTo>
                    <a:cubicBezTo>
                      <a:pt x="1426" y="817"/>
                      <a:pt x="1572" y="775"/>
                      <a:pt x="1582" y="794"/>
                    </a:cubicBezTo>
                    <a:cubicBezTo>
                      <a:pt x="1592" y="813"/>
                      <a:pt x="1455" y="879"/>
                      <a:pt x="1441" y="964"/>
                    </a:cubicBezTo>
                    <a:cubicBezTo>
                      <a:pt x="1427" y="1049"/>
                      <a:pt x="1488" y="1205"/>
                      <a:pt x="1497" y="1304"/>
                    </a:cubicBezTo>
                    <a:cubicBezTo>
                      <a:pt x="1506" y="1403"/>
                      <a:pt x="1525" y="1441"/>
                      <a:pt x="1497" y="1559"/>
                    </a:cubicBezTo>
                    <a:cubicBezTo>
                      <a:pt x="1469" y="1677"/>
                      <a:pt x="1422" y="1909"/>
                      <a:pt x="1327" y="2013"/>
                    </a:cubicBezTo>
                    <a:cubicBezTo>
                      <a:pt x="1232" y="2117"/>
                      <a:pt x="949" y="2207"/>
                      <a:pt x="930" y="2183"/>
                    </a:cubicBezTo>
                    <a:cubicBezTo>
                      <a:pt x="911" y="2159"/>
                      <a:pt x="1162" y="1975"/>
                      <a:pt x="1214" y="1871"/>
                    </a:cubicBezTo>
                    <a:cubicBezTo>
                      <a:pt x="1266" y="1767"/>
                      <a:pt x="1256" y="1649"/>
                      <a:pt x="1242" y="1559"/>
                    </a:cubicBezTo>
                    <a:cubicBezTo>
                      <a:pt x="1228" y="1469"/>
                      <a:pt x="1157" y="1337"/>
                      <a:pt x="1129" y="1332"/>
                    </a:cubicBezTo>
                    <a:cubicBezTo>
                      <a:pt x="1101" y="1327"/>
                      <a:pt x="1091" y="1498"/>
                      <a:pt x="1072" y="1531"/>
                    </a:cubicBezTo>
                    <a:cubicBezTo>
                      <a:pt x="1053" y="1564"/>
                      <a:pt x="1020" y="1578"/>
                      <a:pt x="1015" y="1531"/>
                    </a:cubicBezTo>
                    <a:cubicBezTo>
                      <a:pt x="1010" y="1484"/>
                      <a:pt x="1053" y="1323"/>
                      <a:pt x="1044" y="1247"/>
                    </a:cubicBezTo>
                    <a:cubicBezTo>
                      <a:pt x="1035" y="1171"/>
                      <a:pt x="992" y="1101"/>
                      <a:pt x="959" y="1077"/>
                    </a:cubicBezTo>
                    <a:cubicBezTo>
                      <a:pt x="926" y="1053"/>
                      <a:pt x="854" y="1063"/>
                      <a:pt x="845" y="1105"/>
                    </a:cubicBezTo>
                    <a:cubicBezTo>
                      <a:pt x="836" y="1147"/>
                      <a:pt x="921" y="1256"/>
                      <a:pt x="902" y="1332"/>
                    </a:cubicBezTo>
                    <a:cubicBezTo>
                      <a:pt x="883" y="1408"/>
                      <a:pt x="774" y="1517"/>
                      <a:pt x="732" y="1559"/>
                    </a:cubicBezTo>
                    <a:cubicBezTo>
                      <a:pt x="690" y="1601"/>
                      <a:pt x="661" y="1629"/>
                      <a:pt x="647" y="1587"/>
                    </a:cubicBezTo>
                    <a:cubicBezTo>
                      <a:pt x="633" y="1545"/>
                      <a:pt x="666" y="1356"/>
                      <a:pt x="647" y="1304"/>
                    </a:cubicBezTo>
                    <a:cubicBezTo>
                      <a:pt x="628" y="1252"/>
                      <a:pt x="561" y="1218"/>
                      <a:pt x="533" y="1275"/>
                    </a:cubicBezTo>
                    <a:cubicBezTo>
                      <a:pt x="505" y="1332"/>
                      <a:pt x="505" y="1616"/>
                      <a:pt x="477" y="1644"/>
                    </a:cubicBezTo>
                    <a:cubicBezTo>
                      <a:pt x="449" y="1672"/>
                      <a:pt x="401" y="1451"/>
                      <a:pt x="363" y="1446"/>
                    </a:cubicBezTo>
                    <a:cubicBezTo>
                      <a:pt x="325" y="1441"/>
                      <a:pt x="240" y="1550"/>
                      <a:pt x="250" y="1616"/>
                    </a:cubicBezTo>
                    <a:cubicBezTo>
                      <a:pt x="260" y="1682"/>
                      <a:pt x="420" y="1809"/>
                      <a:pt x="420" y="1842"/>
                    </a:cubicBezTo>
                    <a:cubicBezTo>
                      <a:pt x="420" y="1875"/>
                      <a:pt x="278" y="1805"/>
                      <a:pt x="250" y="1814"/>
                    </a:cubicBezTo>
                    <a:cubicBezTo>
                      <a:pt x="222" y="1823"/>
                      <a:pt x="193" y="1842"/>
                      <a:pt x="250" y="1899"/>
                    </a:cubicBezTo>
                    <a:cubicBezTo>
                      <a:pt x="307" y="1956"/>
                      <a:pt x="557" y="2112"/>
                      <a:pt x="590" y="2154"/>
                    </a:cubicBezTo>
                    <a:cubicBezTo>
                      <a:pt x="623" y="2196"/>
                      <a:pt x="538" y="2197"/>
                      <a:pt x="448" y="215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1" name=""/>
          <p:cNvGrpSpPr/>
          <p:nvPr/>
        </p:nvGrpSpPr>
        <p:grpSpPr>
          <a:xfrm>
            <a:off x="4098960" y="1865160"/>
            <a:ext cx="1738440" cy="1538280"/>
            <a:chOff x="4098960" y="1865160"/>
            <a:chExt cx="1738440" cy="1538280"/>
          </a:xfrm>
        </p:grpSpPr>
        <p:grpSp>
          <p:nvGrpSpPr>
            <p:cNvPr id="722" name=""/>
            <p:cNvGrpSpPr/>
            <p:nvPr/>
          </p:nvGrpSpPr>
          <p:grpSpPr>
            <a:xfrm>
              <a:off x="4098960" y="1865160"/>
              <a:ext cx="1738440" cy="1538280"/>
              <a:chOff x="4098960" y="1865160"/>
              <a:chExt cx="1738440" cy="1538280"/>
            </a:xfrm>
          </p:grpSpPr>
          <p:sp>
            <p:nvSpPr>
              <p:cNvPr id="723" name=""/>
              <p:cNvSpPr/>
              <p:nvPr/>
            </p:nvSpPr>
            <p:spPr>
              <a:xfrm>
                <a:off x="4132440" y="1889280"/>
                <a:ext cx="1670040" cy="149040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098960" y="1865160"/>
                <a:ext cx="1738440" cy="1538280"/>
              </a:xfrm>
              <a:custGeom>
                <a:avLst/>
                <a:gdLst/>
                <a:ahLst/>
                <a:rect l="l" t="t" r="r" b="b"/>
                <a:pathLst>
                  <a:path w="1095" h="969">
                    <a:moveTo>
                      <a:pt x="519" y="91"/>
                    </a:moveTo>
                    <a:cubicBezTo>
                      <a:pt x="519" y="91"/>
                      <a:pt x="529" y="64"/>
                      <a:pt x="547" y="62"/>
                    </a:cubicBezTo>
                    <a:cubicBezTo>
                      <a:pt x="564" y="61"/>
                      <a:pt x="575" y="91"/>
                      <a:pt x="575" y="91"/>
                    </a:cubicBezTo>
                    <a:lnTo>
                      <a:pt x="1029" y="913"/>
                    </a:lnTo>
                    <a:lnTo>
                      <a:pt x="547" y="913"/>
                    </a:lnTo>
                    <a:lnTo>
                      <a:pt x="547" y="969"/>
                    </a:lnTo>
                    <a:lnTo>
                      <a:pt x="1057" y="969"/>
                    </a:lnTo>
                    <a:cubicBezTo>
                      <a:pt x="1057" y="969"/>
                      <a:pt x="1075" y="956"/>
                      <a:pt x="1086" y="941"/>
                    </a:cubicBezTo>
                    <a:cubicBezTo>
                      <a:pt x="1095" y="929"/>
                      <a:pt x="1086" y="913"/>
                      <a:pt x="1086" y="913"/>
                    </a:cubicBezTo>
                    <a:lnTo>
                      <a:pt x="604" y="34"/>
                    </a:lnTo>
                    <a:cubicBezTo>
                      <a:pt x="604" y="34"/>
                      <a:pt x="585" y="11"/>
                      <a:pt x="575" y="6"/>
                    </a:cubicBezTo>
                    <a:cubicBezTo>
                      <a:pt x="565" y="1"/>
                      <a:pt x="553" y="1"/>
                      <a:pt x="544" y="1"/>
                    </a:cubicBezTo>
                    <a:cubicBezTo>
                      <a:pt x="535" y="1"/>
                      <a:pt x="528" y="0"/>
                      <a:pt x="519" y="6"/>
                    </a:cubicBezTo>
                    <a:cubicBezTo>
                      <a:pt x="496" y="17"/>
                      <a:pt x="490" y="34"/>
                      <a:pt x="490" y="34"/>
                    </a:cubicBezTo>
                    <a:lnTo>
                      <a:pt x="8" y="913"/>
                    </a:lnTo>
                    <a:cubicBezTo>
                      <a:pt x="8" y="913"/>
                      <a:pt x="0" y="928"/>
                      <a:pt x="8" y="941"/>
                    </a:cubicBezTo>
                    <a:cubicBezTo>
                      <a:pt x="19" y="962"/>
                      <a:pt x="37" y="969"/>
                      <a:pt x="37" y="969"/>
                    </a:cubicBezTo>
                    <a:cubicBezTo>
                      <a:pt x="292" y="969"/>
                      <a:pt x="547" y="969"/>
                      <a:pt x="547" y="969"/>
                    </a:cubicBezTo>
                    <a:lnTo>
                      <a:pt x="547" y="913"/>
                    </a:lnTo>
                    <a:lnTo>
                      <a:pt x="65" y="913"/>
                    </a:lnTo>
                    <a:lnTo>
                      <a:pt x="519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4618080" y="2313000"/>
              <a:ext cx="673200" cy="900000"/>
              <a:chOff x="4618080" y="2313000"/>
              <a:chExt cx="673200" cy="900000"/>
            </a:xfrm>
          </p:grpSpPr>
          <p:sp>
            <p:nvSpPr>
              <p:cNvPr id="726" name=""/>
              <p:cNvSpPr/>
              <p:nvPr/>
            </p:nvSpPr>
            <p:spPr>
              <a:xfrm>
                <a:off x="4618080" y="3141000"/>
                <a:ext cx="673200" cy="72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661280" y="2313000"/>
                <a:ext cx="581400" cy="805680"/>
              </a:xfrm>
              <a:custGeom>
                <a:avLst/>
                <a:gdLst/>
                <a:ahLst/>
                <a:rect l="l" t="t" r="r" b="b"/>
                <a:pathLst>
                  <a:path w="1592" h="2207">
                    <a:moveTo>
                      <a:pt x="448" y="2154"/>
                    </a:moveTo>
                    <a:cubicBezTo>
                      <a:pt x="358" y="2111"/>
                      <a:pt x="104" y="2050"/>
                      <a:pt x="52" y="1899"/>
                    </a:cubicBezTo>
                    <a:cubicBezTo>
                      <a:pt x="0" y="1748"/>
                      <a:pt x="104" y="1332"/>
                      <a:pt x="137" y="1247"/>
                    </a:cubicBezTo>
                    <a:cubicBezTo>
                      <a:pt x="170" y="1162"/>
                      <a:pt x="236" y="1431"/>
                      <a:pt x="250" y="1389"/>
                    </a:cubicBezTo>
                    <a:cubicBezTo>
                      <a:pt x="264" y="1347"/>
                      <a:pt x="217" y="1086"/>
                      <a:pt x="222" y="992"/>
                    </a:cubicBezTo>
                    <a:cubicBezTo>
                      <a:pt x="227" y="898"/>
                      <a:pt x="287" y="869"/>
                      <a:pt x="278" y="822"/>
                    </a:cubicBezTo>
                    <a:cubicBezTo>
                      <a:pt x="269" y="775"/>
                      <a:pt x="146" y="718"/>
                      <a:pt x="165" y="709"/>
                    </a:cubicBezTo>
                    <a:cubicBezTo>
                      <a:pt x="184" y="700"/>
                      <a:pt x="335" y="798"/>
                      <a:pt x="392" y="765"/>
                    </a:cubicBezTo>
                    <a:cubicBezTo>
                      <a:pt x="449" y="732"/>
                      <a:pt x="496" y="590"/>
                      <a:pt x="505" y="510"/>
                    </a:cubicBezTo>
                    <a:cubicBezTo>
                      <a:pt x="514" y="430"/>
                      <a:pt x="424" y="368"/>
                      <a:pt x="448" y="283"/>
                    </a:cubicBezTo>
                    <a:cubicBezTo>
                      <a:pt x="472" y="198"/>
                      <a:pt x="586" y="0"/>
                      <a:pt x="647" y="0"/>
                    </a:cubicBezTo>
                    <a:cubicBezTo>
                      <a:pt x="708" y="0"/>
                      <a:pt x="756" y="203"/>
                      <a:pt x="817" y="283"/>
                    </a:cubicBezTo>
                    <a:cubicBezTo>
                      <a:pt x="878" y="363"/>
                      <a:pt x="977" y="411"/>
                      <a:pt x="1015" y="482"/>
                    </a:cubicBezTo>
                    <a:cubicBezTo>
                      <a:pt x="1053" y="553"/>
                      <a:pt x="1016" y="704"/>
                      <a:pt x="1044" y="709"/>
                    </a:cubicBezTo>
                    <a:cubicBezTo>
                      <a:pt x="1072" y="714"/>
                      <a:pt x="1166" y="562"/>
                      <a:pt x="1185" y="510"/>
                    </a:cubicBezTo>
                    <a:cubicBezTo>
                      <a:pt x="1204" y="458"/>
                      <a:pt x="1143" y="406"/>
                      <a:pt x="1157" y="397"/>
                    </a:cubicBezTo>
                    <a:cubicBezTo>
                      <a:pt x="1171" y="388"/>
                      <a:pt x="1252" y="411"/>
                      <a:pt x="1271" y="453"/>
                    </a:cubicBezTo>
                    <a:cubicBezTo>
                      <a:pt x="1290" y="495"/>
                      <a:pt x="1276" y="586"/>
                      <a:pt x="1271" y="652"/>
                    </a:cubicBezTo>
                    <a:cubicBezTo>
                      <a:pt x="1266" y="718"/>
                      <a:pt x="1233" y="793"/>
                      <a:pt x="1242" y="850"/>
                    </a:cubicBezTo>
                    <a:cubicBezTo>
                      <a:pt x="1251" y="907"/>
                      <a:pt x="1303" y="992"/>
                      <a:pt x="1327" y="992"/>
                    </a:cubicBezTo>
                    <a:cubicBezTo>
                      <a:pt x="1351" y="992"/>
                      <a:pt x="1342" y="883"/>
                      <a:pt x="1384" y="850"/>
                    </a:cubicBezTo>
                    <a:cubicBezTo>
                      <a:pt x="1426" y="817"/>
                      <a:pt x="1572" y="775"/>
                      <a:pt x="1582" y="794"/>
                    </a:cubicBezTo>
                    <a:cubicBezTo>
                      <a:pt x="1592" y="813"/>
                      <a:pt x="1455" y="879"/>
                      <a:pt x="1441" y="964"/>
                    </a:cubicBezTo>
                    <a:cubicBezTo>
                      <a:pt x="1427" y="1049"/>
                      <a:pt x="1488" y="1205"/>
                      <a:pt x="1497" y="1304"/>
                    </a:cubicBezTo>
                    <a:cubicBezTo>
                      <a:pt x="1506" y="1403"/>
                      <a:pt x="1525" y="1441"/>
                      <a:pt x="1497" y="1559"/>
                    </a:cubicBezTo>
                    <a:cubicBezTo>
                      <a:pt x="1469" y="1677"/>
                      <a:pt x="1422" y="1909"/>
                      <a:pt x="1327" y="2013"/>
                    </a:cubicBezTo>
                    <a:cubicBezTo>
                      <a:pt x="1232" y="2117"/>
                      <a:pt x="949" y="2207"/>
                      <a:pt x="930" y="2183"/>
                    </a:cubicBezTo>
                    <a:cubicBezTo>
                      <a:pt x="911" y="2159"/>
                      <a:pt x="1162" y="1975"/>
                      <a:pt x="1214" y="1871"/>
                    </a:cubicBezTo>
                    <a:cubicBezTo>
                      <a:pt x="1266" y="1767"/>
                      <a:pt x="1256" y="1649"/>
                      <a:pt x="1242" y="1559"/>
                    </a:cubicBezTo>
                    <a:cubicBezTo>
                      <a:pt x="1228" y="1469"/>
                      <a:pt x="1157" y="1337"/>
                      <a:pt x="1129" y="1332"/>
                    </a:cubicBezTo>
                    <a:cubicBezTo>
                      <a:pt x="1101" y="1327"/>
                      <a:pt x="1091" y="1498"/>
                      <a:pt x="1072" y="1531"/>
                    </a:cubicBezTo>
                    <a:cubicBezTo>
                      <a:pt x="1053" y="1564"/>
                      <a:pt x="1020" y="1578"/>
                      <a:pt x="1015" y="1531"/>
                    </a:cubicBezTo>
                    <a:cubicBezTo>
                      <a:pt x="1010" y="1484"/>
                      <a:pt x="1053" y="1323"/>
                      <a:pt x="1044" y="1247"/>
                    </a:cubicBezTo>
                    <a:cubicBezTo>
                      <a:pt x="1035" y="1171"/>
                      <a:pt x="992" y="1101"/>
                      <a:pt x="959" y="1077"/>
                    </a:cubicBezTo>
                    <a:cubicBezTo>
                      <a:pt x="926" y="1053"/>
                      <a:pt x="854" y="1063"/>
                      <a:pt x="845" y="1105"/>
                    </a:cubicBezTo>
                    <a:cubicBezTo>
                      <a:pt x="836" y="1147"/>
                      <a:pt x="921" y="1256"/>
                      <a:pt x="902" y="1332"/>
                    </a:cubicBezTo>
                    <a:cubicBezTo>
                      <a:pt x="883" y="1408"/>
                      <a:pt x="774" y="1517"/>
                      <a:pt x="732" y="1559"/>
                    </a:cubicBezTo>
                    <a:cubicBezTo>
                      <a:pt x="690" y="1601"/>
                      <a:pt x="661" y="1629"/>
                      <a:pt x="647" y="1587"/>
                    </a:cubicBezTo>
                    <a:cubicBezTo>
                      <a:pt x="633" y="1545"/>
                      <a:pt x="666" y="1356"/>
                      <a:pt x="647" y="1304"/>
                    </a:cubicBezTo>
                    <a:cubicBezTo>
                      <a:pt x="628" y="1252"/>
                      <a:pt x="561" y="1218"/>
                      <a:pt x="533" y="1275"/>
                    </a:cubicBezTo>
                    <a:cubicBezTo>
                      <a:pt x="505" y="1332"/>
                      <a:pt x="505" y="1616"/>
                      <a:pt x="477" y="1644"/>
                    </a:cubicBezTo>
                    <a:cubicBezTo>
                      <a:pt x="449" y="1672"/>
                      <a:pt x="401" y="1451"/>
                      <a:pt x="363" y="1446"/>
                    </a:cubicBezTo>
                    <a:cubicBezTo>
                      <a:pt x="325" y="1441"/>
                      <a:pt x="240" y="1550"/>
                      <a:pt x="250" y="1616"/>
                    </a:cubicBezTo>
                    <a:cubicBezTo>
                      <a:pt x="260" y="1682"/>
                      <a:pt x="420" y="1809"/>
                      <a:pt x="420" y="1842"/>
                    </a:cubicBezTo>
                    <a:cubicBezTo>
                      <a:pt x="420" y="1875"/>
                      <a:pt x="278" y="1805"/>
                      <a:pt x="250" y="1814"/>
                    </a:cubicBezTo>
                    <a:cubicBezTo>
                      <a:pt x="222" y="1823"/>
                      <a:pt x="193" y="1842"/>
                      <a:pt x="250" y="1899"/>
                    </a:cubicBezTo>
                    <a:cubicBezTo>
                      <a:pt x="307" y="1956"/>
                      <a:pt x="557" y="2112"/>
                      <a:pt x="590" y="2154"/>
                    </a:cubicBezTo>
                    <a:cubicBezTo>
                      <a:pt x="623" y="2196"/>
                      <a:pt x="538" y="2197"/>
                      <a:pt x="448" y="215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8" name=""/>
          <p:cNvGrpSpPr/>
          <p:nvPr/>
        </p:nvGrpSpPr>
        <p:grpSpPr>
          <a:xfrm>
            <a:off x="5964120" y="1847880"/>
            <a:ext cx="1738440" cy="1538280"/>
            <a:chOff x="5964120" y="1847880"/>
            <a:chExt cx="1738440" cy="1538280"/>
          </a:xfrm>
        </p:grpSpPr>
        <p:grpSp>
          <p:nvGrpSpPr>
            <p:cNvPr id="729" name=""/>
            <p:cNvGrpSpPr/>
            <p:nvPr/>
          </p:nvGrpSpPr>
          <p:grpSpPr>
            <a:xfrm>
              <a:off x="5964120" y="1847880"/>
              <a:ext cx="1738440" cy="1538280"/>
              <a:chOff x="5964120" y="1847880"/>
              <a:chExt cx="1738440" cy="1538280"/>
            </a:xfrm>
          </p:grpSpPr>
          <p:sp>
            <p:nvSpPr>
              <p:cNvPr id="730" name=""/>
              <p:cNvSpPr/>
              <p:nvPr/>
            </p:nvSpPr>
            <p:spPr>
              <a:xfrm>
                <a:off x="5997600" y="187164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964120" y="1847880"/>
                <a:ext cx="1738440" cy="1538280"/>
              </a:xfrm>
              <a:custGeom>
                <a:avLst/>
                <a:gdLst/>
                <a:ahLst/>
                <a:rect l="l" t="t" r="r" b="b"/>
                <a:pathLst>
                  <a:path w="1095" h="969">
                    <a:moveTo>
                      <a:pt x="519" y="91"/>
                    </a:moveTo>
                    <a:cubicBezTo>
                      <a:pt x="519" y="91"/>
                      <a:pt x="529" y="64"/>
                      <a:pt x="547" y="62"/>
                    </a:cubicBezTo>
                    <a:cubicBezTo>
                      <a:pt x="564" y="61"/>
                      <a:pt x="575" y="91"/>
                      <a:pt x="575" y="91"/>
                    </a:cubicBezTo>
                    <a:lnTo>
                      <a:pt x="1029" y="913"/>
                    </a:lnTo>
                    <a:lnTo>
                      <a:pt x="547" y="913"/>
                    </a:lnTo>
                    <a:lnTo>
                      <a:pt x="547" y="969"/>
                    </a:lnTo>
                    <a:lnTo>
                      <a:pt x="1057" y="969"/>
                    </a:lnTo>
                    <a:cubicBezTo>
                      <a:pt x="1057" y="969"/>
                      <a:pt x="1075" y="956"/>
                      <a:pt x="1086" y="941"/>
                    </a:cubicBezTo>
                    <a:cubicBezTo>
                      <a:pt x="1095" y="929"/>
                      <a:pt x="1086" y="913"/>
                      <a:pt x="1086" y="913"/>
                    </a:cubicBezTo>
                    <a:lnTo>
                      <a:pt x="604" y="34"/>
                    </a:lnTo>
                    <a:cubicBezTo>
                      <a:pt x="604" y="34"/>
                      <a:pt x="585" y="11"/>
                      <a:pt x="575" y="6"/>
                    </a:cubicBezTo>
                    <a:cubicBezTo>
                      <a:pt x="565" y="1"/>
                      <a:pt x="553" y="1"/>
                      <a:pt x="544" y="1"/>
                    </a:cubicBezTo>
                    <a:cubicBezTo>
                      <a:pt x="535" y="1"/>
                      <a:pt x="528" y="0"/>
                      <a:pt x="519" y="6"/>
                    </a:cubicBezTo>
                    <a:cubicBezTo>
                      <a:pt x="496" y="17"/>
                      <a:pt x="490" y="34"/>
                      <a:pt x="490" y="34"/>
                    </a:cubicBezTo>
                    <a:lnTo>
                      <a:pt x="8" y="913"/>
                    </a:lnTo>
                    <a:cubicBezTo>
                      <a:pt x="8" y="913"/>
                      <a:pt x="0" y="928"/>
                      <a:pt x="8" y="941"/>
                    </a:cubicBezTo>
                    <a:cubicBezTo>
                      <a:pt x="19" y="962"/>
                      <a:pt x="37" y="969"/>
                      <a:pt x="37" y="969"/>
                    </a:cubicBezTo>
                    <a:cubicBezTo>
                      <a:pt x="292" y="969"/>
                      <a:pt x="547" y="969"/>
                      <a:pt x="547" y="969"/>
                    </a:cubicBezTo>
                    <a:lnTo>
                      <a:pt x="547" y="913"/>
                    </a:lnTo>
                    <a:lnTo>
                      <a:pt x="65" y="913"/>
                    </a:lnTo>
                    <a:lnTo>
                      <a:pt x="519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6494400" y="2313000"/>
              <a:ext cx="673200" cy="900000"/>
              <a:chOff x="6494400" y="2313000"/>
              <a:chExt cx="673200" cy="900000"/>
            </a:xfrm>
          </p:grpSpPr>
          <p:sp>
            <p:nvSpPr>
              <p:cNvPr id="733" name=""/>
              <p:cNvSpPr/>
              <p:nvPr/>
            </p:nvSpPr>
            <p:spPr>
              <a:xfrm>
                <a:off x="6494400" y="3141000"/>
                <a:ext cx="673200" cy="72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537600" y="2313000"/>
                <a:ext cx="581400" cy="805680"/>
              </a:xfrm>
              <a:custGeom>
                <a:avLst/>
                <a:gdLst/>
                <a:ahLst/>
                <a:rect l="l" t="t" r="r" b="b"/>
                <a:pathLst>
                  <a:path w="1592" h="2207">
                    <a:moveTo>
                      <a:pt x="448" y="2154"/>
                    </a:moveTo>
                    <a:cubicBezTo>
                      <a:pt x="358" y="2111"/>
                      <a:pt x="104" y="2050"/>
                      <a:pt x="52" y="1899"/>
                    </a:cubicBezTo>
                    <a:cubicBezTo>
                      <a:pt x="0" y="1748"/>
                      <a:pt x="104" y="1332"/>
                      <a:pt x="137" y="1247"/>
                    </a:cubicBezTo>
                    <a:cubicBezTo>
                      <a:pt x="170" y="1162"/>
                      <a:pt x="236" y="1431"/>
                      <a:pt x="250" y="1389"/>
                    </a:cubicBezTo>
                    <a:cubicBezTo>
                      <a:pt x="264" y="1347"/>
                      <a:pt x="217" y="1086"/>
                      <a:pt x="222" y="992"/>
                    </a:cubicBezTo>
                    <a:cubicBezTo>
                      <a:pt x="227" y="898"/>
                      <a:pt x="287" y="869"/>
                      <a:pt x="278" y="822"/>
                    </a:cubicBezTo>
                    <a:cubicBezTo>
                      <a:pt x="269" y="775"/>
                      <a:pt x="146" y="718"/>
                      <a:pt x="165" y="709"/>
                    </a:cubicBezTo>
                    <a:cubicBezTo>
                      <a:pt x="184" y="700"/>
                      <a:pt x="335" y="798"/>
                      <a:pt x="392" y="765"/>
                    </a:cubicBezTo>
                    <a:cubicBezTo>
                      <a:pt x="449" y="732"/>
                      <a:pt x="496" y="590"/>
                      <a:pt x="505" y="510"/>
                    </a:cubicBezTo>
                    <a:cubicBezTo>
                      <a:pt x="514" y="430"/>
                      <a:pt x="424" y="368"/>
                      <a:pt x="448" y="283"/>
                    </a:cubicBezTo>
                    <a:cubicBezTo>
                      <a:pt x="472" y="198"/>
                      <a:pt x="586" y="0"/>
                      <a:pt x="647" y="0"/>
                    </a:cubicBezTo>
                    <a:cubicBezTo>
                      <a:pt x="708" y="0"/>
                      <a:pt x="756" y="203"/>
                      <a:pt x="817" y="283"/>
                    </a:cubicBezTo>
                    <a:cubicBezTo>
                      <a:pt x="878" y="363"/>
                      <a:pt x="977" y="411"/>
                      <a:pt x="1015" y="482"/>
                    </a:cubicBezTo>
                    <a:cubicBezTo>
                      <a:pt x="1053" y="553"/>
                      <a:pt x="1016" y="704"/>
                      <a:pt x="1044" y="709"/>
                    </a:cubicBezTo>
                    <a:cubicBezTo>
                      <a:pt x="1072" y="714"/>
                      <a:pt x="1166" y="562"/>
                      <a:pt x="1185" y="510"/>
                    </a:cubicBezTo>
                    <a:cubicBezTo>
                      <a:pt x="1204" y="458"/>
                      <a:pt x="1143" y="406"/>
                      <a:pt x="1157" y="397"/>
                    </a:cubicBezTo>
                    <a:cubicBezTo>
                      <a:pt x="1171" y="388"/>
                      <a:pt x="1252" y="411"/>
                      <a:pt x="1271" y="453"/>
                    </a:cubicBezTo>
                    <a:cubicBezTo>
                      <a:pt x="1290" y="495"/>
                      <a:pt x="1276" y="586"/>
                      <a:pt x="1271" y="652"/>
                    </a:cubicBezTo>
                    <a:cubicBezTo>
                      <a:pt x="1266" y="718"/>
                      <a:pt x="1233" y="793"/>
                      <a:pt x="1242" y="850"/>
                    </a:cubicBezTo>
                    <a:cubicBezTo>
                      <a:pt x="1251" y="907"/>
                      <a:pt x="1303" y="992"/>
                      <a:pt x="1327" y="992"/>
                    </a:cubicBezTo>
                    <a:cubicBezTo>
                      <a:pt x="1351" y="992"/>
                      <a:pt x="1342" y="883"/>
                      <a:pt x="1384" y="850"/>
                    </a:cubicBezTo>
                    <a:cubicBezTo>
                      <a:pt x="1426" y="817"/>
                      <a:pt x="1572" y="775"/>
                      <a:pt x="1582" y="794"/>
                    </a:cubicBezTo>
                    <a:cubicBezTo>
                      <a:pt x="1592" y="813"/>
                      <a:pt x="1455" y="879"/>
                      <a:pt x="1441" y="964"/>
                    </a:cubicBezTo>
                    <a:cubicBezTo>
                      <a:pt x="1427" y="1049"/>
                      <a:pt x="1488" y="1205"/>
                      <a:pt x="1497" y="1304"/>
                    </a:cubicBezTo>
                    <a:cubicBezTo>
                      <a:pt x="1506" y="1403"/>
                      <a:pt x="1525" y="1441"/>
                      <a:pt x="1497" y="1559"/>
                    </a:cubicBezTo>
                    <a:cubicBezTo>
                      <a:pt x="1469" y="1677"/>
                      <a:pt x="1422" y="1909"/>
                      <a:pt x="1327" y="2013"/>
                    </a:cubicBezTo>
                    <a:cubicBezTo>
                      <a:pt x="1232" y="2117"/>
                      <a:pt x="949" y="2207"/>
                      <a:pt x="930" y="2183"/>
                    </a:cubicBezTo>
                    <a:cubicBezTo>
                      <a:pt x="911" y="2159"/>
                      <a:pt x="1162" y="1975"/>
                      <a:pt x="1214" y="1871"/>
                    </a:cubicBezTo>
                    <a:cubicBezTo>
                      <a:pt x="1266" y="1767"/>
                      <a:pt x="1256" y="1649"/>
                      <a:pt x="1242" y="1559"/>
                    </a:cubicBezTo>
                    <a:cubicBezTo>
                      <a:pt x="1228" y="1469"/>
                      <a:pt x="1157" y="1337"/>
                      <a:pt x="1129" y="1332"/>
                    </a:cubicBezTo>
                    <a:cubicBezTo>
                      <a:pt x="1101" y="1327"/>
                      <a:pt x="1091" y="1498"/>
                      <a:pt x="1072" y="1531"/>
                    </a:cubicBezTo>
                    <a:cubicBezTo>
                      <a:pt x="1053" y="1564"/>
                      <a:pt x="1020" y="1578"/>
                      <a:pt x="1015" y="1531"/>
                    </a:cubicBezTo>
                    <a:cubicBezTo>
                      <a:pt x="1010" y="1484"/>
                      <a:pt x="1053" y="1323"/>
                      <a:pt x="1044" y="1247"/>
                    </a:cubicBezTo>
                    <a:cubicBezTo>
                      <a:pt x="1035" y="1171"/>
                      <a:pt x="992" y="1101"/>
                      <a:pt x="959" y="1077"/>
                    </a:cubicBezTo>
                    <a:cubicBezTo>
                      <a:pt x="926" y="1053"/>
                      <a:pt x="854" y="1063"/>
                      <a:pt x="845" y="1105"/>
                    </a:cubicBezTo>
                    <a:cubicBezTo>
                      <a:pt x="836" y="1147"/>
                      <a:pt x="921" y="1256"/>
                      <a:pt x="902" y="1332"/>
                    </a:cubicBezTo>
                    <a:cubicBezTo>
                      <a:pt x="883" y="1408"/>
                      <a:pt x="774" y="1517"/>
                      <a:pt x="732" y="1559"/>
                    </a:cubicBezTo>
                    <a:cubicBezTo>
                      <a:pt x="690" y="1601"/>
                      <a:pt x="661" y="1629"/>
                      <a:pt x="647" y="1587"/>
                    </a:cubicBezTo>
                    <a:cubicBezTo>
                      <a:pt x="633" y="1545"/>
                      <a:pt x="666" y="1356"/>
                      <a:pt x="647" y="1304"/>
                    </a:cubicBezTo>
                    <a:cubicBezTo>
                      <a:pt x="628" y="1252"/>
                      <a:pt x="561" y="1218"/>
                      <a:pt x="533" y="1275"/>
                    </a:cubicBezTo>
                    <a:cubicBezTo>
                      <a:pt x="505" y="1332"/>
                      <a:pt x="505" y="1616"/>
                      <a:pt x="477" y="1644"/>
                    </a:cubicBezTo>
                    <a:cubicBezTo>
                      <a:pt x="449" y="1672"/>
                      <a:pt x="401" y="1451"/>
                      <a:pt x="363" y="1446"/>
                    </a:cubicBezTo>
                    <a:cubicBezTo>
                      <a:pt x="325" y="1441"/>
                      <a:pt x="240" y="1550"/>
                      <a:pt x="250" y="1616"/>
                    </a:cubicBezTo>
                    <a:cubicBezTo>
                      <a:pt x="260" y="1682"/>
                      <a:pt x="420" y="1809"/>
                      <a:pt x="420" y="1842"/>
                    </a:cubicBezTo>
                    <a:cubicBezTo>
                      <a:pt x="420" y="1875"/>
                      <a:pt x="278" y="1805"/>
                      <a:pt x="250" y="1814"/>
                    </a:cubicBezTo>
                    <a:cubicBezTo>
                      <a:pt x="222" y="1823"/>
                      <a:pt x="193" y="1842"/>
                      <a:pt x="250" y="1899"/>
                    </a:cubicBezTo>
                    <a:cubicBezTo>
                      <a:pt x="307" y="1956"/>
                      <a:pt x="557" y="2112"/>
                      <a:pt x="590" y="2154"/>
                    </a:cubicBezTo>
                    <a:cubicBezTo>
                      <a:pt x="623" y="2196"/>
                      <a:pt x="538" y="2197"/>
                      <a:pt x="448" y="215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5" name=""/>
          <p:cNvGrpSpPr/>
          <p:nvPr/>
        </p:nvGrpSpPr>
        <p:grpSpPr>
          <a:xfrm>
            <a:off x="2208240" y="1871640"/>
            <a:ext cx="1738440" cy="1538280"/>
            <a:chOff x="2208240" y="1871640"/>
            <a:chExt cx="1738440" cy="1538280"/>
          </a:xfrm>
        </p:grpSpPr>
        <p:grpSp>
          <p:nvGrpSpPr>
            <p:cNvPr id="736" name=""/>
            <p:cNvGrpSpPr/>
            <p:nvPr/>
          </p:nvGrpSpPr>
          <p:grpSpPr>
            <a:xfrm>
              <a:off x="2208240" y="1871640"/>
              <a:ext cx="1738440" cy="1538280"/>
              <a:chOff x="2208240" y="1871640"/>
              <a:chExt cx="1738440" cy="1538280"/>
            </a:xfrm>
          </p:grpSpPr>
          <p:sp>
            <p:nvSpPr>
              <p:cNvPr id="737" name=""/>
              <p:cNvSpPr/>
              <p:nvPr/>
            </p:nvSpPr>
            <p:spPr>
              <a:xfrm>
                <a:off x="2241720" y="189540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208240" y="1871640"/>
                <a:ext cx="1738440" cy="1538280"/>
              </a:xfrm>
              <a:custGeom>
                <a:avLst/>
                <a:gdLst/>
                <a:ahLst/>
                <a:rect l="l" t="t" r="r" b="b"/>
                <a:pathLst>
                  <a:path w="1095" h="969">
                    <a:moveTo>
                      <a:pt x="519" y="91"/>
                    </a:moveTo>
                    <a:cubicBezTo>
                      <a:pt x="519" y="91"/>
                      <a:pt x="529" y="64"/>
                      <a:pt x="547" y="62"/>
                    </a:cubicBezTo>
                    <a:cubicBezTo>
                      <a:pt x="564" y="61"/>
                      <a:pt x="575" y="91"/>
                      <a:pt x="575" y="91"/>
                    </a:cubicBezTo>
                    <a:lnTo>
                      <a:pt x="1029" y="913"/>
                    </a:lnTo>
                    <a:lnTo>
                      <a:pt x="547" y="913"/>
                    </a:lnTo>
                    <a:lnTo>
                      <a:pt x="547" y="969"/>
                    </a:lnTo>
                    <a:lnTo>
                      <a:pt x="1057" y="969"/>
                    </a:lnTo>
                    <a:cubicBezTo>
                      <a:pt x="1057" y="969"/>
                      <a:pt x="1075" y="956"/>
                      <a:pt x="1086" y="941"/>
                    </a:cubicBezTo>
                    <a:cubicBezTo>
                      <a:pt x="1095" y="929"/>
                      <a:pt x="1086" y="913"/>
                      <a:pt x="1086" y="913"/>
                    </a:cubicBezTo>
                    <a:lnTo>
                      <a:pt x="604" y="34"/>
                    </a:lnTo>
                    <a:cubicBezTo>
                      <a:pt x="604" y="34"/>
                      <a:pt x="585" y="11"/>
                      <a:pt x="575" y="6"/>
                    </a:cubicBezTo>
                    <a:cubicBezTo>
                      <a:pt x="565" y="1"/>
                      <a:pt x="553" y="1"/>
                      <a:pt x="544" y="1"/>
                    </a:cubicBezTo>
                    <a:cubicBezTo>
                      <a:pt x="535" y="1"/>
                      <a:pt x="528" y="0"/>
                      <a:pt x="519" y="6"/>
                    </a:cubicBezTo>
                    <a:cubicBezTo>
                      <a:pt x="496" y="17"/>
                      <a:pt x="490" y="34"/>
                      <a:pt x="490" y="34"/>
                    </a:cubicBezTo>
                    <a:lnTo>
                      <a:pt x="8" y="913"/>
                    </a:lnTo>
                    <a:cubicBezTo>
                      <a:pt x="8" y="913"/>
                      <a:pt x="0" y="928"/>
                      <a:pt x="8" y="941"/>
                    </a:cubicBezTo>
                    <a:cubicBezTo>
                      <a:pt x="19" y="962"/>
                      <a:pt x="37" y="969"/>
                      <a:pt x="37" y="969"/>
                    </a:cubicBezTo>
                    <a:cubicBezTo>
                      <a:pt x="292" y="969"/>
                      <a:pt x="547" y="969"/>
                      <a:pt x="547" y="969"/>
                    </a:cubicBezTo>
                    <a:lnTo>
                      <a:pt x="547" y="913"/>
                    </a:lnTo>
                    <a:lnTo>
                      <a:pt x="65" y="913"/>
                    </a:lnTo>
                    <a:lnTo>
                      <a:pt x="519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2778120" y="2313000"/>
              <a:ext cx="673200" cy="900000"/>
              <a:chOff x="2778120" y="2313000"/>
              <a:chExt cx="673200" cy="900000"/>
            </a:xfrm>
          </p:grpSpPr>
          <p:sp>
            <p:nvSpPr>
              <p:cNvPr id="740" name=""/>
              <p:cNvSpPr/>
              <p:nvPr/>
            </p:nvSpPr>
            <p:spPr>
              <a:xfrm>
                <a:off x="2778120" y="3141000"/>
                <a:ext cx="673200" cy="72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821320" y="2313000"/>
                <a:ext cx="581400" cy="805680"/>
              </a:xfrm>
              <a:custGeom>
                <a:avLst/>
                <a:gdLst/>
                <a:ahLst/>
                <a:rect l="l" t="t" r="r" b="b"/>
                <a:pathLst>
                  <a:path w="1592" h="2207">
                    <a:moveTo>
                      <a:pt x="448" y="2154"/>
                    </a:moveTo>
                    <a:cubicBezTo>
                      <a:pt x="358" y="2111"/>
                      <a:pt x="104" y="2050"/>
                      <a:pt x="52" y="1899"/>
                    </a:cubicBezTo>
                    <a:cubicBezTo>
                      <a:pt x="0" y="1748"/>
                      <a:pt x="104" y="1332"/>
                      <a:pt x="137" y="1247"/>
                    </a:cubicBezTo>
                    <a:cubicBezTo>
                      <a:pt x="170" y="1162"/>
                      <a:pt x="236" y="1431"/>
                      <a:pt x="250" y="1389"/>
                    </a:cubicBezTo>
                    <a:cubicBezTo>
                      <a:pt x="264" y="1347"/>
                      <a:pt x="217" y="1086"/>
                      <a:pt x="222" y="992"/>
                    </a:cubicBezTo>
                    <a:cubicBezTo>
                      <a:pt x="227" y="898"/>
                      <a:pt x="287" y="869"/>
                      <a:pt x="278" y="822"/>
                    </a:cubicBezTo>
                    <a:cubicBezTo>
                      <a:pt x="269" y="775"/>
                      <a:pt x="146" y="718"/>
                      <a:pt x="165" y="709"/>
                    </a:cubicBezTo>
                    <a:cubicBezTo>
                      <a:pt x="184" y="700"/>
                      <a:pt x="335" y="798"/>
                      <a:pt x="392" y="765"/>
                    </a:cubicBezTo>
                    <a:cubicBezTo>
                      <a:pt x="449" y="732"/>
                      <a:pt x="496" y="590"/>
                      <a:pt x="505" y="510"/>
                    </a:cubicBezTo>
                    <a:cubicBezTo>
                      <a:pt x="514" y="430"/>
                      <a:pt x="424" y="368"/>
                      <a:pt x="448" y="283"/>
                    </a:cubicBezTo>
                    <a:cubicBezTo>
                      <a:pt x="472" y="198"/>
                      <a:pt x="586" y="0"/>
                      <a:pt x="647" y="0"/>
                    </a:cubicBezTo>
                    <a:cubicBezTo>
                      <a:pt x="708" y="0"/>
                      <a:pt x="756" y="203"/>
                      <a:pt x="817" y="283"/>
                    </a:cubicBezTo>
                    <a:cubicBezTo>
                      <a:pt x="878" y="363"/>
                      <a:pt x="977" y="411"/>
                      <a:pt x="1015" y="482"/>
                    </a:cubicBezTo>
                    <a:cubicBezTo>
                      <a:pt x="1053" y="553"/>
                      <a:pt x="1016" y="704"/>
                      <a:pt x="1044" y="709"/>
                    </a:cubicBezTo>
                    <a:cubicBezTo>
                      <a:pt x="1072" y="714"/>
                      <a:pt x="1166" y="562"/>
                      <a:pt x="1185" y="510"/>
                    </a:cubicBezTo>
                    <a:cubicBezTo>
                      <a:pt x="1204" y="458"/>
                      <a:pt x="1143" y="406"/>
                      <a:pt x="1157" y="397"/>
                    </a:cubicBezTo>
                    <a:cubicBezTo>
                      <a:pt x="1171" y="388"/>
                      <a:pt x="1252" y="411"/>
                      <a:pt x="1271" y="453"/>
                    </a:cubicBezTo>
                    <a:cubicBezTo>
                      <a:pt x="1290" y="495"/>
                      <a:pt x="1276" y="586"/>
                      <a:pt x="1271" y="652"/>
                    </a:cubicBezTo>
                    <a:cubicBezTo>
                      <a:pt x="1266" y="718"/>
                      <a:pt x="1233" y="793"/>
                      <a:pt x="1242" y="850"/>
                    </a:cubicBezTo>
                    <a:cubicBezTo>
                      <a:pt x="1251" y="907"/>
                      <a:pt x="1303" y="992"/>
                      <a:pt x="1327" y="992"/>
                    </a:cubicBezTo>
                    <a:cubicBezTo>
                      <a:pt x="1351" y="992"/>
                      <a:pt x="1342" y="883"/>
                      <a:pt x="1384" y="850"/>
                    </a:cubicBezTo>
                    <a:cubicBezTo>
                      <a:pt x="1426" y="817"/>
                      <a:pt x="1572" y="775"/>
                      <a:pt x="1582" y="794"/>
                    </a:cubicBezTo>
                    <a:cubicBezTo>
                      <a:pt x="1592" y="813"/>
                      <a:pt x="1455" y="879"/>
                      <a:pt x="1441" y="964"/>
                    </a:cubicBezTo>
                    <a:cubicBezTo>
                      <a:pt x="1427" y="1049"/>
                      <a:pt x="1488" y="1205"/>
                      <a:pt x="1497" y="1304"/>
                    </a:cubicBezTo>
                    <a:cubicBezTo>
                      <a:pt x="1506" y="1403"/>
                      <a:pt x="1525" y="1441"/>
                      <a:pt x="1497" y="1559"/>
                    </a:cubicBezTo>
                    <a:cubicBezTo>
                      <a:pt x="1469" y="1677"/>
                      <a:pt x="1422" y="1909"/>
                      <a:pt x="1327" y="2013"/>
                    </a:cubicBezTo>
                    <a:cubicBezTo>
                      <a:pt x="1232" y="2117"/>
                      <a:pt x="949" y="2207"/>
                      <a:pt x="930" y="2183"/>
                    </a:cubicBezTo>
                    <a:cubicBezTo>
                      <a:pt x="911" y="2159"/>
                      <a:pt x="1162" y="1975"/>
                      <a:pt x="1214" y="1871"/>
                    </a:cubicBezTo>
                    <a:cubicBezTo>
                      <a:pt x="1266" y="1767"/>
                      <a:pt x="1256" y="1649"/>
                      <a:pt x="1242" y="1559"/>
                    </a:cubicBezTo>
                    <a:cubicBezTo>
                      <a:pt x="1228" y="1469"/>
                      <a:pt x="1157" y="1337"/>
                      <a:pt x="1129" y="1332"/>
                    </a:cubicBezTo>
                    <a:cubicBezTo>
                      <a:pt x="1101" y="1327"/>
                      <a:pt x="1091" y="1498"/>
                      <a:pt x="1072" y="1531"/>
                    </a:cubicBezTo>
                    <a:cubicBezTo>
                      <a:pt x="1053" y="1564"/>
                      <a:pt x="1020" y="1578"/>
                      <a:pt x="1015" y="1531"/>
                    </a:cubicBezTo>
                    <a:cubicBezTo>
                      <a:pt x="1010" y="1484"/>
                      <a:pt x="1053" y="1323"/>
                      <a:pt x="1044" y="1247"/>
                    </a:cubicBezTo>
                    <a:cubicBezTo>
                      <a:pt x="1035" y="1171"/>
                      <a:pt x="992" y="1101"/>
                      <a:pt x="959" y="1077"/>
                    </a:cubicBezTo>
                    <a:cubicBezTo>
                      <a:pt x="926" y="1053"/>
                      <a:pt x="854" y="1063"/>
                      <a:pt x="845" y="1105"/>
                    </a:cubicBezTo>
                    <a:cubicBezTo>
                      <a:pt x="836" y="1147"/>
                      <a:pt x="921" y="1256"/>
                      <a:pt x="902" y="1332"/>
                    </a:cubicBezTo>
                    <a:cubicBezTo>
                      <a:pt x="883" y="1408"/>
                      <a:pt x="774" y="1517"/>
                      <a:pt x="732" y="1559"/>
                    </a:cubicBezTo>
                    <a:cubicBezTo>
                      <a:pt x="690" y="1601"/>
                      <a:pt x="661" y="1629"/>
                      <a:pt x="647" y="1587"/>
                    </a:cubicBezTo>
                    <a:cubicBezTo>
                      <a:pt x="633" y="1545"/>
                      <a:pt x="666" y="1356"/>
                      <a:pt x="647" y="1304"/>
                    </a:cubicBezTo>
                    <a:cubicBezTo>
                      <a:pt x="628" y="1252"/>
                      <a:pt x="561" y="1218"/>
                      <a:pt x="533" y="1275"/>
                    </a:cubicBezTo>
                    <a:cubicBezTo>
                      <a:pt x="505" y="1332"/>
                      <a:pt x="505" y="1616"/>
                      <a:pt x="477" y="1644"/>
                    </a:cubicBezTo>
                    <a:cubicBezTo>
                      <a:pt x="449" y="1672"/>
                      <a:pt x="401" y="1451"/>
                      <a:pt x="363" y="1446"/>
                    </a:cubicBezTo>
                    <a:cubicBezTo>
                      <a:pt x="325" y="1441"/>
                      <a:pt x="240" y="1550"/>
                      <a:pt x="250" y="1616"/>
                    </a:cubicBezTo>
                    <a:cubicBezTo>
                      <a:pt x="260" y="1682"/>
                      <a:pt x="420" y="1809"/>
                      <a:pt x="420" y="1842"/>
                    </a:cubicBezTo>
                    <a:cubicBezTo>
                      <a:pt x="420" y="1875"/>
                      <a:pt x="278" y="1805"/>
                      <a:pt x="250" y="1814"/>
                    </a:cubicBezTo>
                    <a:cubicBezTo>
                      <a:pt x="222" y="1823"/>
                      <a:pt x="193" y="1842"/>
                      <a:pt x="250" y="1899"/>
                    </a:cubicBezTo>
                    <a:cubicBezTo>
                      <a:pt x="307" y="1956"/>
                      <a:pt x="557" y="2112"/>
                      <a:pt x="590" y="2154"/>
                    </a:cubicBezTo>
                    <a:cubicBezTo>
                      <a:pt x="623" y="2196"/>
                      <a:pt x="538" y="2197"/>
                      <a:pt x="448" y="215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2" name=""/>
          <p:cNvGrpSpPr/>
          <p:nvPr/>
        </p:nvGrpSpPr>
        <p:grpSpPr>
          <a:xfrm>
            <a:off x="317520" y="1854360"/>
            <a:ext cx="1738440" cy="1550880"/>
            <a:chOff x="317520" y="1854360"/>
            <a:chExt cx="1738440" cy="1550880"/>
          </a:xfrm>
        </p:grpSpPr>
        <p:grpSp>
          <p:nvGrpSpPr>
            <p:cNvPr id="743" name=""/>
            <p:cNvGrpSpPr/>
            <p:nvPr/>
          </p:nvGrpSpPr>
          <p:grpSpPr>
            <a:xfrm>
              <a:off x="317520" y="1854360"/>
              <a:ext cx="1738440" cy="1550880"/>
              <a:chOff x="317520" y="1854360"/>
              <a:chExt cx="1738440" cy="1550880"/>
            </a:xfrm>
          </p:grpSpPr>
          <p:sp>
            <p:nvSpPr>
              <p:cNvPr id="744" name=""/>
              <p:cNvSpPr/>
              <p:nvPr/>
            </p:nvSpPr>
            <p:spPr>
              <a:xfrm>
                <a:off x="351000" y="191448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17520" y="1854360"/>
                <a:ext cx="1738440" cy="1538280"/>
              </a:xfrm>
              <a:custGeom>
                <a:avLst/>
                <a:gdLst/>
                <a:ahLst/>
                <a:rect l="l" t="t" r="r" b="b"/>
                <a:pathLst>
                  <a:path w="1095" h="969">
                    <a:moveTo>
                      <a:pt x="519" y="91"/>
                    </a:moveTo>
                    <a:cubicBezTo>
                      <a:pt x="519" y="91"/>
                      <a:pt x="529" y="64"/>
                      <a:pt x="547" y="62"/>
                    </a:cubicBezTo>
                    <a:cubicBezTo>
                      <a:pt x="564" y="61"/>
                      <a:pt x="575" y="91"/>
                      <a:pt x="575" y="91"/>
                    </a:cubicBezTo>
                    <a:lnTo>
                      <a:pt x="1029" y="913"/>
                    </a:lnTo>
                    <a:lnTo>
                      <a:pt x="547" y="913"/>
                    </a:lnTo>
                    <a:lnTo>
                      <a:pt x="547" y="969"/>
                    </a:lnTo>
                    <a:lnTo>
                      <a:pt x="1057" y="969"/>
                    </a:lnTo>
                    <a:cubicBezTo>
                      <a:pt x="1057" y="969"/>
                      <a:pt x="1075" y="956"/>
                      <a:pt x="1086" y="941"/>
                    </a:cubicBezTo>
                    <a:cubicBezTo>
                      <a:pt x="1095" y="929"/>
                      <a:pt x="1086" y="913"/>
                      <a:pt x="1086" y="913"/>
                    </a:cubicBezTo>
                    <a:lnTo>
                      <a:pt x="604" y="34"/>
                    </a:lnTo>
                    <a:cubicBezTo>
                      <a:pt x="604" y="34"/>
                      <a:pt x="585" y="11"/>
                      <a:pt x="575" y="6"/>
                    </a:cubicBezTo>
                    <a:cubicBezTo>
                      <a:pt x="565" y="1"/>
                      <a:pt x="553" y="1"/>
                      <a:pt x="544" y="1"/>
                    </a:cubicBezTo>
                    <a:cubicBezTo>
                      <a:pt x="535" y="1"/>
                      <a:pt x="528" y="0"/>
                      <a:pt x="519" y="6"/>
                    </a:cubicBezTo>
                    <a:cubicBezTo>
                      <a:pt x="496" y="17"/>
                      <a:pt x="490" y="34"/>
                      <a:pt x="490" y="34"/>
                    </a:cubicBezTo>
                    <a:lnTo>
                      <a:pt x="8" y="913"/>
                    </a:lnTo>
                    <a:cubicBezTo>
                      <a:pt x="8" y="913"/>
                      <a:pt x="0" y="928"/>
                      <a:pt x="8" y="941"/>
                    </a:cubicBezTo>
                    <a:cubicBezTo>
                      <a:pt x="19" y="962"/>
                      <a:pt x="37" y="969"/>
                      <a:pt x="37" y="969"/>
                    </a:cubicBezTo>
                    <a:cubicBezTo>
                      <a:pt x="292" y="969"/>
                      <a:pt x="547" y="969"/>
                      <a:pt x="547" y="969"/>
                    </a:cubicBezTo>
                    <a:lnTo>
                      <a:pt x="547" y="913"/>
                    </a:lnTo>
                    <a:lnTo>
                      <a:pt x="65" y="913"/>
                    </a:lnTo>
                    <a:lnTo>
                      <a:pt x="519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882720" y="2313000"/>
              <a:ext cx="673200" cy="900000"/>
              <a:chOff x="882720" y="2313000"/>
              <a:chExt cx="673200" cy="900000"/>
            </a:xfrm>
          </p:grpSpPr>
          <p:sp>
            <p:nvSpPr>
              <p:cNvPr id="747" name=""/>
              <p:cNvSpPr/>
              <p:nvPr/>
            </p:nvSpPr>
            <p:spPr>
              <a:xfrm>
                <a:off x="882720" y="3141000"/>
                <a:ext cx="673200" cy="72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925920" y="2313000"/>
                <a:ext cx="581400" cy="805680"/>
              </a:xfrm>
              <a:custGeom>
                <a:avLst/>
                <a:gdLst/>
                <a:ahLst/>
                <a:rect l="l" t="t" r="r" b="b"/>
                <a:pathLst>
                  <a:path w="1592" h="2207">
                    <a:moveTo>
                      <a:pt x="448" y="2154"/>
                    </a:moveTo>
                    <a:cubicBezTo>
                      <a:pt x="358" y="2111"/>
                      <a:pt x="104" y="2050"/>
                      <a:pt x="52" y="1899"/>
                    </a:cubicBezTo>
                    <a:cubicBezTo>
                      <a:pt x="0" y="1748"/>
                      <a:pt x="104" y="1332"/>
                      <a:pt x="137" y="1247"/>
                    </a:cubicBezTo>
                    <a:cubicBezTo>
                      <a:pt x="170" y="1162"/>
                      <a:pt x="236" y="1431"/>
                      <a:pt x="250" y="1389"/>
                    </a:cubicBezTo>
                    <a:cubicBezTo>
                      <a:pt x="264" y="1347"/>
                      <a:pt x="217" y="1086"/>
                      <a:pt x="222" y="992"/>
                    </a:cubicBezTo>
                    <a:cubicBezTo>
                      <a:pt x="227" y="898"/>
                      <a:pt x="287" y="869"/>
                      <a:pt x="278" y="822"/>
                    </a:cubicBezTo>
                    <a:cubicBezTo>
                      <a:pt x="269" y="775"/>
                      <a:pt x="146" y="718"/>
                      <a:pt x="165" y="709"/>
                    </a:cubicBezTo>
                    <a:cubicBezTo>
                      <a:pt x="184" y="700"/>
                      <a:pt x="335" y="798"/>
                      <a:pt x="392" y="765"/>
                    </a:cubicBezTo>
                    <a:cubicBezTo>
                      <a:pt x="449" y="732"/>
                      <a:pt x="496" y="590"/>
                      <a:pt x="505" y="510"/>
                    </a:cubicBezTo>
                    <a:cubicBezTo>
                      <a:pt x="514" y="430"/>
                      <a:pt x="424" y="368"/>
                      <a:pt x="448" y="283"/>
                    </a:cubicBezTo>
                    <a:cubicBezTo>
                      <a:pt x="472" y="198"/>
                      <a:pt x="586" y="0"/>
                      <a:pt x="647" y="0"/>
                    </a:cubicBezTo>
                    <a:cubicBezTo>
                      <a:pt x="708" y="0"/>
                      <a:pt x="756" y="203"/>
                      <a:pt x="817" y="283"/>
                    </a:cubicBezTo>
                    <a:cubicBezTo>
                      <a:pt x="878" y="363"/>
                      <a:pt x="977" y="411"/>
                      <a:pt x="1015" y="482"/>
                    </a:cubicBezTo>
                    <a:cubicBezTo>
                      <a:pt x="1053" y="553"/>
                      <a:pt x="1016" y="704"/>
                      <a:pt x="1044" y="709"/>
                    </a:cubicBezTo>
                    <a:cubicBezTo>
                      <a:pt x="1072" y="714"/>
                      <a:pt x="1166" y="562"/>
                      <a:pt x="1185" y="510"/>
                    </a:cubicBezTo>
                    <a:cubicBezTo>
                      <a:pt x="1204" y="458"/>
                      <a:pt x="1143" y="406"/>
                      <a:pt x="1157" y="397"/>
                    </a:cubicBezTo>
                    <a:cubicBezTo>
                      <a:pt x="1171" y="388"/>
                      <a:pt x="1252" y="411"/>
                      <a:pt x="1271" y="453"/>
                    </a:cubicBezTo>
                    <a:cubicBezTo>
                      <a:pt x="1290" y="495"/>
                      <a:pt x="1276" y="586"/>
                      <a:pt x="1271" y="652"/>
                    </a:cubicBezTo>
                    <a:cubicBezTo>
                      <a:pt x="1266" y="718"/>
                      <a:pt x="1233" y="793"/>
                      <a:pt x="1242" y="850"/>
                    </a:cubicBezTo>
                    <a:cubicBezTo>
                      <a:pt x="1251" y="907"/>
                      <a:pt x="1303" y="992"/>
                      <a:pt x="1327" y="992"/>
                    </a:cubicBezTo>
                    <a:cubicBezTo>
                      <a:pt x="1351" y="992"/>
                      <a:pt x="1342" y="883"/>
                      <a:pt x="1384" y="850"/>
                    </a:cubicBezTo>
                    <a:cubicBezTo>
                      <a:pt x="1426" y="817"/>
                      <a:pt x="1572" y="775"/>
                      <a:pt x="1582" y="794"/>
                    </a:cubicBezTo>
                    <a:cubicBezTo>
                      <a:pt x="1592" y="813"/>
                      <a:pt x="1455" y="879"/>
                      <a:pt x="1441" y="964"/>
                    </a:cubicBezTo>
                    <a:cubicBezTo>
                      <a:pt x="1427" y="1049"/>
                      <a:pt x="1488" y="1205"/>
                      <a:pt x="1497" y="1304"/>
                    </a:cubicBezTo>
                    <a:cubicBezTo>
                      <a:pt x="1506" y="1403"/>
                      <a:pt x="1525" y="1441"/>
                      <a:pt x="1497" y="1559"/>
                    </a:cubicBezTo>
                    <a:cubicBezTo>
                      <a:pt x="1469" y="1677"/>
                      <a:pt x="1422" y="1909"/>
                      <a:pt x="1327" y="2013"/>
                    </a:cubicBezTo>
                    <a:cubicBezTo>
                      <a:pt x="1232" y="2117"/>
                      <a:pt x="949" y="2207"/>
                      <a:pt x="930" y="2183"/>
                    </a:cubicBezTo>
                    <a:cubicBezTo>
                      <a:pt x="911" y="2159"/>
                      <a:pt x="1162" y="1975"/>
                      <a:pt x="1214" y="1871"/>
                    </a:cubicBezTo>
                    <a:cubicBezTo>
                      <a:pt x="1266" y="1767"/>
                      <a:pt x="1256" y="1649"/>
                      <a:pt x="1242" y="1559"/>
                    </a:cubicBezTo>
                    <a:cubicBezTo>
                      <a:pt x="1228" y="1469"/>
                      <a:pt x="1157" y="1337"/>
                      <a:pt x="1129" y="1332"/>
                    </a:cubicBezTo>
                    <a:cubicBezTo>
                      <a:pt x="1101" y="1327"/>
                      <a:pt x="1091" y="1498"/>
                      <a:pt x="1072" y="1531"/>
                    </a:cubicBezTo>
                    <a:cubicBezTo>
                      <a:pt x="1053" y="1564"/>
                      <a:pt x="1020" y="1578"/>
                      <a:pt x="1015" y="1531"/>
                    </a:cubicBezTo>
                    <a:cubicBezTo>
                      <a:pt x="1010" y="1484"/>
                      <a:pt x="1053" y="1323"/>
                      <a:pt x="1044" y="1247"/>
                    </a:cubicBezTo>
                    <a:cubicBezTo>
                      <a:pt x="1035" y="1171"/>
                      <a:pt x="992" y="1101"/>
                      <a:pt x="959" y="1077"/>
                    </a:cubicBezTo>
                    <a:cubicBezTo>
                      <a:pt x="926" y="1053"/>
                      <a:pt x="854" y="1063"/>
                      <a:pt x="845" y="1105"/>
                    </a:cubicBezTo>
                    <a:cubicBezTo>
                      <a:pt x="836" y="1147"/>
                      <a:pt x="921" y="1256"/>
                      <a:pt x="902" y="1332"/>
                    </a:cubicBezTo>
                    <a:cubicBezTo>
                      <a:pt x="883" y="1408"/>
                      <a:pt x="774" y="1517"/>
                      <a:pt x="732" y="1559"/>
                    </a:cubicBezTo>
                    <a:cubicBezTo>
                      <a:pt x="690" y="1601"/>
                      <a:pt x="661" y="1629"/>
                      <a:pt x="647" y="1587"/>
                    </a:cubicBezTo>
                    <a:cubicBezTo>
                      <a:pt x="633" y="1545"/>
                      <a:pt x="666" y="1356"/>
                      <a:pt x="647" y="1304"/>
                    </a:cubicBezTo>
                    <a:cubicBezTo>
                      <a:pt x="628" y="1252"/>
                      <a:pt x="561" y="1218"/>
                      <a:pt x="533" y="1275"/>
                    </a:cubicBezTo>
                    <a:cubicBezTo>
                      <a:pt x="505" y="1332"/>
                      <a:pt x="505" y="1616"/>
                      <a:pt x="477" y="1644"/>
                    </a:cubicBezTo>
                    <a:cubicBezTo>
                      <a:pt x="449" y="1672"/>
                      <a:pt x="401" y="1451"/>
                      <a:pt x="363" y="1446"/>
                    </a:cubicBezTo>
                    <a:cubicBezTo>
                      <a:pt x="325" y="1441"/>
                      <a:pt x="240" y="1550"/>
                      <a:pt x="250" y="1616"/>
                    </a:cubicBezTo>
                    <a:cubicBezTo>
                      <a:pt x="260" y="1682"/>
                      <a:pt x="420" y="1809"/>
                      <a:pt x="420" y="1842"/>
                    </a:cubicBezTo>
                    <a:cubicBezTo>
                      <a:pt x="420" y="1875"/>
                      <a:pt x="278" y="1805"/>
                      <a:pt x="250" y="1814"/>
                    </a:cubicBezTo>
                    <a:cubicBezTo>
                      <a:pt x="222" y="1823"/>
                      <a:pt x="193" y="1842"/>
                      <a:pt x="250" y="1899"/>
                    </a:cubicBezTo>
                    <a:cubicBezTo>
                      <a:pt x="307" y="1956"/>
                      <a:pt x="557" y="2112"/>
                      <a:pt x="590" y="2154"/>
                    </a:cubicBezTo>
                    <a:cubicBezTo>
                      <a:pt x="623" y="2196"/>
                      <a:pt x="538" y="2197"/>
                      <a:pt x="448" y="215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9" name=""/>
          <p:cNvGrpSpPr/>
          <p:nvPr/>
        </p:nvGrpSpPr>
        <p:grpSpPr>
          <a:xfrm>
            <a:off x="7864560" y="3500280"/>
            <a:ext cx="1709640" cy="1528920"/>
            <a:chOff x="7864560" y="3500280"/>
            <a:chExt cx="1709640" cy="1528920"/>
          </a:xfrm>
        </p:grpSpPr>
        <p:grpSp>
          <p:nvGrpSpPr>
            <p:cNvPr id="750" name=""/>
            <p:cNvGrpSpPr/>
            <p:nvPr/>
          </p:nvGrpSpPr>
          <p:grpSpPr>
            <a:xfrm>
              <a:off x="7864560" y="3500280"/>
              <a:ext cx="1709640" cy="1528920"/>
              <a:chOff x="7864560" y="3500280"/>
              <a:chExt cx="1709640" cy="1528920"/>
            </a:xfrm>
          </p:grpSpPr>
          <p:sp>
            <p:nvSpPr>
              <p:cNvPr id="751" name=""/>
              <p:cNvSpPr/>
              <p:nvPr/>
            </p:nvSpPr>
            <p:spPr>
              <a:xfrm>
                <a:off x="7883640" y="351936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864560" y="3500280"/>
                <a:ext cx="1709640" cy="1528920"/>
              </a:xfrm>
              <a:custGeom>
                <a:avLst/>
                <a:gdLst/>
                <a:ahLst/>
                <a:rect l="l" t="t" r="r" b="b"/>
                <a:pathLst>
                  <a:path w="1077" h="963">
                    <a:moveTo>
                      <a:pt x="113" y="878"/>
                    </a:moveTo>
                    <a:lnTo>
                      <a:pt x="539" y="878"/>
                    </a:lnTo>
                    <a:lnTo>
                      <a:pt x="539" y="963"/>
                    </a:lnTo>
                    <a:lnTo>
                      <a:pt x="28" y="963"/>
                    </a:lnTo>
                    <a:lnTo>
                      <a:pt x="0" y="935"/>
                    </a:lnTo>
                    <a:lnTo>
                      <a:pt x="0" y="907"/>
                    </a:lnTo>
                    <a:lnTo>
                      <a:pt x="482" y="28"/>
                    </a:lnTo>
                    <a:lnTo>
                      <a:pt x="510" y="0"/>
                    </a:lnTo>
                    <a:lnTo>
                      <a:pt x="567" y="0"/>
                    </a:lnTo>
                    <a:lnTo>
                      <a:pt x="595" y="28"/>
                    </a:lnTo>
                    <a:lnTo>
                      <a:pt x="1077" y="907"/>
                    </a:lnTo>
                    <a:lnTo>
                      <a:pt x="1077" y="935"/>
                    </a:lnTo>
                    <a:lnTo>
                      <a:pt x="1049" y="963"/>
                    </a:lnTo>
                    <a:lnTo>
                      <a:pt x="539" y="963"/>
                    </a:lnTo>
                    <a:lnTo>
                      <a:pt x="539" y="878"/>
                    </a:lnTo>
                    <a:lnTo>
                      <a:pt x="964" y="878"/>
                    </a:lnTo>
                    <a:lnTo>
                      <a:pt x="539" y="85"/>
                    </a:lnTo>
                    <a:lnTo>
                      <a:pt x="113" y="87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8373960" y="3943440"/>
              <a:ext cx="673200" cy="900000"/>
              <a:chOff x="8373960" y="3943440"/>
              <a:chExt cx="673200" cy="900000"/>
            </a:xfrm>
          </p:grpSpPr>
          <p:sp>
            <p:nvSpPr>
              <p:cNvPr id="754" name=""/>
              <p:cNvSpPr/>
              <p:nvPr/>
            </p:nvSpPr>
            <p:spPr>
              <a:xfrm>
                <a:off x="8373960" y="4771440"/>
                <a:ext cx="673200" cy="72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8417160" y="3943440"/>
                <a:ext cx="581400" cy="805680"/>
              </a:xfrm>
              <a:custGeom>
                <a:avLst/>
                <a:gdLst/>
                <a:ahLst/>
                <a:rect l="l" t="t" r="r" b="b"/>
                <a:pathLst>
                  <a:path w="1592" h="2207">
                    <a:moveTo>
                      <a:pt x="448" y="2154"/>
                    </a:moveTo>
                    <a:cubicBezTo>
                      <a:pt x="358" y="2111"/>
                      <a:pt x="104" y="2050"/>
                      <a:pt x="52" y="1899"/>
                    </a:cubicBezTo>
                    <a:cubicBezTo>
                      <a:pt x="0" y="1748"/>
                      <a:pt x="104" y="1332"/>
                      <a:pt x="137" y="1247"/>
                    </a:cubicBezTo>
                    <a:cubicBezTo>
                      <a:pt x="170" y="1162"/>
                      <a:pt x="236" y="1431"/>
                      <a:pt x="250" y="1389"/>
                    </a:cubicBezTo>
                    <a:cubicBezTo>
                      <a:pt x="264" y="1347"/>
                      <a:pt x="217" y="1086"/>
                      <a:pt x="222" y="992"/>
                    </a:cubicBezTo>
                    <a:cubicBezTo>
                      <a:pt x="227" y="898"/>
                      <a:pt x="287" y="869"/>
                      <a:pt x="278" y="822"/>
                    </a:cubicBezTo>
                    <a:cubicBezTo>
                      <a:pt x="269" y="775"/>
                      <a:pt x="146" y="718"/>
                      <a:pt x="165" y="709"/>
                    </a:cubicBezTo>
                    <a:cubicBezTo>
                      <a:pt x="184" y="700"/>
                      <a:pt x="335" y="798"/>
                      <a:pt x="392" y="765"/>
                    </a:cubicBezTo>
                    <a:cubicBezTo>
                      <a:pt x="449" y="732"/>
                      <a:pt x="496" y="590"/>
                      <a:pt x="505" y="510"/>
                    </a:cubicBezTo>
                    <a:cubicBezTo>
                      <a:pt x="514" y="430"/>
                      <a:pt x="424" y="368"/>
                      <a:pt x="448" y="283"/>
                    </a:cubicBezTo>
                    <a:cubicBezTo>
                      <a:pt x="472" y="198"/>
                      <a:pt x="586" y="0"/>
                      <a:pt x="647" y="0"/>
                    </a:cubicBezTo>
                    <a:cubicBezTo>
                      <a:pt x="708" y="0"/>
                      <a:pt x="756" y="203"/>
                      <a:pt x="817" y="283"/>
                    </a:cubicBezTo>
                    <a:cubicBezTo>
                      <a:pt x="878" y="363"/>
                      <a:pt x="977" y="411"/>
                      <a:pt x="1015" y="482"/>
                    </a:cubicBezTo>
                    <a:cubicBezTo>
                      <a:pt x="1053" y="553"/>
                      <a:pt x="1016" y="704"/>
                      <a:pt x="1044" y="709"/>
                    </a:cubicBezTo>
                    <a:cubicBezTo>
                      <a:pt x="1072" y="714"/>
                      <a:pt x="1166" y="562"/>
                      <a:pt x="1185" y="510"/>
                    </a:cubicBezTo>
                    <a:cubicBezTo>
                      <a:pt x="1204" y="458"/>
                      <a:pt x="1143" y="406"/>
                      <a:pt x="1157" y="397"/>
                    </a:cubicBezTo>
                    <a:cubicBezTo>
                      <a:pt x="1171" y="388"/>
                      <a:pt x="1252" y="411"/>
                      <a:pt x="1271" y="453"/>
                    </a:cubicBezTo>
                    <a:cubicBezTo>
                      <a:pt x="1290" y="495"/>
                      <a:pt x="1276" y="586"/>
                      <a:pt x="1271" y="652"/>
                    </a:cubicBezTo>
                    <a:cubicBezTo>
                      <a:pt x="1266" y="718"/>
                      <a:pt x="1233" y="793"/>
                      <a:pt x="1242" y="850"/>
                    </a:cubicBezTo>
                    <a:cubicBezTo>
                      <a:pt x="1251" y="907"/>
                      <a:pt x="1303" y="992"/>
                      <a:pt x="1327" y="992"/>
                    </a:cubicBezTo>
                    <a:cubicBezTo>
                      <a:pt x="1351" y="992"/>
                      <a:pt x="1342" y="883"/>
                      <a:pt x="1384" y="850"/>
                    </a:cubicBezTo>
                    <a:cubicBezTo>
                      <a:pt x="1426" y="817"/>
                      <a:pt x="1572" y="775"/>
                      <a:pt x="1582" y="794"/>
                    </a:cubicBezTo>
                    <a:cubicBezTo>
                      <a:pt x="1592" y="813"/>
                      <a:pt x="1455" y="879"/>
                      <a:pt x="1441" y="964"/>
                    </a:cubicBezTo>
                    <a:cubicBezTo>
                      <a:pt x="1427" y="1049"/>
                      <a:pt x="1488" y="1205"/>
                      <a:pt x="1497" y="1304"/>
                    </a:cubicBezTo>
                    <a:cubicBezTo>
                      <a:pt x="1506" y="1403"/>
                      <a:pt x="1525" y="1441"/>
                      <a:pt x="1497" y="1559"/>
                    </a:cubicBezTo>
                    <a:cubicBezTo>
                      <a:pt x="1469" y="1677"/>
                      <a:pt x="1422" y="1909"/>
                      <a:pt x="1327" y="2013"/>
                    </a:cubicBezTo>
                    <a:cubicBezTo>
                      <a:pt x="1232" y="2117"/>
                      <a:pt x="949" y="2207"/>
                      <a:pt x="930" y="2183"/>
                    </a:cubicBezTo>
                    <a:cubicBezTo>
                      <a:pt x="911" y="2159"/>
                      <a:pt x="1162" y="1975"/>
                      <a:pt x="1214" y="1871"/>
                    </a:cubicBezTo>
                    <a:cubicBezTo>
                      <a:pt x="1266" y="1767"/>
                      <a:pt x="1256" y="1649"/>
                      <a:pt x="1242" y="1559"/>
                    </a:cubicBezTo>
                    <a:cubicBezTo>
                      <a:pt x="1228" y="1469"/>
                      <a:pt x="1157" y="1337"/>
                      <a:pt x="1129" y="1332"/>
                    </a:cubicBezTo>
                    <a:cubicBezTo>
                      <a:pt x="1101" y="1327"/>
                      <a:pt x="1091" y="1498"/>
                      <a:pt x="1072" y="1531"/>
                    </a:cubicBezTo>
                    <a:cubicBezTo>
                      <a:pt x="1053" y="1564"/>
                      <a:pt x="1020" y="1578"/>
                      <a:pt x="1015" y="1531"/>
                    </a:cubicBezTo>
                    <a:cubicBezTo>
                      <a:pt x="1010" y="1484"/>
                      <a:pt x="1053" y="1323"/>
                      <a:pt x="1044" y="1247"/>
                    </a:cubicBezTo>
                    <a:cubicBezTo>
                      <a:pt x="1035" y="1171"/>
                      <a:pt x="992" y="1101"/>
                      <a:pt x="959" y="1077"/>
                    </a:cubicBezTo>
                    <a:cubicBezTo>
                      <a:pt x="926" y="1053"/>
                      <a:pt x="854" y="1063"/>
                      <a:pt x="845" y="1105"/>
                    </a:cubicBezTo>
                    <a:cubicBezTo>
                      <a:pt x="836" y="1147"/>
                      <a:pt x="921" y="1256"/>
                      <a:pt x="902" y="1332"/>
                    </a:cubicBezTo>
                    <a:cubicBezTo>
                      <a:pt x="883" y="1408"/>
                      <a:pt x="774" y="1517"/>
                      <a:pt x="732" y="1559"/>
                    </a:cubicBezTo>
                    <a:cubicBezTo>
                      <a:pt x="690" y="1601"/>
                      <a:pt x="661" y="1629"/>
                      <a:pt x="647" y="1587"/>
                    </a:cubicBezTo>
                    <a:cubicBezTo>
                      <a:pt x="633" y="1545"/>
                      <a:pt x="666" y="1356"/>
                      <a:pt x="647" y="1304"/>
                    </a:cubicBezTo>
                    <a:cubicBezTo>
                      <a:pt x="628" y="1252"/>
                      <a:pt x="561" y="1218"/>
                      <a:pt x="533" y="1275"/>
                    </a:cubicBezTo>
                    <a:cubicBezTo>
                      <a:pt x="505" y="1332"/>
                      <a:pt x="505" y="1616"/>
                      <a:pt x="477" y="1644"/>
                    </a:cubicBezTo>
                    <a:cubicBezTo>
                      <a:pt x="449" y="1672"/>
                      <a:pt x="401" y="1451"/>
                      <a:pt x="363" y="1446"/>
                    </a:cubicBezTo>
                    <a:cubicBezTo>
                      <a:pt x="325" y="1441"/>
                      <a:pt x="240" y="1550"/>
                      <a:pt x="250" y="1616"/>
                    </a:cubicBezTo>
                    <a:cubicBezTo>
                      <a:pt x="260" y="1682"/>
                      <a:pt x="420" y="1809"/>
                      <a:pt x="420" y="1842"/>
                    </a:cubicBezTo>
                    <a:cubicBezTo>
                      <a:pt x="420" y="1875"/>
                      <a:pt x="278" y="1805"/>
                      <a:pt x="250" y="1814"/>
                    </a:cubicBezTo>
                    <a:cubicBezTo>
                      <a:pt x="222" y="1823"/>
                      <a:pt x="193" y="1842"/>
                      <a:pt x="250" y="1899"/>
                    </a:cubicBezTo>
                    <a:cubicBezTo>
                      <a:pt x="307" y="1956"/>
                      <a:pt x="557" y="2112"/>
                      <a:pt x="590" y="2154"/>
                    </a:cubicBezTo>
                    <a:cubicBezTo>
                      <a:pt x="623" y="2196"/>
                      <a:pt x="538" y="2197"/>
                      <a:pt x="448" y="215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6" name=""/>
          <p:cNvGrpSpPr/>
          <p:nvPr/>
        </p:nvGrpSpPr>
        <p:grpSpPr>
          <a:xfrm>
            <a:off x="4113360" y="3492360"/>
            <a:ext cx="1709640" cy="1528920"/>
            <a:chOff x="4113360" y="3492360"/>
            <a:chExt cx="1709640" cy="1528920"/>
          </a:xfrm>
        </p:grpSpPr>
        <p:grpSp>
          <p:nvGrpSpPr>
            <p:cNvPr id="757" name=""/>
            <p:cNvGrpSpPr/>
            <p:nvPr/>
          </p:nvGrpSpPr>
          <p:grpSpPr>
            <a:xfrm>
              <a:off x="4113360" y="3492360"/>
              <a:ext cx="1709640" cy="1528920"/>
              <a:chOff x="4113360" y="3492360"/>
              <a:chExt cx="1709640" cy="1528920"/>
            </a:xfrm>
          </p:grpSpPr>
          <p:sp>
            <p:nvSpPr>
              <p:cNvPr id="758" name=""/>
              <p:cNvSpPr/>
              <p:nvPr/>
            </p:nvSpPr>
            <p:spPr>
              <a:xfrm>
                <a:off x="4132440" y="351144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113360" y="3492360"/>
                <a:ext cx="1709640" cy="1528920"/>
              </a:xfrm>
              <a:custGeom>
                <a:avLst/>
                <a:gdLst/>
                <a:ahLst/>
                <a:rect l="l" t="t" r="r" b="b"/>
                <a:pathLst>
                  <a:path w="1077" h="963">
                    <a:moveTo>
                      <a:pt x="113" y="878"/>
                    </a:moveTo>
                    <a:lnTo>
                      <a:pt x="539" y="878"/>
                    </a:lnTo>
                    <a:lnTo>
                      <a:pt x="539" y="963"/>
                    </a:lnTo>
                    <a:lnTo>
                      <a:pt x="28" y="963"/>
                    </a:lnTo>
                    <a:lnTo>
                      <a:pt x="0" y="935"/>
                    </a:lnTo>
                    <a:lnTo>
                      <a:pt x="0" y="907"/>
                    </a:lnTo>
                    <a:lnTo>
                      <a:pt x="482" y="28"/>
                    </a:lnTo>
                    <a:lnTo>
                      <a:pt x="510" y="0"/>
                    </a:lnTo>
                    <a:lnTo>
                      <a:pt x="567" y="0"/>
                    </a:lnTo>
                    <a:lnTo>
                      <a:pt x="595" y="28"/>
                    </a:lnTo>
                    <a:lnTo>
                      <a:pt x="1077" y="907"/>
                    </a:lnTo>
                    <a:lnTo>
                      <a:pt x="1077" y="935"/>
                    </a:lnTo>
                    <a:lnTo>
                      <a:pt x="1049" y="963"/>
                    </a:lnTo>
                    <a:lnTo>
                      <a:pt x="539" y="963"/>
                    </a:lnTo>
                    <a:lnTo>
                      <a:pt x="539" y="878"/>
                    </a:lnTo>
                    <a:lnTo>
                      <a:pt x="964" y="878"/>
                    </a:lnTo>
                    <a:lnTo>
                      <a:pt x="539" y="85"/>
                    </a:lnTo>
                    <a:lnTo>
                      <a:pt x="113" y="8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4618080" y="3943440"/>
              <a:ext cx="673200" cy="900000"/>
              <a:chOff x="4618080" y="3943440"/>
              <a:chExt cx="673200" cy="900000"/>
            </a:xfrm>
          </p:grpSpPr>
          <p:sp>
            <p:nvSpPr>
              <p:cNvPr id="761" name=""/>
              <p:cNvSpPr/>
              <p:nvPr/>
            </p:nvSpPr>
            <p:spPr>
              <a:xfrm>
                <a:off x="4618080" y="4771440"/>
                <a:ext cx="673200" cy="72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4661280" y="3943440"/>
                <a:ext cx="581400" cy="805680"/>
              </a:xfrm>
              <a:custGeom>
                <a:avLst/>
                <a:gdLst/>
                <a:ahLst/>
                <a:rect l="l" t="t" r="r" b="b"/>
                <a:pathLst>
                  <a:path w="1592" h="2207">
                    <a:moveTo>
                      <a:pt x="448" y="2154"/>
                    </a:moveTo>
                    <a:cubicBezTo>
                      <a:pt x="358" y="2111"/>
                      <a:pt x="104" y="2050"/>
                      <a:pt x="52" y="1899"/>
                    </a:cubicBezTo>
                    <a:cubicBezTo>
                      <a:pt x="0" y="1748"/>
                      <a:pt x="104" y="1332"/>
                      <a:pt x="137" y="1247"/>
                    </a:cubicBezTo>
                    <a:cubicBezTo>
                      <a:pt x="170" y="1162"/>
                      <a:pt x="236" y="1431"/>
                      <a:pt x="250" y="1389"/>
                    </a:cubicBezTo>
                    <a:cubicBezTo>
                      <a:pt x="264" y="1347"/>
                      <a:pt x="217" y="1086"/>
                      <a:pt x="222" y="992"/>
                    </a:cubicBezTo>
                    <a:cubicBezTo>
                      <a:pt x="227" y="898"/>
                      <a:pt x="287" y="869"/>
                      <a:pt x="278" y="822"/>
                    </a:cubicBezTo>
                    <a:cubicBezTo>
                      <a:pt x="269" y="775"/>
                      <a:pt x="146" y="718"/>
                      <a:pt x="165" y="709"/>
                    </a:cubicBezTo>
                    <a:cubicBezTo>
                      <a:pt x="184" y="700"/>
                      <a:pt x="335" y="798"/>
                      <a:pt x="392" y="765"/>
                    </a:cubicBezTo>
                    <a:cubicBezTo>
                      <a:pt x="449" y="732"/>
                      <a:pt x="496" y="590"/>
                      <a:pt x="505" y="510"/>
                    </a:cubicBezTo>
                    <a:cubicBezTo>
                      <a:pt x="514" y="430"/>
                      <a:pt x="424" y="368"/>
                      <a:pt x="448" y="283"/>
                    </a:cubicBezTo>
                    <a:cubicBezTo>
                      <a:pt x="472" y="198"/>
                      <a:pt x="586" y="0"/>
                      <a:pt x="647" y="0"/>
                    </a:cubicBezTo>
                    <a:cubicBezTo>
                      <a:pt x="708" y="0"/>
                      <a:pt x="756" y="203"/>
                      <a:pt x="817" y="283"/>
                    </a:cubicBezTo>
                    <a:cubicBezTo>
                      <a:pt x="878" y="363"/>
                      <a:pt x="977" y="411"/>
                      <a:pt x="1015" y="482"/>
                    </a:cubicBezTo>
                    <a:cubicBezTo>
                      <a:pt x="1053" y="553"/>
                      <a:pt x="1016" y="704"/>
                      <a:pt x="1044" y="709"/>
                    </a:cubicBezTo>
                    <a:cubicBezTo>
                      <a:pt x="1072" y="714"/>
                      <a:pt x="1166" y="562"/>
                      <a:pt x="1185" y="510"/>
                    </a:cubicBezTo>
                    <a:cubicBezTo>
                      <a:pt x="1204" y="458"/>
                      <a:pt x="1143" y="406"/>
                      <a:pt x="1157" y="397"/>
                    </a:cubicBezTo>
                    <a:cubicBezTo>
                      <a:pt x="1171" y="388"/>
                      <a:pt x="1252" y="411"/>
                      <a:pt x="1271" y="453"/>
                    </a:cubicBezTo>
                    <a:cubicBezTo>
                      <a:pt x="1290" y="495"/>
                      <a:pt x="1276" y="586"/>
                      <a:pt x="1271" y="652"/>
                    </a:cubicBezTo>
                    <a:cubicBezTo>
                      <a:pt x="1266" y="718"/>
                      <a:pt x="1233" y="793"/>
                      <a:pt x="1242" y="850"/>
                    </a:cubicBezTo>
                    <a:cubicBezTo>
                      <a:pt x="1251" y="907"/>
                      <a:pt x="1303" y="992"/>
                      <a:pt x="1327" y="992"/>
                    </a:cubicBezTo>
                    <a:cubicBezTo>
                      <a:pt x="1351" y="992"/>
                      <a:pt x="1342" y="883"/>
                      <a:pt x="1384" y="850"/>
                    </a:cubicBezTo>
                    <a:cubicBezTo>
                      <a:pt x="1426" y="817"/>
                      <a:pt x="1572" y="775"/>
                      <a:pt x="1582" y="794"/>
                    </a:cubicBezTo>
                    <a:cubicBezTo>
                      <a:pt x="1592" y="813"/>
                      <a:pt x="1455" y="879"/>
                      <a:pt x="1441" y="964"/>
                    </a:cubicBezTo>
                    <a:cubicBezTo>
                      <a:pt x="1427" y="1049"/>
                      <a:pt x="1488" y="1205"/>
                      <a:pt x="1497" y="1304"/>
                    </a:cubicBezTo>
                    <a:cubicBezTo>
                      <a:pt x="1506" y="1403"/>
                      <a:pt x="1525" y="1441"/>
                      <a:pt x="1497" y="1559"/>
                    </a:cubicBezTo>
                    <a:cubicBezTo>
                      <a:pt x="1469" y="1677"/>
                      <a:pt x="1422" y="1909"/>
                      <a:pt x="1327" y="2013"/>
                    </a:cubicBezTo>
                    <a:cubicBezTo>
                      <a:pt x="1232" y="2117"/>
                      <a:pt x="949" y="2207"/>
                      <a:pt x="930" y="2183"/>
                    </a:cubicBezTo>
                    <a:cubicBezTo>
                      <a:pt x="911" y="2159"/>
                      <a:pt x="1162" y="1975"/>
                      <a:pt x="1214" y="1871"/>
                    </a:cubicBezTo>
                    <a:cubicBezTo>
                      <a:pt x="1266" y="1767"/>
                      <a:pt x="1256" y="1649"/>
                      <a:pt x="1242" y="1559"/>
                    </a:cubicBezTo>
                    <a:cubicBezTo>
                      <a:pt x="1228" y="1469"/>
                      <a:pt x="1157" y="1337"/>
                      <a:pt x="1129" y="1332"/>
                    </a:cubicBezTo>
                    <a:cubicBezTo>
                      <a:pt x="1101" y="1327"/>
                      <a:pt x="1091" y="1498"/>
                      <a:pt x="1072" y="1531"/>
                    </a:cubicBezTo>
                    <a:cubicBezTo>
                      <a:pt x="1053" y="1564"/>
                      <a:pt x="1020" y="1578"/>
                      <a:pt x="1015" y="1531"/>
                    </a:cubicBezTo>
                    <a:cubicBezTo>
                      <a:pt x="1010" y="1484"/>
                      <a:pt x="1053" y="1323"/>
                      <a:pt x="1044" y="1247"/>
                    </a:cubicBezTo>
                    <a:cubicBezTo>
                      <a:pt x="1035" y="1171"/>
                      <a:pt x="992" y="1101"/>
                      <a:pt x="959" y="1077"/>
                    </a:cubicBezTo>
                    <a:cubicBezTo>
                      <a:pt x="926" y="1053"/>
                      <a:pt x="854" y="1063"/>
                      <a:pt x="845" y="1105"/>
                    </a:cubicBezTo>
                    <a:cubicBezTo>
                      <a:pt x="836" y="1147"/>
                      <a:pt x="921" y="1256"/>
                      <a:pt x="902" y="1332"/>
                    </a:cubicBezTo>
                    <a:cubicBezTo>
                      <a:pt x="883" y="1408"/>
                      <a:pt x="774" y="1517"/>
                      <a:pt x="732" y="1559"/>
                    </a:cubicBezTo>
                    <a:cubicBezTo>
                      <a:pt x="690" y="1601"/>
                      <a:pt x="661" y="1629"/>
                      <a:pt x="647" y="1587"/>
                    </a:cubicBezTo>
                    <a:cubicBezTo>
                      <a:pt x="633" y="1545"/>
                      <a:pt x="666" y="1356"/>
                      <a:pt x="647" y="1304"/>
                    </a:cubicBezTo>
                    <a:cubicBezTo>
                      <a:pt x="628" y="1252"/>
                      <a:pt x="561" y="1218"/>
                      <a:pt x="533" y="1275"/>
                    </a:cubicBezTo>
                    <a:cubicBezTo>
                      <a:pt x="505" y="1332"/>
                      <a:pt x="505" y="1616"/>
                      <a:pt x="477" y="1644"/>
                    </a:cubicBezTo>
                    <a:cubicBezTo>
                      <a:pt x="449" y="1672"/>
                      <a:pt x="401" y="1451"/>
                      <a:pt x="363" y="1446"/>
                    </a:cubicBezTo>
                    <a:cubicBezTo>
                      <a:pt x="325" y="1441"/>
                      <a:pt x="240" y="1550"/>
                      <a:pt x="250" y="1616"/>
                    </a:cubicBezTo>
                    <a:cubicBezTo>
                      <a:pt x="260" y="1682"/>
                      <a:pt x="420" y="1809"/>
                      <a:pt x="420" y="1842"/>
                    </a:cubicBezTo>
                    <a:cubicBezTo>
                      <a:pt x="420" y="1875"/>
                      <a:pt x="278" y="1805"/>
                      <a:pt x="250" y="1814"/>
                    </a:cubicBezTo>
                    <a:cubicBezTo>
                      <a:pt x="222" y="1823"/>
                      <a:pt x="193" y="1842"/>
                      <a:pt x="250" y="1899"/>
                    </a:cubicBezTo>
                    <a:cubicBezTo>
                      <a:pt x="307" y="1956"/>
                      <a:pt x="557" y="2112"/>
                      <a:pt x="590" y="2154"/>
                    </a:cubicBezTo>
                    <a:cubicBezTo>
                      <a:pt x="623" y="2196"/>
                      <a:pt x="538" y="2197"/>
                      <a:pt x="448" y="215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3" name=""/>
          <p:cNvGrpSpPr/>
          <p:nvPr/>
        </p:nvGrpSpPr>
        <p:grpSpPr>
          <a:xfrm>
            <a:off x="5978520" y="3475080"/>
            <a:ext cx="1709640" cy="1528560"/>
            <a:chOff x="5978520" y="3475080"/>
            <a:chExt cx="1709640" cy="1528560"/>
          </a:xfrm>
        </p:grpSpPr>
        <p:grpSp>
          <p:nvGrpSpPr>
            <p:cNvPr id="764" name=""/>
            <p:cNvGrpSpPr/>
            <p:nvPr/>
          </p:nvGrpSpPr>
          <p:grpSpPr>
            <a:xfrm>
              <a:off x="5978520" y="3475080"/>
              <a:ext cx="1709640" cy="1528560"/>
              <a:chOff x="5978520" y="3475080"/>
              <a:chExt cx="1709640" cy="1528560"/>
            </a:xfrm>
          </p:grpSpPr>
          <p:sp>
            <p:nvSpPr>
              <p:cNvPr id="765" name=""/>
              <p:cNvSpPr/>
              <p:nvPr/>
            </p:nvSpPr>
            <p:spPr>
              <a:xfrm>
                <a:off x="5997600" y="349416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978520" y="3475080"/>
                <a:ext cx="1709640" cy="1528560"/>
              </a:xfrm>
              <a:custGeom>
                <a:avLst/>
                <a:gdLst/>
                <a:ahLst/>
                <a:rect l="l" t="t" r="r" b="b"/>
                <a:pathLst>
                  <a:path w="1077" h="963">
                    <a:moveTo>
                      <a:pt x="113" y="878"/>
                    </a:moveTo>
                    <a:lnTo>
                      <a:pt x="539" y="878"/>
                    </a:lnTo>
                    <a:lnTo>
                      <a:pt x="539" y="963"/>
                    </a:lnTo>
                    <a:lnTo>
                      <a:pt x="28" y="963"/>
                    </a:lnTo>
                    <a:lnTo>
                      <a:pt x="0" y="935"/>
                    </a:lnTo>
                    <a:lnTo>
                      <a:pt x="0" y="907"/>
                    </a:lnTo>
                    <a:lnTo>
                      <a:pt x="482" y="28"/>
                    </a:lnTo>
                    <a:lnTo>
                      <a:pt x="510" y="0"/>
                    </a:lnTo>
                    <a:lnTo>
                      <a:pt x="567" y="0"/>
                    </a:lnTo>
                    <a:lnTo>
                      <a:pt x="595" y="28"/>
                    </a:lnTo>
                    <a:lnTo>
                      <a:pt x="1077" y="907"/>
                    </a:lnTo>
                    <a:lnTo>
                      <a:pt x="1077" y="935"/>
                    </a:lnTo>
                    <a:lnTo>
                      <a:pt x="1049" y="963"/>
                    </a:lnTo>
                    <a:lnTo>
                      <a:pt x="539" y="963"/>
                    </a:lnTo>
                    <a:lnTo>
                      <a:pt x="539" y="878"/>
                    </a:lnTo>
                    <a:lnTo>
                      <a:pt x="964" y="878"/>
                    </a:lnTo>
                    <a:lnTo>
                      <a:pt x="539" y="85"/>
                    </a:lnTo>
                    <a:lnTo>
                      <a:pt x="113" y="8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6494400" y="3943440"/>
              <a:ext cx="673200" cy="900000"/>
              <a:chOff x="6494400" y="3943440"/>
              <a:chExt cx="673200" cy="900000"/>
            </a:xfrm>
          </p:grpSpPr>
          <p:sp>
            <p:nvSpPr>
              <p:cNvPr id="768" name=""/>
              <p:cNvSpPr/>
              <p:nvPr/>
            </p:nvSpPr>
            <p:spPr>
              <a:xfrm>
                <a:off x="6494400" y="4771440"/>
                <a:ext cx="673200" cy="72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537600" y="3943440"/>
                <a:ext cx="581400" cy="805680"/>
              </a:xfrm>
              <a:custGeom>
                <a:avLst/>
                <a:gdLst/>
                <a:ahLst/>
                <a:rect l="l" t="t" r="r" b="b"/>
                <a:pathLst>
                  <a:path w="1592" h="2207">
                    <a:moveTo>
                      <a:pt x="448" y="2154"/>
                    </a:moveTo>
                    <a:cubicBezTo>
                      <a:pt x="358" y="2111"/>
                      <a:pt x="104" y="2050"/>
                      <a:pt x="52" y="1899"/>
                    </a:cubicBezTo>
                    <a:cubicBezTo>
                      <a:pt x="0" y="1748"/>
                      <a:pt x="104" y="1332"/>
                      <a:pt x="137" y="1247"/>
                    </a:cubicBezTo>
                    <a:cubicBezTo>
                      <a:pt x="170" y="1162"/>
                      <a:pt x="236" y="1431"/>
                      <a:pt x="250" y="1389"/>
                    </a:cubicBezTo>
                    <a:cubicBezTo>
                      <a:pt x="264" y="1347"/>
                      <a:pt x="217" y="1086"/>
                      <a:pt x="222" y="992"/>
                    </a:cubicBezTo>
                    <a:cubicBezTo>
                      <a:pt x="227" y="898"/>
                      <a:pt x="287" y="869"/>
                      <a:pt x="278" y="822"/>
                    </a:cubicBezTo>
                    <a:cubicBezTo>
                      <a:pt x="269" y="775"/>
                      <a:pt x="146" y="718"/>
                      <a:pt x="165" y="709"/>
                    </a:cubicBezTo>
                    <a:cubicBezTo>
                      <a:pt x="184" y="700"/>
                      <a:pt x="335" y="798"/>
                      <a:pt x="392" y="765"/>
                    </a:cubicBezTo>
                    <a:cubicBezTo>
                      <a:pt x="449" y="732"/>
                      <a:pt x="496" y="590"/>
                      <a:pt x="505" y="510"/>
                    </a:cubicBezTo>
                    <a:cubicBezTo>
                      <a:pt x="514" y="430"/>
                      <a:pt x="424" y="368"/>
                      <a:pt x="448" y="283"/>
                    </a:cubicBezTo>
                    <a:cubicBezTo>
                      <a:pt x="472" y="198"/>
                      <a:pt x="586" y="0"/>
                      <a:pt x="647" y="0"/>
                    </a:cubicBezTo>
                    <a:cubicBezTo>
                      <a:pt x="708" y="0"/>
                      <a:pt x="756" y="203"/>
                      <a:pt x="817" y="283"/>
                    </a:cubicBezTo>
                    <a:cubicBezTo>
                      <a:pt x="878" y="363"/>
                      <a:pt x="977" y="411"/>
                      <a:pt x="1015" y="482"/>
                    </a:cubicBezTo>
                    <a:cubicBezTo>
                      <a:pt x="1053" y="553"/>
                      <a:pt x="1016" y="704"/>
                      <a:pt x="1044" y="709"/>
                    </a:cubicBezTo>
                    <a:cubicBezTo>
                      <a:pt x="1072" y="714"/>
                      <a:pt x="1166" y="562"/>
                      <a:pt x="1185" y="510"/>
                    </a:cubicBezTo>
                    <a:cubicBezTo>
                      <a:pt x="1204" y="458"/>
                      <a:pt x="1143" y="406"/>
                      <a:pt x="1157" y="397"/>
                    </a:cubicBezTo>
                    <a:cubicBezTo>
                      <a:pt x="1171" y="388"/>
                      <a:pt x="1252" y="411"/>
                      <a:pt x="1271" y="453"/>
                    </a:cubicBezTo>
                    <a:cubicBezTo>
                      <a:pt x="1290" y="495"/>
                      <a:pt x="1276" y="586"/>
                      <a:pt x="1271" y="652"/>
                    </a:cubicBezTo>
                    <a:cubicBezTo>
                      <a:pt x="1266" y="718"/>
                      <a:pt x="1233" y="793"/>
                      <a:pt x="1242" y="850"/>
                    </a:cubicBezTo>
                    <a:cubicBezTo>
                      <a:pt x="1251" y="907"/>
                      <a:pt x="1303" y="992"/>
                      <a:pt x="1327" y="992"/>
                    </a:cubicBezTo>
                    <a:cubicBezTo>
                      <a:pt x="1351" y="992"/>
                      <a:pt x="1342" y="883"/>
                      <a:pt x="1384" y="850"/>
                    </a:cubicBezTo>
                    <a:cubicBezTo>
                      <a:pt x="1426" y="817"/>
                      <a:pt x="1572" y="775"/>
                      <a:pt x="1582" y="794"/>
                    </a:cubicBezTo>
                    <a:cubicBezTo>
                      <a:pt x="1592" y="813"/>
                      <a:pt x="1455" y="879"/>
                      <a:pt x="1441" y="964"/>
                    </a:cubicBezTo>
                    <a:cubicBezTo>
                      <a:pt x="1427" y="1049"/>
                      <a:pt x="1488" y="1205"/>
                      <a:pt x="1497" y="1304"/>
                    </a:cubicBezTo>
                    <a:cubicBezTo>
                      <a:pt x="1506" y="1403"/>
                      <a:pt x="1525" y="1441"/>
                      <a:pt x="1497" y="1559"/>
                    </a:cubicBezTo>
                    <a:cubicBezTo>
                      <a:pt x="1469" y="1677"/>
                      <a:pt x="1422" y="1909"/>
                      <a:pt x="1327" y="2013"/>
                    </a:cubicBezTo>
                    <a:cubicBezTo>
                      <a:pt x="1232" y="2117"/>
                      <a:pt x="949" y="2207"/>
                      <a:pt x="930" y="2183"/>
                    </a:cubicBezTo>
                    <a:cubicBezTo>
                      <a:pt x="911" y="2159"/>
                      <a:pt x="1162" y="1975"/>
                      <a:pt x="1214" y="1871"/>
                    </a:cubicBezTo>
                    <a:cubicBezTo>
                      <a:pt x="1266" y="1767"/>
                      <a:pt x="1256" y="1649"/>
                      <a:pt x="1242" y="1559"/>
                    </a:cubicBezTo>
                    <a:cubicBezTo>
                      <a:pt x="1228" y="1469"/>
                      <a:pt x="1157" y="1337"/>
                      <a:pt x="1129" y="1332"/>
                    </a:cubicBezTo>
                    <a:cubicBezTo>
                      <a:pt x="1101" y="1327"/>
                      <a:pt x="1091" y="1498"/>
                      <a:pt x="1072" y="1531"/>
                    </a:cubicBezTo>
                    <a:cubicBezTo>
                      <a:pt x="1053" y="1564"/>
                      <a:pt x="1020" y="1578"/>
                      <a:pt x="1015" y="1531"/>
                    </a:cubicBezTo>
                    <a:cubicBezTo>
                      <a:pt x="1010" y="1484"/>
                      <a:pt x="1053" y="1323"/>
                      <a:pt x="1044" y="1247"/>
                    </a:cubicBezTo>
                    <a:cubicBezTo>
                      <a:pt x="1035" y="1171"/>
                      <a:pt x="992" y="1101"/>
                      <a:pt x="959" y="1077"/>
                    </a:cubicBezTo>
                    <a:cubicBezTo>
                      <a:pt x="926" y="1053"/>
                      <a:pt x="854" y="1063"/>
                      <a:pt x="845" y="1105"/>
                    </a:cubicBezTo>
                    <a:cubicBezTo>
                      <a:pt x="836" y="1147"/>
                      <a:pt x="921" y="1256"/>
                      <a:pt x="902" y="1332"/>
                    </a:cubicBezTo>
                    <a:cubicBezTo>
                      <a:pt x="883" y="1408"/>
                      <a:pt x="774" y="1517"/>
                      <a:pt x="732" y="1559"/>
                    </a:cubicBezTo>
                    <a:cubicBezTo>
                      <a:pt x="690" y="1601"/>
                      <a:pt x="661" y="1629"/>
                      <a:pt x="647" y="1587"/>
                    </a:cubicBezTo>
                    <a:cubicBezTo>
                      <a:pt x="633" y="1545"/>
                      <a:pt x="666" y="1356"/>
                      <a:pt x="647" y="1304"/>
                    </a:cubicBezTo>
                    <a:cubicBezTo>
                      <a:pt x="628" y="1252"/>
                      <a:pt x="561" y="1218"/>
                      <a:pt x="533" y="1275"/>
                    </a:cubicBezTo>
                    <a:cubicBezTo>
                      <a:pt x="505" y="1332"/>
                      <a:pt x="505" y="1616"/>
                      <a:pt x="477" y="1644"/>
                    </a:cubicBezTo>
                    <a:cubicBezTo>
                      <a:pt x="449" y="1672"/>
                      <a:pt x="401" y="1451"/>
                      <a:pt x="363" y="1446"/>
                    </a:cubicBezTo>
                    <a:cubicBezTo>
                      <a:pt x="325" y="1441"/>
                      <a:pt x="240" y="1550"/>
                      <a:pt x="250" y="1616"/>
                    </a:cubicBezTo>
                    <a:cubicBezTo>
                      <a:pt x="260" y="1682"/>
                      <a:pt x="420" y="1809"/>
                      <a:pt x="420" y="1842"/>
                    </a:cubicBezTo>
                    <a:cubicBezTo>
                      <a:pt x="420" y="1875"/>
                      <a:pt x="278" y="1805"/>
                      <a:pt x="250" y="1814"/>
                    </a:cubicBezTo>
                    <a:cubicBezTo>
                      <a:pt x="222" y="1823"/>
                      <a:pt x="193" y="1842"/>
                      <a:pt x="250" y="1899"/>
                    </a:cubicBezTo>
                    <a:cubicBezTo>
                      <a:pt x="307" y="1956"/>
                      <a:pt x="557" y="2112"/>
                      <a:pt x="590" y="2154"/>
                    </a:cubicBezTo>
                    <a:cubicBezTo>
                      <a:pt x="623" y="2196"/>
                      <a:pt x="538" y="2197"/>
                      <a:pt x="448" y="215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0" name=""/>
          <p:cNvGrpSpPr/>
          <p:nvPr/>
        </p:nvGrpSpPr>
        <p:grpSpPr>
          <a:xfrm>
            <a:off x="2222640" y="3498840"/>
            <a:ext cx="1709640" cy="1528920"/>
            <a:chOff x="2222640" y="3498840"/>
            <a:chExt cx="1709640" cy="1528920"/>
          </a:xfrm>
        </p:grpSpPr>
        <p:grpSp>
          <p:nvGrpSpPr>
            <p:cNvPr id="771" name=""/>
            <p:cNvGrpSpPr/>
            <p:nvPr/>
          </p:nvGrpSpPr>
          <p:grpSpPr>
            <a:xfrm>
              <a:off x="2222640" y="3498840"/>
              <a:ext cx="1709640" cy="1528920"/>
              <a:chOff x="2222640" y="3498840"/>
              <a:chExt cx="1709640" cy="1528920"/>
            </a:xfrm>
          </p:grpSpPr>
          <p:sp>
            <p:nvSpPr>
              <p:cNvPr id="772" name=""/>
              <p:cNvSpPr/>
              <p:nvPr/>
            </p:nvSpPr>
            <p:spPr>
              <a:xfrm>
                <a:off x="2241720" y="3521160"/>
                <a:ext cx="1670040" cy="149040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22640" y="3498840"/>
                <a:ext cx="1709640" cy="1528920"/>
              </a:xfrm>
              <a:custGeom>
                <a:avLst/>
                <a:gdLst/>
                <a:ahLst/>
                <a:rect l="l" t="t" r="r" b="b"/>
                <a:pathLst>
                  <a:path w="1077" h="963">
                    <a:moveTo>
                      <a:pt x="113" y="878"/>
                    </a:moveTo>
                    <a:lnTo>
                      <a:pt x="539" y="878"/>
                    </a:lnTo>
                    <a:lnTo>
                      <a:pt x="539" y="963"/>
                    </a:lnTo>
                    <a:lnTo>
                      <a:pt x="28" y="963"/>
                    </a:lnTo>
                    <a:lnTo>
                      <a:pt x="0" y="935"/>
                    </a:lnTo>
                    <a:lnTo>
                      <a:pt x="0" y="907"/>
                    </a:lnTo>
                    <a:lnTo>
                      <a:pt x="482" y="28"/>
                    </a:lnTo>
                    <a:lnTo>
                      <a:pt x="510" y="0"/>
                    </a:lnTo>
                    <a:lnTo>
                      <a:pt x="567" y="0"/>
                    </a:lnTo>
                    <a:lnTo>
                      <a:pt x="595" y="28"/>
                    </a:lnTo>
                    <a:lnTo>
                      <a:pt x="1077" y="907"/>
                    </a:lnTo>
                    <a:lnTo>
                      <a:pt x="1077" y="935"/>
                    </a:lnTo>
                    <a:lnTo>
                      <a:pt x="1049" y="963"/>
                    </a:lnTo>
                    <a:lnTo>
                      <a:pt x="539" y="963"/>
                    </a:lnTo>
                    <a:lnTo>
                      <a:pt x="539" y="878"/>
                    </a:lnTo>
                    <a:lnTo>
                      <a:pt x="964" y="878"/>
                    </a:lnTo>
                    <a:lnTo>
                      <a:pt x="539" y="85"/>
                    </a:lnTo>
                    <a:lnTo>
                      <a:pt x="113" y="8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2778120" y="3943440"/>
              <a:ext cx="673200" cy="900000"/>
              <a:chOff x="2778120" y="3943440"/>
              <a:chExt cx="673200" cy="900000"/>
            </a:xfrm>
          </p:grpSpPr>
          <p:sp>
            <p:nvSpPr>
              <p:cNvPr id="775" name=""/>
              <p:cNvSpPr/>
              <p:nvPr/>
            </p:nvSpPr>
            <p:spPr>
              <a:xfrm>
                <a:off x="2778120" y="4771440"/>
                <a:ext cx="673200" cy="72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2821320" y="3943440"/>
                <a:ext cx="581400" cy="805680"/>
              </a:xfrm>
              <a:custGeom>
                <a:avLst/>
                <a:gdLst/>
                <a:ahLst/>
                <a:rect l="l" t="t" r="r" b="b"/>
                <a:pathLst>
                  <a:path w="1592" h="2207">
                    <a:moveTo>
                      <a:pt x="448" y="2154"/>
                    </a:moveTo>
                    <a:cubicBezTo>
                      <a:pt x="358" y="2111"/>
                      <a:pt x="104" y="2050"/>
                      <a:pt x="52" y="1899"/>
                    </a:cubicBezTo>
                    <a:cubicBezTo>
                      <a:pt x="0" y="1748"/>
                      <a:pt x="104" y="1332"/>
                      <a:pt x="137" y="1247"/>
                    </a:cubicBezTo>
                    <a:cubicBezTo>
                      <a:pt x="170" y="1162"/>
                      <a:pt x="236" y="1431"/>
                      <a:pt x="250" y="1389"/>
                    </a:cubicBezTo>
                    <a:cubicBezTo>
                      <a:pt x="264" y="1347"/>
                      <a:pt x="217" y="1086"/>
                      <a:pt x="222" y="992"/>
                    </a:cubicBezTo>
                    <a:cubicBezTo>
                      <a:pt x="227" y="898"/>
                      <a:pt x="287" y="869"/>
                      <a:pt x="278" y="822"/>
                    </a:cubicBezTo>
                    <a:cubicBezTo>
                      <a:pt x="269" y="775"/>
                      <a:pt x="146" y="718"/>
                      <a:pt x="165" y="709"/>
                    </a:cubicBezTo>
                    <a:cubicBezTo>
                      <a:pt x="184" y="700"/>
                      <a:pt x="335" y="798"/>
                      <a:pt x="392" y="765"/>
                    </a:cubicBezTo>
                    <a:cubicBezTo>
                      <a:pt x="449" y="732"/>
                      <a:pt x="496" y="590"/>
                      <a:pt x="505" y="510"/>
                    </a:cubicBezTo>
                    <a:cubicBezTo>
                      <a:pt x="514" y="430"/>
                      <a:pt x="424" y="368"/>
                      <a:pt x="448" y="283"/>
                    </a:cubicBezTo>
                    <a:cubicBezTo>
                      <a:pt x="472" y="198"/>
                      <a:pt x="586" y="0"/>
                      <a:pt x="647" y="0"/>
                    </a:cubicBezTo>
                    <a:cubicBezTo>
                      <a:pt x="708" y="0"/>
                      <a:pt x="756" y="203"/>
                      <a:pt x="817" y="283"/>
                    </a:cubicBezTo>
                    <a:cubicBezTo>
                      <a:pt x="878" y="363"/>
                      <a:pt x="977" y="411"/>
                      <a:pt x="1015" y="482"/>
                    </a:cubicBezTo>
                    <a:cubicBezTo>
                      <a:pt x="1053" y="553"/>
                      <a:pt x="1016" y="704"/>
                      <a:pt x="1044" y="709"/>
                    </a:cubicBezTo>
                    <a:cubicBezTo>
                      <a:pt x="1072" y="714"/>
                      <a:pt x="1166" y="562"/>
                      <a:pt x="1185" y="510"/>
                    </a:cubicBezTo>
                    <a:cubicBezTo>
                      <a:pt x="1204" y="458"/>
                      <a:pt x="1143" y="406"/>
                      <a:pt x="1157" y="397"/>
                    </a:cubicBezTo>
                    <a:cubicBezTo>
                      <a:pt x="1171" y="388"/>
                      <a:pt x="1252" y="411"/>
                      <a:pt x="1271" y="453"/>
                    </a:cubicBezTo>
                    <a:cubicBezTo>
                      <a:pt x="1290" y="495"/>
                      <a:pt x="1276" y="586"/>
                      <a:pt x="1271" y="652"/>
                    </a:cubicBezTo>
                    <a:cubicBezTo>
                      <a:pt x="1266" y="718"/>
                      <a:pt x="1233" y="793"/>
                      <a:pt x="1242" y="850"/>
                    </a:cubicBezTo>
                    <a:cubicBezTo>
                      <a:pt x="1251" y="907"/>
                      <a:pt x="1303" y="992"/>
                      <a:pt x="1327" y="992"/>
                    </a:cubicBezTo>
                    <a:cubicBezTo>
                      <a:pt x="1351" y="992"/>
                      <a:pt x="1342" y="883"/>
                      <a:pt x="1384" y="850"/>
                    </a:cubicBezTo>
                    <a:cubicBezTo>
                      <a:pt x="1426" y="817"/>
                      <a:pt x="1572" y="775"/>
                      <a:pt x="1582" y="794"/>
                    </a:cubicBezTo>
                    <a:cubicBezTo>
                      <a:pt x="1592" y="813"/>
                      <a:pt x="1455" y="879"/>
                      <a:pt x="1441" y="964"/>
                    </a:cubicBezTo>
                    <a:cubicBezTo>
                      <a:pt x="1427" y="1049"/>
                      <a:pt x="1488" y="1205"/>
                      <a:pt x="1497" y="1304"/>
                    </a:cubicBezTo>
                    <a:cubicBezTo>
                      <a:pt x="1506" y="1403"/>
                      <a:pt x="1525" y="1441"/>
                      <a:pt x="1497" y="1559"/>
                    </a:cubicBezTo>
                    <a:cubicBezTo>
                      <a:pt x="1469" y="1677"/>
                      <a:pt x="1422" y="1909"/>
                      <a:pt x="1327" y="2013"/>
                    </a:cubicBezTo>
                    <a:cubicBezTo>
                      <a:pt x="1232" y="2117"/>
                      <a:pt x="949" y="2207"/>
                      <a:pt x="930" y="2183"/>
                    </a:cubicBezTo>
                    <a:cubicBezTo>
                      <a:pt x="911" y="2159"/>
                      <a:pt x="1162" y="1975"/>
                      <a:pt x="1214" y="1871"/>
                    </a:cubicBezTo>
                    <a:cubicBezTo>
                      <a:pt x="1266" y="1767"/>
                      <a:pt x="1256" y="1649"/>
                      <a:pt x="1242" y="1559"/>
                    </a:cubicBezTo>
                    <a:cubicBezTo>
                      <a:pt x="1228" y="1469"/>
                      <a:pt x="1157" y="1337"/>
                      <a:pt x="1129" y="1332"/>
                    </a:cubicBezTo>
                    <a:cubicBezTo>
                      <a:pt x="1101" y="1327"/>
                      <a:pt x="1091" y="1498"/>
                      <a:pt x="1072" y="1531"/>
                    </a:cubicBezTo>
                    <a:cubicBezTo>
                      <a:pt x="1053" y="1564"/>
                      <a:pt x="1020" y="1578"/>
                      <a:pt x="1015" y="1531"/>
                    </a:cubicBezTo>
                    <a:cubicBezTo>
                      <a:pt x="1010" y="1484"/>
                      <a:pt x="1053" y="1323"/>
                      <a:pt x="1044" y="1247"/>
                    </a:cubicBezTo>
                    <a:cubicBezTo>
                      <a:pt x="1035" y="1171"/>
                      <a:pt x="992" y="1101"/>
                      <a:pt x="959" y="1077"/>
                    </a:cubicBezTo>
                    <a:cubicBezTo>
                      <a:pt x="926" y="1053"/>
                      <a:pt x="854" y="1063"/>
                      <a:pt x="845" y="1105"/>
                    </a:cubicBezTo>
                    <a:cubicBezTo>
                      <a:pt x="836" y="1147"/>
                      <a:pt x="921" y="1256"/>
                      <a:pt x="902" y="1332"/>
                    </a:cubicBezTo>
                    <a:cubicBezTo>
                      <a:pt x="883" y="1408"/>
                      <a:pt x="774" y="1517"/>
                      <a:pt x="732" y="1559"/>
                    </a:cubicBezTo>
                    <a:cubicBezTo>
                      <a:pt x="690" y="1601"/>
                      <a:pt x="661" y="1629"/>
                      <a:pt x="647" y="1587"/>
                    </a:cubicBezTo>
                    <a:cubicBezTo>
                      <a:pt x="633" y="1545"/>
                      <a:pt x="666" y="1356"/>
                      <a:pt x="647" y="1304"/>
                    </a:cubicBezTo>
                    <a:cubicBezTo>
                      <a:pt x="628" y="1252"/>
                      <a:pt x="561" y="1218"/>
                      <a:pt x="533" y="1275"/>
                    </a:cubicBezTo>
                    <a:cubicBezTo>
                      <a:pt x="505" y="1332"/>
                      <a:pt x="505" y="1616"/>
                      <a:pt x="477" y="1644"/>
                    </a:cubicBezTo>
                    <a:cubicBezTo>
                      <a:pt x="449" y="1672"/>
                      <a:pt x="401" y="1451"/>
                      <a:pt x="363" y="1446"/>
                    </a:cubicBezTo>
                    <a:cubicBezTo>
                      <a:pt x="325" y="1441"/>
                      <a:pt x="240" y="1550"/>
                      <a:pt x="250" y="1616"/>
                    </a:cubicBezTo>
                    <a:cubicBezTo>
                      <a:pt x="260" y="1682"/>
                      <a:pt x="420" y="1809"/>
                      <a:pt x="420" y="1842"/>
                    </a:cubicBezTo>
                    <a:cubicBezTo>
                      <a:pt x="420" y="1875"/>
                      <a:pt x="278" y="1805"/>
                      <a:pt x="250" y="1814"/>
                    </a:cubicBezTo>
                    <a:cubicBezTo>
                      <a:pt x="222" y="1823"/>
                      <a:pt x="193" y="1842"/>
                      <a:pt x="250" y="1899"/>
                    </a:cubicBezTo>
                    <a:cubicBezTo>
                      <a:pt x="307" y="1956"/>
                      <a:pt x="557" y="2112"/>
                      <a:pt x="590" y="2154"/>
                    </a:cubicBezTo>
                    <a:cubicBezTo>
                      <a:pt x="623" y="2196"/>
                      <a:pt x="538" y="2197"/>
                      <a:pt x="448" y="215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7" name=""/>
          <p:cNvGrpSpPr/>
          <p:nvPr/>
        </p:nvGrpSpPr>
        <p:grpSpPr>
          <a:xfrm>
            <a:off x="331920" y="3500280"/>
            <a:ext cx="1709640" cy="1528920"/>
            <a:chOff x="331920" y="3500280"/>
            <a:chExt cx="1709640" cy="1528920"/>
          </a:xfrm>
        </p:grpSpPr>
        <p:grpSp>
          <p:nvGrpSpPr>
            <p:cNvPr id="778" name=""/>
            <p:cNvGrpSpPr/>
            <p:nvPr/>
          </p:nvGrpSpPr>
          <p:grpSpPr>
            <a:xfrm>
              <a:off x="331920" y="3500280"/>
              <a:ext cx="1709640" cy="1528920"/>
              <a:chOff x="331920" y="3500280"/>
              <a:chExt cx="1709640" cy="1528920"/>
            </a:xfrm>
          </p:grpSpPr>
          <p:sp>
            <p:nvSpPr>
              <p:cNvPr id="779" name=""/>
              <p:cNvSpPr/>
              <p:nvPr/>
            </p:nvSpPr>
            <p:spPr>
              <a:xfrm>
                <a:off x="351000" y="351936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31920" y="3500280"/>
                <a:ext cx="1709640" cy="1528920"/>
              </a:xfrm>
              <a:custGeom>
                <a:avLst/>
                <a:gdLst/>
                <a:ahLst/>
                <a:rect l="l" t="t" r="r" b="b"/>
                <a:pathLst>
                  <a:path w="1077" h="963">
                    <a:moveTo>
                      <a:pt x="113" y="878"/>
                    </a:moveTo>
                    <a:lnTo>
                      <a:pt x="539" y="878"/>
                    </a:lnTo>
                    <a:lnTo>
                      <a:pt x="539" y="963"/>
                    </a:lnTo>
                    <a:lnTo>
                      <a:pt x="28" y="963"/>
                    </a:lnTo>
                    <a:lnTo>
                      <a:pt x="0" y="935"/>
                    </a:lnTo>
                    <a:lnTo>
                      <a:pt x="0" y="907"/>
                    </a:lnTo>
                    <a:lnTo>
                      <a:pt x="482" y="28"/>
                    </a:lnTo>
                    <a:lnTo>
                      <a:pt x="510" y="0"/>
                    </a:lnTo>
                    <a:lnTo>
                      <a:pt x="567" y="0"/>
                    </a:lnTo>
                    <a:lnTo>
                      <a:pt x="595" y="28"/>
                    </a:lnTo>
                    <a:lnTo>
                      <a:pt x="1077" y="907"/>
                    </a:lnTo>
                    <a:lnTo>
                      <a:pt x="1077" y="935"/>
                    </a:lnTo>
                    <a:lnTo>
                      <a:pt x="1049" y="963"/>
                    </a:lnTo>
                    <a:lnTo>
                      <a:pt x="539" y="963"/>
                    </a:lnTo>
                    <a:lnTo>
                      <a:pt x="539" y="878"/>
                    </a:lnTo>
                    <a:lnTo>
                      <a:pt x="964" y="878"/>
                    </a:lnTo>
                    <a:lnTo>
                      <a:pt x="539" y="85"/>
                    </a:lnTo>
                    <a:lnTo>
                      <a:pt x="113" y="8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882720" y="3943440"/>
              <a:ext cx="673200" cy="900000"/>
              <a:chOff x="882720" y="3943440"/>
              <a:chExt cx="673200" cy="900000"/>
            </a:xfrm>
          </p:grpSpPr>
          <p:sp>
            <p:nvSpPr>
              <p:cNvPr id="782" name=""/>
              <p:cNvSpPr/>
              <p:nvPr/>
            </p:nvSpPr>
            <p:spPr>
              <a:xfrm>
                <a:off x="882720" y="4771440"/>
                <a:ext cx="673200" cy="72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925920" y="3943440"/>
                <a:ext cx="581400" cy="805680"/>
              </a:xfrm>
              <a:custGeom>
                <a:avLst/>
                <a:gdLst/>
                <a:ahLst/>
                <a:rect l="l" t="t" r="r" b="b"/>
                <a:pathLst>
                  <a:path w="1592" h="2207">
                    <a:moveTo>
                      <a:pt x="448" y="2154"/>
                    </a:moveTo>
                    <a:cubicBezTo>
                      <a:pt x="358" y="2111"/>
                      <a:pt x="104" y="2050"/>
                      <a:pt x="52" y="1899"/>
                    </a:cubicBezTo>
                    <a:cubicBezTo>
                      <a:pt x="0" y="1748"/>
                      <a:pt x="104" y="1332"/>
                      <a:pt x="137" y="1247"/>
                    </a:cubicBezTo>
                    <a:cubicBezTo>
                      <a:pt x="170" y="1162"/>
                      <a:pt x="236" y="1431"/>
                      <a:pt x="250" y="1389"/>
                    </a:cubicBezTo>
                    <a:cubicBezTo>
                      <a:pt x="264" y="1347"/>
                      <a:pt x="217" y="1086"/>
                      <a:pt x="222" y="992"/>
                    </a:cubicBezTo>
                    <a:cubicBezTo>
                      <a:pt x="227" y="898"/>
                      <a:pt x="287" y="869"/>
                      <a:pt x="278" y="822"/>
                    </a:cubicBezTo>
                    <a:cubicBezTo>
                      <a:pt x="269" y="775"/>
                      <a:pt x="146" y="718"/>
                      <a:pt x="165" y="709"/>
                    </a:cubicBezTo>
                    <a:cubicBezTo>
                      <a:pt x="184" y="700"/>
                      <a:pt x="335" y="798"/>
                      <a:pt x="392" y="765"/>
                    </a:cubicBezTo>
                    <a:cubicBezTo>
                      <a:pt x="449" y="732"/>
                      <a:pt x="496" y="590"/>
                      <a:pt x="505" y="510"/>
                    </a:cubicBezTo>
                    <a:cubicBezTo>
                      <a:pt x="514" y="430"/>
                      <a:pt x="424" y="368"/>
                      <a:pt x="448" y="283"/>
                    </a:cubicBezTo>
                    <a:cubicBezTo>
                      <a:pt x="472" y="198"/>
                      <a:pt x="586" y="0"/>
                      <a:pt x="647" y="0"/>
                    </a:cubicBezTo>
                    <a:cubicBezTo>
                      <a:pt x="708" y="0"/>
                      <a:pt x="756" y="203"/>
                      <a:pt x="817" y="283"/>
                    </a:cubicBezTo>
                    <a:cubicBezTo>
                      <a:pt x="878" y="363"/>
                      <a:pt x="977" y="411"/>
                      <a:pt x="1015" y="482"/>
                    </a:cubicBezTo>
                    <a:cubicBezTo>
                      <a:pt x="1053" y="553"/>
                      <a:pt x="1016" y="704"/>
                      <a:pt x="1044" y="709"/>
                    </a:cubicBezTo>
                    <a:cubicBezTo>
                      <a:pt x="1072" y="714"/>
                      <a:pt x="1166" y="562"/>
                      <a:pt x="1185" y="510"/>
                    </a:cubicBezTo>
                    <a:cubicBezTo>
                      <a:pt x="1204" y="458"/>
                      <a:pt x="1143" y="406"/>
                      <a:pt x="1157" y="397"/>
                    </a:cubicBezTo>
                    <a:cubicBezTo>
                      <a:pt x="1171" y="388"/>
                      <a:pt x="1252" y="411"/>
                      <a:pt x="1271" y="453"/>
                    </a:cubicBezTo>
                    <a:cubicBezTo>
                      <a:pt x="1290" y="495"/>
                      <a:pt x="1276" y="586"/>
                      <a:pt x="1271" y="652"/>
                    </a:cubicBezTo>
                    <a:cubicBezTo>
                      <a:pt x="1266" y="718"/>
                      <a:pt x="1233" y="793"/>
                      <a:pt x="1242" y="850"/>
                    </a:cubicBezTo>
                    <a:cubicBezTo>
                      <a:pt x="1251" y="907"/>
                      <a:pt x="1303" y="992"/>
                      <a:pt x="1327" y="992"/>
                    </a:cubicBezTo>
                    <a:cubicBezTo>
                      <a:pt x="1351" y="992"/>
                      <a:pt x="1342" y="883"/>
                      <a:pt x="1384" y="850"/>
                    </a:cubicBezTo>
                    <a:cubicBezTo>
                      <a:pt x="1426" y="817"/>
                      <a:pt x="1572" y="775"/>
                      <a:pt x="1582" y="794"/>
                    </a:cubicBezTo>
                    <a:cubicBezTo>
                      <a:pt x="1592" y="813"/>
                      <a:pt x="1455" y="879"/>
                      <a:pt x="1441" y="964"/>
                    </a:cubicBezTo>
                    <a:cubicBezTo>
                      <a:pt x="1427" y="1049"/>
                      <a:pt x="1488" y="1205"/>
                      <a:pt x="1497" y="1304"/>
                    </a:cubicBezTo>
                    <a:cubicBezTo>
                      <a:pt x="1506" y="1403"/>
                      <a:pt x="1525" y="1441"/>
                      <a:pt x="1497" y="1559"/>
                    </a:cubicBezTo>
                    <a:cubicBezTo>
                      <a:pt x="1469" y="1677"/>
                      <a:pt x="1422" y="1909"/>
                      <a:pt x="1327" y="2013"/>
                    </a:cubicBezTo>
                    <a:cubicBezTo>
                      <a:pt x="1232" y="2117"/>
                      <a:pt x="949" y="2207"/>
                      <a:pt x="930" y="2183"/>
                    </a:cubicBezTo>
                    <a:cubicBezTo>
                      <a:pt x="911" y="2159"/>
                      <a:pt x="1162" y="1975"/>
                      <a:pt x="1214" y="1871"/>
                    </a:cubicBezTo>
                    <a:cubicBezTo>
                      <a:pt x="1266" y="1767"/>
                      <a:pt x="1256" y="1649"/>
                      <a:pt x="1242" y="1559"/>
                    </a:cubicBezTo>
                    <a:cubicBezTo>
                      <a:pt x="1228" y="1469"/>
                      <a:pt x="1157" y="1337"/>
                      <a:pt x="1129" y="1332"/>
                    </a:cubicBezTo>
                    <a:cubicBezTo>
                      <a:pt x="1101" y="1327"/>
                      <a:pt x="1091" y="1498"/>
                      <a:pt x="1072" y="1531"/>
                    </a:cubicBezTo>
                    <a:cubicBezTo>
                      <a:pt x="1053" y="1564"/>
                      <a:pt x="1020" y="1578"/>
                      <a:pt x="1015" y="1531"/>
                    </a:cubicBezTo>
                    <a:cubicBezTo>
                      <a:pt x="1010" y="1484"/>
                      <a:pt x="1053" y="1323"/>
                      <a:pt x="1044" y="1247"/>
                    </a:cubicBezTo>
                    <a:cubicBezTo>
                      <a:pt x="1035" y="1171"/>
                      <a:pt x="992" y="1101"/>
                      <a:pt x="959" y="1077"/>
                    </a:cubicBezTo>
                    <a:cubicBezTo>
                      <a:pt x="926" y="1053"/>
                      <a:pt x="854" y="1063"/>
                      <a:pt x="845" y="1105"/>
                    </a:cubicBezTo>
                    <a:cubicBezTo>
                      <a:pt x="836" y="1147"/>
                      <a:pt x="921" y="1256"/>
                      <a:pt x="902" y="1332"/>
                    </a:cubicBezTo>
                    <a:cubicBezTo>
                      <a:pt x="883" y="1408"/>
                      <a:pt x="774" y="1517"/>
                      <a:pt x="732" y="1559"/>
                    </a:cubicBezTo>
                    <a:cubicBezTo>
                      <a:pt x="690" y="1601"/>
                      <a:pt x="661" y="1629"/>
                      <a:pt x="647" y="1587"/>
                    </a:cubicBezTo>
                    <a:cubicBezTo>
                      <a:pt x="633" y="1545"/>
                      <a:pt x="666" y="1356"/>
                      <a:pt x="647" y="1304"/>
                    </a:cubicBezTo>
                    <a:cubicBezTo>
                      <a:pt x="628" y="1252"/>
                      <a:pt x="561" y="1218"/>
                      <a:pt x="533" y="1275"/>
                    </a:cubicBezTo>
                    <a:cubicBezTo>
                      <a:pt x="505" y="1332"/>
                      <a:pt x="505" y="1616"/>
                      <a:pt x="477" y="1644"/>
                    </a:cubicBezTo>
                    <a:cubicBezTo>
                      <a:pt x="449" y="1672"/>
                      <a:pt x="401" y="1451"/>
                      <a:pt x="363" y="1446"/>
                    </a:cubicBezTo>
                    <a:cubicBezTo>
                      <a:pt x="325" y="1441"/>
                      <a:pt x="240" y="1550"/>
                      <a:pt x="250" y="1616"/>
                    </a:cubicBezTo>
                    <a:cubicBezTo>
                      <a:pt x="260" y="1682"/>
                      <a:pt x="420" y="1809"/>
                      <a:pt x="420" y="1842"/>
                    </a:cubicBezTo>
                    <a:cubicBezTo>
                      <a:pt x="420" y="1875"/>
                      <a:pt x="278" y="1805"/>
                      <a:pt x="250" y="1814"/>
                    </a:cubicBezTo>
                    <a:cubicBezTo>
                      <a:pt x="222" y="1823"/>
                      <a:pt x="193" y="1842"/>
                      <a:pt x="250" y="1899"/>
                    </a:cubicBezTo>
                    <a:cubicBezTo>
                      <a:pt x="307" y="1956"/>
                      <a:pt x="557" y="2112"/>
                      <a:pt x="590" y="2154"/>
                    </a:cubicBezTo>
                    <a:cubicBezTo>
                      <a:pt x="623" y="2196"/>
                      <a:pt x="538" y="2197"/>
                      <a:pt x="448" y="215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4" name=""/>
          <p:cNvGrpSpPr/>
          <p:nvPr/>
        </p:nvGrpSpPr>
        <p:grpSpPr>
          <a:xfrm>
            <a:off x="7859880" y="5089680"/>
            <a:ext cx="1719000" cy="1535040"/>
            <a:chOff x="7859880" y="5089680"/>
            <a:chExt cx="1719000" cy="1535040"/>
          </a:xfrm>
        </p:grpSpPr>
        <p:grpSp>
          <p:nvGrpSpPr>
            <p:cNvPr id="785" name=""/>
            <p:cNvGrpSpPr/>
            <p:nvPr/>
          </p:nvGrpSpPr>
          <p:grpSpPr>
            <a:xfrm>
              <a:off x="7859880" y="5089680"/>
              <a:ext cx="1719000" cy="1535040"/>
              <a:chOff x="7859880" y="5089680"/>
              <a:chExt cx="1719000" cy="1535040"/>
            </a:xfrm>
          </p:grpSpPr>
          <p:sp>
            <p:nvSpPr>
              <p:cNvPr id="786" name=""/>
              <p:cNvSpPr/>
              <p:nvPr/>
            </p:nvSpPr>
            <p:spPr>
              <a:xfrm>
                <a:off x="7883640" y="511164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859880" y="5089680"/>
                <a:ext cx="1719000" cy="1535040"/>
              </a:xfrm>
              <a:custGeom>
                <a:avLst/>
                <a:gdLst/>
                <a:ahLst/>
                <a:rect l="l" t="t" r="r" b="b"/>
                <a:pathLst>
                  <a:path w="1083" h="967">
                    <a:moveTo>
                      <a:pt x="177" y="851"/>
                    </a:moveTo>
                    <a:lnTo>
                      <a:pt x="184" y="854"/>
                    </a:lnTo>
                    <a:lnTo>
                      <a:pt x="541" y="854"/>
                    </a:lnTo>
                    <a:lnTo>
                      <a:pt x="541" y="967"/>
                    </a:lnTo>
                    <a:lnTo>
                      <a:pt x="30" y="967"/>
                    </a:lnTo>
                    <a:lnTo>
                      <a:pt x="16" y="957"/>
                    </a:lnTo>
                    <a:lnTo>
                      <a:pt x="2" y="939"/>
                    </a:lnTo>
                    <a:lnTo>
                      <a:pt x="0" y="923"/>
                    </a:lnTo>
                    <a:lnTo>
                      <a:pt x="2" y="911"/>
                    </a:lnTo>
                    <a:lnTo>
                      <a:pt x="484" y="32"/>
                    </a:lnTo>
                    <a:lnTo>
                      <a:pt x="493" y="17"/>
                    </a:lnTo>
                    <a:lnTo>
                      <a:pt x="512" y="4"/>
                    </a:lnTo>
                    <a:lnTo>
                      <a:pt x="541" y="0"/>
                    </a:lnTo>
                    <a:lnTo>
                      <a:pt x="569" y="4"/>
                    </a:lnTo>
                    <a:lnTo>
                      <a:pt x="585" y="18"/>
                    </a:lnTo>
                    <a:lnTo>
                      <a:pt x="597" y="32"/>
                    </a:lnTo>
                    <a:lnTo>
                      <a:pt x="1079" y="911"/>
                    </a:lnTo>
                    <a:lnTo>
                      <a:pt x="1083" y="926"/>
                    </a:lnTo>
                    <a:lnTo>
                      <a:pt x="1079" y="939"/>
                    </a:lnTo>
                    <a:lnTo>
                      <a:pt x="1068" y="956"/>
                    </a:lnTo>
                    <a:lnTo>
                      <a:pt x="1051" y="967"/>
                    </a:lnTo>
                    <a:lnTo>
                      <a:pt x="541" y="967"/>
                    </a:lnTo>
                    <a:lnTo>
                      <a:pt x="541" y="854"/>
                    </a:lnTo>
                    <a:lnTo>
                      <a:pt x="895" y="854"/>
                    </a:lnTo>
                    <a:lnTo>
                      <a:pt x="901" y="846"/>
                    </a:lnTo>
                    <a:lnTo>
                      <a:pt x="900" y="839"/>
                    </a:lnTo>
                    <a:lnTo>
                      <a:pt x="550" y="194"/>
                    </a:lnTo>
                    <a:lnTo>
                      <a:pt x="541" y="185"/>
                    </a:lnTo>
                    <a:lnTo>
                      <a:pt x="529" y="194"/>
                    </a:lnTo>
                    <a:lnTo>
                      <a:pt x="178" y="845"/>
                    </a:lnTo>
                    <a:lnTo>
                      <a:pt x="177" y="85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8432640" y="5634000"/>
              <a:ext cx="555840" cy="743040"/>
              <a:chOff x="8432640" y="5634000"/>
              <a:chExt cx="555840" cy="743040"/>
            </a:xfrm>
          </p:grpSpPr>
          <p:sp>
            <p:nvSpPr>
              <p:cNvPr id="789" name=""/>
              <p:cNvSpPr/>
              <p:nvPr/>
            </p:nvSpPr>
            <p:spPr>
              <a:xfrm>
                <a:off x="8432640" y="6317640"/>
                <a:ext cx="555840" cy="59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8468280" y="5634000"/>
                <a:ext cx="480240" cy="664920"/>
              </a:xfrm>
              <a:custGeom>
                <a:avLst/>
                <a:gdLst/>
                <a:ahLst/>
                <a:rect l="l" t="t" r="r" b="b"/>
                <a:pathLst>
                  <a:path w="1592" h="2207">
                    <a:moveTo>
                      <a:pt x="448" y="2154"/>
                    </a:moveTo>
                    <a:cubicBezTo>
                      <a:pt x="358" y="2111"/>
                      <a:pt x="104" y="2050"/>
                      <a:pt x="52" y="1899"/>
                    </a:cubicBezTo>
                    <a:cubicBezTo>
                      <a:pt x="0" y="1748"/>
                      <a:pt x="104" y="1332"/>
                      <a:pt x="137" y="1247"/>
                    </a:cubicBezTo>
                    <a:cubicBezTo>
                      <a:pt x="170" y="1162"/>
                      <a:pt x="236" y="1431"/>
                      <a:pt x="250" y="1389"/>
                    </a:cubicBezTo>
                    <a:cubicBezTo>
                      <a:pt x="264" y="1347"/>
                      <a:pt x="217" y="1086"/>
                      <a:pt x="222" y="992"/>
                    </a:cubicBezTo>
                    <a:cubicBezTo>
                      <a:pt x="227" y="898"/>
                      <a:pt x="287" y="869"/>
                      <a:pt x="278" y="822"/>
                    </a:cubicBezTo>
                    <a:cubicBezTo>
                      <a:pt x="269" y="775"/>
                      <a:pt x="146" y="718"/>
                      <a:pt x="165" y="709"/>
                    </a:cubicBezTo>
                    <a:cubicBezTo>
                      <a:pt x="184" y="700"/>
                      <a:pt x="335" y="798"/>
                      <a:pt x="392" y="765"/>
                    </a:cubicBezTo>
                    <a:cubicBezTo>
                      <a:pt x="449" y="732"/>
                      <a:pt x="496" y="590"/>
                      <a:pt x="505" y="510"/>
                    </a:cubicBezTo>
                    <a:cubicBezTo>
                      <a:pt x="514" y="430"/>
                      <a:pt x="424" y="368"/>
                      <a:pt x="448" y="283"/>
                    </a:cubicBezTo>
                    <a:cubicBezTo>
                      <a:pt x="472" y="198"/>
                      <a:pt x="586" y="0"/>
                      <a:pt x="647" y="0"/>
                    </a:cubicBezTo>
                    <a:cubicBezTo>
                      <a:pt x="708" y="0"/>
                      <a:pt x="756" y="203"/>
                      <a:pt x="817" y="283"/>
                    </a:cubicBezTo>
                    <a:cubicBezTo>
                      <a:pt x="878" y="363"/>
                      <a:pt x="977" y="411"/>
                      <a:pt x="1015" y="482"/>
                    </a:cubicBezTo>
                    <a:cubicBezTo>
                      <a:pt x="1053" y="553"/>
                      <a:pt x="1016" y="704"/>
                      <a:pt x="1044" y="709"/>
                    </a:cubicBezTo>
                    <a:cubicBezTo>
                      <a:pt x="1072" y="714"/>
                      <a:pt x="1166" y="562"/>
                      <a:pt x="1185" y="510"/>
                    </a:cubicBezTo>
                    <a:cubicBezTo>
                      <a:pt x="1204" y="458"/>
                      <a:pt x="1143" y="406"/>
                      <a:pt x="1157" y="397"/>
                    </a:cubicBezTo>
                    <a:cubicBezTo>
                      <a:pt x="1171" y="388"/>
                      <a:pt x="1252" y="411"/>
                      <a:pt x="1271" y="453"/>
                    </a:cubicBezTo>
                    <a:cubicBezTo>
                      <a:pt x="1290" y="495"/>
                      <a:pt x="1276" y="586"/>
                      <a:pt x="1271" y="652"/>
                    </a:cubicBezTo>
                    <a:cubicBezTo>
                      <a:pt x="1266" y="718"/>
                      <a:pt x="1233" y="793"/>
                      <a:pt x="1242" y="850"/>
                    </a:cubicBezTo>
                    <a:cubicBezTo>
                      <a:pt x="1251" y="907"/>
                      <a:pt x="1303" y="992"/>
                      <a:pt x="1327" y="992"/>
                    </a:cubicBezTo>
                    <a:cubicBezTo>
                      <a:pt x="1351" y="992"/>
                      <a:pt x="1342" y="883"/>
                      <a:pt x="1384" y="850"/>
                    </a:cubicBezTo>
                    <a:cubicBezTo>
                      <a:pt x="1426" y="817"/>
                      <a:pt x="1572" y="775"/>
                      <a:pt x="1582" y="794"/>
                    </a:cubicBezTo>
                    <a:cubicBezTo>
                      <a:pt x="1592" y="813"/>
                      <a:pt x="1455" y="879"/>
                      <a:pt x="1441" y="964"/>
                    </a:cubicBezTo>
                    <a:cubicBezTo>
                      <a:pt x="1427" y="1049"/>
                      <a:pt x="1488" y="1205"/>
                      <a:pt x="1497" y="1304"/>
                    </a:cubicBezTo>
                    <a:cubicBezTo>
                      <a:pt x="1506" y="1403"/>
                      <a:pt x="1525" y="1441"/>
                      <a:pt x="1497" y="1559"/>
                    </a:cubicBezTo>
                    <a:cubicBezTo>
                      <a:pt x="1469" y="1677"/>
                      <a:pt x="1422" y="1909"/>
                      <a:pt x="1327" y="2013"/>
                    </a:cubicBezTo>
                    <a:cubicBezTo>
                      <a:pt x="1232" y="2117"/>
                      <a:pt x="949" y="2207"/>
                      <a:pt x="930" y="2183"/>
                    </a:cubicBezTo>
                    <a:cubicBezTo>
                      <a:pt x="911" y="2159"/>
                      <a:pt x="1162" y="1975"/>
                      <a:pt x="1214" y="1871"/>
                    </a:cubicBezTo>
                    <a:cubicBezTo>
                      <a:pt x="1266" y="1767"/>
                      <a:pt x="1256" y="1649"/>
                      <a:pt x="1242" y="1559"/>
                    </a:cubicBezTo>
                    <a:cubicBezTo>
                      <a:pt x="1228" y="1469"/>
                      <a:pt x="1157" y="1337"/>
                      <a:pt x="1129" y="1332"/>
                    </a:cubicBezTo>
                    <a:cubicBezTo>
                      <a:pt x="1101" y="1327"/>
                      <a:pt x="1091" y="1498"/>
                      <a:pt x="1072" y="1531"/>
                    </a:cubicBezTo>
                    <a:cubicBezTo>
                      <a:pt x="1053" y="1564"/>
                      <a:pt x="1020" y="1578"/>
                      <a:pt x="1015" y="1531"/>
                    </a:cubicBezTo>
                    <a:cubicBezTo>
                      <a:pt x="1010" y="1484"/>
                      <a:pt x="1053" y="1323"/>
                      <a:pt x="1044" y="1247"/>
                    </a:cubicBezTo>
                    <a:cubicBezTo>
                      <a:pt x="1035" y="1171"/>
                      <a:pt x="992" y="1101"/>
                      <a:pt x="959" y="1077"/>
                    </a:cubicBezTo>
                    <a:cubicBezTo>
                      <a:pt x="926" y="1053"/>
                      <a:pt x="854" y="1063"/>
                      <a:pt x="845" y="1105"/>
                    </a:cubicBezTo>
                    <a:cubicBezTo>
                      <a:pt x="836" y="1147"/>
                      <a:pt x="921" y="1256"/>
                      <a:pt x="902" y="1332"/>
                    </a:cubicBezTo>
                    <a:cubicBezTo>
                      <a:pt x="883" y="1408"/>
                      <a:pt x="774" y="1517"/>
                      <a:pt x="732" y="1559"/>
                    </a:cubicBezTo>
                    <a:cubicBezTo>
                      <a:pt x="690" y="1601"/>
                      <a:pt x="661" y="1629"/>
                      <a:pt x="647" y="1587"/>
                    </a:cubicBezTo>
                    <a:cubicBezTo>
                      <a:pt x="633" y="1545"/>
                      <a:pt x="666" y="1356"/>
                      <a:pt x="647" y="1304"/>
                    </a:cubicBezTo>
                    <a:cubicBezTo>
                      <a:pt x="628" y="1252"/>
                      <a:pt x="561" y="1218"/>
                      <a:pt x="533" y="1275"/>
                    </a:cubicBezTo>
                    <a:cubicBezTo>
                      <a:pt x="505" y="1332"/>
                      <a:pt x="505" y="1616"/>
                      <a:pt x="477" y="1644"/>
                    </a:cubicBezTo>
                    <a:cubicBezTo>
                      <a:pt x="449" y="1672"/>
                      <a:pt x="401" y="1451"/>
                      <a:pt x="363" y="1446"/>
                    </a:cubicBezTo>
                    <a:cubicBezTo>
                      <a:pt x="325" y="1441"/>
                      <a:pt x="240" y="1550"/>
                      <a:pt x="250" y="1616"/>
                    </a:cubicBezTo>
                    <a:cubicBezTo>
                      <a:pt x="260" y="1682"/>
                      <a:pt x="420" y="1809"/>
                      <a:pt x="420" y="1842"/>
                    </a:cubicBezTo>
                    <a:cubicBezTo>
                      <a:pt x="420" y="1875"/>
                      <a:pt x="278" y="1805"/>
                      <a:pt x="250" y="1814"/>
                    </a:cubicBezTo>
                    <a:cubicBezTo>
                      <a:pt x="222" y="1823"/>
                      <a:pt x="193" y="1842"/>
                      <a:pt x="250" y="1899"/>
                    </a:cubicBezTo>
                    <a:cubicBezTo>
                      <a:pt x="307" y="1956"/>
                      <a:pt x="557" y="2112"/>
                      <a:pt x="590" y="2154"/>
                    </a:cubicBezTo>
                    <a:cubicBezTo>
                      <a:pt x="623" y="2196"/>
                      <a:pt x="538" y="2197"/>
                      <a:pt x="448" y="215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1" name=""/>
          <p:cNvGrpSpPr/>
          <p:nvPr/>
        </p:nvGrpSpPr>
        <p:grpSpPr>
          <a:xfrm>
            <a:off x="4108320" y="5108400"/>
            <a:ext cx="1719360" cy="1535400"/>
            <a:chOff x="4108320" y="5108400"/>
            <a:chExt cx="1719360" cy="1535400"/>
          </a:xfrm>
        </p:grpSpPr>
        <p:grpSp>
          <p:nvGrpSpPr>
            <p:cNvPr id="792" name=""/>
            <p:cNvGrpSpPr/>
            <p:nvPr/>
          </p:nvGrpSpPr>
          <p:grpSpPr>
            <a:xfrm>
              <a:off x="4108320" y="5108400"/>
              <a:ext cx="1719360" cy="1535400"/>
              <a:chOff x="4108320" y="5108400"/>
              <a:chExt cx="1719360" cy="1535400"/>
            </a:xfrm>
          </p:grpSpPr>
          <p:sp>
            <p:nvSpPr>
              <p:cNvPr id="793" name=""/>
              <p:cNvSpPr/>
              <p:nvPr/>
            </p:nvSpPr>
            <p:spPr>
              <a:xfrm>
                <a:off x="4132440" y="513072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108320" y="5108400"/>
                <a:ext cx="1719360" cy="1535400"/>
              </a:xfrm>
              <a:custGeom>
                <a:avLst/>
                <a:gdLst/>
                <a:ahLst/>
                <a:rect l="l" t="t" r="r" b="b"/>
                <a:pathLst>
                  <a:path w="1083" h="967">
                    <a:moveTo>
                      <a:pt x="177" y="851"/>
                    </a:moveTo>
                    <a:lnTo>
                      <a:pt x="184" y="854"/>
                    </a:lnTo>
                    <a:lnTo>
                      <a:pt x="541" y="854"/>
                    </a:lnTo>
                    <a:lnTo>
                      <a:pt x="541" y="967"/>
                    </a:lnTo>
                    <a:lnTo>
                      <a:pt x="30" y="967"/>
                    </a:lnTo>
                    <a:lnTo>
                      <a:pt x="16" y="957"/>
                    </a:lnTo>
                    <a:lnTo>
                      <a:pt x="2" y="939"/>
                    </a:lnTo>
                    <a:lnTo>
                      <a:pt x="0" y="923"/>
                    </a:lnTo>
                    <a:lnTo>
                      <a:pt x="2" y="911"/>
                    </a:lnTo>
                    <a:lnTo>
                      <a:pt x="484" y="32"/>
                    </a:lnTo>
                    <a:lnTo>
                      <a:pt x="493" y="17"/>
                    </a:lnTo>
                    <a:lnTo>
                      <a:pt x="512" y="4"/>
                    </a:lnTo>
                    <a:lnTo>
                      <a:pt x="541" y="0"/>
                    </a:lnTo>
                    <a:lnTo>
                      <a:pt x="569" y="4"/>
                    </a:lnTo>
                    <a:lnTo>
                      <a:pt x="585" y="18"/>
                    </a:lnTo>
                    <a:lnTo>
                      <a:pt x="597" y="32"/>
                    </a:lnTo>
                    <a:lnTo>
                      <a:pt x="1079" y="911"/>
                    </a:lnTo>
                    <a:lnTo>
                      <a:pt x="1083" y="926"/>
                    </a:lnTo>
                    <a:lnTo>
                      <a:pt x="1079" y="939"/>
                    </a:lnTo>
                    <a:lnTo>
                      <a:pt x="1068" y="956"/>
                    </a:lnTo>
                    <a:lnTo>
                      <a:pt x="1051" y="967"/>
                    </a:lnTo>
                    <a:lnTo>
                      <a:pt x="541" y="967"/>
                    </a:lnTo>
                    <a:lnTo>
                      <a:pt x="541" y="854"/>
                    </a:lnTo>
                    <a:lnTo>
                      <a:pt x="895" y="854"/>
                    </a:lnTo>
                    <a:lnTo>
                      <a:pt x="901" y="846"/>
                    </a:lnTo>
                    <a:lnTo>
                      <a:pt x="900" y="839"/>
                    </a:lnTo>
                    <a:lnTo>
                      <a:pt x="550" y="194"/>
                    </a:lnTo>
                    <a:lnTo>
                      <a:pt x="541" y="185"/>
                    </a:lnTo>
                    <a:lnTo>
                      <a:pt x="529" y="194"/>
                    </a:lnTo>
                    <a:lnTo>
                      <a:pt x="178" y="845"/>
                    </a:lnTo>
                    <a:lnTo>
                      <a:pt x="177" y="8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4676760" y="5634000"/>
              <a:ext cx="555480" cy="743040"/>
              <a:chOff x="4676760" y="5634000"/>
              <a:chExt cx="555480" cy="743040"/>
            </a:xfrm>
          </p:grpSpPr>
          <p:sp>
            <p:nvSpPr>
              <p:cNvPr id="796" name=""/>
              <p:cNvSpPr/>
              <p:nvPr/>
            </p:nvSpPr>
            <p:spPr>
              <a:xfrm>
                <a:off x="4676760" y="6317640"/>
                <a:ext cx="555480" cy="59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712400" y="5634000"/>
                <a:ext cx="479880" cy="664920"/>
              </a:xfrm>
              <a:custGeom>
                <a:avLst/>
                <a:gdLst/>
                <a:ahLst/>
                <a:rect l="l" t="t" r="r" b="b"/>
                <a:pathLst>
                  <a:path w="1592" h="2207">
                    <a:moveTo>
                      <a:pt x="448" y="2154"/>
                    </a:moveTo>
                    <a:cubicBezTo>
                      <a:pt x="358" y="2111"/>
                      <a:pt x="104" y="2050"/>
                      <a:pt x="52" y="1899"/>
                    </a:cubicBezTo>
                    <a:cubicBezTo>
                      <a:pt x="0" y="1748"/>
                      <a:pt x="104" y="1332"/>
                      <a:pt x="137" y="1247"/>
                    </a:cubicBezTo>
                    <a:cubicBezTo>
                      <a:pt x="170" y="1162"/>
                      <a:pt x="236" y="1431"/>
                      <a:pt x="250" y="1389"/>
                    </a:cubicBezTo>
                    <a:cubicBezTo>
                      <a:pt x="264" y="1347"/>
                      <a:pt x="217" y="1086"/>
                      <a:pt x="222" y="992"/>
                    </a:cubicBezTo>
                    <a:cubicBezTo>
                      <a:pt x="227" y="898"/>
                      <a:pt x="287" y="869"/>
                      <a:pt x="278" y="822"/>
                    </a:cubicBezTo>
                    <a:cubicBezTo>
                      <a:pt x="269" y="775"/>
                      <a:pt x="146" y="718"/>
                      <a:pt x="165" y="709"/>
                    </a:cubicBezTo>
                    <a:cubicBezTo>
                      <a:pt x="184" y="700"/>
                      <a:pt x="335" y="798"/>
                      <a:pt x="392" y="765"/>
                    </a:cubicBezTo>
                    <a:cubicBezTo>
                      <a:pt x="449" y="732"/>
                      <a:pt x="496" y="590"/>
                      <a:pt x="505" y="510"/>
                    </a:cubicBezTo>
                    <a:cubicBezTo>
                      <a:pt x="514" y="430"/>
                      <a:pt x="424" y="368"/>
                      <a:pt x="448" y="283"/>
                    </a:cubicBezTo>
                    <a:cubicBezTo>
                      <a:pt x="472" y="198"/>
                      <a:pt x="586" y="0"/>
                      <a:pt x="647" y="0"/>
                    </a:cubicBezTo>
                    <a:cubicBezTo>
                      <a:pt x="708" y="0"/>
                      <a:pt x="756" y="203"/>
                      <a:pt x="817" y="283"/>
                    </a:cubicBezTo>
                    <a:cubicBezTo>
                      <a:pt x="878" y="363"/>
                      <a:pt x="977" y="411"/>
                      <a:pt x="1015" y="482"/>
                    </a:cubicBezTo>
                    <a:cubicBezTo>
                      <a:pt x="1053" y="553"/>
                      <a:pt x="1016" y="704"/>
                      <a:pt x="1044" y="709"/>
                    </a:cubicBezTo>
                    <a:cubicBezTo>
                      <a:pt x="1072" y="714"/>
                      <a:pt x="1166" y="562"/>
                      <a:pt x="1185" y="510"/>
                    </a:cubicBezTo>
                    <a:cubicBezTo>
                      <a:pt x="1204" y="458"/>
                      <a:pt x="1143" y="406"/>
                      <a:pt x="1157" y="397"/>
                    </a:cubicBezTo>
                    <a:cubicBezTo>
                      <a:pt x="1171" y="388"/>
                      <a:pt x="1252" y="411"/>
                      <a:pt x="1271" y="453"/>
                    </a:cubicBezTo>
                    <a:cubicBezTo>
                      <a:pt x="1290" y="495"/>
                      <a:pt x="1276" y="586"/>
                      <a:pt x="1271" y="652"/>
                    </a:cubicBezTo>
                    <a:cubicBezTo>
                      <a:pt x="1266" y="718"/>
                      <a:pt x="1233" y="793"/>
                      <a:pt x="1242" y="850"/>
                    </a:cubicBezTo>
                    <a:cubicBezTo>
                      <a:pt x="1251" y="907"/>
                      <a:pt x="1303" y="992"/>
                      <a:pt x="1327" y="992"/>
                    </a:cubicBezTo>
                    <a:cubicBezTo>
                      <a:pt x="1351" y="992"/>
                      <a:pt x="1342" y="883"/>
                      <a:pt x="1384" y="850"/>
                    </a:cubicBezTo>
                    <a:cubicBezTo>
                      <a:pt x="1426" y="817"/>
                      <a:pt x="1572" y="775"/>
                      <a:pt x="1582" y="794"/>
                    </a:cubicBezTo>
                    <a:cubicBezTo>
                      <a:pt x="1592" y="813"/>
                      <a:pt x="1455" y="879"/>
                      <a:pt x="1441" y="964"/>
                    </a:cubicBezTo>
                    <a:cubicBezTo>
                      <a:pt x="1427" y="1049"/>
                      <a:pt x="1488" y="1205"/>
                      <a:pt x="1497" y="1304"/>
                    </a:cubicBezTo>
                    <a:cubicBezTo>
                      <a:pt x="1506" y="1403"/>
                      <a:pt x="1525" y="1441"/>
                      <a:pt x="1497" y="1559"/>
                    </a:cubicBezTo>
                    <a:cubicBezTo>
                      <a:pt x="1469" y="1677"/>
                      <a:pt x="1422" y="1909"/>
                      <a:pt x="1327" y="2013"/>
                    </a:cubicBezTo>
                    <a:cubicBezTo>
                      <a:pt x="1232" y="2117"/>
                      <a:pt x="949" y="2207"/>
                      <a:pt x="930" y="2183"/>
                    </a:cubicBezTo>
                    <a:cubicBezTo>
                      <a:pt x="911" y="2159"/>
                      <a:pt x="1162" y="1975"/>
                      <a:pt x="1214" y="1871"/>
                    </a:cubicBezTo>
                    <a:cubicBezTo>
                      <a:pt x="1266" y="1767"/>
                      <a:pt x="1256" y="1649"/>
                      <a:pt x="1242" y="1559"/>
                    </a:cubicBezTo>
                    <a:cubicBezTo>
                      <a:pt x="1228" y="1469"/>
                      <a:pt x="1157" y="1337"/>
                      <a:pt x="1129" y="1332"/>
                    </a:cubicBezTo>
                    <a:cubicBezTo>
                      <a:pt x="1101" y="1327"/>
                      <a:pt x="1091" y="1498"/>
                      <a:pt x="1072" y="1531"/>
                    </a:cubicBezTo>
                    <a:cubicBezTo>
                      <a:pt x="1053" y="1564"/>
                      <a:pt x="1020" y="1578"/>
                      <a:pt x="1015" y="1531"/>
                    </a:cubicBezTo>
                    <a:cubicBezTo>
                      <a:pt x="1010" y="1484"/>
                      <a:pt x="1053" y="1323"/>
                      <a:pt x="1044" y="1247"/>
                    </a:cubicBezTo>
                    <a:cubicBezTo>
                      <a:pt x="1035" y="1171"/>
                      <a:pt x="992" y="1101"/>
                      <a:pt x="959" y="1077"/>
                    </a:cubicBezTo>
                    <a:cubicBezTo>
                      <a:pt x="926" y="1053"/>
                      <a:pt x="854" y="1063"/>
                      <a:pt x="845" y="1105"/>
                    </a:cubicBezTo>
                    <a:cubicBezTo>
                      <a:pt x="836" y="1147"/>
                      <a:pt x="921" y="1256"/>
                      <a:pt x="902" y="1332"/>
                    </a:cubicBezTo>
                    <a:cubicBezTo>
                      <a:pt x="883" y="1408"/>
                      <a:pt x="774" y="1517"/>
                      <a:pt x="732" y="1559"/>
                    </a:cubicBezTo>
                    <a:cubicBezTo>
                      <a:pt x="690" y="1601"/>
                      <a:pt x="661" y="1629"/>
                      <a:pt x="647" y="1587"/>
                    </a:cubicBezTo>
                    <a:cubicBezTo>
                      <a:pt x="633" y="1545"/>
                      <a:pt x="666" y="1356"/>
                      <a:pt x="647" y="1304"/>
                    </a:cubicBezTo>
                    <a:cubicBezTo>
                      <a:pt x="628" y="1252"/>
                      <a:pt x="561" y="1218"/>
                      <a:pt x="533" y="1275"/>
                    </a:cubicBezTo>
                    <a:cubicBezTo>
                      <a:pt x="505" y="1332"/>
                      <a:pt x="505" y="1616"/>
                      <a:pt x="477" y="1644"/>
                    </a:cubicBezTo>
                    <a:cubicBezTo>
                      <a:pt x="449" y="1672"/>
                      <a:pt x="401" y="1451"/>
                      <a:pt x="363" y="1446"/>
                    </a:cubicBezTo>
                    <a:cubicBezTo>
                      <a:pt x="325" y="1441"/>
                      <a:pt x="240" y="1550"/>
                      <a:pt x="250" y="1616"/>
                    </a:cubicBezTo>
                    <a:cubicBezTo>
                      <a:pt x="260" y="1682"/>
                      <a:pt x="420" y="1809"/>
                      <a:pt x="420" y="1842"/>
                    </a:cubicBezTo>
                    <a:cubicBezTo>
                      <a:pt x="420" y="1875"/>
                      <a:pt x="278" y="1805"/>
                      <a:pt x="250" y="1814"/>
                    </a:cubicBezTo>
                    <a:cubicBezTo>
                      <a:pt x="222" y="1823"/>
                      <a:pt x="193" y="1842"/>
                      <a:pt x="250" y="1899"/>
                    </a:cubicBezTo>
                    <a:cubicBezTo>
                      <a:pt x="307" y="1956"/>
                      <a:pt x="557" y="2112"/>
                      <a:pt x="590" y="2154"/>
                    </a:cubicBezTo>
                    <a:cubicBezTo>
                      <a:pt x="623" y="2196"/>
                      <a:pt x="538" y="2197"/>
                      <a:pt x="448" y="215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8" name=""/>
          <p:cNvGrpSpPr/>
          <p:nvPr/>
        </p:nvGrpSpPr>
        <p:grpSpPr>
          <a:xfrm>
            <a:off x="5973840" y="5091120"/>
            <a:ext cx="1719360" cy="1535040"/>
            <a:chOff x="5973840" y="5091120"/>
            <a:chExt cx="1719360" cy="1535040"/>
          </a:xfrm>
        </p:grpSpPr>
        <p:grpSp>
          <p:nvGrpSpPr>
            <p:cNvPr id="799" name=""/>
            <p:cNvGrpSpPr/>
            <p:nvPr/>
          </p:nvGrpSpPr>
          <p:grpSpPr>
            <a:xfrm>
              <a:off x="5973840" y="5091120"/>
              <a:ext cx="1719360" cy="1535040"/>
              <a:chOff x="5973840" y="5091120"/>
              <a:chExt cx="1719360" cy="1535040"/>
            </a:xfrm>
          </p:grpSpPr>
          <p:sp>
            <p:nvSpPr>
              <p:cNvPr id="800" name=""/>
              <p:cNvSpPr/>
              <p:nvPr/>
            </p:nvSpPr>
            <p:spPr>
              <a:xfrm>
                <a:off x="5997600" y="5113440"/>
                <a:ext cx="1670040" cy="149040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973840" y="5091120"/>
                <a:ext cx="1719360" cy="1535040"/>
              </a:xfrm>
              <a:custGeom>
                <a:avLst/>
                <a:gdLst/>
                <a:ahLst/>
                <a:rect l="l" t="t" r="r" b="b"/>
                <a:pathLst>
                  <a:path w="1083" h="967">
                    <a:moveTo>
                      <a:pt x="177" y="851"/>
                    </a:moveTo>
                    <a:lnTo>
                      <a:pt x="184" y="854"/>
                    </a:lnTo>
                    <a:lnTo>
                      <a:pt x="541" y="854"/>
                    </a:lnTo>
                    <a:lnTo>
                      <a:pt x="541" y="967"/>
                    </a:lnTo>
                    <a:lnTo>
                      <a:pt x="30" y="967"/>
                    </a:lnTo>
                    <a:lnTo>
                      <a:pt x="16" y="957"/>
                    </a:lnTo>
                    <a:lnTo>
                      <a:pt x="2" y="939"/>
                    </a:lnTo>
                    <a:lnTo>
                      <a:pt x="0" y="923"/>
                    </a:lnTo>
                    <a:lnTo>
                      <a:pt x="2" y="911"/>
                    </a:lnTo>
                    <a:lnTo>
                      <a:pt x="484" y="32"/>
                    </a:lnTo>
                    <a:lnTo>
                      <a:pt x="493" y="17"/>
                    </a:lnTo>
                    <a:lnTo>
                      <a:pt x="512" y="4"/>
                    </a:lnTo>
                    <a:lnTo>
                      <a:pt x="541" y="0"/>
                    </a:lnTo>
                    <a:lnTo>
                      <a:pt x="569" y="4"/>
                    </a:lnTo>
                    <a:lnTo>
                      <a:pt x="585" y="18"/>
                    </a:lnTo>
                    <a:lnTo>
                      <a:pt x="597" y="32"/>
                    </a:lnTo>
                    <a:lnTo>
                      <a:pt x="1079" y="911"/>
                    </a:lnTo>
                    <a:lnTo>
                      <a:pt x="1083" y="926"/>
                    </a:lnTo>
                    <a:lnTo>
                      <a:pt x="1079" y="939"/>
                    </a:lnTo>
                    <a:lnTo>
                      <a:pt x="1068" y="956"/>
                    </a:lnTo>
                    <a:lnTo>
                      <a:pt x="1051" y="967"/>
                    </a:lnTo>
                    <a:lnTo>
                      <a:pt x="541" y="967"/>
                    </a:lnTo>
                    <a:lnTo>
                      <a:pt x="541" y="854"/>
                    </a:lnTo>
                    <a:lnTo>
                      <a:pt x="895" y="854"/>
                    </a:lnTo>
                    <a:lnTo>
                      <a:pt x="901" y="846"/>
                    </a:lnTo>
                    <a:lnTo>
                      <a:pt x="900" y="839"/>
                    </a:lnTo>
                    <a:lnTo>
                      <a:pt x="550" y="194"/>
                    </a:lnTo>
                    <a:lnTo>
                      <a:pt x="541" y="185"/>
                    </a:lnTo>
                    <a:lnTo>
                      <a:pt x="529" y="194"/>
                    </a:lnTo>
                    <a:lnTo>
                      <a:pt x="178" y="845"/>
                    </a:lnTo>
                    <a:lnTo>
                      <a:pt x="177" y="8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6553080" y="5634000"/>
              <a:ext cx="555840" cy="743040"/>
              <a:chOff x="6553080" y="5634000"/>
              <a:chExt cx="555840" cy="743040"/>
            </a:xfrm>
          </p:grpSpPr>
          <p:sp>
            <p:nvSpPr>
              <p:cNvPr id="803" name=""/>
              <p:cNvSpPr/>
              <p:nvPr/>
            </p:nvSpPr>
            <p:spPr>
              <a:xfrm>
                <a:off x="6553080" y="6317640"/>
                <a:ext cx="555840" cy="59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588720" y="5634000"/>
                <a:ext cx="480240" cy="664920"/>
              </a:xfrm>
              <a:custGeom>
                <a:avLst/>
                <a:gdLst/>
                <a:ahLst/>
                <a:rect l="l" t="t" r="r" b="b"/>
                <a:pathLst>
                  <a:path w="1592" h="2207">
                    <a:moveTo>
                      <a:pt x="448" y="2154"/>
                    </a:moveTo>
                    <a:cubicBezTo>
                      <a:pt x="358" y="2111"/>
                      <a:pt x="104" y="2050"/>
                      <a:pt x="52" y="1899"/>
                    </a:cubicBezTo>
                    <a:cubicBezTo>
                      <a:pt x="0" y="1748"/>
                      <a:pt x="104" y="1332"/>
                      <a:pt x="137" y="1247"/>
                    </a:cubicBezTo>
                    <a:cubicBezTo>
                      <a:pt x="170" y="1162"/>
                      <a:pt x="236" y="1431"/>
                      <a:pt x="250" y="1389"/>
                    </a:cubicBezTo>
                    <a:cubicBezTo>
                      <a:pt x="264" y="1347"/>
                      <a:pt x="217" y="1086"/>
                      <a:pt x="222" y="992"/>
                    </a:cubicBezTo>
                    <a:cubicBezTo>
                      <a:pt x="227" y="898"/>
                      <a:pt x="287" y="869"/>
                      <a:pt x="278" y="822"/>
                    </a:cubicBezTo>
                    <a:cubicBezTo>
                      <a:pt x="269" y="775"/>
                      <a:pt x="146" y="718"/>
                      <a:pt x="165" y="709"/>
                    </a:cubicBezTo>
                    <a:cubicBezTo>
                      <a:pt x="184" y="700"/>
                      <a:pt x="335" y="798"/>
                      <a:pt x="392" y="765"/>
                    </a:cubicBezTo>
                    <a:cubicBezTo>
                      <a:pt x="449" y="732"/>
                      <a:pt x="496" y="590"/>
                      <a:pt x="505" y="510"/>
                    </a:cubicBezTo>
                    <a:cubicBezTo>
                      <a:pt x="514" y="430"/>
                      <a:pt x="424" y="368"/>
                      <a:pt x="448" y="283"/>
                    </a:cubicBezTo>
                    <a:cubicBezTo>
                      <a:pt x="472" y="198"/>
                      <a:pt x="586" y="0"/>
                      <a:pt x="647" y="0"/>
                    </a:cubicBezTo>
                    <a:cubicBezTo>
                      <a:pt x="708" y="0"/>
                      <a:pt x="756" y="203"/>
                      <a:pt x="817" y="283"/>
                    </a:cubicBezTo>
                    <a:cubicBezTo>
                      <a:pt x="878" y="363"/>
                      <a:pt x="977" y="411"/>
                      <a:pt x="1015" y="482"/>
                    </a:cubicBezTo>
                    <a:cubicBezTo>
                      <a:pt x="1053" y="553"/>
                      <a:pt x="1016" y="704"/>
                      <a:pt x="1044" y="709"/>
                    </a:cubicBezTo>
                    <a:cubicBezTo>
                      <a:pt x="1072" y="714"/>
                      <a:pt x="1166" y="562"/>
                      <a:pt x="1185" y="510"/>
                    </a:cubicBezTo>
                    <a:cubicBezTo>
                      <a:pt x="1204" y="458"/>
                      <a:pt x="1143" y="406"/>
                      <a:pt x="1157" y="397"/>
                    </a:cubicBezTo>
                    <a:cubicBezTo>
                      <a:pt x="1171" y="388"/>
                      <a:pt x="1252" y="411"/>
                      <a:pt x="1271" y="453"/>
                    </a:cubicBezTo>
                    <a:cubicBezTo>
                      <a:pt x="1290" y="495"/>
                      <a:pt x="1276" y="586"/>
                      <a:pt x="1271" y="652"/>
                    </a:cubicBezTo>
                    <a:cubicBezTo>
                      <a:pt x="1266" y="718"/>
                      <a:pt x="1233" y="793"/>
                      <a:pt x="1242" y="850"/>
                    </a:cubicBezTo>
                    <a:cubicBezTo>
                      <a:pt x="1251" y="907"/>
                      <a:pt x="1303" y="992"/>
                      <a:pt x="1327" y="992"/>
                    </a:cubicBezTo>
                    <a:cubicBezTo>
                      <a:pt x="1351" y="992"/>
                      <a:pt x="1342" y="883"/>
                      <a:pt x="1384" y="850"/>
                    </a:cubicBezTo>
                    <a:cubicBezTo>
                      <a:pt x="1426" y="817"/>
                      <a:pt x="1572" y="775"/>
                      <a:pt x="1582" y="794"/>
                    </a:cubicBezTo>
                    <a:cubicBezTo>
                      <a:pt x="1592" y="813"/>
                      <a:pt x="1455" y="879"/>
                      <a:pt x="1441" y="964"/>
                    </a:cubicBezTo>
                    <a:cubicBezTo>
                      <a:pt x="1427" y="1049"/>
                      <a:pt x="1488" y="1205"/>
                      <a:pt x="1497" y="1304"/>
                    </a:cubicBezTo>
                    <a:cubicBezTo>
                      <a:pt x="1506" y="1403"/>
                      <a:pt x="1525" y="1441"/>
                      <a:pt x="1497" y="1559"/>
                    </a:cubicBezTo>
                    <a:cubicBezTo>
                      <a:pt x="1469" y="1677"/>
                      <a:pt x="1422" y="1909"/>
                      <a:pt x="1327" y="2013"/>
                    </a:cubicBezTo>
                    <a:cubicBezTo>
                      <a:pt x="1232" y="2117"/>
                      <a:pt x="949" y="2207"/>
                      <a:pt x="930" y="2183"/>
                    </a:cubicBezTo>
                    <a:cubicBezTo>
                      <a:pt x="911" y="2159"/>
                      <a:pt x="1162" y="1975"/>
                      <a:pt x="1214" y="1871"/>
                    </a:cubicBezTo>
                    <a:cubicBezTo>
                      <a:pt x="1266" y="1767"/>
                      <a:pt x="1256" y="1649"/>
                      <a:pt x="1242" y="1559"/>
                    </a:cubicBezTo>
                    <a:cubicBezTo>
                      <a:pt x="1228" y="1469"/>
                      <a:pt x="1157" y="1337"/>
                      <a:pt x="1129" y="1332"/>
                    </a:cubicBezTo>
                    <a:cubicBezTo>
                      <a:pt x="1101" y="1327"/>
                      <a:pt x="1091" y="1498"/>
                      <a:pt x="1072" y="1531"/>
                    </a:cubicBezTo>
                    <a:cubicBezTo>
                      <a:pt x="1053" y="1564"/>
                      <a:pt x="1020" y="1578"/>
                      <a:pt x="1015" y="1531"/>
                    </a:cubicBezTo>
                    <a:cubicBezTo>
                      <a:pt x="1010" y="1484"/>
                      <a:pt x="1053" y="1323"/>
                      <a:pt x="1044" y="1247"/>
                    </a:cubicBezTo>
                    <a:cubicBezTo>
                      <a:pt x="1035" y="1171"/>
                      <a:pt x="992" y="1101"/>
                      <a:pt x="959" y="1077"/>
                    </a:cubicBezTo>
                    <a:cubicBezTo>
                      <a:pt x="926" y="1053"/>
                      <a:pt x="854" y="1063"/>
                      <a:pt x="845" y="1105"/>
                    </a:cubicBezTo>
                    <a:cubicBezTo>
                      <a:pt x="836" y="1147"/>
                      <a:pt x="921" y="1256"/>
                      <a:pt x="902" y="1332"/>
                    </a:cubicBezTo>
                    <a:cubicBezTo>
                      <a:pt x="883" y="1408"/>
                      <a:pt x="774" y="1517"/>
                      <a:pt x="732" y="1559"/>
                    </a:cubicBezTo>
                    <a:cubicBezTo>
                      <a:pt x="690" y="1601"/>
                      <a:pt x="661" y="1629"/>
                      <a:pt x="647" y="1587"/>
                    </a:cubicBezTo>
                    <a:cubicBezTo>
                      <a:pt x="633" y="1545"/>
                      <a:pt x="666" y="1356"/>
                      <a:pt x="647" y="1304"/>
                    </a:cubicBezTo>
                    <a:cubicBezTo>
                      <a:pt x="628" y="1252"/>
                      <a:pt x="561" y="1218"/>
                      <a:pt x="533" y="1275"/>
                    </a:cubicBezTo>
                    <a:cubicBezTo>
                      <a:pt x="505" y="1332"/>
                      <a:pt x="505" y="1616"/>
                      <a:pt x="477" y="1644"/>
                    </a:cubicBezTo>
                    <a:cubicBezTo>
                      <a:pt x="449" y="1672"/>
                      <a:pt x="401" y="1451"/>
                      <a:pt x="363" y="1446"/>
                    </a:cubicBezTo>
                    <a:cubicBezTo>
                      <a:pt x="325" y="1441"/>
                      <a:pt x="240" y="1550"/>
                      <a:pt x="250" y="1616"/>
                    </a:cubicBezTo>
                    <a:cubicBezTo>
                      <a:pt x="260" y="1682"/>
                      <a:pt x="420" y="1809"/>
                      <a:pt x="420" y="1842"/>
                    </a:cubicBezTo>
                    <a:cubicBezTo>
                      <a:pt x="420" y="1875"/>
                      <a:pt x="278" y="1805"/>
                      <a:pt x="250" y="1814"/>
                    </a:cubicBezTo>
                    <a:cubicBezTo>
                      <a:pt x="222" y="1823"/>
                      <a:pt x="193" y="1842"/>
                      <a:pt x="250" y="1899"/>
                    </a:cubicBezTo>
                    <a:cubicBezTo>
                      <a:pt x="307" y="1956"/>
                      <a:pt x="557" y="2112"/>
                      <a:pt x="590" y="2154"/>
                    </a:cubicBezTo>
                    <a:cubicBezTo>
                      <a:pt x="623" y="2196"/>
                      <a:pt x="538" y="2197"/>
                      <a:pt x="448" y="215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5" name=""/>
          <p:cNvGrpSpPr/>
          <p:nvPr/>
        </p:nvGrpSpPr>
        <p:grpSpPr>
          <a:xfrm>
            <a:off x="2217600" y="5114880"/>
            <a:ext cx="1719360" cy="1535040"/>
            <a:chOff x="2217600" y="5114880"/>
            <a:chExt cx="1719360" cy="1535040"/>
          </a:xfrm>
        </p:grpSpPr>
        <p:grpSp>
          <p:nvGrpSpPr>
            <p:cNvPr id="806" name=""/>
            <p:cNvGrpSpPr/>
            <p:nvPr/>
          </p:nvGrpSpPr>
          <p:grpSpPr>
            <a:xfrm>
              <a:off x="2217600" y="5114880"/>
              <a:ext cx="1719360" cy="1535040"/>
              <a:chOff x="2217600" y="5114880"/>
              <a:chExt cx="1719360" cy="1535040"/>
            </a:xfrm>
          </p:grpSpPr>
          <p:sp>
            <p:nvSpPr>
              <p:cNvPr id="807" name=""/>
              <p:cNvSpPr/>
              <p:nvPr/>
            </p:nvSpPr>
            <p:spPr>
              <a:xfrm>
                <a:off x="2241720" y="513720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217600" y="5114880"/>
                <a:ext cx="1719360" cy="1535040"/>
              </a:xfrm>
              <a:custGeom>
                <a:avLst/>
                <a:gdLst/>
                <a:ahLst/>
                <a:rect l="l" t="t" r="r" b="b"/>
                <a:pathLst>
                  <a:path w="1083" h="967">
                    <a:moveTo>
                      <a:pt x="177" y="851"/>
                    </a:moveTo>
                    <a:lnTo>
                      <a:pt x="184" y="854"/>
                    </a:lnTo>
                    <a:lnTo>
                      <a:pt x="541" y="854"/>
                    </a:lnTo>
                    <a:lnTo>
                      <a:pt x="541" y="967"/>
                    </a:lnTo>
                    <a:lnTo>
                      <a:pt x="30" y="967"/>
                    </a:lnTo>
                    <a:lnTo>
                      <a:pt x="16" y="957"/>
                    </a:lnTo>
                    <a:lnTo>
                      <a:pt x="2" y="939"/>
                    </a:lnTo>
                    <a:lnTo>
                      <a:pt x="0" y="923"/>
                    </a:lnTo>
                    <a:lnTo>
                      <a:pt x="2" y="911"/>
                    </a:lnTo>
                    <a:lnTo>
                      <a:pt x="484" y="32"/>
                    </a:lnTo>
                    <a:lnTo>
                      <a:pt x="493" y="17"/>
                    </a:lnTo>
                    <a:lnTo>
                      <a:pt x="512" y="4"/>
                    </a:lnTo>
                    <a:lnTo>
                      <a:pt x="541" y="0"/>
                    </a:lnTo>
                    <a:lnTo>
                      <a:pt x="569" y="4"/>
                    </a:lnTo>
                    <a:lnTo>
                      <a:pt x="585" y="18"/>
                    </a:lnTo>
                    <a:lnTo>
                      <a:pt x="597" y="32"/>
                    </a:lnTo>
                    <a:lnTo>
                      <a:pt x="1079" y="911"/>
                    </a:lnTo>
                    <a:lnTo>
                      <a:pt x="1083" y="926"/>
                    </a:lnTo>
                    <a:lnTo>
                      <a:pt x="1079" y="939"/>
                    </a:lnTo>
                    <a:lnTo>
                      <a:pt x="1068" y="956"/>
                    </a:lnTo>
                    <a:lnTo>
                      <a:pt x="1051" y="967"/>
                    </a:lnTo>
                    <a:lnTo>
                      <a:pt x="541" y="967"/>
                    </a:lnTo>
                    <a:lnTo>
                      <a:pt x="541" y="854"/>
                    </a:lnTo>
                    <a:lnTo>
                      <a:pt x="895" y="854"/>
                    </a:lnTo>
                    <a:lnTo>
                      <a:pt x="901" y="846"/>
                    </a:lnTo>
                    <a:lnTo>
                      <a:pt x="900" y="839"/>
                    </a:lnTo>
                    <a:lnTo>
                      <a:pt x="550" y="194"/>
                    </a:lnTo>
                    <a:lnTo>
                      <a:pt x="541" y="185"/>
                    </a:lnTo>
                    <a:lnTo>
                      <a:pt x="529" y="194"/>
                    </a:lnTo>
                    <a:lnTo>
                      <a:pt x="178" y="845"/>
                    </a:lnTo>
                    <a:lnTo>
                      <a:pt x="177" y="8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2836800" y="5634000"/>
              <a:ext cx="555840" cy="743040"/>
              <a:chOff x="2836800" y="5634000"/>
              <a:chExt cx="555840" cy="743040"/>
            </a:xfrm>
          </p:grpSpPr>
          <p:sp>
            <p:nvSpPr>
              <p:cNvPr id="810" name=""/>
              <p:cNvSpPr/>
              <p:nvPr/>
            </p:nvSpPr>
            <p:spPr>
              <a:xfrm>
                <a:off x="2836800" y="6317640"/>
                <a:ext cx="555840" cy="59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872440" y="5634000"/>
                <a:ext cx="480240" cy="664920"/>
              </a:xfrm>
              <a:custGeom>
                <a:avLst/>
                <a:gdLst/>
                <a:ahLst/>
                <a:rect l="l" t="t" r="r" b="b"/>
                <a:pathLst>
                  <a:path w="1592" h="2207">
                    <a:moveTo>
                      <a:pt x="448" y="2154"/>
                    </a:moveTo>
                    <a:cubicBezTo>
                      <a:pt x="358" y="2111"/>
                      <a:pt x="104" y="2050"/>
                      <a:pt x="52" y="1899"/>
                    </a:cubicBezTo>
                    <a:cubicBezTo>
                      <a:pt x="0" y="1748"/>
                      <a:pt x="104" y="1332"/>
                      <a:pt x="137" y="1247"/>
                    </a:cubicBezTo>
                    <a:cubicBezTo>
                      <a:pt x="170" y="1162"/>
                      <a:pt x="236" y="1431"/>
                      <a:pt x="250" y="1389"/>
                    </a:cubicBezTo>
                    <a:cubicBezTo>
                      <a:pt x="264" y="1347"/>
                      <a:pt x="217" y="1086"/>
                      <a:pt x="222" y="992"/>
                    </a:cubicBezTo>
                    <a:cubicBezTo>
                      <a:pt x="227" y="898"/>
                      <a:pt x="287" y="869"/>
                      <a:pt x="278" y="822"/>
                    </a:cubicBezTo>
                    <a:cubicBezTo>
                      <a:pt x="269" y="775"/>
                      <a:pt x="146" y="718"/>
                      <a:pt x="165" y="709"/>
                    </a:cubicBezTo>
                    <a:cubicBezTo>
                      <a:pt x="184" y="700"/>
                      <a:pt x="335" y="798"/>
                      <a:pt x="392" y="765"/>
                    </a:cubicBezTo>
                    <a:cubicBezTo>
                      <a:pt x="449" y="732"/>
                      <a:pt x="496" y="590"/>
                      <a:pt x="505" y="510"/>
                    </a:cubicBezTo>
                    <a:cubicBezTo>
                      <a:pt x="514" y="430"/>
                      <a:pt x="424" y="368"/>
                      <a:pt x="448" y="283"/>
                    </a:cubicBezTo>
                    <a:cubicBezTo>
                      <a:pt x="472" y="198"/>
                      <a:pt x="586" y="0"/>
                      <a:pt x="647" y="0"/>
                    </a:cubicBezTo>
                    <a:cubicBezTo>
                      <a:pt x="708" y="0"/>
                      <a:pt x="756" y="203"/>
                      <a:pt x="817" y="283"/>
                    </a:cubicBezTo>
                    <a:cubicBezTo>
                      <a:pt x="878" y="363"/>
                      <a:pt x="977" y="411"/>
                      <a:pt x="1015" y="482"/>
                    </a:cubicBezTo>
                    <a:cubicBezTo>
                      <a:pt x="1053" y="553"/>
                      <a:pt x="1016" y="704"/>
                      <a:pt x="1044" y="709"/>
                    </a:cubicBezTo>
                    <a:cubicBezTo>
                      <a:pt x="1072" y="714"/>
                      <a:pt x="1166" y="562"/>
                      <a:pt x="1185" y="510"/>
                    </a:cubicBezTo>
                    <a:cubicBezTo>
                      <a:pt x="1204" y="458"/>
                      <a:pt x="1143" y="406"/>
                      <a:pt x="1157" y="397"/>
                    </a:cubicBezTo>
                    <a:cubicBezTo>
                      <a:pt x="1171" y="388"/>
                      <a:pt x="1252" y="411"/>
                      <a:pt x="1271" y="453"/>
                    </a:cubicBezTo>
                    <a:cubicBezTo>
                      <a:pt x="1290" y="495"/>
                      <a:pt x="1276" y="586"/>
                      <a:pt x="1271" y="652"/>
                    </a:cubicBezTo>
                    <a:cubicBezTo>
                      <a:pt x="1266" y="718"/>
                      <a:pt x="1233" y="793"/>
                      <a:pt x="1242" y="850"/>
                    </a:cubicBezTo>
                    <a:cubicBezTo>
                      <a:pt x="1251" y="907"/>
                      <a:pt x="1303" y="992"/>
                      <a:pt x="1327" y="992"/>
                    </a:cubicBezTo>
                    <a:cubicBezTo>
                      <a:pt x="1351" y="992"/>
                      <a:pt x="1342" y="883"/>
                      <a:pt x="1384" y="850"/>
                    </a:cubicBezTo>
                    <a:cubicBezTo>
                      <a:pt x="1426" y="817"/>
                      <a:pt x="1572" y="775"/>
                      <a:pt x="1582" y="794"/>
                    </a:cubicBezTo>
                    <a:cubicBezTo>
                      <a:pt x="1592" y="813"/>
                      <a:pt x="1455" y="879"/>
                      <a:pt x="1441" y="964"/>
                    </a:cubicBezTo>
                    <a:cubicBezTo>
                      <a:pt x="1427" y="1049"/>
                      <a:pt x="1488" y="1205"/>
                      <a:pt x="1497" y="1304"/>
                    </a:cubicBezTo>
                    <a:cubicBezTo>
                      <a:pt x="1506" y="1403"/>
                      <a:pt x="1525" y="1441"/>
                      <a:pt x="1497" y="1559"/>
                    </a:cubicBezTo>
                    <a:cubicBezTo>
                      <a:pt x="1469" y="1677"/>
                      <a:pt x="1422" y="1909"/>
                      <a:pt x="1327" y="2013"/>
                    </a:cubicBezTo>
                    <a:cubicBezTo>
                      <a:pt x="1232" y="2117"/>
                      <a:pt x="949" y="2207"/>
                      <a:pt x="930" y="2183"/>
                    </a:cubicBezTo>
                    <a:cubicBezTo>
                      <a:pt x="911" y="2159"/>
                      <a:pt x="1162" y="1975"/>
                      <a:pt x="1214" y="1871"/>
                    </a:cubicBezTo>
                    <a:cubicBezTo>
                      <a:pt x="1266" y="1767"/>
                      <a:pt x="1256" y="1649"/>
                      <a:pt x="1242" y="1559"/>
                    </a:cubicBezTo>
                    <a:cubicBezTo>
                      <a:pt x="1228" y="1469"/>
                      <a:pt x="1157" y="1337"/>
                      <a:pt x="1129" y="1332"/>
                    </a:cubicBezTo>
                    <a:cubicBezTo>
                      <a:pt x="1101" y="1327"/>
                      <a:pt x="1091" y="1498"/>
                      <a:pt x="1072" y="1531"/>
                    </a:cubicBezTo>
                    <a:cubicBezTo>
                      <a:pt x="1053" y="1564"/>
                      <a:pt x="1020" y="1578"/>
                      <a:pt x="1015" y="1531"/>
                    </a:cubicBezTo>
                    <a:cubicBezTo>
                      <a:pt x="1010" y="1484"/>
                      <a:pt x="1053" y="1323"/>
                      <a:pt x="1044" y="1247"/>
                    </a:cubicBezTo>
                    <a:cubicBezTo>
                      <a:pt x="1035" y="1171"/>
                      <a:pt x="992" y="1101"/>
                      <a:pt x="959" y="1077"/>
                    </a:cubicBezTo>
                    <a:cubicBezTo>
                      <a:pt x="926" y="1053"/>
                      <a:pt x="854" y="1063"/>
                      <a:pt x="845" y="1105"/>
                    </a:cubicBezTo>
                    <a:cubicBezTo>
                      <a:pt x="836" y="1147"/>
                      <a:pt x="921" y="1256"/>
                      <a:pt x="902" y="1332"/>
                    </a:cubicBezTo>
                    <a:cubicBezTo>
                      <a:pt x="883" y="1408"/>
                      <a:pt x="774" y="1517"/>
                      <a:pt x="732" y="1559"/>
                    </a:cubicBezTo>
                    <a:cubicBezTo>
                      <a:pt x="690" y="1601"/>
                      <a:pt x="661" y="1629"/>
                      <a:pt x="647" y="1587"/>
                    </a:cubicBezTo>
                    <a:cubicBezTo>
                      <a:pt x="633" y="1545"/>
                      <a:pt x="666" y="1356"/>
                      <a:pt x="647" y="1304"/>
                    </a:cubicBezTo>
                    <a:cubicBezTo>
                      <a:pt x="628" y="1252"/>
                      <a:pt x="561" y="1218"/>
                      <a:pt x="533" y="1275"/>
                    </a:cubicBezTo>
                    <a:cubicBezTo>
                      <a:pt x="505" y="1332"/>
                      <a:pt x="505" y="1616"/>
                      <a:pt x="477" y="1644"/>
                    </a:cubicBezTo>
                    <a:cubicBezTo>
                      <a:pt x="449" y="1672"/>
                      <a:pt x="401" y="1451"/>
                      <a:pt x="363" y="1446"/>
                    </a:cubicBezTo>
                    <a:cubicBezTo>
                      <a:pt x="325" y="1441"/>
                      <a:pt x="240" y="1550"/>
                      <a:pt x="250" y="1616"/>
                    </a:cubicBezTo>
                    <a:cubicBezTo>
                      <a:pt x="260" y="1682"/>
                      <a:pt x="420" y="1809"/>
                      <a:pt x="420" y="1842"/>
                    </a:cubicBezTo>
                    <a:cubicBezTo>
                      <a:pt x="420" y="1875"/>
                      <a:pt x="278" y="1805"/>
                      <a:pt x="250" y="1814"/>
                    </a:cubicBezTo>
                    <a:cubicBezTo>
                      <a:pt x="222" y="1823"/>
                      <a:pt x="193" y="1842"/>
                      <a:pt x="250" y="1899"/>
                    </a:cubicBezTo>
                    <a:cubicBezTo>
                      <a:pt x="307" y="1956"/>
                      <a:pt x="557" y="2112"/>
                      <a:pt x="590" y="2154"/>
                    </a:cubicBezTo>
                    <a:cubicBezTo>
                      <a:pt x="623" y="2196"/>
                      <a:pt x="538" y="2197"/>
                      <a:pt x="448" y="215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2" name=""/>
          <p:cNvGrpSpPr/>
          <p:nvPr/>
        </p:nvGrpSpPr>
        <p:grpSpPr>
          <a:xfrm>
            <a:off x="326880" y="5094360"/>
            <a:ext cx="1719360" cy="1535040"/>
            <a:chOff x="326880" y="5094360"/>
            <a:chExt cx="1719360" cy="1535040"/>
          </a:xfrm>
        </p:grpSpPr>
        <p:grpSp>
          <p:nvGrpSpPr>
            <p:cNvPr id="813" name=""/>
            <p:cNvGrpSpPr/>
            <p:nvPr/>
          </p:nvGrpSpPr>
          <p:grpSpPr>
            <a:xfrm>
              <a:off x="326880" y="5094360"/>
              <a:ext cx="1719360" cy="1535040"/>
              <a:chOff x="326880" y="5094360"/>
              <a:chExt cx="1719360" cy="1535040"/>
            </a:xfrm>
          </p:grpSpPr>
          <p:sp>
            <p:nvSpPr>
              <p:cNvPr id="814" name=""/>
              <p:cNvSpPr/>
              <p:nvPr/>
            </p:nvSpPr>
            <p:spPr>
              <a:xfrm>
                <a:off x="351000" y="5116680"/>
                <a:ext cx="1670040" cy="149040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26880" y="5094360"/>
                <a:ext cx="1719360" cy="1535040"/>
              </a:xfrm>
              <a:custGeom>
                <a:avLst/>
                <a:gdLst/>
                <a:ahLst/>
                <a:rect l="l" t="t" r="r" b="b"/>
                <a:pathLst>
                  <a:path w="1083" h="967">
                    <a:moveTo>
                      <a:pt x="177" y="851"/>
                    </a:moveTo>
                    <a:lnTo>
                      <a:pt x="184" y="854"/>
                    </a:lnTo>
                    <a:lnTo>
                      <a:pt x="541" y="854"/>
                    </a:lnTo>
                    <a:lnTo>
                      <a:pt x="541" y="967"/>
                    </a:lnTo>
                    <a:lnTo>
                      <a:pt x="30" y="967"/>
                    </a:lnTo>
                    <a:lnTo>
                      <a:pt x="16" y="957"/>
                    </a:lnTo>
                    <a:lnTo>
                      <a:pt x="2" y="939"/>
                    </a:lnTo>
                    <a:lnTo>
                      <a:pt x="0" y="923"/>
                    </a:lnTo>
                    <a:lnTo>
                      <a:pt x="2" y="911"/>
                    </a:lnTo>
                    <a:lnTo>
                      <a:pt x="484" y="32"/>
                    </a:lnTo>
                    <a:lnTo>
                      <a:pt x="493" y="17"/>
                    </a:lnTo>
                    <a:lnTo>
                      <a:pt x="512" y="4"/>
                    </a:lnTo>
                    <a:lnTo>
                      <a:pt x="541" y="0"/>
                    </a:lnTo>
                    <a:lnTo>
                      <a:pt x="569" y="4"/>
                    </a:lnTo>
                    <a:lnTo>
                      <a:pt x="585" y="18"/>
                    </a:lnTo>
                    <a:lnTo>
                      <a:pt x="597" y="32"/>
                    </a:lnTo>
                    <a:lnTo>
                      <a:pt x="1079" y="911"/>
                    </a:lnTo>
                    <a:lnTo>
                      <a:pt x="1083" y="926"/>
                    </a:lnTo>
                    <a:lnTo>
                      <a:pt x="1079" y="939"/>
                    </a:lnTo>
                    <a:lnTo>
                      <a:pt x="1068" y="956"/>
                    </a:lnTo>
                    <a:lnTo>
                      <a:pt x="1051" y="967"/>
                    </a:lnTo>
                    <a:lnTo>
                      <a:pt x="541" y="967"/>
                    </a:lnTo>
                    <a:lnTo>
                      <a:pt x="541" y="854"/>
                    </a:lnTo>
                    <a:lnTo>
                      <a:pt x="895" y="854"/>
                    </a:lnTo>
                    <a:lnTo>
                      <a:pt x="901" y="846"/>
                    </a:lnTo>
                    <a:lnTo>
                      <a:pt x="900" y="839"/>
                    </a:lnTo>
                    <a:lnTo>
                      <a:pt x="550" y="194"/>
                    </a:lnTo>
                    <a:lnTo>
                      <a:pt x="541" y="185"/>
                    </a:lnTo>
                    <a:lnTo>
                      <a:pt x="529" y="194"/>
                    </a:lnTo>
                    <a:lnTo>
                      <a:pt x="178" y="845"/>
                    </a:lnTo>
                    <a:lnTo>
                      <a:pt x="177" y="8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941400" y="5634000"/>
              <a:ext cx="555480" cy="743040"/>
              <a:chOff x="941400" y="5634000"/>
              <a:chExt cx="555480" cy="743040"/>
            </a:xfrm>
          </p:grpSpPr>
          <p:sp>
            <p:nvSpPr>
              <p:cNvPr id="817" name=""/>
              <p:cNvSpPr/>
              <p:nvPr/>
            </p:nvSpPr>
            <p:spPr>
              <a:xfrm>
                <a:off x="941400" y="6317640"/>
                <a:ext cx="555480" cy="59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977040" y="5634000"/>
                <a:ext cx="479880" cy="664920"/>
              </a:xfrm>
              <a:custGeom>
                <a:avLst/>
                <a:gdLst/>
                <a:ahLst/>
                <a:rect l="l" t="t" r="r" b="b"/>
                <a:pathLst>
                  <a:path w="1592" h="2207">
                    <a:moveTo>
                      <a:pt x="448" y="2154"/>
                    </a:moveTo>
                    <a:cubicBezTo>
                      <a:pt x="358" y="2111"/>
                      <a:pt x="104" y="2050"/>
                      <a:pt x="52" y="1899"/>
                    </a:cubicBezTo>
                    <a:cubicBezTo>
                      <a:pt x="0" y="1748"/>
                      <a:pt x="104" y="1332"/>
                      <a:pt x="137" y="1247"/>
                    </a:cubicBezTo>
                    <a:cubicBezTo>
                      <a:pt x="170" y="1162"/>
                      <a:pt x="236" y="1431"/>
                      <a:pt x="250" y="1389"/>
                    </a:cubicBezTo>
                    <a:cubicBezTo>
                      <a:pt x="264" y="1347"/>
                      <a:pt x="217" y="1086"/>
                      <a:pt x="222" y="992"/>
                    </a:cubicBezTo>
                    <a:cubicBezTo>
                      <a:pt x="227" y="898"/>
                      <a:pt x="287" y="869"/>
                      <a:pt x="278" y="822"/>
                    </a:cubicBezTo>
                    <a:cubicBezTo>
                      <a:pt x="269" y="775"/>
                      <a:pt x="146" y="718"/>
                      <a:pt x="165" y="709"/>
                    </a:cubicBezTo>
                    <a:cubicBezTo>
                      <a:pt x="184" y="700"/>
                      <a:pt x="335" y="798"/>
                      <a:pt x="392" y="765"/>
                    </a:cubicBezTo>
                    <a:cubicBezTo>
                      <a:pt x="449" y="732"/>
                      <a:pt x="496" y="590"/>
                      <a:pt x="505" y="510"/>
                    </a:cubicBezTo>
                    <a:cubicBezTo>
                      <a:pt x="514" y="430"/>
                      <a:pt x="424" y="368"/>
                      <a:pt x="448" y="283"/>
                    </a:cubicBezTo>
                    <a:cubicBezTo>
                      <a:pt x="472" y="198"/>
                      <a:pt x="586" y="0"/>
                      <a:pt x="647" y="0"/>
                    </a:cubicBezTo>
                    <a:cubicBezTo>
                      <a:pt x="708" y="0"/>
                      <a:pt x="756" y="203"/>
                      <a:pt x="817" y="283"/>
                    </a:cubicBezTo>
                    <a:cubicBezTo>
                      <a:pt x="878" y="363"/>
                      <a:pt x="977" y="411"/>
                      <a:pt x="1015" y="482"/>
                    </a:cubicBezTo>
                    <a:cubicBezTo>
                      <a:pt x="1053" y="553"/>
                      <a:pt x="1016" y="704"/>
                      <a:pt x="1044" y="709"/>
                    </a:cubicBezTo>
                    <a:cubicBezTo>
                      <a:pt x="1072" y="714"/>
                      <a:pt x="1166" y="562"/>
                      <a:pt x="1185" y="510"/>
                    </a:cubicBezTo>
                    <a:cubicBezTo>
                      <a:pt x="1204" y="458"/>
                      <a:pt x="1143" y="406"/>
                      <a:pt x="1157" y="397"/>
                    </a:cubicBezTo>
                    <a:cubicBezTo>
                      <a:pt x="1171" y="388"/>
                      <a:pt x="1252" y="411"/>
                      <a:pt x="1271" y="453"/>
                    </a:cubicBezTo>
                    <a:cubicBezTo>
                      <a:pt x="1290" y="495"/>
                      <a:pt x="1276" y="586"/>
                      <a:pt x="1271" y="652"/>
                    </a:cubicBezTo>
                    <a:cubicBezTo>
                      <a:pt x="1266" y="718"/>
                      <a:pt x="1233" y="793"/>
                      <a:pt x="1242" y="850"/>
                    </a:cubicBezTo>
                    <a:cubicBezTo>
                      <a:pt x="1251" y="907"/>
                      <a:pt x="1303" y="992"/>
                      <a:pt x="1327" y="992"/>
                    </a:cubicBezTo>
                    <a:cubicBezTo>
                      <a:pt x="1351" y="992"/>
                      <a:pt x="1342" y="883"/>
                      <a:pt x="1384" y="850"/>
                    </a:cubicBezTo>
                    <a:cubicBezTo>
                      <a:pt x="1426" y="817"/>
                      <a:pt x="1572" y="775"/>
                      <a:pt x="1582" y="794"/>
                    </a:cubicBezTo>
                    <a:cubicBezTo>
                      <a:pt x="1592" y="813"/>
                      <a:pt x="1455" y="879"/>
                      <a:pt x="1441" y="964"/>
                    </a:cubicBezTo>
                    <a:cubicBezTo>
                      <a:pt x="1427" y="1049"/>
                      <a:pt x="1488" y="1205"/>
                      <a:pt x="1497" y="1304"/>
                    </a:cubicBezTo>
                    <a:cubicBezTo>
                      <a:pt x="1506" y="1403"/>
                      <a:pt x="1525" y="1441"/>
                      <a:pt x="1497" y="1559"/>
                    </a:cubicBezTo>
                    <a:cubicBezTo>
                      <a:pt x="1469" y="1677"/>
                      <a:pt x="1422" y="1909"/>
                      <a:pt x="1327" y="2013"/>
                    </a:cubicBezTo>
                    <a:cubicBezTo>
                      <a:pt x="1232" y="2117"/>
                      <a:pt x="949" y="2207"/>
                      <a:pt x="930" y="2183"/>
                    </a:cubicBezTo>
                    <a:cubicBezTo>
                      <a:pt x="911" y="2159"/>
                      <a:pt x="1162" y="1975"/>
                      <a:pt x="1214" y="1871"/>
                    </a:cubicBezTo>
                    <a:cubicBezTo>
                      <a:pt x="1266" y="1767"/>
                      <a:pt x="1256" y="1649"/>
                      <a:pt x="1242" y="1559"/>
                    </a:cubicBezTo>
                    <a:cubicBezTo>
                      <a:pt x="1228" y="1469"/>
                      <a:pt x="1157" y="1337"/>
                      <a:pt x="1129" y="1332"/>
                    </a:cubicBezTo>
                    <a:cubicBezTo>
                      <a:pt x="1101" y="1327"/>
                      <a:pt x="1091" y="1498"/>
                      <a:pt x="1072" y="1531"/>
                    </a:cubicBezTo>
                    <a:cubicBezTo>
                      <a:pt x="1053" y="1564"/>
                      <a:pt x="1020" y="1578"/>
                      <a:pt x="1015" y="1531"/>
                    </a:cubicBezTo>
                    <a:cubicBezTo>
                      <a:pt x="1010" y="1484"/>
                      <a:pt x="1053" y="1323"/>
                      <a:pt x="1044" y="1247"/>
                    </a:cubicBezTo>
                    <a:cubicBezTo>
                      <a:pt x="1035" y="1171"/>
                      <a:pt x="992" y="1101"/>
                      <a:pt x="959" y="1077"/>
                    </a:cubicBezTo>
                    <a:cubicBezTo>
                      <a:pt x="926" y="1053"/>
                      <a:pt x="854" y="1063"/>
                      <a:pt x="845" y="1105"/>
                    </a:cubicBezTo>
                    <a:cubicBezTo>
                      <a:pt x="836" y="1147"/>
                      <a:pt x="921" y="1256"/>
                      <a:pt x="902" y="1332"/>
                    </a:cubicBezTo>
                    <a:cubicBezTo>
                      <a:pt x="883" y="1408"/>
                      <a:pt x="774" y="1517"/>
                      <a:pt x="732" y="1559"/>
                    </a:cubicBezTo>
                    <a:cubicBezTo>
                      <a:pt x="690" y="1601"/>
                      <a:pt x="661" y="1629"/>
                      <a:pt x="647" y="1587"/>
                    </a:cubicBezTo>
                    <a:cubicBezTo>
                      <a:pt x="633" y="1545"/>
                      <a:pt x="666" y="1356"/>
                      <a:pt x="647" y="1304"/>
                    </a:cubicBezTo>
                    <a:cubicBezTo>
                      <a:pt x="628" y="1252"/>
                      <a:pt x="561" y="1218"/>
                      <a:pt x="533" y="1275"/>
                    </a:cubicBezTo>
                    <a:cubicBezTo>
                      <a:pt x="505" y="1332"/>
                      <a:pt x="505" y="1616"/>
                      <a:pt x="477" y="1644"/>
                    </a:cubicBezTo>
                    <a:cubicBezTo>
                      <a:pt x="449" y="1672"/>
                      <a:pt x="401" y="1451"/>
                      <a:pt x="363" y="1446"/>
                    </a:cubicBezTo>
                    <a:cubicBezTo>
                      <a:pt x="325" y="1441"/>
                      <a:pt x="240" y="1550"/>
                      <a:pt x="250" y="1616"/>
                    </a:cubicBezTo>
                    <a:cubicBezTo>
                      <a:pt x="260" y="1682"/>
                      <a:pt x="420" y="1809"/>
                      <a:pt x="420" y="1842"/>
                    </a:cubicBezTo>
                    <a:cubicBezTo>
                      <a:pt x="420" y="1875"/>
                      <a:pt x="278" y="1805"/>
                      <a:pt x="250" y="1814"/>
                    </a:cubicBezTo>
                    <a:cubicBezTo>
                      <a:pt x="222" y="1823"/>
                      <a:pt x="193" y="1842"/>
                      <a:pt x="250" y="1899"/>
                    </a:cubicBezTo>
                    <a:cubicBezTo>
                      <a:pt x="307" y="1956"/>
                      <a:pt x="557" y="2112"/>
                      <a:pt x="590" y="2154"/>
                    </a:cubicBezTo>
                    <a:cubicBezTo>
                      <a:pt x="623" y="2196"/>
                      <a:pt x="538" y="2197"/>
                      <a:pt x="448" y="215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9" name=""/>
          <p:cNvGrpSpPr/>
          <p:nvPr/>
        </p:nvGrpSpPr>
        <p:grpSpPr>
          <a:xfrm>
            <a:off x="2217600" y="5114880"/>
            <a:ext cx="1719360" cy="1535040"/>
            <a:chOff x="2217600" y="5114880"/>
            <a:chExt cx="1719360" cy="1535040"/>
          </a:xfrm>
        </p:grpSpPr>
        <p:grpSp>
          <p:nvGrpSpPr>
            <p:cNvPr id="820" name=""/>
            <p:cNvGrpSpPr/>
            <p:nvPr/>
          </p:nvGrpSpPr>
          <p:grpSpPr>
            <a:xfrm>
              <a:off x="2217600" y="5114880"/>
              <a:ext cx="1719360" cy="1535040"/>
              <a:chOff x="2217600" y="5114880"/>
              <a:chExt cx="1719360" cy="1535040"/>
            </a:xfrm>
          </p:grpSpPr>
          <p:sp>
            <p:nvSpPr>
              <p:cNvPr id="821" name=""/>
              <p:cNvSpPr/>
              <p:nvPr/>
            </p:nvSpPr>
            <p:spPr>
              <a:xfrm>
                <a:off x="2241720" y="513720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217600" y="5114880"/>
                <a:ext cx="1719360" cy="1535040"/>
              </a:xfrm>
              <a:custGeom>
                <a:avLst/>
                <a:gdLst/>
                <a:ahLst/>
                <a:rect l="l" t="t" r="r" b="b"/>
                <a:pathLst>
                  <a:path w="1083" h="967">
                    <a:moveTo>
                      <a:pt x="177" y="851"/>
                    </a:moveTo>
                    <a:lnTo>
                      <a:pt x="184" y="854"/>
                    </a:lnTo>
                    <a:lnTo>
                      <a:pt x="541" y="854"/>
                    </a:lnTo>
                    <a:lnTo>
                      <a:pt x="541" y="967"/>
                    </a:lnTo>
                    <a:lnTo>
                      <a:pt x="30" y="967"/>
                    </a:lnTo>
                    <a:lnTo>
                      <a:pt x="16" y="957"/>
                    </a:lnTo>
                    <a:lnTo>
                      <a:pt x="2" y="939"/>
                    </a:lnTo>
                    <a:lnTo>
                      <a:pt x="0" y="923"/>
                    </a:lnTo>
                    <a:lnTo>
                      <a:pt x="2" y="911"/>
                    </a:lnTo>
                    <a:lnTo>
                      <a:pt x="484" y="32"/>
                    </a:lnTo>
                    <a:lnTo>
                      <a:pt x="493" y="17"/>
                    </a:lnTo>
                    <a:lnTo>
                      <a:pt x="512" y="4"/>
                    </a:lnTo>
                    <a:lnTo>
                      <a:pt x="541" y="0"/>
                    </a:lnTo>
                    <a:lnTo>
                      <a:pt x="569" y="4"/>
                    </a:lnTo>
                    <a:lnTo>
                      <a:pt x="585" y="18"/>
                    </a:lnTo>
                    <a:lnTo>
                      <a:pt x="597" y="32"/>
                    </a:lnTo>
                    <a:lnTo>
                      <a:pt x="1079" y="911"/>
                    </a:lnTo>
                    <a:lnTo>
                      <a:pt x="1083" y="926"/>
                    </a:lnTo>
                    <a:lnTo>
                      <a:pt x="1079" y="939"/>
                    </a:lnTo>
                    <a:lnTo>
                      <a:pt x="1068" y="956"/>
                    </a:lnTo>
                    <a:lnTo>
                      <a:pt x="1051" y="967"/>
                    </a:lnTo>
                    <a:lnTo>
                      <a:pt x="541" y="967"/>
                    </a:lnTo>
                    <a:lnTo>
                      <a:pt x="541" y="854"/>
                    </a:lnTo>
                    <a:lnTo>
                      <a:pt x="895" y="854"/>
                    </a:lnTo>
                    <a:lnTo>
                      <a:pt x="901" y="846"/>
                    </a:lnTo>
                    <a:lnTo>
                      <a:pt x="900" y="839"/>
                    </a:lnTo>
                    <a:lnTo>
                      <a:pt x="550" y="194"/>
                    </a:lnTo>
                    <a:lnTo>
                      <a:pt x="541" y="185"/>
                    </a:lnTo>
                    <a:lnTo>
                      <a:pt x="529" y="194"/>
                    </a:lnTo>
                    <a:lnTo>
                      <a:pt x="178" y="845"/>
                    </a:lnTo>
                    <a:lnTo>
                      <a:pt x="177" y="8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2683800" y="5815080"/>
              <a:ext cx="759960" cy="610200"/>
              <a:chOff x="2683800" y="5815080"/>
              <a:chExt cx="759960" cy="610200"/>
            </a:xfrm>
          </p:grpSpPr>
          <p:sp>
            <p:nvSpPr>
              <p:cNvPr id="824" name=""/>
              <p:cNvSpPr/>
              <p:nvPr/>
            </p:nvSpPr>
            <p:spPr>
              <a:xfrm>
                <a:off x="2853000" y="5815080"/>
                <a:ext cx="439920" cy="406080"/>
              </a:xfrm>
              <a:prstGeom prst="donut">
                <a:avLst>
                  <a:gd name="adj" fmla="val 5453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10800000">
                <a:off x="2919600" y="6071760"/>
                <a:ext cx="306720" cy="264960"/>
              </a:xfrm>
              <a:prstGeom prst="blockArc">
                <a:avLst>
                  <a:gd name="adj1" fmla="val 9691480"/>
                  <a:gd name="adj2" fmla="val 1108520"/>
                  <a:gd name="adj3" fmla="val 844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2720" y="6111720"/>
                <a:ext cx="26280" cy="59400"/>
              </a:xfrm>
              <a:custGeom>
                <a:avLst/>
                <a:gdLst/>
                <a:ahLst/>
                <a:rect l="l" t="t" r="r" b="b"/>
                <a:pathLst>
                  <a:path w="104" h="264">
                    <a:moveTo>
                      <a:pt x="90" y="5"/>
                    </a:moveTo>
                    <a:cubicBezTo>
                      <a:pt x="104" y="10"/>
                      <a:pt x="104" y="198"/>
                      <a:pt x="90" y="231"/>
                    </a:cubicBezTo>
                    <a:cubicBezTo>
                      <a:pt x="76" y="264"/>
                      <a:pt x="10" y="241"/>
                      <a:pt x="5" y="203"/>
                    </a:cubicBezTo>
                    <a:cubicBezTo>
                      <a:pt x="0" y="165"/>
                      <a:pt x="76" y="0"/>
                      <a:pt x="90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3076560" y="6113160"/>
                <a:ext cx="26280" cy="59400"/>
              </a:xfrm>
              <a:custGeom>
                <a:avLst/>
                <a:gdLst/>
                <a:ahLst/>
                <a:rect l="l" t="t" r="r" b="b"/>
                <a:pathLst>
                  <a:path w="104" h="264">
                    <a:moveTo>
                      <a:pt x="90" y="5"/>
                    </a:moveTo>
                    <a:cubicBezTo>
                      <a:pt x="104" y="10"/>
                      <a:pt x="104" y="198"/>
                      <a:pt x="90" y="231"/>
                    </a:cubicBezTo>
                    <a:cubicBezTo>
                      <a:pt x="76" y="264"/>
                      <a:pt x="10" y="241"/>
                      <a:pt x="5" y="203"/>
                    </a:cubicBezTo>
                    <a:cubicBezTo>
                      <a:pt x="0" y="165"/>
                      <a:pt x="76" y="0"/>
                      <a:pt x="90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16200000">
                <a:off x="2865600" y="5926320"/>
                <a:ext cx="306720" cy="265320"/>
              </a:xfrm>
              <a:prstGeom prst="blockArc">
                <a:avLst>
                  <a:gd name="adj1" fmla="val 13926246"/>
                  <a:gd name="adj2" fmla="val 18473754"/>
                  <a:gd name="adj3" fmla="val 6616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 rot="5400000">
                <a:off x="2972520" y="5926320"/>
                <a:ext cx="306720" cy="265320"/>
              </a:xfrm>
              <a:prstGeom prst="blockArc">
                <a:avLst>
                  <a:gd name="adj1" fmla="val 13926246"/>
                  <a:gd name="adj2" fmla="val 18473754"/>
                  <a:gd name="adj3" fmla="val 6616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10800000">
                <a:off x="2969280" y="6104520"/>
                <a:ext cx="207360" cy="178920"/>
              </a:xfrm>
              <a:prstGeom prst="blockArc">
                <a:avLst>
                  <a:gd name="adj1" fmla="val 10585157"/>
                  <a:gd name="adj2" fmla="val 214843"/>
                  <a:gd name="adj3" fmla="val 12199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00000">
                <a:off x="2936520" y="6031080"/>
                <a:ext cx="108000" cy="89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 rot="900000">
                <a:off x="3093480" y="6030000"/>
                <a:ext cx="108000" cy="89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10800000">
                <a:off x="3018960" y="6138000"/>
                <a:ext cx="108000" cy="108000"/>
              </a:xfrm>
              <a:prstGeom prst="blockArc">
                <a:avLst>
                  <a:gd name="adj1" fmla="val 11249267"/>
                  <a:gd name="adj2" fmla="val 21150733"/>
                  <a:gd name="adj3" fmla="val 8009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4" name=""/>
              <p:cNvGrpSpPr/>
              <p:nvPr/>
            </p:nvGrpSpPr>
            <p:grpSpPr>
              <a:xfrm>
                <a:off x="3198600" y="6019200"/>
                <a:ext cx="245160" cy="208080"/>
                <a:chOff x="3198600" y="6019200"/>
                <a:chExt cx="245160" cy="208080"/>
              </a:xfrm>
            </p:grpSpPr>
            <p:sp>
              <p:nvSpPr>
                <p:cNvPr id="835" name=""/>
                <p:cNvSpPr/>
                <p:nvPr/>
              </p:nvSpPr>
              <p:spPr>
                <a:xfrm rot="3600000">
                  <a:off x="3251160" y="6072120"/>
                  <a:ext cx="15840" cy="131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 rot="20700000">
                  <a:off x="3293640" y="6030000"/>
                  <a:ext cx="99000" cy="1054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flipH="1" rot="8100000">
                  <a:off x="3321720" y="6081120"/>
                  <a:ext cx="98640" cy="1054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rot="3600000">
                  <a:off x="3374280" y="6083640"/>
                  <a:ext cx="23760" cy="15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rot="3600000">
                  <a:off x="3266280" y="6107760"/>
                  <a:ext cx="15120" cy="1504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0" name=""/>
              <p:cNvGrpSpPr/>
              <p:nvPr/>
            </p:nvGrpSpPr>
            <p:grpSpPr>
              <a:xfrm>
                <a:off x="3190320" y="6220080"/>
                <a:ext cx="244800" cy="205200"/>
                <a:chOff x="3190320" y="6220080"/>
                <a:chExt cx="244800" cy="205200"/>
              </a:xfrm>
            </p:grpSpPr>
            <p:sp>
              <p:nvSpPr>
                <p:cNvPr id="841" name=""/>
                <p:cNvSpPr/>
                <p:nvPr/>
              </p:nvSpPr>
              <p:spPr>
                <a:xfrm flipV="1" rot="18000000">
                  <a:off x="3242880" y="6239880"/>
                  <a:ext cx="15480" cy="131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 flipV="1" rot="900000">
                  <a:off x="3285000" y="6307920"/>
                  <a:ext cx="99000" cy="10584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 flipH="1" flipV="1" rot="13500000">
                  <a:off x="3313080" y="6257880"/>
                  <a:ext cx="98640" cy="1054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 flipV="1" rot="18000000">
                  <a:off x="3364920" y="6345360"/>
                  <a:ext cx="24120" cy="15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 flipV="1" rot="18000000">
                  <a:off x="3260880" y="6192000"/>
                  <a:ext cx="16200" cy="142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6" name=""/>
              <p:cNvGrpSpPr/>
              <p:nvPr/>
            </p:nvGrpSpPr>
            <p:grpSpPr>
              <a:xfrm>
                <a:off x="2692080" y="6019200"/>
                <a:ext cx="245160" cy="208800"/>
                <a:chOff x="2692080" y="6019200"/>
                <a:chExt cx="245160" cy="208800"/>
              </a:xfrm>
            </p:grpSpPr>
            <p:sp>
              <p:nvSpPr>
                <p:cNvPr id="847" name=""/>
                <p:cNvSpPr/>
                <p:nvPr/>
              </p:nvSpPr>
              <p:spPr>
                <a:xfrm flipH="1" rot="18000000">
                  <a:off x="2868120" y="6072120"/>
                  <a:ext cx="15840" cy="131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 flipH="1" rot="900000">
                  <a:off x="2742840" y="6030000"/>
                  <a:ext cx="99000" cy="1054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rot="13500000">
                  <a:off x="2714760" y="6081120"/>
                  <a:ext cx="98640" cy="1054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 flipH="1" rot="18000000">
                  <a:off x="2737080" y="6083640"/>
                  <a:ext cx="23760" cy="15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flipH="1" rot="18000000">
                  <a:off x="2854080" y="6108120"/>
                  <a:ext cx="15120" cy="1504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2" name=""/>
              <p:cNvGrpSpPr/>
              <p:nvPr/>
            </p:nvGrpSpPr>
            <p:grpSpPr>
              <a:xfrm>
                <a:off x="2683800" y="6220440"/>
                <a:ext cx="244800" cy="204840"/>
                <a:chOff x="2683800" y="6220440"/>
                <a:chExt cx="244800" cy="204840"/>
              </a:xfrm>
            </p:grpSpPr>
            <p:sp>
              <p:nvSpPr>
                <p:cNvPr id="853" name=""/>
                <p:cNvSpPr/>
                <p:nvPr/>
              </p:nvSpPr>
              <p:spPr>
                <a:xfrm flipH="1" flipV="1" rot="3600000">
                  <a:off x="2860200" y="6239880"/>
                  <a:ext cx="15480" cy="131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 flipH="1" flipV="1" rot="20700000">
                  <a:off x="2734560" y="6307920"/>
                  <a:ext cx="99000" cy="10584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flipV="1" rot="8100000">
                  <a:off x="2706480" y="6257880"/>
                  <a:ext cx="98640" cy="1054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flipH="1" flipV="1" rot="3600000">
                  <a:off x="2729520" y="6345360"/>
                  <a:ext cx="24120" cy="15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 flipH="1" flipV="1" rot="3600000">
                  <a:off x="2840760" y="6192000"/>
                  <a:ext cx="16200" cy="142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58" name=""/>
          <p:cNvGrpSpPr/>
          <p:nvPr/>
        </p:nvGrpSpPr>
        <p:grpSpPr>
          <a:xfrm>
            <a:off x="4108320" y="5108400"/>
            <a:ext cx="1719360" cy="1535400"/>
            <a:chOff x="4108320" y="5108400"/>
            <a:chExt cx="1719360" cy="1535400"/>
          </a:xfrm>
        </p:grpSpPr>
        <p:grpSp>
          <p:nvGrpSpPr>
            <p:cNvPr id="859" name=""/>
            <p:cNvGrpSpPr/>
            <p:nvPr/>
          </p:nvGrpSpPr>
          <p:grpSpPr>
            <a:xfrm>
              <a:off x="4108320" y="5108400"/>
              <a:ext cx="1719360" cy="1535400"/>
              <a:chOff x="4108320" y="5108400"/>
              <a:chExt cx="1719360" cy="1535400"/>
            </a:xfrm>
          </p:grpSpPr>
          <p:sp>
            <p:nvSpPr>
              <p:cNvPr id="860" name=""/>
              <p:cNvSpPr/>
              <p:nvPr/>
            </p:nvSpPr>
            <p:spPr>
              <a:xfrm>
                <a:off x="4132440" y="513072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108320" y="5108400"/>
                <a:ext cx="1719360" cy="1535400"/>
              </a:xfrm>
              <a:custGeom>
                <a:avLst/>
                <a:gdLst/>
                <a:ahLst/>
                <a:rect l="l" t="t" r="r" b="b"/>
                <a:pathLst>
                  <a:path w="1083" h="967">
                    <a:moveTo>
                      <a:pt x="177" y="851"/>
                    </a:moveTo>
                    <a:lnTo>
                      <a:pt x="184" y="854"/>
                    </a:lnTo>
                    <a:lnTo>
                      <a:pt x="541" y="854"/>
                    </a:lnTo>
                    <a:lnTo>
                      <a:pt x="541" y="967"/>
                    </a:lnTo>
                    <a:lnTo>
                      <a:pt x="30" y="967"/>
                    </a:lnTo>
                    <a:lnTo>
                      <a:pt x="16" y="957"/>
                    </a:lnTo>
                    <a:lnTo>
                      <a:pt x="2" y="939"/>
                    </a:lnTo>
                    <a:lnTo>
                      <a:pt x="0" y="923"/>
                    </a:lnTo>
                    <a:lnTo>
                      <a:pt x="2" y="911"/>
                    </a:lnTo>
                    <a:lnTo>
                      <a:pt x="484" y="32"/>
                    </a:lnTo>
                    <a:lnTo>
                      <a:pt x="493" y="17"/>
                    </a:lnTo>
                    <a:lnTo>
                      <a:pt x="512" y="4"/>
                    </a:lnTo>
                    <a:lnTo>
                      <a:pt x="541" y="0"/>
                    </a:lnTo>
                    <a:lnTo>
                      <a:pt x="569" y="4"/>
                    </a:lnTo>
                    <a:lnTo>
                      <a:pt x="585" y="18"/>
                    </a:lnTo>
                    <a:lnTo>
                      <a:pt x="597" y="32"/>
                    </a:lnTo>
                    <a:lnTo>
                      <a:pt x="1079" y="911"/>
                    </a:lnTo>
                    <a:lnTo>
                      <a:pt x="1083" y="926"/>
                    </a:lnTo>
                    <a:lnTo>
                      <a:pt x="1079" y="939"/>
                    </a:lnTo>
                    <a:lnTo>
                      <a:pt x="1068" y="956"/>
                    </a:lnTo>
                    <a:lnTo>
                      <a:pt x="1051" y="967"/>
                    </a:lnTo>
                    <a:lnTo>
                      <a:pt x="541" y="967"/>
                    </a:lnTo>
                    <a:lnTo>
                      <a:pt x="541" y="854"/>
                    </a:lnTo>
                    <a:lnTo>
                      <a:pt x="895" y="854"/>
                    </a:lnTo>
                    <a:lnTo>
                      <a:pt x="901" y="846"/>
                    </a:lnTo>
                    <a:lnTo>
                      <a:pt x="900" y="839"/>
                    </a:lnTo>
                    <a:lnTo>
                      <a:pt x="550" y="194"/>
                    </a:lnTo>
                    <a:lnTo>
                      <a:pt x="541" y="185"/>
                    </a:lnTo>
                    <a:lnTo>
                      <a:pt x="529" y="194"/>
                    </a:lnTo>
                    <a:lnTo>
                      <a:pt x="178" y="845"/>
                    </a:lnTo>
                    <a:lnTo>
                      <a:pt x="177" y="8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4579200" y="5815080"/>
              <a:ext cx="759960" cy="610200"/>
              <a:chOff x="4579200" y="5815080"/>
              <a:chExt cx="759960" cy="610200"/>
            </a:xfrm>
          </p:grpSpPr>
          <p:sp>
            <p:nvSpPr>
              <p:cNvPr id="863" name=""/>
              <p:cNvSpPr/>
              <p:nvPr/>
            </p:nvSpPr>
            <p:spPr>
              <a:xfrm>
                <a:off x="4748400" y="5815080"/>
                <a:ext cx="439920" cy="406080"/>
              </a:xfrm>
              <a:prstGeom prst="donut">
                <a:avLst>
                  <a:gd name="adj" fmla="val 5453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0800000">
                <a:off x="4815000" y="6071760"/>
                <a:ext cx="306720" cy="264960"/>
              </a:xfrm>
              <a:prstGeom prst="blockArc">
                <a:avLst>
                  <a:gd name="adj1" fmla="val 9691480"/>
                  <a:gd name="adj2" fmla="val 1108520"/>
                  <a:gd name="adj3" fmla="val 844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938120" y="6111720"/>
                <a:ext cx="26280" cy="59400"/>
              </a:xfrm>
              <a:custGeom>
                <a:avLst/>
                <a:gdLst/>
                <a:ahLst/>
                <a:rect l="l" t="t" r="r" b="b"/>
                <a:pathLst>
                  <a:path w="104" h="264">
                    <a:moveTo>
                      <a:pt x="90" y="5"/>
                    </a:moveTo>
                    <a:cubicBezTo>
                      <a:pt x="104" y="10"/>
                      <a:pt x="104" y="198"/>
                      <a:pt x="90" y="231"/>
                    </a:cubicBezTo>
                    <a:cubicBezTo>
                      <a:pt x="76" y="264"/>
                      <a:pt x="10" y="241"/>
                      <a:pt x="5" y="203"/>
                    </a:cubicBezTo>
                    <a:cubicBezTo>
                      <a:pt x="0" y="165"/>
                      <a:pt x="76" y="0"/>
                      <a:pt x="90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4971960" y="6113160"/>
                <a:ext cx="26280" cy="59400"/>
              </a:xfrm>
              <a:custGeom>
                <a:avLst/>
                <a:gdLst/>
                <a:ahLst/>
                <a:rect l="l" t="t" r="r" b="b"/>
                <a:pathLst>
                  <a:path w="104" h="264">
                    <a:moveTo>
                      <a:pt x="90" y="5"/>
                    </a:moveTo>
                    <a:cubicBezTo>
                      <a:pt x="104" y="10"/>
                      <a:pt x="104" y="198"/>
                      <a:pt x="90" y="231"/>
                    </a:cubicBezTo>
                    <a:cubicBezTo>
                      <a:pt x="76" y="264"/>
                      <a:pt x="10" y="241"/>
                      <a:pt x="5" y="203"/>
                    </a:cubicBezTo>
                    <a:cubicBezTo>
                      <a:pt x="0" y="165"/>
                      <a:pt x="76" y="0"/>
                      <a:pt x="90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6200000">
                <a:off x="4761000" y="5926320"/>
                <a:ext cx="306720" cy="265320"/>
              </a:xfrm>
              <a:prstGeom prst="blockArc">
                <a:avLst>
                  <a:gd name="adj1" fmla="val 13926246"/>
                  <a:gd name="adj2" fmla="val 18473754"/>
                  <a:gd name="adj3" fmla="val 6616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 rot="5400000">
                <a:off x="4867920" y="5926320"/>
                <a:ext cx="306720" cy="265320"/>
              </a:xfrm>
              <a:prstGeom prst="blockArc">
                <a:avLst>
                  <a:gd name="adj1" fmla="val 13926246"/>
                  <a:gd name="adj2" fmla="val 18473754"/>
                  <a:gd name="adj3" fmla="val 6616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0800000">
                <a:off x="4864680" y="6104520"/>
                <a:ext cx="207360" cy="178920"/>
              </a:xfrm>
              <a:prstGeom prst="blockArc">
                <a:avLst>
                  <a:gd name="adj1" fmla="val 10585157"/>
                  <a:gd name="adj2" fmla="val 214843"/>
                  <a:gd name="adj3" fmla="val 12199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20700000">
                <a:off x="4831920" y="6031080"/>
                <a:ext cx="108000" cy="89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 rot="900000">
                <a:off x="4988880" y="6030000"/>
                <a:ext cx="108000" cy="89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0800000">
                <a:off x="4914360" y="6138000"/>
                <a:ext cx="108000" cy="108000"/>
              </a:xfrm>
              <a:prstGeom prst="blockArc">
                <a:avLst>
                  <a:gd name="adj1" fmla="val 11249267"/>
                  <a:gd name="adj2" fmla="val 21150733"/>
                  <a:gd name="adj3" fmla="val 8009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"/>
              <p:cNvGrpSpPr/>
              <p:nvPr/>
            </p:nvGrpSpPr>
            <p:grpSpPr>
              <a:xfrm>
                <a:off x="5094000" y="6019200"/>
                <a:ext cx="245160" cy="208080"/>
                <a:chOff x="5094000" y="6019200"/>
                <a:chExt cx="245160" cy="208080"/>
              </a:xfrm>
            </p:grpSpPr>
            <p:sp>
              <p:nvSpPr>
                <p:cNvPr id="874" name=""/>
                <p:cNvSpPr/>
                <p:nvPr/>
              </p:nvSpPr>
              <p:spPr>
                <a:xfrm rot="3600000">
                  <a:off x="5146560" y="6072120"/>
                  <a:ext cx="15840" cy="131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rot="20700000">
                  <a:off x="5189040" y="6030000"/>
                  <a:ext cx="99000" cy="1054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H="1" rot="8100000">
                  <a:off x="5217120" y="6081120"/>
                  <a:ext cx="98640" cy="1054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rot="3600000">
                  <a:off x="5269680" y="6083640"/>
                  <a:ext cx="23760" cy="15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 rot="3600000">
                  <a:off x="5161680" y="6107760"/>
                  <a:ext cx="15120" cy="1504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9" name=""/>
              <p:cNvGrpSpPr/>
              <p:nvPr/>
            </p:nvGrpSpPr>
            <p:grpSpPr>
              <a:xfrm>
                <a:off x="5085720" y="6220080"/>
                <a:ext cx="244800" cy="205200"/>
                <a:chOff x="5085720" y="6220080"/>
                <a:chExt cx="244800" cy="205200"/>
              </a:xfrm>
            </p:grpSpPr>
            <p:sp>
              <p:nvSpPr>
                <p:cNvPr id="880" name=""/>
                <p:cNvSpPr/>
                <p:nvPr/>
              </p:nvSpPr>
              <p:spPr>
                <a:xfrm flipV="1" rot="18000000">
                  <a:off x="5138280" y="6239880"/>
                  <a:ext cx="15480" cy="131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 flipV="1" rot="900000">
                  <a:off x="5180400" y="6307920"/>
                  <a:ext cx="99000" cy="10584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H="1" flipV="1" rot="13500000">
                  <a:off x="5208480" y="6257880"/>
                  <a:ext cx="98640" cy="1054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flipV="1" rot="18000000">
                  <a:off x="5260320" y="6345360"/>
                  <a:ext cx="24120" cy="15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flipV="1" rot="18000000">
                  <a:off x="5156280" y="6192000"/>
                  <a:ext cx="16200" cy="142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5" name=""/>
              <p:cNvGrpSpPr/>
              <p:nvPr/>
            </p:nvGrpSpPr>
            <p:grpSpPr>
              <a:xfrm>
                <a:off x="4587480" y="6019200"/>
                <a:ext cx="245160" cy="208800"/>
                <a:chOff x="4587480" y="6019200"/>
                <a:chExt cx="245160" cy="208800"/>
              </a:xfrm>
            </p:grpSpPr>
            <p:sp>
              <p:nvSpPr>
                <p:cNvPr id="886" name=""/>
                <p:cNvSpPr/>
                <p:nvPr/>
              </p:nvSpPr>
              <p:spPr>
                <a:xfrm flipH="1" rot="18000000">
                  <a:off x="4763520" y="6072120"/>
                  <a:ext cx="15840" cy="131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 flipH="1" rot="900000">
                  <a:off x="4638240" y="6030000"/>
                  <a:ext cx="99000" cy="1054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rot="13500000">
                  <a:off x="4610160" y="6081120"/>
                  <a:ext cx="98640" cy="1054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 flipH="1" rot="18000000">
                  <a:off x="4632480" y="6083640"/>
                  <a:ext cx="23760" cy="15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 flipH="1" rot="18000000">
                  <a:off x="4749480" y="6108120"/>
                  <a:ext cx="15120" cy="1504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"/>
              <p:cNvGrpSpPr/>
              <p:nvPr/>
            </p:nvGrpSpPr>
            <p:grpSpPr>
              <a:xfrm>
                <a:off x="4579200" y="6220440"/>
                <a:ext cx="244800" cy="204840"/>
                <a:chOff x="4579200" y="6220440"/>
                <a:chExt cx="244800" cy="204840"/>
              </a:xfrm>
            </p:grpSpPr>
            <p:sp>
              <p:nvSpPr>
                <p:cNvPr id="892" name=""/>
                <p:cNvSpPr/>
                <p:nvPr/>
              </p:nvSpPr>
              <p:spPr>
                <a:xfrm flipH="1" flipV="1" rot="3600000">
                  <a:off x="4755600" y="6239880"/>
                  <a:ext cx="15480" cy="131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 flipH="1" flipV="1" rot="20700000">
                  <a:off x="4629960" y="6307920"/>
                  <a:ext cx="99000" cy="10584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V="1" rot="8100000">
                  <a:off x="4601880" y="6257880"/>
                  <a:ext cx="98640" cy="1054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 flipH="1" flipV="1" rot="3600000">
                  <a:off x="4624920" y="6345360"/>
                  <a:ext cx="24120" cy="15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 flipH="1" flipV="1" rot="3600000">
                  <a:off x="4736160" y="6192000"/>
                  <a:ext cx="16200" cy="142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97" name=""/>
          <p:cNvGrpSpPr/>
          <p:nvPr/>
        </p:nvGrpSpPr>
        <p:grpSpPr>
          <a:xfrm>
            <a:off x="5973840" y="5091120"/>
            <a:ext cx="1719360" cy="1535040"/>
            <a:chOff x="5973840" y="5091120"/>
            <a:chExt cx="1719360" cy="1535040"/>
          </a:xfrm>
        </p:grpSpPr>
        <p:grpSp>
          <p:nvGrpSpPr>
            <p:cNvPr id="898" name=""/>
            <p:cNvGrpSpPr/>
            <p:nvPr/>
          </p:nvGrpSpPr>
          <p:grpSpPr>
            <a:xfrm>
              <a:off x="5973840" y="5091120"/>
              <a:ext cx="1719360" cy="1535040"/>
              <a:chOff x="5973840" y="5091120"/>
              <a:chExt cx="1719360" cy="1535040"/>
            </a:xfrm>
          </p:grpSpPr>
          <p:sp>
            <p:nvSpPr>
              <p:cNvPr id="899" name=""/>
              <p:cNvSpPr/>
              <p:nvPr/>
            </p:nvSpPr>
            <p:spPr>
              <a:xfrm>
                <a:off x="5997600" y="5113440"/>
                <a:ext cx="1670040" cy="149040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973840" y="5091120"/>
                <a:ext cx="1719360" cy="1535040"/>
              </a:xfrm>
              <a:custGeom>
                <a:avLst/>
                <a:gdLst/>
                <a:ahLst/>
                <a:rect l="l" t="t" r="r" b="b"/>
                <a:pathLst>
                  <a:path w="1083" h="967">
                    <a:moveTo>
                      <a:pt x="177" y="851"/>
                    </a:moveTo>
                    <a:lnTo>
                      <a:pt x="184" y="854"/>
                    </a:lnTo>
                    <a:lnTo>
                      <a:pt x="541" y="854"/>
                    </a:lnTo>
                    <a:lnTo>
                      <a:pt x="541" y="967"/>
                    </a:lnTo>
                    <a:lnTo>
                      <a:pt x="30" y="967"/>
                    </a:lnTo>
                    <a:lnTo>
                      <a:pt x="16" y="957"/>
                    </a:lnTo>
                    <a:lnTo>
                      <a:pt x="2" y="939"/>
                    </a:lnTo>
                    <a:lnTo>
                      <a:pt x="0" y="923"/>
                    </a:lnTo>
                    <a:lnTo>
                      <a:pt x="2" y="911"/>
                    </a:lnTo>
                    <a:lnTo>
                      <a:pt x="484" y="32"/>
                    </a:lnTo>
                    <a:lnTo>
                      <a:pt x="493" y="17"/>
                    </a:lnTo>
                    <a:lnTo>
                      <a:pt x="512" y="4"/>
                    </a:lnTo>
                    <a:lnTo>
                      <a:pt x="541" y="0"/>
                    </a:lnTo>
                    <a:lnTo>
                      <a:pt x="569" y="4"/>
                    </a:lnTo>
                    <a:lnTo>
                      <a:pt x="585" y="18"/>
                    </a:lnTo>
                    <a:lnTo>
                      <a:pt x="597" y="32"/>
                    </a:lnTo>
                    <a:lnTo>
                      <a:pt x="1079" y="911"/>
                    </a:lnTo>
                    <a:lnTo>
                      <a:pt x="1083" y="926"/>
                    </a:lnTo>
                    <a:lnTo>
                      <a:pt x="1079" y="939"/>
                    </a:lnTo>
                    <a:lnTo>
                      <a:pt x="1068" y="956"/>
                    </a:lnTo>
                    <a:lnTo>
                      <a:pt x="1051" y="967"/>
                    </a:lnTo>
                    <a:lnTo>
                      <a:pt x="541" y="967"/>
                    </a:lnTo>
                    <a:lnTo>
                      <a:pt x="541" y="854"/>
                    </a:lnTo>
                    <a:lnTo>
                      <a:pt x="895" y="854"/>
                    </a:lnTo>
                    <a:lnTo>
                      <a:pt x="901" y="846"/>
                    </a:lnTo>
                    <a:lnTo>
                      <a:pt x="900" y="839"/>
                    </a:lnTo>
                    <a:lnTo>
                      <a:pt x="550" y="194"/>
                    </a:lnTo>
                    <a:lnTo>
                      <a:pt x="541" y="185"/>
                    </a:lnTo>
                    <a:lnTo>
                      <a:pt x="529" y="194"/>
                    </a:lnTo>
                    <a:lnTo>
                      <a:pt x="178" y="845"/>
                    </a:lnTo>
                    <a:lnTo>
                      <a:pt x="177" y="8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"/>
            <p:cNvGrpSpPr/>
            <p:nvPr/>
          </p:nvGrpSpPr>
          <p:grpSpPr>
            <a:xfrm>
              <a:off x="6436440" y="5815080"/>
              <a:ext cx="759960" cy="610200"/>
              <a:chOff x="6436440" y="5815080"/>
              <a:chExt cx="759960" cy="610200"/>
            </a:xfrm>
          </p:grpSpPr>
          <p:sp>
            <p:nvSpPr>
              <p:cNvPr id="902" name=""/>
              <p:cNvSpPr/>
              <p:nvPr/>
            </p:nvSpPr>
            <p:spPr>
              <a:xfrm>
                <a:off x="6605640" y="5815080"/>
                <a:ext cx="439920" cy="406080"/>
              </a:xfrm>
              <a:prstGeom prst="donut">
                <a:avLst>
                  <a:gd name="adj" fmla="val 5453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rot="10800000">
                <a:off x="6672240" y="6071760"/>
                <a:ext cx="306720" cy="264960"/>
              </a:xfrm>
              <a:prstGeom prst="blockArc">
                <a:avLst>
                  <a:gd name="adj1" fmla="val 9691480"/>
                  <a:gd name="adj2" fmla="val 1108520"/>
                  <a:gd name="adj3" fmla="val 844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6795360" y="6111720"/>
                <a:ext cx="26280" cy="59400"/>
              </a:xfrm>
              <a:custGeom>
                <a:avLst/>
                <a:gdLst/>
                <a:ahLst/>
                <a:rect l="l" t="t" r="r" b="b"/>
                <a:pathLst>
                  <a:path w="104" h="264">
                    <a:moveTo>
                      <a:pt x="90" y="5"/>
                    </a:moveTo>
                    <a:cubicBezTo>
                      <a:pt x="104" y="10"/>
                      <a:pt x="104" y="198"/>
                      <a:pt x="90" y="231"/>
                    </a:cubicBezTo>
                    <a:cubicBezTo>
                      <a:pt x="76" y="264"/>
                      <a:pt x="10" y="241"/>
                      <a:pt x="5" y="203"/>
                    </a:cubicBezTo>
                    <a:cubicBezTo>
                      <a:pt x="0" y="165"/>
                      <a:pt x="76" y="0"/>
                      <a:pt x="90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>
                <a:off x="6829200" y="6113160"/>
                <a:ext cx="26280" cy="59400"/>
              </a:xfrm>
              <a:custGeom>
                <a:avLst/>
                <a:gdLst/>
                <a:ahLst/>
                <a:rect l="l" t="t" r="r" b="b"/>
                <a:pathLst>
                  <a:path w="104" h="264">
                    <a:moveTo>
                      <a:pt x="90" y="5"/>
                    </a:moveTo>
                    <a:cubicBezTo>
                      <a:pt x="104" y="10"/>
                      <a:pt x="104" y="198"/>
                      <a:pt x="90" y="231"/>
                    </a:cubicBezTo>
                    <a:cubicBezTo>
                      <a:pt x="76" y="264"/>
                      <a:pt x="10" y="241"/>
                      <a:pt x="5" y="203"/>
                    </a:cubicBezTo>
                    <a:cubicBezTo>
                      <a:pt x="0" y="165"/>
                      <a:pt x="76" y="0"/>
                      <a:pt x="90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rot="16200000">
                <a:off x="6618240" y="5926320"/>
                <a:ext cx="306720" cy="265320"/>
              </a:xfrm>
              <a:prstGeom prst="blockArc">
                <a:avLst>
                  <a:gd name="adj1" fmla="val 13926246"/>
                  <a:gd name="adj2" fmla="val 18473754"/>
                  <a:gd name="adj3" fmla="val 6616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H="1" rot="5400000">
                <a:off x="6725160" y="5926320"/>
                <a:ext cx="306720" cy="265320"/>
              </a:xfrm>
              <a:prstGeom prst="blockArc">
                <a:avLst>
                  <a:gd name="adj1" fmla="val 13926246"/>
                  <a:gd name="adj2" fmla="val 18473754"/>
                  <a:gd name="adj3" fmla="val 6616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10800000">
                <a:off x="6721920" y="6104520"/>
                <a:ext cx="207360" cy="178920"/>
              </a:xfrm>
              <a:prstGeom prst="blockArc">
                <a:avLst>
                  <a:gd name="adj1" fmla="val 10585157"/>
                  <a:gd name="adj2" fmla="val 214843"/>
                  <a:gd name="adj3" fmla="val 12199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rot="20700000">
                <a:off x="6689160" y="6031080"/>
                <a:ext cx="108000" cy="89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 rot="900000">
                <a:off x="6846120" y="6030000"/>
                <a:ext cx="108000" cy="89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0800000">
                <a:off x="6771600" y="6138000"/>
                <a:ext cx="108000" cy="108000"/>
              </a:xfrm>
              <a:prstGeom prst="blockArc">
                <a:avLst>
                  <a:gd name="adj1" fmla="val 11249267"/>
                  <a:gd name="adj2" fmla="val 21150733"/>
                  <a:gd name="adj3" fmla="val 8009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2" name=""/>
              <p:cNvGrpSpPr/>
              <p:nvPr/>
            </p:nvGrpSpPr>
            <p:grpSpPr>
              <a:xfrm>
                <a:off x="6951240" y="6019200"/>
                <a:ext cx="245160" cy="208080"/>
                <a:chOff x="6951240" y="6019200"/>
                <a:chExt cx="245160" cy="208080"/>
              </a:xfrm>
            </p:grpSpPr>
            <p:sp>
              <p:nvSpPr>
                <p:cNvPr id="913" name=""/>
                <p:cNvSpPr/>
                <p:nvPr/>
              </p:nvSpPr>
              <p:spPr>
                <a:xfrm rot="3600000">
                  <a:off x="7003800" y="6072120"/>
                  <a:ext cx="15840" cy="131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 rot="20700000">
                  <a:off x="7046280" y="6030000"/>
                  <a:ext cx="99000" cy="1054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 flipH="1" rot="8100000">
                  <a:off x="7074360" y="6081120"/>
                  <a:ext cx="98640" cy="1054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 rot="3600000">
                  <a:off x="7126920" y="6083640"/>
                  <a:ext cx="23760" cy="15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 rot="3600000">
                  <a:off x="7018920" y="6107760"/>
                  <a:ext cx="15120" cy="1504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8" name=""/>
              <p:cNvGrpSpPr/>
              <p:nvPr/>
            </p:nvGrpSpPr>
            <p:grpSpPr>
              <a:xfrm>
                <a:off x="6942960" y="6220080"/>
                <a:ext cx="244800" cy="205200"/>
                <a:chOff x="6942960" y="6220080"/>
                <a:chExt cx="244800" cy="205200"/>
              </a:xfrm>
            </p:grpSpPr>
            <p:sp>
              <p:nvSpPr>
                <p:cNvPr id="919" name=""/>
                <p:cNvSpPr/>
                <p:nvPr/>
              </p:nvSpPr>
              <p:spPr>
                <a:xfrm flipV="1" rot="18000000">
                  <a:off x="6995520" y="6239880"/>
                  <a:ext cx="15480" cy="131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 flipV="1" rot="900000">
                  <a:off x="7037640" y="6307920"/>
                  <a:ext cx="99000" cy="10584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 flipH="1" flipV="1" rot="13500000">
                  <a:off x="7065720" y="6257880"/>
                  <a:ext cx="98640" cy="1054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 flipV="1" rot="18000000">
                  <a:off x="7117560" y="6345360"/>
                  <a:ext cx="24120" cy="15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 flipV="1" rot="18000000">
                  <a:off x="7013520" y="6192000"/>
                  <a:ext cx="16200" cy="142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4" name=""/>
              <p:cNvGrpSpPr/>
              <p:nvPr/>
            </p:nvGrpSpPr>
            <p:grpSpPr>
              <a:xfrm>
                <a:off x="6444720" y="6019200"/>
                <a:ext cx="245160" cy="208800"/>
                <a:chOff x="6444720" y="6019200"/>
                <a:chExt cx="245160" cy="208800"/>
              </a:xfrm>
            </p:grpSpPr>
            <p:sp>
              <p:nvSpPr>
                <p:cNvPr id="925" name=""/>
                <p:cNvSpPr/>
                <p:nvPr/>
              </p:nvSpPr>
              <p:spPr>
                <a:xfrm flipH="1" rot="18000000">
                  <a:off x="6620760" y="6072120"/>
                  <a:ext cx="15840" cy="131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 flipH="1" rot="900000">
                  <a:off x="6495480" y="6030000"/>
                  <a:ext cx="99000" cy="1054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 rot="13500000">
                  <a:off x="6467400" y="6081120"/>
                  <a:ext cx="98640" cy="1054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 flipH="1" rot="18000000">
                  <a:off x="6489720" y="6083640"/>
                  <a:ext cx="23760" cy="15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 flipH="1" rot="18000000">
                  <a:off x="6606720" y="6108120"/>
                  <a:ext cx="15120" cy="1504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0" name=""/>
              <p:cNvGrpSpPr/>
              <p:nvPr/>
            </p:nvGrpSpPr>
            <p:grpSpPr>
              <a:xfrm>
                <a:off x="6436440" y="6220440"/>
                <a:ext cx="244800" cy="204840"/>
                <a:chOff x="6436440" y="6220440"/>
                <a:chExt cx="244800" cy="204840"/>
              </a:xfrm>
            </p:grpSpPr>
            <p:sp>
              <p:nvSpPr>
                <p:cNvPr id="931" name=""/>
                <p:cNvSpPr/>
                <p:nvPr/>
              </p:nvSpPr>
              <p:spPr>
                <a:xfrm flipH="1" flipV="1" rot="3600000">
                  <a:off x="6612840" y="6239880"/>
                  <a:ext cx="15480" cy="131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flipH="1" flipV="1" rot="20700000">
                  <a:off x="6487200" y="6307920"/>
                  <a:ext cx="99000" cy="10584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 flipV="1" rot="8100000">
                  <a:off x="6459120" y="6257880"/>
                  <a:ext cx="98640" cy="1054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 flipH="1" flipV="1" rot="3600000">
                  <a:off x="6482160" y="6345360"/>
                  <a:ext cx="24120" cy="15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 flipH="1" flipV="1" rot="3600000">
                  <a:off x="6593400" y="6192000"/>
                  <a:ext cx="16200" cy="142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6" name=""/>
          <p:cNvGrpSpPr/>
          <p:nvPr/>
        </p:nvGrpSpPr>
        <p:grpSpPr>
          <a:xfrm>
            <a:off x="7859880" y="5089680"/>
            <a:ext cx="1719000" cy="1535040"/>
            <a:chOff x="7859880" y="5089680"/>
            <a:chExt cx="1719000" cy="1535040"/>
          </a:xfrm>
        </p:grpSpPr>
        <p:grpSp>
          <p:nvGrpSpPr>
            <p:cNvPr id="937" name=""/>
            <p:cNvGrpSpPr/>
            <p:nvPr/>
          </p:nvGrpSpPr>
          <p:grpSpPr>
            <a:xfrm>
              <a:off x="7859880" y="5089680"/>
              <a:ext cx="1719000" cy="1535040"/>
              <a:chOff x="7859880" y="5089680"/>
              <a:chExt cx="1719000" cy="1535040"/>
            </a:xfrm>
          </p:grpSpPr>
          <p:sp>
            <p:nvSpPr>
              <p:cNvPr id="938" name=""/>
              <p:cNvSpPr/>
              <p:nvPr/>
            </p:nvSpPr>
            <p:spPr>
              <a:xfrm>
                <a:off x="7883640" y="511164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859880" y="5089680"/>
                <a:ext cx="1719000" cy="1535040"/>
              </a:xfrm>
              <a:custGeom>
                <a:avLst/>
                <a:gdLst/>
                <a:ahLst/>
                <a:rect l="l" t="t" r="r" b="b"/>
                <a:pathLst>
                  <a:path w="1083" h="967">
                    <a:moveTo>
                      <a:pt x="177" y="851"/>
                    </a:moveTo>
                    <a:lnTo>
                      <a:pt x="184" y="854"/>
                    </a:lnTo>
                    <a:lnTo>
                      <a:pt x="541" y="854"/>
                    </a:lnTo>
                    <a:lnTo>
                      <a:pt x="541" y="967"/>
                    </a:lnTo>
                    <a:lnTo>
                      <a:pt x="30" y="967"/>
                    </a:lnTo>
                    <a:lnTo>
                      <a:pt x="16" y="957"/>
                    </a:lnTo>
                    <a:lnTo>
                      <a:pt x="2" y="939"/>
                    </a:lnTo>
                    <a:lnTo>
                      <a:pt x="0" y="923"/>
                    </a:lnTo>
                    <a:lnTo>
                      <a:pt x="2" y="911"/>
                    </a:lnTo>
                    <a:lnTo>
                      <a:pt x="484" y="32"/>
                    </a:lnTo>
                    <a:lnTo>
                      <a:pt x="493" y="17"/>
                    </a:lnTo>
                    <a:lnTo>
                      <a:pt x="512" y="4"/>
                    </a:lnTo>
                    <a:lnTo>
                      <a:pt x="541" y="0"/>
                    </a:lnTo>
                    <a:lnTo>
                      <a:pt x="569" y="4"/>
                    </a:lnTo>
                    <a:lnTo>
                      <a:pt x="585" y="18"/>
                    </a:lnTo>
                    <a:lnTo>
                      <a:pt x="597" y="32"/>
                    </a:lnTo>
                    <a:lnTo>
                      <a:pt x="1079" y="911"/>
                    </a:lnTo>
                    <a:lnTo>
                      <a:pt x="1083" y="926"/>
                    </a:lnTo>
                    <a:lnTo>
                      <a:pt x="1079" y="939"/>
                    </a:lnTo>
                    <a:lnTo>
                      <a:pt x="1068" y="956"/>
                    </a:lnTo>
                    <a:lnTo>
                      <a:pt x="1051" y="967"/>
                    </a:lnTo>
                    <a:lnTo>
                      <a:pt x="541" y="967"/>
                    </a:lnTo>
                    <a:lnTo>
                      <a:pt x="541" y="854"/>
                    </a:lnTo>
                    <a:lnTo>
                      <a:pt x="895" y="854"/>
                    </a:lnTo>
                    <a:lnTo>
                      <a:pt x="901" y="846"/>
                    </a:lnTo>
                    <a:lnTo>
                      <a:pt x="900" y="839"/>
                    </a:lnTo>
                    <a:lnTo>
                      <a:pt x="550" y="194"/>
                    </a:lnTo>
                    <a:lnTo>
                      <a:pt x="541" y="185"/>
                    </a:lnTo>
                    <a:lnTo>
                      <a:pt x="529" y="194"/>
                    </a:lnTo>
                    <a:lnTo>
                      <a:pt x="178" y="845"/>
                    </a:lnTo>
                    <a:lnTo>
                      <a:pt x="177" y="85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8332200" y="5815080"/>
              <a:ext cx="759960" cy="610200"/>
              <a:chOff x="8332200" y="5815080"/>
              <a:chExt cx="759960" cy="610200"/>
            </a:xfrm>
          </p:grpSpPr>
          <p:sp>
            <p:nvSpPr>
              <p:cNvPr id="941" name=""/>
              <p:cNvSpPr/>
              <p:nvPr/>
            </p:nvSpPr>
            <p:spPr>
              <a:xfrm>
                <a:off x="8501400" y="5815080"/>
                <a:ext cx="439920" cy="406080"/>
              </a:xfrm>
              <a:prstGeom prst="donut">
                <a:avLst>
                  <a:gd name="adj" fmla="val 5453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10800000">
                <a:off x="8568000" y="6071760"/>
                <a:ext cx="306720" cy="264960"/>
              </a:xfrm>
              <a:prstGeom prst="blockArc">
                <a:avLst>
                  <a:gd name="adj1" fmla="val 9691480"/>
                  <a:gd name="adj2" fmla="val 1108520"/>
                  <a:gd name="adj3" fmla="val 844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8691120" y="6111720"/>
                <a:ext cx="26280" cy="59400"/>
              </a:xfrm>
              <a:custGeom>
                <a:avLst/>
                <a:gdLst/>
                <a:ahLst/>
                <a:rect l="l" t="t" r="r" b="b"/>
                <a:pathLst>
                  <a:path w="104" h="264">
                    <a:moveTo>
                      <a:pt x="90" y="5"/>
                    </a:moveTo>
                    <a:cubicBezTo>
                      <a:pt x="104" y="10"/>
                      <a:pt x="104" y="198"/>
                      <a:pt x="90" y="231"/>
                    </a:cubicBezTo>
                    <a:cubicBezTo>
                      <a:pt x="76" y="264"/>
                      <a:pt x="10" y="241"/>
                      <a:pt x="5" y="203"/>
                    </a:cubicBezTo>
                    <a:cubicBezTo>
                      <a:pt x="0" y="165"/>
                      <a:pt x="76" y="0"/>
                      <a:pt x="90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H="1">
                <a:off x="8724960" y="6113160"/>
                <a:ext cx="26280" cy="59400"/>
              </a:xfrm>
              <a:custGeom>
                <a:avLst/>
                <a:gdLst/>
                <a:ahLst/>
                <a:rect l="l" t="t" r="r" b="b"/>
                <a:pathLst>
                  <a:path w="104" h="264">
                    <a:moveTo>
                      <a:pt x="90" y="5"/>
                    </a:moveTo>
                    <a:cubicBezTo>
                      <a:pt x="104" y="10"/>
                      <a:pt x="104" y="198"/>
                      <a:pt x="90" y="231"/>
                    </a:cubicBezTo>
                    <a:cubicBezTo>
                      <a:pt x="76" y="264"/>
                      <a:pt x="10" y="241"/>
                      <a:pt x="5" y="203"/>
                    </a:cubicBezTo>
                    <a:cubicBezTo>
                      <a:pt x="0" y="165"/>
                      <a:pt x="76" y="0"/>
                      <a:pt x="90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rot="16200000">
                <a:off x="8514000" y="5926320"/>
                <a:ext cx="306720" cy="265320"/>
              </a:xfrm>
              <a:prstGeom prst="blockArc">
                <a:avLst>
                  <a:gd name="adj1" fmla="val 13926246"/>
                  <a:gd name="adj2" fmla="val 18473754"/>
                  <a:gd name="adj3" fmla="val 6616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H="1" rot="5400000">
                <a:off x="8620920" y="5926320"/>
                <a:ext cx="306720" cy="265320"/>
              </a:xfrm>
              <a:prstGeom prst="blockArc">
                <a:avLst>
                  <a:gd name="adj1" fmla="val 13926246"/>
                  <a:gd name="adj2" fmla="val 18473754"/>
                  <a:gd name="adj3" fmla="val 6616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rot="10800000">
                <a:off x="8617680" y="6104520"/>
                <a:ext cx="207360" cy="178920"/>
              </a:xfrm>
              <a:prstGeom prst="blockArc">
                <a:avLst>
                  <a:gd name="adj1" fmla="val 10585157"/>
                  <a:gd name="adj2" fmla="val 214843"/>
                  <a:gd name="adj3" fmla="val 12199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rot="20700000">
                <a:off x="8584920" y="6031080"/>
                <a:ext cx="108000" cy="89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H="1" rot="900000">
                <a:off x="8741880" y="6030000"/>
                <a:ext cx="108000" cy="89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10800000">
                <a:off x="8667360" y="6138000"/>
                <a:ext cx="108000" cy="108000"/>
              </a:xfrm>
              <a:prstGeom prst="blockArc">
                <a:avLst>
                  <a:gd name="adj1" fmla="val 11249267"/>
                  <a:gd name="adj2" fmla="val 21150733"/>
                  <a:gd name="adj3" fmla="val 8009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1" name=""/>
              <p:cNvGrpSpPr/>
              <p:nvPr/>
            </p:nvGrpSpPr>
            <p:grpSpPr>
              <a:xfrm>
                <a:off x="8847000" y="6019200"/>
                <a:ext cx="245160" cy="208080"/>
                <a:chOff x="8847000" y="6019200"/>
                <a:chExt cx="245160" cy="208080"/>
              </a:xfrm>
            </p:grpSpPr>
            <p:sp>
              <p:nvSpPr>
                <p:cNvPr id="952" name=""/>
                <p:cNvSpPr/>
                <p:nvPr/>
              </p:nvSpPr>
              <p:spPr>
                <a:xfrm rot="3600000">
                  <a:off x="8899560" y="6072120"/>
                  <a:ext cx="15840" cy="131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 rot="20700000">
                  <a:off x="8942040" y="6030000"/>
                  <a:ext cx="99000" cy="1054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 flipH="1" rot="8100000">
                  <a:off x="8970120" y="6081120"/>
                  <a:ext cx="98640" cy="1054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 rot="3600000">
                  <a:off x="9022680" y="6083640"/>
                  <a:ext cx="23760" cy="15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 rot="3600000">
                  <a:off x="8914680" y="6107760"/>
                  <a:ext cx="15120" cy="1504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8838720" y="6220080"/>
                <a:ext cx="244800" cy="205200"/>
                <a:chOff x="8838720" y="6220080"/>
                <a:chExt cx="244800" cy="205200"/>
              </a:xfrm>
            </p:grpSpPr>
            <p:sp>
              <p:nvSpPr>
                <p:cNvPr id="958" name=""/>
                <p:cNvSpPr/>
                <p:nvPr/>
              </p:nvSpPr>
              <p:spPr>
                <a:xfrm flipV="1" rot="18000000">
                  <a:off x="8891280" y="6239880"/>
                  <a:ext cx="15480" cy="131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 flipV="1" rot="900000">
                  <a:off x="8933400" y="6307920"/>
                  <a:ext cx="99000" cy="10584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 flipH="1" flipV="1" rot="13500000">
                  <a:off x="8961480" y="6257880"/>
                  <a:ext cx="98640" cy="1054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 flipV="1" rot="18000000">
                  <a:off x="9013320" y="6345360"/>
                  <a:ext cx="24120" cy="15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 flipV="1" rot="18000000">
                  <a:off x="8909280" y="6192000"/>
                  <a:ext cx="16200" cy="142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8340480" y="6019200"/>
                <a:ext cx="245160" cy="208800"/>
                <a:chOff x="8340480" y="6019200"/>
                <a:chExt cx="245160" cy="208800"/>
              </a:xfrm>
            </p:grpSpPr>
            <p:sp>
              <p:nvSpPr>
                <p:cNvPr id="964" name=""/>
                <p:cNvSpPr/>
                <p:nvPr/>
              </p:nvSpPr>
              <p:spPr>
                <a:xfrm flipH="1" rot="18000000">
                  <a:off x="8516520" y="6072120"/>
                  <a:ext cx="15840" cy="131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 flipH="1" rot="900000">
                  <a:off x="8391240" y="6030000"/>
                  <a:ext cx="99000" cy="1054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 rot="13500000">
                  <a:off x="8363160" y="6081120"/>
                  <a:ext cx="98640" cy="1054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H="1" rot="18000000">
                  <a:off x="8385480" y="6083640"/>
                  <a:ext cx="23760" cy="15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 flipH="1" rot="18000000">
                  <a:off x="8502480" y="6108120"/>
                  <a:ext cx="15120" cy="1504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8332200" y="6220440"/>
                <a:ext cx="244800" cy="204840"/>
                <a:chOff x="8332200" y="6220440"/>
                <a:chExt cx="244800" cy="204840"/>
              </a:xfrm>
            </p:grpSpPr>
            <p:sp>
              <p:nvSpPr>
                <p:cNvPr id="970" name=""/>
                <p:cNvSpPr/>
                <p:nvPr/>
              </p:nvSpPr>
              <p:spPr>
                <a:xfrm flipH="1" flipV="1" rot="3600000">
                  <a:off x="8508600" y="6239880"/>
                  <a:ext cx="15480" cy="131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 flipH="1" flipV="1" rot="20700000">
                  <a:off x="8382960" y="6307920"/>
                  <a:ext cx="99000" cy="10584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 flipV="1" rot="8100000">
                  <a:off x="8354880" y="6257880"/>
                  <a:ext cx="98640" cy="1054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 flipH="1" flipV="1" rot="3600000">
                  <a:off x="8377920" y="6345360"/>
                  <a:ext cx="24120" cy="15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 flipH="1" flipV="1" rot="3600000">
                  <a:off x="8489160" y="6192000"/>
                  <a:ext cx="16200" cy="142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75" name=""/>
          <p:cNvGrpSpPr/>
          <p:nvPr/>
        </p:nvGrpSpPr>
        <p:grpSpPr>
          <a:xfrm>
            <a:off x="326880" y="5094360"/>
            <a:ext cx="1719360" cy="1535040"/>
            <a:chOff x="326880" y="5094360"/>
            <a:chExt cx="1719360" cy="1535040"/>
          </a:xfrm>
        </p:grpSpPr>
        <p:grpSp>
          <p:nvGrpSpPr>
            <p:cNvPr id="976" name=""/>
            <p:cNvGrpSpPr/>
            <p:nvPr/>
          </p:nvGrpSpPr>
          <p:grpSpPr>
            <a:xfrm>
              <a:off x="326880" y="5094360"/>
              <a:ext cx="1719360" cy="1535040"/>
              <a:chOff x="326880" y="5094360"/>
              <a:chExt cx="1719360" cy="1535040"/>
            </a:xfrm>
          </p:grpSpPr>
          <p:sp>
            <p:nvSpPr>
              <p:cNvPr id="977" name=""/>
              <p:cNvSpPr/>
              <p:nvPr/>
            </p:nvSpPr>
            <p:spPr>
              <a:xfrm>
                <a:off x="351000" y="5116680"/>
                <a:ext cx="1670040" cy="149040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26880" y="5094360"/>
                <a:ext cx="1719360" cy="1535040"/>
              </a:xfrm>
              <a:custGeom>
                <a:avLst/>
                <a:gdLst/>
                <a:ahLst/>
                <a:rect l="l" t="t" r="r" b="b"/>
                <a:pathLst>
                  <a:path w="1083" h="967">
                    <a:moveTo>
                      <a:pt x="177" y="851"/>
                    </a:moveTo>
                    <a:lnTo>
                      <a:pt x="184" y="854"/>
                    </a:lnTo>
                    <a:lnTo>
                      <a:pt x="541" y="854"/>
                    </a:lnTo>
                    <a:lnTo>
                      <a:pt x="541" y="967"/>
                    </a:lnTo>
                    <a:lnTo>
                      <a:pt x="30" y="967"/>
                    </a:lnTo>
                    <a:lnTo>
                      <a:pt x="16" y="957"/>
                    </a:lnTo>
                    <a:lnTo>
                      <a:pt x="2" y="939"/>
                    </a:lnTo>
                    <a:lnTo>
                      <a:pt x="0" y="923"/>
                    </a:lnTo>
                    <a:lnTo>
                      <a:pt x="2" y="911"/>
                    </a:lnTo>
                    <a:lnTo>
                      <a:pt x="484" y="32"/>
                    </a:lnTo>
                    <a:lnTo>
                      <a:pt x="493" y="17"/>
                    </a:lnTo>
                    <a:lnTo>
                      <a:pt x="512" y="4"/>
                    </a:lnTo>
                    <a:lnTo>
                      <a:pt x="541" y="0"/>
                    </a:lnTo>
                    <a:lnTo>
                      <a:pt x="569" y="4"/>
                    </a:lnTo>
                    <a:lnTo>
                      <a:pt x="585" y="18"/>
                    </a:lnTo>
                    <a:lnTo>
                      <a:pt x="597" y="32"/>
                    </a:lnTo>
                    <a:lnTo>
                      <a:pt x="1079" y="911"/>
                    </a:lnTo>
                    <a:lnTo>
                      <a:pt x="1083" y="926"/>
                    </a:lnTo>
                    <a:lnTo>
                      <a:pt x="1079" y="939"/>
                    </a:lnTo>
                    <a:lnTo>
                      <a:pt x="1068" y="956"/>
                    </a:lnTo>
                    <a:lnTo>
                      <a:pt x="1051" y="967"/>
                    </a:lnTo>
                    <a:lnTo>
                      <a:pt x="541" y="967"/>
                    </a:lnTo>
                    <a:lnTo>
                      <a:pt x="541" y="854"/>
                    </a:lnTo>
                    <a:lnTo>
                      <a:pt x="895" y="854"/>
                    </a:lnTo>
                    <a:lnTo>
                      <a:pt x="901" y="846"/>
                    </a:lnTo>
                    <a:lnTo>
                      <a:pt x="900" y="839"/>
                    </a:lnTo>
                    <a:lnTo>
                      <a:pt x="550" y="194"/>
                    </a:lnTo>
                    <a:lnTo>
                      <a:pt x="541" y="185"/>
                    </a:lnTo>
                    <a:lnTo>
                      <a:pt x="529" y="194"/>
                    </a:lnTo>
                    <a:lnTo>
                      <a:pt x="178" y="845"/>
                    </a:lnTo>
                    <a:lnTo>
                      <a:pt x="177" y="8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788400" y="5815080"/>
              <a:ext cx="759960" cy="610200"/>
              <a:chOff x="788400" y="5815080"/>
              <a:chExt cx="759960" cy="610200"/>
            </a:xfrm>
          </p:grpSpPr>
          <p:sp>
            <p:nvSpPr>
              <p:cNvPr id="980" name=""/>
              <p:cNvSpPr/>
              <p:nvPr/>
            </p:nvSpPr>
            <p:spPr>
              <a:xfrm>
                <a:off x="957600" y="5815080"/>
                <a:ext cx="439920" cy="406080"/>
              </a:xfrm>
              <a:prstGeom prst="donut">
                <a:avLst>
                  <a:gd name="adj" fmla="val 5453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rot="10800000">
                <a:off x="1024200" y="6071760"/>
                <a:ext cx="306720" cy="264960"/>
              </a:xfrm>
              <a:prstGeom prst="blockArc">
                <a:avLst>
                  <a:gd name="adj1" fmla="val 9691480"/>
                  <a:gd name="adj2" fmla="val 1108520"/>
                  <a:gd name="adj3" fmla="val 844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147320" y="6111720"/>
                <a:ext cx="26280" cy="59400"/>
              </a:xfrm>
              <a:custGeom>
                <a:avLst/>
                <a:gdLst/>
                <a:ahLst/>
                <a:rect l="l" t="t" r="r" b="b"/>
                <a:pathLst>
                  <a:path w="104" h="264">
                    <a:moveTo>
                      <a:pt x="90" y="5"/>
                    </a:moveTo>
                    <a:cubicBezTo>
                      <a:pt x="104" y="10"/>
                      <a:pt x="104" y="198"/>
                      <a:pt x="90" y="231"/>
                    </a:cubicBezTo>
                    <a:cubicBezTo>
                      <a:pt x="76" y="264"/>
                      <a:pt x="10" y="241"/>
                      <a:pt x="5" y="203"/>
                    </a:cubicBezTo>
                    <a:cubicBezTo>
                      <a:pt x="0" y="165"/>
                      <a:pt x="76" y="0"/>
                      <a:pt x="90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>
                <a:off x="1181160" y="6113160"/>
                <a:ext cx="26280" cy="59400"/>
              </a:xfrm>
              <a:custGeom>
                <a:avLst/>
                <a:gdLst/>
                <a:ahLst/>
                <a:rect l="l" t="t" r="r" b="b"/>
                <a:pathLst>
                  <a:path w="104" h="264">
                    <a:moveTo>
                      <a:pt x="90" y="5"/>
                    </a:moveTo>
                    <a:cubicBezTo>
                      <a:pt x="104" y="10"/>
                      <a:pt x="104" y="198"/>
                      <a:pt x="90" y="231"/>
                    </a:cubicBezTo>
                    <a:cubicBezTo>
                      <a:pt x="76" y="264"/>
                      <a:pt x="10" y="241"/>
                      <a:pt x="5" y="203"/>
                    </a:cubicBezTo>
                    <a:cubicBezTo>
                      <a:pt x="0" y="165"/>
                      <a:pt x="76" y="0"/>
                      <a:pt x="90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16200000">
                <a:off x="970200" y="5926320"/>
                <a:ext cx="306720" cy="265320"/>
              </a:xfrm>
              <a:prstGeom prst="blockArc">
                <a:avLst>
                  <a:gd name="adj1" fmla="val 13926246"/>
                  <a:gd name="adj2" fmla="val 18473754"/>
                  <a:gd name="adj3" fmla="val 6616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H="1" rot="5400000">
                <a:off x="1077120" y="5926320"/>
                <a:ext cx="306720" cy="265320"/>
              </a:xfrm>
              <a:prstGeom prst="blockArc">
                <a:avLst>
                  <a:gd name="adj1" fmla="val 13926246"/>
                  <a:gd name="adj2" fmla="val 18473754"/>
                  <a:gd name="adj3" fmla="val 6616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rot="10800000">
                <a:off x="1073880" y="6104520"/>
                <a:ext cx="207360" cy="178920"/>
              </a:xfrm>
              <a:prstGeom prst="blockArc">
                <a:avLst>
                  <a:gd name="adj1" fmla="val 10585157"/>
                  <a:gd name="adj2" fmla="val 214843"/>
                  <a:gd name="adj3" fmla="val 12199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rot="20700000">
                <a:off x="1041120" y="6031080"/>
                <a:ext cx="108000" cy="89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H="1" rot="900000">
                <a:off x="1198080" y="6030000"/>
                <a:ext cx="108000" cy="89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rot="10800000">
                <a:off x="1123560" y="6138000"/>
                <a:ext cx="108000" cy="108000"/>
              </a:xfrm>
              <a:prstGeom prst="blockArc">
                <a:avLst>
                  <a:gd name="adj1" fmla="val 11249267"/>
                  <a:gd name="adj2" fmla="val 21150733"/>
                  <a:gd name="adj3" fmla="val 8009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0" name=""/>
              <p:cNvGrpSpPr/>
              <p:nvPr/>
            </p:nvGrpSpPr>
            <p:grpSpPr>
              <a:xfrm>
                <a:off x="1303200" y="6019200"/>
                <a:ext cx="245160" cy="208080"/>
                <a:chOff x="1303200" y="6019200"/>
                <a:chExt cx="245160" cy="208080"/>
              </a:xfrm>
            </p:grpSpPr>
            <p:sp>
              <p:nvSpPr>
                <p:cNvPr id="991" name=""/>
                <p:cNvSpPr/>
                <p:nvPr/>
              </p:nvSpPr>
              <p:spPr>
                <a:xfrm rot="3600000">
                  <a:off x="1355760" y="6072120"/>
                  <a:ext cx="15840" cy="131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 rot="20700000">
                  <a:off x="1398240" y="6030000"/>
                  <a:ext cx="99000" cy="1054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H="1" rot="8100000">
                  <a:off x="1426320" y="6081120"/>
                  <a:ext cx="98640" cy="1054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rot="3600000">
                  <a:off x="1478880" y="6083640"/>
                  <a:ext cx="23760" cy="15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 rot="3600000">
                  <a:off x="1370880" y="6107760"/>
                  <a:ext cx="15120" cy="1504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1294920" y="6220080"/>
                <a:ext cx="244800" cy="205200"/>
                <a:chOff x="1294920" y="6220080"/>
                <a:chExt cx="244800" cy="205200"/>
              </a:xfrm>
            </p:grpSpPr>
            <p:sp>
              <p:nvSpPr>
                <p:cNvPr id="997" name=""/>
                <p:cNvSpPr/>
                <p:nvPr/>
              </p:nvSpPr>
              <p:spPr>
                <a:xfrm flipV="1" rot="18000000">
                  <a:off x="1347480" y="6239880"/>
                  <a:ext cx="15480" cy="131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 flipV="1" rot="900000">
                  <a:off x="1389600" y="6307920"/>
                  <a:ext cx="99000" cy="10584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 flipH="1" flipV="1" rot="13500000">
                  <a:off x="1417680" y="6257880"/>
                  <a:ext cx="98640" cy="1054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flipV="1" rot="18000000">
                  <a:off x="1469520" y="6345360"/>
                  <a:ext cx="24120" cy="15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 flipV="1" rot="18000000">
                  <a:off x="1365480" y="6192000"/>
                  <a:ext cx="16200" cy="142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796680" y="6019200"/>
                <a:ext cx="245160" cy="208800"/>
                <a:chOff x="796680" y="6019200"/>
                <a:chExt cx="245160" cy="208800"/>
              </a:xfrm>
            </p:grpSpPr>
            <p:sp>
              <p:nvSpPr>
                <p:cNvPr id="1003" name=""/>
                <p:cNvSpPr/>
                <p:nvPr/>
              </p:nvSpPr>
              <p:spPr>
                <a:xfrm flipH="1" rot="18000000">
                  <a:off x="972720" y="6072120"/>
                  <a:ext cx="15840" cy="131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 flipH="1" rot="900000">
                  <a:off x="847440" y="6030000"/>
                  <a:ext cx="99000" cy="1054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 rot="13500000">
                  <a:off x="819360" y="6081120"/>
                  <a:ext cx="98640" cy="1054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flipH="1" rot="18000000">
                  <a:off x="841680" y="6083640"/>
                  <a:ext cx="23760" cy="15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 flipH="1" rot="18000000">
                  <a:off x="958680" y="6108120"/>
                  <a:ext cx="15120" cy="1504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788400" y="6220440"/>
                <a:ext cx="244800" cy="204840"/>
                <a:chOff x="788400" y="6220440"/>
                <a:chExt cx="244800" cy="204840"/>
              </a:xfrm>
            </p:grpSpPr>
            <p:sp>
              <p:nvSpPr>
                <p:cNvPr id="1009" name=""/>
                <p:cNvSpPr/>
                <p:nvPr/>
              </p:nvSpPr>
              <p:spPr>
                <a:xfrm flipH="1" flipV="1" rot="3600000">
                  <a:off x="964800" y="6239880"/>
                  <a:ext cx="15480" cy="131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H="1" flipV="1" rot="20700000">
                  <a:off x="839160" y="6307920"/>
                  <a:ext cx="99000" cy="10584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V="1" rot="8100000">
                  <a:off x="811080" y="6257880"/>
                  <a:ext cx="98640" cy="1054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H="1" flipV="1" rot="3600000">
                  <a:off x="834120" y="6345360"/>
                  <a:ext cx="24120" cy="15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 flipH="1" flipV="1" rot="3600000">
                  <a:off x="945360" y="6192000"/>
                  <a:ext cx="16200" cy="142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14" name=""/>
          <p:cNvGrpSpPr/>
          <p:nvPr/>
        </p:nvGrpSpPr>
        <p:grpSpPr>
          <a:xfrm>
            <a:off x="2222640" y="3498840"/>
            <a:ext cx="1709640" cy="1528920"/>
            <a:chOff x="2222640" y="3498840"/>
            <a:chExt cx="1709640" cy="1528920"/>
          </a:xfrm>
        </p:grpSpPr>
        <p:grpSp>
          <p:nvGrpSpPr>
            <p:cNvPr id="1015" name=""/>
            <p:cNvGrpSpPr/>
            <p:nvPr/>
          </p:nvGrpSpPr>
          <p:grpSpPr>
            <a:xfrm>
              <a:off x="2222640" y="3498840"/>
              <a:ext cx="1709640" cy="1528920"/>
              <a:chOff x="2222640" y="3498840"/>
              <a:chExt cx="1709640" cy="1528920"/>
            </a:xfrm>
          </p:grpSpPr>
          <p:sp>
            <p:nvSpPr>
              <p:cNvPr id="1016" name=""/>
              <p:cNvSpPr/>
              <p:nvPr/>
            </p:nvSpPr>
            <p:spPr>
              <a:xfrm>
                <a:off x="2241720" y="3521160"/>
                <a:ext cx="1670040" cy="149040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222640" y="3498840"/>
                <a:ext cx="1709640" cy="1528920"/>
              </a:xfrm>
              <a:custGeom>
                <a:avLst/>
                <a:gdLst/>
                <a:ahLst/>
                <a:rect l="l" t="t" r="r" b="b"/>
                <a:pathLst>
                  <a:path w="1077" h="963">
                    <a:moveTo>
                      <a:pt x="113" y="878"/>
                    </a:moveTo>
                    <a:lnTo>
                      <a:pt x="539" y="878"/>
                    </a:lnTo>
                    <a:lnTo>
                      <a:pt x="539" y="963"/>
                    </a:lnTo>
                    <a:lnTo>
                      <a:pt x="28" y="963"/>
                    </a:lnTo>
                    <a:lnTo>
                      <a:pt x="0" y="935"/>
                    </a:lnTo>
                    <a:lnTo>
                      <a:pt x="0" y="907"/>
                    </a:lnTo>
                    <a:lnTo>
                      <a:pt x="482" y="28"/>
                    </a:lnTo>
                    <a:lnTo>
                      <a:pt x="510" y="0"/>
                    </a:lnTo>
                    <a:lnTo>
                      <a:pt x="567" y="0"/>
                    </a:lnTo>
                    <a:lnTo>
                      <a:pt x="595" y="28"/>
                    </a:lnTo>
                    <a:lnTo>
                      <a:pt x="1077" y="907"/>
                    </a:lnTo>
                    <a:lnTo>
                      <a:pt x="1077" y="935"/>
                    </a:lnTo>
                    <a:lnTo>
                      <a:pt x="1049" y="963"/>
                    </a:lnTo>
                    <a:lnTo>
                      <a:pt x="539" y="963"/>
                    </a:lnTo>
                    <a:lnTo>
                      <a:pt x="539" y="878"/>
                    </a:lnTo>
                    <a:lnTo>
                      <a:pt x="964" y="878"/>
                    </a:lnTo>
                    <a:lnTo>
                      <a:pt x="539" y="85"/>
                    </a:lnTo>
                    <a:lnTo>
                      <a:pt x="113" y="8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2647800" y="4148280"/>
              <a:ext cx="832320" cy="668520"/>
              <a:chOff x="2647800" y="4148280"/>
              <a:chExt cx="832320" cy="668520"/>
            </a:xfrm>
          </p:grpSpPr>
          <p:sp>
            <p:nvSpPr>
              <p:cNvPr id="1019" name=""/>
              <p:cNvSpPr/>
              <p:nvPr/>
            </p:nvSpPr>
            <p:spPr>
              <a:xfrm>
                <a:off x="2832480" y="4148280"/>
                <a:ext cx="482400" cy="444600"/>
              </a:xfrm>
              <a:prstGeom prst="donut">
                <a:avLst>
                  <a:gd name="adj" fmla="val 5453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rot="10800000">
                <a:off x="2905200" y="4429080"/>
                <a:ext cx="336600" cy="290160"/>
              </a:xfrm>
              <a:prstGeom prst="blockArc">
                <a:avLst>
                  <a:gd name="adj1" fmla="val 9691480"/>
                  <a:gd name="adj2" fmla="val 1108520"/>
                  <a:gd name="adj3" fmla="val 844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040560" y="4473000"/>
                <a:ext cx="28800" cy="64800"/>
              </a:xfrm>
              <a:custGeom>
                <a:avLst/>
                <a:gdLst/>
                <a:ahLst/>
                <a:rect l="l" t="t" r="r" b="b"/>
                <a:pathLst>
                  <a:path w="104" h="264">
                    <a:moveTo>
                      <a:pt x="90" y="5"/>
                    </a:moveTo>
                    <a:cubicBezTo>
                      <a:pt x="104" y="10"/>
                      <a:pt x="104" y="198"/>
                      <a:pt x="90" y="231"/>
                    </a:cubicBezTo>
                    <a:cubicBezTo>
                      <a:pt x="76" y="264"/>
                      <a:pt x="10" y="241"/>
                      <a:pt x="5" y="203"/>
                    </a:cubicBezTo>
                    <a:cubicBezTo>
                      <a:pt x="0" y="165"/>
                      <a:pt x="76" y="0"/>
                      <a:pt x="90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H="1">
                <a:off x="3078360" y="4474440"/>
                <a:ext cx="28800" cy="64800"/>
              </a:xfrm>
              <a:custGeom>
                <a:avLst/>
                <a:gdLst/>
                <a:ahLst/>
                <a:rect l="l" t="t" r="r" b="b"/>
                <a:pathLst>
                  <a:path w="104" h="264">
                    <a:moveTo>
                      <a:pt x="90" y="5"/>
                    </a:moveTo>
                    <a:cubicBezTo>
                      <a:pt x="104" y="10"/>
                      <a:pt x="104" y="198"/>
                      <a:pt x="90" y="231"/>
                    </a:cubicBezTo>
                    <a:cubicBezTo>
                      <a:pt x="76" y="264"/>
                      <a:pt x="10" y="241"/>
                      <a:pt x="5" y="203"/>
                    </a:cubicBezTo>
                    <a:cubicBezTo>
                      <a:pt x="0" y="165"/>
                      <a:pt x="76" y="0"/>
                      <a:pt x="90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rot="16200000">
                <a:off x="2846880" y="4269600"/>
                <a:ext cx="335520" cy="291240"/>
              </a:xfrm>
              <a:prstGeom prst="blockArc">
                <a:avLst>
                  <a:gd name="adj1" fmla="val 13926246"/>
                  <a:gd name="adj2" fmla="val 18473754"/>
                  <a:gd name="adj3" fmla="val 6616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H="1" rot="5400000">
                <a:off x="2964240" y="4269600"/>
                <a:ext cx="335520" cy="291240"/>
              </a:xfrm>
              <a:prstGeom prst="blockArc">
                <a:avLst>
                  <a:gd name="adj1" fmla="val 13926246"/>
                  <a:gd name="adj2" fmla="val 18473754"/>
                  <a:gd name="adj3" fmla="val 6616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rot="10800000">
                <a:off x="2959920" y="4465080"/>
                <a:ext cx="227520" cy="196200"/>
              </a:xfrm>
              <a:prstGeom prst="blockArc">
                <a:avLst>
                  <a:gd name="adj1" fmla="val 10585157"/>
                  <a:gd name="adj2" fmla="val 214843"/>
                  <a:gd name="adj3" fmla="val 12199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rot="20700000">
                <a:off x="2924280" y="4384800"/>
                <a:ext cx="118440" cy="97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H="1" rot="900000">
                <a:off x="3096000" y="4383720"/>
                <a:ext cx="118440" cy="97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rot="10800000">
                <a:off x="3014280" y="4501440"/>
                <a:ext cx="118440" cy="118440"/>
              </a:xfrm>
              <a:prstGeom prst="blockArc">
                <a:avLst>
                  <a:gd name="adj1" fmla="val 11249267"/>
                  <a:gd name="adj2" fmla="val 21150733"/>
                  <a:gd name="adj3" fmla="val 8009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9" name=""/>
              <p:cNvGrpSpPr/>
              <p:nvPr/>
            </p:nvGrpSpPr>
            <p:grpSpPr>
              <a:xfrm>
                <a:off x="3210840" y="4372200"/>
                <a:ext cx="269280" cy="228600"/>
                <a:chOff x="3210840" y="4372200"/>
                <a:chExt cx="269280" cy="228600"/>
              </a:xfrm>
            </p:grpSpPr>
            <p:sp>
              <p:nvSpPr>
                <p:cNvPr id="1030" name=""/>
                <p:cNvSpPr/>
                <p:nvPr/>
              </p:nvSpPr>
              <p:spPr>
                <a:xfrm rot="3600000">
                  <a:off x="3268800" y="4430160"/>
                  <a:ext cx="17280" cy="143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 rot="20700000">
                  <a:off x="3315240" y="4384080"/>
                  <a:ext cx="108720" cy="1159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 flipH="1" rot="8100000">
                  <a:off x="3345840" y="4438800"/>
                  <a:ext cx="108360" cy="1159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 rot="3600000">
                  <a:off x="3403800" y="4442760"/>
                  <a:ext cx="26280" cy="172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 rot="3600000">
                  <a:off x="3285720" y="4469400"/>
                  <a:ext cx="16920" cy="164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5" name=""/>
              <p:cNvGrpSpPr/>
              <p:nvPr/>
            </p:nvGrpSpPr>
            <p:grpSpPr>
              <a:xfrm>
                <a:off x="3202200" y="4591440"/>
                <a:ext cx="268200" cy="225360"/>
                <a:chOff x="3202200" y="4591440"/>
                <a:chExt cx="268200" cy="225360"/>
              </a:xfrm>
            </p:grpSpPr>
            <p:sp>
              <p:nvSpPr>
                <p:cNvPr id="1036" name=""/>
                <p:cNvSpPr/>
                <p:nvPr/>
              </p:nvSpPr>
              <p:spPr>
                <a:xfrm flipV="1" rot="18000000">
                  <a:off x="3259800" y="4614120"/>
                  <a:ext cx="17280" cy="143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 flipV="1" rot="900000">
                  <a:off x="3306240" y="4688280"/>
                  <a:ext cx="108720" cy="1159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 flipH="1" flipV="1" rot="13500000">
                  <a:off x="3336120" y="4632120"/>
                  <a:ext cx="108360" cy="1159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 flipV="1" rot="18000000">
                  <a:off x="3394800" y="4727520"/>
                  <a:ext cx="26280" cy="172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 flipV="1" rot="18000000">
                  <a:off x="3280320" y="4560480"/>
                  <a:ext cx="17640" cy="155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2656440" y="4372200"/>
                <a:ext cx="269280" cy="229320"/>
                <a:chOff x="2656440" y="4372200"/>
                <a:chExt cx="269280" cy="229320"/>
              </a:xfrm>
            </p:grpSpPr>
            <p:sp>
              <p:nvSpPr>
                <p:cNvPr id="1042" name=""/>
                <p:cNvSpPr/>
                <p:nvPr/>
              </p:nvSpPr>
              <p:spPr>
                <a:xfrm flipH="1" rot="18000000">
                  <a:off x="2850120" y="4429800"/>
                  <a:ext cx="17280" cy="143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 flipH="1" rot="900000">
                  <a:off x="2711880" y="4384080"/>
                  <a:ext cx="108720" cy="1159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 rot="13500000">
                  <a:off x="2681280" y="4438800"/>
                  <a:ext cx="108360" cy="1159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 flipH="1" rot="18000000">
                  <a:off x="2705760" y="4442760"/>
                  <a:ext cx="26280" cy="172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 flipH="1" rot="18000000">
                  <a:off x="2833200" y="4470120"/>
                  <a:ext cx="17280" cy="164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2647800" y="4591080"/>
                <a:ext cx="267840" cy="225720"/>
                <a:chOff x="2647800" y="4591080"/>
                <a:chExt cx="267840" cy="225720"/>
              </a:xfrm>
            </p:grpSpPr>
            <p:sp>
              <p:nvSpPr>
                <p:cNvPr id="1048" name=""/>
                <p:cNvSpPr/>
                <p:nvPr/>
              </p:nvSpPr>
              <p:spPr>
                <a:xfrm flipH="1" flipV="1" rot="3600000">
                  <a:off x="2840400" y="4614120"/>
                  <a:ext cx="17280" cy="143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 flipH="1" flipV="1" rot="20700000">
                  <a:off x="2702520" y="4688280"/>
                  <a:ext cx="108720" cy="1159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 flipV="1" rot="8100000">
                  <a:off x="2672640" y="4632120"/>
                  <a:ext cx="108360" cy="1159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 flipH="1" flipV="1" rot="3600000">
                  <a:off x="2696760" y="4727520"/>
                  <a:ext cx="26280" cy="172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 flipH="1" flipV="1" rot="3600000">
                  <a:off x="2819160" y="4560480"/>
                  <a:ext cx="17640" cy="155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53" name=""/>
          <p:cNvGrpSpPr/>
          <p:nvPr/>
        </p:nvGrpSpPr>
        <p:grpSpPr>
          <a:xfrm>
            <a:off x="4113360" y="3492360"/>
            <a:ext cx="1709640" cy="1528920"/>
            <a:chOff x="4113360" y="3492360"/>
            <a:chExt cx="1709640" cy="1528920"/>
          </a:xfrm>
        </p:grpSpPr>
        <p:grpSp>
          <p:nvGrpSpPr>
            <p:cNvPr id="1054" name=""/>
            <p:cNvGrpSpPr/>
            <p:nvPr/>
          </p:nvGrpSpPr>
          <p:grpSpPr>
            <a:xfrm>
              <a:off x="4113360" y="3492360"/>
              <a:ext cx="1709640" cy="1528920"/>
              <a:chOff x="4113360" y="3492360"/>
              <a:chExt cx="1709640" cy="1528920"/>
            </a:xfrm>
          </p:grpSpPr>
          <p:sp>
            <p:nvSpPr>
              <p:cNvPr id="1055" name=""/>
              <p:cNvSpPr/>
              <p:nvPr/>
            </p:nvSpPr>
            <p:spPr>
              <a:xfrm>
                <a:off x="4132440" y="351144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113360" y="3492360"/>
                <a:ext cx="1709640" cy="1528920"/>
              </a:xfrm>
              <a:custGeom>
                <a:avLst/>
                <a:gdLst/>
                <a:ahLst/>
                <a:rect l="l" t="t" r="r" b="b"/>
                <a:pathLst>
                  <a:path w="1077" h="963">
                    <a:moveTo>
                      <a:pt x="113" y="878"/>
                    </a:moveTo>
                    <a:lnTo>
                      <a:pt x="539" y="878"/>
                    </a:lnTo>
                    <a:lnTo>
                      <a:pt x="539" y="963"/>
                    </a:lnTo>
                    <a:lnTo>
                      <a:pt x="28" y="963"/>
                    </a:lnTo>
                    <a:lnTo>
                      <a:pt x="0" y="935"/>
                    </a:lnTo>
                    <a:lnTo>
                      <a:pt x="0" y="907"/>
                    </a:lnTo>
                    <a:lnTo>
                      <a:pt x="482" y="28"/>
                    </a:lnTo>
                    <a:lnTo>
                      <a:pt x="510" y="0"/>
                    </a:lnTo>
                    <a:lnTo>
                      <a:pt x="567" y="0"/>
                    </a:lnTo>
                    <a:lnTo>
                      <a:pt x="595" y="28"/>
                    </a:lnTo>
                    <a:lnTo>
                      <a:pt x="1077" y="907"/>
                    </a:lnTo>
                    <a:lnTo>
                      <a:pt x="1077" y="935"/>
                    </a:lnTo>
                    <a:lnTo>
                      <a:pt x="1049" y="963"/>
                    </a:lnTo>
                    <a:lnTo>
                      <a:pt x="539" y="963"/>
                    </a:lnTo>
                    <a:lnTo>
                      <a:pt x="539" y="878"/>
                    </a:lnTo>
                    <a:lnTo>
                      <a:pt x="964" y="878"/>
                    </a:lnTo>
                    <a:lnTo>
                      <a:pt x="539" y="85"/>
                    </a:lnTo>
                    <a:lnTo>
                      <a:pt x="113" y="8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4543200" y="4148280"/>
              <a:ext cx="832320" cy="668520"/>
              <a:chOff x="4543200" y="4148280"/>
              <a:chExt cx="832320" cy="668520"/>
            </a:xfrm>
          </p:grpSpPr>
          <p:sp>
            <p:nvSpPr>
              <p:cNvPr id="1058" name=""/>
              <p:cNvSpPr/>
              <p:nvPr/>
            </p:nvSpPr>
            <p:spPr>
              <a:xfrm>
                <a:off x="4727880" y="4148280"/>
                <a:ext cx="482400" cy="444600"/>
              </a:xfrm>
              <a:prstGeom prst="donut">
                <a:avLst>
                  <a:gd name="adj" fmla="val 5453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rot="10800000">
                <a:off x="4800600" y="4429080"/>
                <a:ext cx="336600" cy="290160"/>
              </a:xfrm>
              <a:prstGeom prst="blockArc">
                <a:avLst>
                  <a:gd name="adj1" fmla="val 9691480"/>
                  <a:gd name="adj2" fmla="val 1108520"/>
                  <a:gd name="adj3" fmla="val 844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935960" y="4473000"/>
                <a:ext cx="28800" cy="64800"/>
              </a:xfrm>
              <a:custGeom>
                <a:avLst/>
                <a:gdLst/>
                <a:ahLst/>
                <a:rect l="l" t="t" r="r" b="b"/>
                <a:pathLst>
                  <a:path w="104" h="264">
                    <a:moveTo>
                      <a:pt x="90" y="5"/>
                    </a:moveTo>
                    <a:cubicBezTo>
                      <a:pt x="104" y="10"/>
                      <a:pt x="104" y="198"/>
                      <a:pt x="90" y="231"/>
                    </a:cubicBezTo>
                    <a:cubicBezTo>
                      <a:pt x="76" y="264"/>
                      <a:pt x="10" y="241"/>
                      <a:pt x="5" y="203"/>
                    </a:cubicBezTo>
                    <a:cubicBezTo>
                      <a:pt x="0" y="165"/>
                      <a:pt x="76" y="0"/>
                      <a:pt x="90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H="1">
                <a:off x="4973760" y="4474440"/>
                <a:ext cx="28800" cy="64800"/>
              </a:xfrm>
              <a:custGeom>
                <a:avLst/>
                <a:gdLst/>
                <a:ahLst/>
                <a:rect l="l" t="t" r="r" b="b"/>
                <a:pathLst>
                  <a:path w="104" h="264">
                    <a:moveTo>
                      <a:pt x="90" y="5"/>
                    </a:moveTo>
                    <a:cubicBezTo>
                      <a:pt x="104" y="10"/>
                      <a:pt x="104" y="198"/>
                      <a:pt x="90" y="231"/>
                    </a:cubicBezTo>
                    <a:cubicBezTo>
                      <a:pt x="76" y="264"/>
                      <a:pt x="10" y="241"/>
                      <a:pt x="5" y="203"/>
                    </a:cubicBezTo>
                    <a:cubicBezTo>
                      <a:pt x="0" y="165"/>
                      <a:pt x="76" y="0"/>
                      <a:pt x="90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rot="16200000">
                <a:off x="4742280" y="4269600"/>
                <a:ext cx="335520" cy="291240"/>
              </a:xfrm>
              <a:prstGeom prst="blockArc">
                <a:avLst>
                  <a:gd name="adj1" fmla="val 13926246"/>
                  <a:gd name="adj2" fmla="val 18473754"/>
                  <a:gd name="adj3" fmla="val 6616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H="1" rot="5400000">
                <a:off x="4859640" y="4269600"/>
                <a:ext cx="335520" cy="291240"/>
              </a:xfrm>
              <a:prstGeom prst="blockArc">
                <a:avLst>
                  <a:gd name="adj1" fmla="val 13926246"/>
                  <a:gd name="adj2" fmla="val 18473754"/>
                  <a:gd name="adj3" fmla="val 6616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rot="10800000">
                <a:off x="4855320" y="4465080"/>
                <a:ext cx="227520" cy="196200"/>
              </a:xfrm>
              <a:prstGeom prst="blockArc">
                <a:avLst>
                  <a:gd name="adj1" fmla="val 10585157"/>
                  <a:gd name="adj2" fmla="val 214843"/>
                  <a:gd name="adj3" fmla="val 12199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rot="20700000">
                <a:off x="4819680" y="4384800"/>
                <a:ext cx="118440" cy="97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 rot="900000">
                <a:off x="4991400" y="4383720"/>
                <a:ext cx="118440" cy="97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rot="10800000">
                <a:off x="4909680" y="4501440"/>
                <a:ext cx="118440" cy="118440"/>
              </a:xfrm>
              <a:prstGeom prst="blockArc">
                <a:avLst>
                  <a:gd name="adj1" fmla="val 11249267"/>
                  <a:gd name="adj2" fmla="val 21150733"/>
                  <a:gd name="adj3" fmla="val 8009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8" name=""/>
              <p:cNvGrpSpPr/>
              <p:nvPr/>
            </p:nvGrpSpPr>
            <p:grpSpPr>
              <a:xfrm>
                <a:off x="5106240" y="4372200"/>
                <a:ext cx="269280" cy="228600"/>
                <a:chOff x="5106240" y="4372200"/>
                <a:chExt cx="269280" cy="228600"/>
              </a:xfrm>
            </p:grpSpPr>
            <p:sp>
              <p:nvSpPr>
                <p:cNvPr id="1069" name=""/>
                <p:cNvSpPr/>
                <p:nvPr/>
              </p:nvSpPr>
              <p:spPr>
                <a:xfrm rot="3600000">
                  <a:off x="5164200" y="4430160"/>
                  <a:ext cx="17280" cy="143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 rot="20700000">
                  <a:off x="5210640" y="4384080"/>
                  <a:ext cx="108720" cy="1159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 flipH="1" rot="8100000">
                  <a:off x="5241240" y="4438800"/>
                  <a:ext cx="108360" cy="1159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 rot="3600000">
                  <a:off x="5299200" y="4442760"/>
                  <a:ext cx="26280" cy="172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 rot="3600000">
                  <a:off x="5181120" y="4469400"/>
                  <a:ext cx="16920" cy="164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5097600" y="4591440"/>
                <a:ext cx="268200" cy="225360"/>
                <a:chOff x="5097600" y="4591440"/>
                <a:chExt cx="268200" cy="225360"/>
              </a:xfrm>
            </p:grpSpPr>
            <p:sp>
              <p:nvSpPr>
                <p:cNvPr id="1075" name=""/>
                <p:cNvSpPr/>
                <p:nvPr/>
              </p:nvSpPr>
              <p:spPr>
                <a:xfrm flipV="1" rot="18000000">
                  <a:off x="5155200" y="4614120"/>
                  <a:ext cx="17280" cy="143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 flipV="1" rot="900000">
                  <a:off x="5201640" y="4688280"/>
                  <a:ext cx="108720" cy="1159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 flipH="1" flipV="1" rot="13500000">
                  <a:off x="5231520" y="4632120"/>
                  <a:ext cx="108360" cy="1159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flipV="1" rot="18000000">
                  <a:off x="5290200" y="4727520"/>
                  <a:ext cx="26280" cy="172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 flipV="1" rot="18000000">
                  <a:off x="5175720" y="4560480"/>
                  <a:ext cx="17640" cy="155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4551840" y="4372200"/>
                <a:ext cx="269280" cy="229320"/>
                <a:chOff x="4551840" y="4372200"/>
                <a:chExt cx="269280" cy="229320"/>
              </a:xfrm>
            </p:grpSpPr>
            <p:sp>
              <p:nvSpPr>
                <p:cNvPr id="1081" name=""/>
                <p:cNvSpPr/>
                <p:nvPr/>
              </p:nvSpPr>
              <p:spPr>
                <a:xfrm flipH="1" rot="18000000">
                  <a:off x="4745520" y="4429800"/>
                  <a:ext cx="17280" cy="143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flipH="1" rot="900000">
                  <a:off x="4607280" y="4384080"/>
                  <a:ext cx="108720" cy="1159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 rot="13500000">
                  <a:off x="4576680" y="4438800"/>
                  <a:ext cx="108360" cy="1159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flipH="1" rot="18000000">
                  <a:off x="4601160" y="4442760"/>
                  <a:ext cx="26280" cy="172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 flipH="1" rot="18000000">
                  <a:off x="4728600" y="4470120"/>
                  <a:ext cx="17280" cy="164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4543200" y="4591080"/>
                <a:ext cx="267840" cy="225720"/>
                <a:chOff x="4543200" y="4591080"/>
                <a:chExt cx="267840" cy="225720"/>
              </a:xfrm>
            </p:grpSpPr>
            <p:sp>
              <p:nvSpPr>
                <p:cNvPr id="1087" name=""/>
                <p:cNvSpPr/>
                <p:nvPr/>
              </p:nvSpPr>
              <p:spPr>
                <a:xfrm flipH="1" flipV="1" rot="3600000">
                  <a:off x="4735800" y="4614120"/>
                  <a:ext cx="17280" cy="143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 flipH="1" flipV="1" rot="20700000">
                  <a:off x="4597920" y="4688280"/>
                  <a:ext cx="108720" cy="1159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 flipV="1" rot="8100000">
                  <a:off x="4568040" y="4632120"/>
                  <a:ext cx="108360" cy="1159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 flipH="1" flipV="1" rot="3600000">
                  <a:off x="4592160" y="4727520"/>
                  <a:ext cx="26280" cy="172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 flipH="1" flipV="1" rot="3600000">
                  <a:off x="4714560" y="4560480"/>
                  <a:ext cx="17640" cy="155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92" name=""/>
          <p:cNvGrpSpPr/>
          <p:nvPr/>
        </p:nvGrpSpPr>
        <p:grpSpPr>
          <a:xfrm>
            <a:off x="5978520" y="3475080"/>
            <a:ext cx="1709640" cy="1528560"/>
            <a:chOff x="5978520" y="3475080"/>
            <a:chExt cx="1709640" cy="1528560"/>
          </a:xfrm>
        </p:grpSpPr>
        <p:grpSp>
          <p:nvGrpSpPr>
            <p:cNvPr id="1093" name=""/>
            <p:cNvGrpSpPr/>
            <p:nvPr/>
          </p:nvGrpSpPr>
          <p:grpSpPr>
            <a:xfrm>
              <a:off x="5978520" y="3475080"/>
              <a:ext cx="1709640" cy="1528560"/>
              <a:chOff x="5978520" y="3475080"/>
              <a:chExt cx="1709640" cy="1528560"/>
            </a:xfrm>
          </p:grpSpPr>
          <p:sp>
            <p:nvSpPr>
              <p:cNvPr id="1094" name=""/>
              <p:cNvSpPr/>
              <p:nvPr/>
            </p:nvSpPr>
            <p:spPr>
              <a:xfrm>
                <a:off x="5997600" y="349416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978520" y="3475080"/>
                <a:ext cx="1709640" cy="1528560"/>
              </a:xfrm>
              <a:custGeom>
                <a:avLst/>
                <a:gdLst/>
                <a:ahLst/>
                <a:rect l="l" t="t" r="r" b="b"/>
                <a:pathLst>
                  <a:path w="1077" h="963">
                    <a:moveTo>
                      <a:pt x="113" y="878"/>
                    </a:moveTo>
                    <a:lnTo>
                      <a:pt x="539" y="878"/>
                    </a:lnTo>
                    <a:lnTo>
                      <a:pt x="539" y="963"/>
                    </a:lnTo>
                    <a:lnTo>
                      <a:pt x="28" y="963"/>
                    </a:lnTo>
                    <a:lnTo>
                      <a:pt x="0" y="935"/>
                    </a:lnTo>
                    <a:lnTo>
                      <a:pt x="0" y="907"/>
                    </a:lnTo>
                    <a:lnTo>
                      <a:pt x="482" y="28"/>
                    </a:lnTo>
                    <a:lnTo>
                      <a:pt x="510" y="0"/>
                    </a:lnTo>
                    <a:lnTo>
                      <a:pt x="567" y="0"/>
                    </a:lnTo>
                    <a:lnTo>
                      <a:pt x="595" y="28"/>
                    </a:lnTo>
                    <a:lnTo>
                      <a:pt x="1077" y="907"/>
                    </a:lnTo>
                    <a:lnTo>
                      <a:pt x="1077" y="935"/>
                    </a:lnTo>
                    <a:lnTo>
                      <a:pt x="1049" y="963"/>
                    </a:lnTo>
                    <a:lnTo>
                      <a:pt x="539" y="963"/>
                    </a:lnTo>
                    <a:lnTo>
                      <a:pt x="539" y="878"/>
                    </a:lnTo>
                    <a:lnTo>
                      <a:pt x="964" y="878"/>
                    </a:lnTo>
                    <a:lnTo>
                      <a:pt x="539" y="85"/>
                    </a:lnTo>
                    <a:lnTo>
                      <a:pt x="113" y="8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6" name=""/>
            <p:cNvGrpSpPr/>
            <p:nvPr/>
          </p:nvGrpSpPr>
          <p:grpSpPr>
            <a:xfrm>
              <a:off x="6400440" y="4148280"/>
              <a:ext cx="832320" cy="668520"/>
              <a:chOff x="6400440" y="4148280"/>
              <a:chExt cx="832320" cy="668520"/>
            </a:xfrm>
          </p:grpSpPr>
          <p:sp>
            <p:nvSpPr>
              <p:cNvPr id="1097" name=""/>
              <p:cNvSpPr/>
              <p:nvPr/>
            </p:nvSpPr>
            <p:spPr>
              <a:xfrm>
                <a:off x="6585120" y="4148280"/>
                <a:ext cx="482400" cy="444600"/>
              </a:xfrm>
              <a:prstGeom prst="donut">
                <a:avLst>
                  <a:gd name="adj" fmla="val 5453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rot="10800000">
                <a:off x="6657840" y="4429080"/>
                <a:ext cx="336600" cy="290160"/>
              </a:xfrm>
              <a:prstGeom prst="blockArc">
                <a:avLst>
                  <a:gd name="adj1" fmla="val 9691480"/>
                  <a:gd name="adj2" fmla="val 1108520"/>
                  <a:gd name="adj3" fmla="val 844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793200" y="4473000"/>
                <a:ext cx="28800" cy="64800"/>
              </a:xfrm>
              <a:custGeom>
                <a:avLst/>
                <a:gdLst/>
                <a:ahLst/>
                <a:rect l="l" t="t" r="r" b="b"/>
                <a:pathLst>
                  <a:path w="104" h="264">
                    <a:moveTo>
                      <a:pt x="90" y="5"/>
                    </a:moveTo>
                    <a:cubicBezTo>
                      <a:pt x="104" y="10"/>
                      <a:pt x="104" y="198"/>
                      <a:pt x="90" y="231"/>
                    </a:cubicBezTo>
                    <a:cubicBezTo>
                      <a:pt x="76" y="264"/>
                      <a:pt x="10" y="241"/>
                      <a:pt x="5" y="203"/>
                    </a:cubicBezTo>
                    <a:cubicBezTo>
                      <a:pt x="0" y="165"/>
                      <a:pt x="76" y="0"/>
                      <a:pt x="90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flipH="1">
                <a:off x="6831000" y="4474440"/>
                <a:ext cx="28800" cy="64800"/>
              </a:xfrm>
              <a:custGeom>
                <a:avLst/>
                <a:gdLst/>
                <a:ahLst/>
                <a:rect l="l" t="t" r="r" b="b"/>
                <a:pathLst>
                  <a:path w="104" h="264">
                    <a:moveTo>
                      <a:pt x="90" y="5"/>
                    </a:moveTo>
                    <a:cubicBezTo>
                      <a:pt x="104" y="10"/>
                      <a:pt x="104" y="198"/>
                      <a:pt x="90" y="231"/>
                    </a:cubicBezTo>
                    <a:cubicBezTo>
                      <a:pt x="76" y="264"/>
                      <a:pt x="10" y="241"/>
                      <a:pt x="5" y="203"/>
                    </a:cubicBezTo>
                    <a:cubicBezTo>
                      <a:pt x="0" y="165"/>
                      <a:pt x="76" y="0"/>
                      <a:pt x="90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rot="16200000">
                <a:off x="6599520" y="4269600"/>
                <a:ext cx="335520" cy="291240"/>
              </a:xfrm>
              <a:prstGeom prst="blockArc">
                <a:avLst>
                  <a:gd name="adj1" fmla="val 13926246"/>
                  <a:gd name="adj2" fmla="val 18473754"/>
                  <a:gd name="adj3" fmla="val 6616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flipH="1" rot="5400000">
                <a:off x="6716880" y="4269600"/>
                <a:ext cx="335520" cy="291240"/>
              </a:xfrm>
              <a:prstGeom prst="blockArc">
                <a:avLst>
                  <a:gd name="adj1" fmla="val 13926246"/>
                  <a:gd name="adj2" fmla="val 18473754"/>
                  <a:gd name="adj3" fmla="val 6616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rot="10800000">
                <a:off x="6712560" y="4465080"/>
                <a:ext cx="227520" cy="196200"/>
              </a:xfrm>
              <a:prstGeom prst="blockArc">
                <a:avLst>
                  <a:gd name="adj1" fmla="val 10585157"/>
                  <a:gd name="adj2" fmla="val 214843"/>
                  <a:gd name="adj3" fmla="val 12199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rot="20700000">
                <a:off x="6676920" y="4384800"/>
                <a:ext cx="118440" cy="97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flipH="1" rot="900000">
                <a:off x="6848640" y="4383720"/>
                <a:ext cx="118440" cy="97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rot="10800000">
                <a:off x="6766920" y="4501440"/>
                <a:ext cx="118440" cy="118440"/>
              </a:xfrm>
              <a:prstGeom prst="blockArc">
                <a:avLst>
                  <a:gd name="adj1" fmla="val 11249267"/>
                  <a:gd name="adj2" fmla="val 21150733"/>
                  <a:gd name="adj3" fmla="val 8009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7" name=""/>
              <p:cNvGrpSpPr/>
              <p:nvPr/>
            </p:nvGrpSpPr>
            <p:grpSpPr>
              <a:xfrm>
                <a:off x="6963480" y="4372200"/>
                <a:ext cx="269280" cy="228600"/>
                <a:chOff x="6963480" y="4372200"/>
                <a:chExt cx="269280" cy="228600"/>
              </a:xfrm>
            </p:grpSpPr>
            <p:sp>
              <p:nvSpPr>
                <p:cNvPr id="1108" name=""/>
                <p:cNvSpPr/>
                <p:nvPr/>
              </p:nvSpPr>
              <p:spPr>
                <a:xfrm rot="3600000">
                  <a:off x="7021440" y="4430160"/>
                  <a:ext cx="17280" cy="143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 rot="20700000">
                  <a:off x="7067880" y="4384080"/>
                  <a:ext cx="108720" cy="1159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 flipH="1" rot="8100000">
                  <a:off x="7098480" y="4438800"/>
                  <a:ext cx="108360" cy="1159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 rot="3600000">
                  <a:off x="7156440" y="4442760"/>
                  <a:ext cx="26280" cy="172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 rot="3600000">
                  <a:off x="7038360" y="4469400"/>
                  <a:ext cx="16920" cy="164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6954840" y="4591440"/>
                <a:ext cx="268200" cy="225360"/>
                <a:chOff x="6954840" y="4591440"/>
                <a:chExt cx="268200" cy="225360"/>
              </a:xfrm>
            </p:grpSpPr>
            <p:sp>
              <p:nvSpPr>
                <p:cNvPr id="1114" name=""/>
                <p:cNvSpPr/>
                <p:nvPr/>
              </p:nvSpPr>
              <p:spPr>
                <a:xfrm flipV="1" rot="18000000">
                  <a:off x="7012440" y="4614120"/>
                  <a:ext cx="17280" cy="143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flipV="1" rot="900000">
                  <a:off x="7058880" y="4688280"/>
                  <a:ext cx="108720" cy="1159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 flipH="1" flipV="1" rot="13500000">
                  <a:off x="7088760" y="4632120"/>
                  <a:ext cx="108360" cy="1159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 flipV="1" rot="18000000">
                  <a:off x="7147440" y="4727520"/>
                  <a:ext cx="26280" cy="172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 flipV="1" rot="18000000">
                  <a:off x="7032960" y="4560480"/>
                  <a:ext cx="17640" cy="155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6409080" y="4372200"/>
                <a:ext cx="269280" cy="229320"/>
                <a:chOff x="6409080" y="4372200"/>
                <a:chExt cx="269280" cy="229320"/>
              </a:xfrm>
            </p:grpSpPr>
            <p:sp>
              <p:nvSpPr>
                <p:cNvPr id="1120" name=""/>
                <p:cNvSpPr/>
                <p:nvPr/>
              </p:nvSpPr>
              <p:spPr>
                <a:xfrm flipH="1" rot="18000000">
                  <a:off x="6602760" y="4429800"/>
                  <a:ext cx="17280" cy="143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 flipH="1" rot="900000">
                  <a:off x="6464520" y="4384080"/>
                  <a:ext cx="108720" cy="1159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rot="13500000">
                  <a:off x="6433920" y="4438800"/>
                  <a:ext cx="108360" cy="1159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 flipH="1" rot="18000000">
                  <a:off x="6458400" y="4442760"/>
                  <a:ext cx="26280" cy="172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flipH="1" rot="18000000">
                  <a:off x="6585840" y="4470120"/>
                  <a:ext cx="17280" cy="164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6400440" y="4591080"/>
                <a:ext cx="267840" cy="225720"/>
                <a:chOff x="6400440" y="4591080"/>
                <a:chExt cx="267840" cy="225720"/>
              </a:xfrm>
            </p:grpSpPr>
            <p:sp>
              <p:nvSpPr>
                <p:cNvPr id="1126" name=""/>
                <p:cNvSpPr/>
                <p:nvPr/>
              </p:nvSpPr>
              <p:spPr>
                <a:xfrm flipH="1" flipV="1" rot="3600000">
                  <a:off x="6593040" y="4614120"/>
                  <a:ext cx="17280" cy="143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 flipH="1" flipV="1" rot="20700000">
                  <a:off x="6455160" y="4688280"/>
                  <a:ext cx="108720" cy="1159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 flipV="1" rot="8100000">
                  <a:off x="6425280" y="4632120"/>
                  <a:ext cx="108360" cy="1159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 flipH="1" flipV="1" rot="3600000">
                  <a:off x="6449400" y="4727520"/>
                  <a:ext cx="26280" cy="172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flipH="1" flipV="1" rot="3600000">
                  <a:off x="6571800" y="4560480"/>
                  <a:ext cx="17640" cy="155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31" name=""/>
          <p:cNvGrpSpPr/>
          <p:nvPr/>
        </p:nvGrpSpPr>
        <p:grpSpPr>
          <a:xfrm>
            <a:off x="7864560" y="3500280"/>
            <a:ext cx="1709640" cy="1528920"/>
            <a:chOff x="7864560" y="3500280"/>
            <a:chExt cx="1709640" cy="1528920"/>
          </a:xfrm>
        </p:grpSpPr>
        <p:grpSp>
          <p:nvGrpSpPr>
            <p:cNvPr id="1132" name=""/>
            <p:cNvGrpSpPr/>
            <p:nvPr/>
          </p:nvGrpSpPr>
          <p:grpSpPr>
            <a:xfrm>
              <a:off x="7864560" y="3500280"/>
              <a:ext cx="1709640" cy="1528920"/>
              <a:chOff x="7864560" y="3500280"/>
              <a:chExt cx="1709640" cy="1528920"/>
            </a:xfrm>
          </p:grpSpPr>
          <p:sp>
            <p:nvSpPr>
              <p:cNvPr id="1133" name=""/>
              <p:cNvSpPr/>
              <p:nvPr/>
            </p:nvSpPr>
            <p:spPr>
              <a:xfrm>
                <a:off x="7883640" y="351936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864560" y="3500280"/>
                <a:ext cx="1709640" cy="1528920"/>
              </a:xfrm>
              <a:custGeom>
                <a:avLst/>
                <a:gdLst/>
                <a:ahLst/>
                <a:rect l="l" t="t" r="r" b="b"/>
                <a:pathLst>
                  <a:path w="1077" h="963">
                    <a:moveTo>
                      <a:pt x="113" y="878"/>
                    </a:moveTo>
                    <a:lnTo>
                      <a:pt x="539" y="878"/>
                    </a:lnTo>
                    <a:lnTo>
                      <a:pt x="539" y="963"/>
                    </a:lnTo>
                    <a:lnTo>
                      <a:pt x="28" y="963"/>
                    </a:lnTo>
                    <a:lnTo>
                      <a:pt x="0" y="935"/>
                    </a:lnTo>
                    <a:lnTo>
                      <a:pt x="0" y="907"/>
                    </a:lnTo>
                    <a:lnTo>
                      <a:pt x="482" y="28"/>
                    </a:lnTo>
                    <a:lnTo>
                      <a:pt x="510" y="0"/>
                    </a:lnTo>
                    <a:lnTo>
                      <a:pt x="567" y="0"/>
                    </a:lnTo>
                    <a:lnTo>
                      <a:pt x="595" y="28"/>
                    </a:lnTo>
                    <a:lnTo>
                      <a:pt x="1077" y="907"/>
                    </a:lnTo>
                    <a:lnTo>
                      <a:pt x="1077" y="935"/>
                    </a:lnTo>
                    <a:lnTo>
                      <a:pt x="1049" y="963"/>
                    </a:lnTo>
                    <a:lnTo>
                      <a:pt x="539" y="963"/>
                    </a:lnTo>
                    <a:lnTo>
                      <a:pt x="539" y="878"/>
                    </a:lnTo>
                    <a:lnTo>
                      <a:pt x="964" y="878"/>
                    </a:lnTo>
                    <a:lnTo>
                      <a:pt x="539" y="85"/>
                    </a:lnTo>
                    <a:lnTo>
                      <a:pt x="113" y="87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5" name=""/>
            <p:cNvGrpSpPr/>
            <p:nvPr/>
          </p:nvGrpSpPr>
          <p:grpSpPr>
            <a:xfrm>
              <a:off x="8296200" y="4148280"/>
              <a:ext cx="832320" cy="668520"/>
              <a:chOff x="8296200" y="4148280"/>
              <a:chExt cx="832320" cy="668520"/>
            </a:xfrm>
          </p:grpSpPr>
          <p:sp>
            <p:nvSpPr>
              <p:cNvPr id="1136" name=""/>
              <p:cNvSpPr/>
              <p:nvPr/>
            </p:nvSpPr>
            <p:spPr>
              <a:xfrm>
                <a:off x="8480880" y="4148280"/>
                <a:ext cx="482400" cy="444600"/>
              </a:xfrm>
              <a:prstGeom prst="donut">
                <a:avLst>
                  <a:gd name="adj" fmla="val 5453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rot="10800000">
                <a:off x="8553600" y="4429080"/>
                <a:ext cx="336600" cy="290160"/>
              </a:xfrm>
              <a:prstGeom prst="blockArc">
                <a:avLst>
                  <a:gd name="adj1" fmla="val 9691480"/>
                  <a:gd name="adj2" fmla="val 1108520"/>
                  <a:gd name="adj3" fmla="val 844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8688960" y="4473000"/>
                <a:ext cx="28800" cy="64800"/>
              </a:xfrm>
              <a:custGeom>
                <a:avLst/>
                <a:gdLst/>
                <a:ahLst/>
                <a:rect l="l" t="t" r="r" b="b"/>
                <a:pathLst>
                  <a:path w="104" h="264">
                    <a:moveTo>
                      <a:pt x="90" y="5"/>
                    </a:moveTo>
                    <a:cubicBezTo>
                      <a:pt x="104" y="10"/>
                      <a:pt x="104" y="198"/>
                      <a:pt x="90" y="231"/>
                    </a:cubicBezTo>
                    <a:cubicBezTo>
                      <a:pt x="76" y="264"/>
                      <a:pt x="10" y="241"/>
                      <a:pt x="5" y="203"/>
                    </a:cubicBezTo>
                    <a:cubicBezTo>
                      <a:pt x="0" y="165"/>
                      <a:pt x="76" y="0"/>
                      <a:pt x="90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H="1">
                <a:off x="8726760" y="4474440"/>
                <a:ext cx="28800" cy="64800"/>
              </a:xfrm>
              <a:custGeom>
                <a:avLst/>
                <a:gdLst/>
                <a:ahLst/>
                <a:rect l="l" t="t" r="r" b="b"/>
                <a:pathLst>
                  <a:path w="104" h="264">
                    <a:moveTo>
                      <a:pt x="90" y="5"/>
                    </a:moveTo>
                    <a:cubicBezTo>
                      <a:pt x="104" y="10"/>
                      <a:pt x="104" y="198"/>
                      <a:pt x="90" y="231"/>
                    </a:cubicBezTo>
                    <a:cubicBezTo>
                      <a:pt x="76" y="264"/>
                      <a:pt x="10" y="241"/>
                      <a:pt x="5" y="203"/>
                    </a:cubicBezTo>
                    <a:cubicBezTo>
                      <a:pt x="0" y="165"/>
                      <a:pt x="76" y="0"/>
                      <a:pt x="90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rot="16200000">
                <a:off x="8495280" y="4269600"/>
                <a:ext cx="335520" cy="291240"/>
              </a:xfrm>
              <a:prstGeom prst="blockArc">
                <a:avLst>
                  <a:gd name="adj1" fmla="val 13926246"/>
                  <a:gd name="adj2" fmla="val 18473754"/>
                  <a:gd name="adj3" fmla="val 6616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H="1" rot="5400000">
                <a:off x="8612640" y="4269600"/>
                <a:ext cx="335520" cy="291240"/>
              </a:xfrm>
              <a:prstGeom prst="blockArc">
                <a:avLst>
                  <a:gd name="adj1" fmla="val 13926246"/>
                  <a:gd name="adj2" fmla="val 18473754"/>
                  <a:gd name="adj3" fmla="val 6616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rot="10800000">
                <a:off x="8608320" y="4465080"/>
                <a:ext cx="227520" cy="196200"/>
              </a:xfrm>
              <a:prstGeom prst="blockArc">
                <a:avLst>
                  <a:gd name="adj1" fmla="val 10585157"/>
                  <a:gd name="adj2" fmla="val 214843"/>
                  <a:gd name="adj3" fmla="val 12199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rot="20700000">
                <a:off x="8572680" y="4384800"/>
                <a:ext cx="118440" cy="97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flipH="1" rot="900000">
                <a:off x="8744400" y="4383720"/>
                <a:ext cx="118440" cy="97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rot="10800000">
                <a:off x="8662680" y="4501440"/>
                <a:ext cx="118440" cy="118440"/>
              </a:xfrm>
              <a:prstGeom prst="blockArc">
                <a:avLst>
                  <a:gd name="adj1" fmla="val 11249267"/>
                  <a:gd name="adj2" fmla="val 21150733"/>
                  <a:gd name="adj3" fmla="val 8009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6" name=""/>
              <p:cNvGrpSpPr/>
              <p:nvPr/>
            </p:nvGrpSpPr>
            <p:grpSpPr>
              <a:xfrm>
                <a:off x="8859240" y="4372200"/>
                <a:ext cx="269280" cy="228600"/>
                <a:chOff x="8859240" y="4372200"/>
                <a:chExt cx="269280" cy="228600"/>
              </a:xfrm>
            </p:grpSpPr>
            <p:sp>
              <p:nvSpPr>
                <p:cNvPr id="1147" name=""/>
                <p:cNvSpPr/>
                <p:nvPr/>
              </p:nvSpPr>
              <p:spPr>
                <a:xfrm rot="3600000">
                  <a:off x="8917200" y="4430160"/>
                  <a:ext cx="17280" cy="143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rot="20700000">
                  <a:off x="8963640" y="4384080"/>
                  <a:ext cx="108720" cy="1159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 flipH="1" rot="8100000">
                  <a:off x="8994240" y="4438800"/>
                  <a:ext cx="108360" cy="1159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rot="3600000">
                  <a:off x="9052200" y="4442760"/>
                  <a:ext cx="26280" cy="172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 rot="3600000">
                  <a:off x="8934120" y="4469400"/>
                  <a:ext cx="16920" cy="164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8850600" y="4591440"/>
                <a:ext cx="268200" cy="225360"/>
                <a:chOff x="8850600" y="4591440"/>
                <a:chExt cx="268200" cy="225360"/>
              </a:xfrm>
            </p:grpSpPr>
            <p:sp>
              <p:nvSpPr>
                <p:cNvPr id="1153" name=""/>
                <p:cNvSpPr/>
                <p:nvPr/>
              </p:nvSpPr>
              <p:spPr>
                <a:xfrm flipV="1" rot="18000000">
                  <a:off x="8908200" y="4614120"/>
                  <a:ext cx="17280" cy="143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 flipV="1" rot="900000">
                  <a:off x="8954640" y="4688280"/>
                  <a:ext cx="108720" cy="1159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 flipH="1" flipV="1" rot="13500000">
                  <a:off x="8984520" y="4632120"/>
                  <a:ext cx="108360" cy="1159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 flipV="1" rot="18000000">
                  <a:off x="9043200" y="4727520"/>
                  <a:ext cx="26280" cy="172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 flipV="1" rot="18000000">
                  <a:off x="8928720" y="4560480"/>
                  <a:ext cx="17640" cy="155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8304840" y="4372200"/>
                <a:ext cx="269280" cy="229320"/>
                <a:chOff x="8304840" y="4372200"/>
                <a:chExt cx="269280" cy="229320"/>
              </a:xfrm>
            </p:grpSpPr>
            <p:sp>
              <p:nvSpPr>
                <p:cNvPr id="1159" name=""/>
                <p:cNvSpPr/>
                <p:nvPr/>
              </p:nvSpPr>
              <p:spPr>
                <a:xfrm flipH="1" rot="18000000">
                  <a:off x="8498520" y="4429800"/>
                  <a:ext cx="17280" cy="143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 flipH="1" rot="900000">
                  <a:off x="8360280" y="4384080"/>
                  <a:ext cx="108720" cy="1159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rot="13500000">
                  <a:off x="8329680" y="4438800"/>
                  <a:ext cx="108360" cy="1159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 flipH="1" rot="18000000">
                  <a:off x="8354160" y="4442760"/>
                  <a:ext cx="26280" cy="172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 flipH="1" rot="18000000">
                  <a:off x="8481600" y="4470120"/>
                  <a:ext cx="17280" cy="164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4" name=""/>
              <p:cNvGrpSpPr/>
              <p:nvPr/>
            </p:nvGrpSpPr>
            <p:grpSpPr>
              <a:xfrm>
                <a:off x="8296200" y="4591080"/>
                <a:ext cx="267840" cy="225720"/>
                <a:chOff x="8296200" y="4591080"/>
                <a:chExt cx="267840" cy="225720"/>
              </a:xfrm>
            </p:grpSpPr>
            <p:sp>
              <p:nvSpPr>
                <p:cNvPr id="1165" name=""/>
                <p:cNvSpPr/>
                <p:nvPr/>
              </p:nvSpPr>
              <p:spPr>
                <a:xfrm flipH="1" flipV="1" rot="3600000">
                  <a:off x="8488800" y="4614120"/>
                  <a:ext cx="17280" cy="143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flipH="1" flipV="1" rot="20700000">
                  <a:off x="8350920" y="4688280"/>
                  <a:ext cx="108720" cy="1159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 flipV="1" rot="8100000">
                  <a:off x="8321040" y="4632120"/>
                  <a:ext cx="108360" cy="1159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 flipH="1" flipV="1" rot="3600000">
                  <a:off x="8345160" y="4727520"/>
                  <a:ext cx="26280" cy="172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flipH="1" flipV="1" rot="3600000">
                  <a:off x="8467560" y="4560480"/>
                  <a:ext cx="17640" cy="155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70" name=""/>
          <p:cNvGrpSpPr/>
          <p:nvPr/>
        </p:nvGrpSpPr>
        <p:grpSpPr>
          <a:xfrm>
            <a:off x="331920" y="3500280"/>
            <a:ext cx="1709640" cy="1528920"/>
            <a:chOff x="331920" y="3500280"/>
            <a:chExt cx="1709640" cy="1528920"/>
          </a:xfrm>
        </p:grpSpPr>
        <p:grpSp>
          <p:nvGrpSpPr>
            <p:cNvPr id="1171" name=""/>
            <p:cNvGrpSpPr/>
            <p:nvPr/>
          </p:nvGrpSpPr>
          <p:grpSpPr>
            <a:xfrm>
              <a:off x="331920" y="3500280"/>
              <a:ext cx="1709640" cy="1528920"/>
              <a:chOff x="331920" y="3500280"/>
              <a:chExt cx="1709640" cy="1528920"/>
            </a:xfrm>
          </p:grpSpPr>
          <p:sp>
            <p:nvSpPr>
              <p:cNvPr id="1172" name=""/>
              <p:cNvSpPr/>
              <p:nvPr/>
            </p:nvSpPr>
            <p:spPr>
              <a:xfrm>
                <a:off x="351000" y="351936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31920" y="3500280"/>
                <a:ext cx="1709640" cy="1528920"/>
              </a:xfrm>
              <a:custGeom>
                <a:avLst/>
                <a:gdLst/>
                <a:ahLst/>
                <a:rect l="l" t="t" r="r" b="b"/>
                <a:pathLst>
                  <a:path w="1077" h="963">
                    <a:moveTo>
                      <a:pt x="113" y="878"/>
                    </a:moveTo>
                    <a:lnTo>
                      <a:pt x="539" y="878"/>
                    </a:lnTo>
                    <a:lnTo>
                      <a:pt x="539" y="963"/>
                    </a:lnTo>
                    <a:lnTo>
                      <a:pt x="28" y="963"/>
                    </a:lnTo>
                    <a:lnTo>
                      <a:pt x="0" y="935"/>
                    </a:lnTo>
                    <a:lnTo>
                      <a:pt x="0" y="907"/>
                    </a:lnTo>
                    <a:lnTo>
                      <a:pt x="482" y="28"/>
                    </a:lnTo>
                    <a:lnTo>
                      <a:pt x="510" y="0"/>
                    </a:lnTo>
                    <a:lnTo>
                      <a:pt x="567" y="0"/>
                    </a:lnTo>
                    <a:lnTo>
                      <a:pt x="595" y="28"/>
                    </a:lnTo>
                    <a:lnTo>
                      <a:pt x="1077" y="907"/>
                    </a:lnTo>
                    <a:lnTo>
                      <a:pt x="1077" y="935"/>
                    </a:lnTo>
                    <a:lnTo>
                      <a:pt x="1049" y="963"/>
                    </a:lnTo>
                    <a:lnTo>
                      <a:pt x="539" y="963"/>
                    </a:lnTo>
                    <a:lnTo>
                      <a:pt x="539" y="878"/>
                    </a:lnTo>
                    <a:lnTo>
                      <a:pt x="964" y="878"/>
                    </a:lnTo>
                    <a:lnTo>
                      <a:pt x="539" y="85"/>
                    </a:lnTo>
                    <a:lnTo>
                      <a:pt x="113" y="8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4" name=""/>
            <p:cNvGrpSpPr/>
            <p:nvPr/>
          </p:nvGrpSpPr>
          <p:grpSpPr>
            <a:xfrm>
              <a:off x="752400" y="4148280"/>
              <a:ext cx="832320" cy="668520"/>
              <a:chOff x="752400" y="4148280"/>
              <a:chExt cx="832320" cy="668520"/>
            </a:xfrm>
          </p:grpSpPr>
          <p:sp>
            <p:nvSpPr>
              <p:cNvPr id="1175" name=""/>
              <p:cNvSpPr/>
              <p:nvPr/>
            </p:nvSpPr>
            <p:spPr>
              <a:xfrm>
                <a:off x="937080" y="4148280"/>
                <a:ext cx="482400" cy="444600"/>
              </a:xfrm>
              <a:prstGeom prst="donut">
                <a:avLst>
                  <a:gd name="adj" fmla="val 5453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rot="10800000">
                <a:off x="1009800" y="4429080"/>
                <a:ext cx="336600" cy="290160"/>
              </a:xfrm>
              <a:prstGeom prst="blockArc">
                <a:avLst>
                  <a:gd name="adj1" fmla="val 9691480"/>
                  <a:gd name="adj2" fmla="val 1108520"/>
                  <a:gd name="adj3" fmla="val 844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145160" y="4473000"/>
                <a:ext cx="28800" cy="64800"/>
              </a:xfrm>
              <a:custGeom>
                <a:avLst/>
                <a:gdLst/>
                <a:ahLst/>
                <a:rect l="l" t="t" r="r" b="b"/>
                <a:pathLst>
                  <a:path w="104" h="264">
                    <a:moveTo>
                      <a:pt x="90" y="5"/>
                    </a:moveTo>
                    <a:cubicBezTo>
                      <a:pt x="104" y="10"/>
                      <a:pt x="104" y="198"/>
                      <a:pt x="90" y="231"/>
                    </a:cubicBezTo>
                    <a:cubicBezTo>
                      <a:pt x="76" y="264"/>
                      <a:pt x="10" y="241"/>
                      <a:pt x="5" y="203"/>
                    </a:cubicBezTo>
                    <a:cubicBezTo>
                      <a:pt x="0" y="165"/>
                      <a:pt x="76" y="0"/>
                      <a:pt x="90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H="1">
                <a:off x="1182960" y="4474440"/>
                <a:ext cx="28800" cy="64800"/>
              </a:xfrm>
              <a:custGeom>
                <a:avLst/>
                <a:gdLst/>
                <a:ahLst/>
                <a:rect l="l" t="t" r="r" b="b"/>
                <a:pathLst>
                  <a:path w="104" h="264">
                    <a:moveTo>
                      <a:pt x="90" y="5"/>
                    </a:moveTo>
                    <a:cubicBezTo>
                      <a:pt x="104" y="10"/>
                      <a:pt x="104" y="198"/>
                      <a:pt x="90" y="231"/>
                    </a:cubicBezTo>
                    <a:cubicBezTo>
                      <a:pt x="76" y="264"/>
                      <a:pt x="10" y="241"/>
                      <a:pt x="5" y="203"/>
                    </a:cubicBezTo>
                    <a:cubicBezTo>
                      <a:pt x="0" y="165"/>
                      <a:pt x="76" y="0"/>
                      <a:pt x="90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rot="16200000">
                <a:off x="951480" y="4269600"/>
                <a:ext cx="335520" cy="291240"/>
              </a:xfrm>
              <a:prstGeom prst="blockArc">
                <a:avLst>
                  <a:gd name="adj1" fmla="val 13926246"/>
                  <a:gd name="adj2" fmla="val 18473754"/>
                  <a:gd name="adj3" fmla="val 6616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flipH="1" rot="5400000">
                <a:off x="1068840" y="4269600"/>
                <a:ext cx="335520" cy="291240"/>
              </a:xfrm>
              <a:prstGeom prst="blockArc">
                <a:avLst>
                  <a:gd name="adj1" fmla="val 13926246"/>
                  <a:gd name="adj2" fmla="val 18473754"/>
                  <a:gd name="adj3" fmla="val 6616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rot="10800000">
                <a:off x="1064520" y="4465080"/>
                <a:ext cx="227520" cy="196200"/>
              </a:xfrm>
              <a:prstGeom prst="blockArc">
                <a:avLst>
                  <a:gd name="adj1" fmla="val 10585157"/>
                  <a:gd name="adj2" fmla="val 214843"/>
                  <a:gd name="adj3" fmla="val 12199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rot="20700000">
                <a:off x="1028880" y="4384800"/>
                <a:ext cx="118440" cy="97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H="1" rot="900000">
                <a:off x="1200600" y="4383720"/>
                <a:ext cx="118440" cy="97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rot="10800000">
                <a:off x="1118880" y="4501440"/>
                <a:ext cx="118440" cy="118440"/>
              </a:xfrm>
              <a:prstGeom prst="blockArc">
                <a:avLst>
                  <a:gd name="adj1" fmla="val 11249267"/>
                  <a:gd name="adj2" fmla="val 21150733"/>
                  <a:gd name="adj3" fmla="val 8009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5" name=""/>
              <p:cNvGrpSpPr/>
              <p:nvPr/>
            </p:nvGrpSpPr>
            <p:grpSpPr>
              <a:xfrm>
                <a:off x="1315440" y="4372200"/>
                <a:ext cx="269280" cy="228600"/>
                <a:chOff x="1315440" y="4372200"/>
                <a:chExt cx="269280" cy="228600"/>
              </a:xfrm>
            </p:grpSpPr>
            <p:sp>
              <p:nvSpPr>
                <p:cNvPr id="1186" name=""/>
                <p:cNvSpPr/>
                <p:nvPr/>
              </p:nvSpPr>
              <p:spPr>
                <a:xfrm rot="3600000">
                  <a:off x="1373400" y="4430160"/>
                  <a:ext cx="17280" cy="143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 rot="20700000">
                  <a:off x="1419840" y="4384080"/>
                  <a:ext cx="108720" cy="1159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 flipH="1" rot="8100000">
                  <a:off x="1450440" y="4438800"/>
                  <a:ext cx="108360" cy="1159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 rot="3600000">
                  <a:off x="1508400" y="4442760"/>
                  <a:ext cx="26280" cy="172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 rot="3600000">
                  <a:off x="1390320" y="4469400"/>
                  <a:ext cx="16920" cy="164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"/>
              <p:cNvGrpSpPr/>
              <p:nvPr/>
            </p:nvGrpSpPr>
            <p:grpSpPr>
              <a:xfrm>
                <a:off x="1306800" y="4591440"/>
                <a:ext cx="268200" cy="225360"/>
                <a:chOff x="1306800" y="4591440"/>
                <a:chExt cx="268200" cy="225360"/>
              </a:xfrm>
            </p:grpSpPr>
            <p:sp>
              <p:nvSpPr>
                <p:cNvPr id="1192" name=""/>
                <p:cNvSpPr/>
                <p:nvPr/>
              </p:nvSpPr>
              <p:spPr>
                <a:xfrm flipV="1" rot="18000000">
                  <a:off x="1364400" y="4614120"/>
                  <a:ext cx="17280" cy="143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 flipV="1" rot="900000">
                  <a:off x="1410840" y="4688280"/>
                  <a:ext cx="108720" cy="1159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 flipH="1" flipV="1" rot="13500000">
                  <a:off x="1440720" y="4632120"/>
                  <a:ext cx="108360" cy="1159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 flipV="1" rot="18000000">
                  <a:off x="1499400" y="4727520"/>
                  <a:ext cx="26280" cy="172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 flipV="1" rot="18000000">
                  <a:off x="1384920" y="4560480"/>
                  <a:ext cx="17640" cy="155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"/>
              <p:cNvGrpSpPr/>
              <p:nvPr/>
            </p:nvGrpSpPr>
            <p:grpSpPr>
              <a:xfrm>
                <a:off x="761040" y="4372200"/>
                <a:ext cx="269280" cy="229320"/>
                <a:chOff x="761040" y="4372200"/>
                <a:chExt cx="269280" cy="229320"/>
              </a:xfrm>
            </p:grpSpPr>
            <p:sp>
              <p:nvSpPr>
                <p:cNvPr id="1198" name=""/>
                <p:cNvSpPr/>
                <p:nvPr/>
              </p:nvSpPr>
              <p:spPr>
                <a:xfrm flipH="1" rot="18000000">
                  <a:off x="954720" y="4429800"/>
                  <a:ext cx="17280" cy="143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flipH="1" rot="900000">
                  <a:off x="816480" y="4384080"/>
                  <a:ext cx="108720" cy="1159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 rot="13500000">
                  <a:off x="785880" y="4438800"/>
                  <a:ext cx="108360" cy="1159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 flipH="1" rot="18000000">
                  <a:off x="810360" y="4442760"/>
                  <a:ext cx="26280" cy="172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 flipH="1" rot="18000000">
                  <a:off x="937800" y="4470120"/>
                  <a:ext cx="17280" cy="164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752400" y="4591080"/>
                <a:ext cx="267840" cy="225720"/>
                <a:chOff x="752400" y="4591080"/>
                <a:chExt cx="267840" cy="225720"/>
              </a:xfrm>
            </p:grpSpPr>
            <p:sp>
              <p:nvSpPr>
                <p:cNvPr id="1204" name=""/>
                <p:cNvSpPr/>
                <p:nvPr/>
              </p:nvSpPr>
              <p:spPr>
                <a:xfrm flipH="1" flipV="1" rot="3600000">
                  <a:off x="945000" y="4614120"/>
                  <a:ext cx="17280" cy="143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 flipH="1" flipV="1" rot="20700000">
                  <a:off x="807120" y="4688280"/>
                  <a:ext cx="108720" cy="1159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 flipV="1" rot="8100000">
                  <a:off x="777240" y="4632120"/>
                  <a:ext cx="108360" cy="1159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 flipH="1" flipV="1" rot="3600000">
                  <a:off x="801360" y="4727520"/>
                  <a:ext cx="26280" cy="172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 flipH="1" flipV="1" rot="3600000">
                  <a:off x="923760" y="4560480"/>
                  <a:ext cx="17640" cy="155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9" name=""/>
          <p:cNvGrpSpPr/>
          <p:nvPr/>
        </p:nvGrpSpPr>
        <p:grpSpPr>
          <a:xfrm>
            <a:off x="2208240" y="1871640"/>
            <a:ext cx="1738440" cy="1538280"/>
            <a:chOff x="2208240" y="1871640"/>
            <a:chExt cx="1738440" cy="1538280"/>
          </a:xfrm>
        </p:grpSpPr>
        <p:grpSp>
          <p:nvGrpSpPr>
            <p:cNvPr id="1210" name=""/>
            <p:cNvGrpSpPr/>
            <p:nvPr/>
          </p:nvGrpSpPr>
          <p:grpSpPr>
            <a:xfrm>
              <a:off x="2208240" y="1871640"/>
              <a:ext cx="1738440" cy="1538280"/>
              <a:chOff x="2208240" y="1871640"/>
              <a:chExt cx="1738440" cy="1538280"/>
            </a:xfrm>
          </p:grpSpPr>
          <p:sp>
            <p:nvSpPr>
              <p:cNvPr id="1211" name=""/>
              <p:cNvSpPr/>
              <p:nvPr/>
            </p:nvSpPr>
            <p:spPr>
              <a:xfrm>
                <a:off x="2241720" y="189540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208240" y="1871640"/>
                <a:ext cx="1738440" cy="1538280"/>
              </a:xfrm>
              <a:custGeom>
                <a:avLst/>
                <a:gdLst/>
                <a:ahLst/>
                <a:rect l="l" t="t" r="r" b="b"/>
                <a:pathLst>
                  <a:path w="1095" h="969">
                    <a:moveTo>
                      <a:pt x="519" y="91"/>
                    </a:moveTo>
                    <a:cubicBezTo>
                      <a:pt x="519" y="91"/>
                      <a:pt x="529" y="64"/>
                      <a:pt x="547" y="62"/>
                    </a:cubicBezTo>
                    <a:cubicBezTo>
                      <a:pt x="564" y="61"/>
                      <a:pt x="575" y="91"/>
                      <a:pt x="575" y="91"/>
                    </a:cubicBezTo>
                    <a:lnTo>
                      <a:pt x="1029" y="913"/>
                    </a:lnTo>
                    <a:lnTo>
                      <a:pt x="547" y="913"/>
                    </a:lnTo>
                    <a:lnTo>
                      <a:pt x="547" y="969"/>
                    </a:lnTo>
                    <a:lnTo>
                      <a:pt x="1057" y="969"/>
                    </a:lnTo>
                    <a:cubicBezTo>
                      <a:pt x="1057" y="969"/>
                      <a:pt x="1075" y="956"/>
                      <a:pt x="1086" y="941"/>
                    </a:cubicBezTo>
                    <a:cubicBezTo>
                      <a:pt x="1095" y="929"/>
                      <a:pt x="1086" y="913"/>
                      <a:pt x="1086" y="913"/>
                    </a:cubicBezTo>
                    <a:lnTo>
                      <a:pt x="604" y="34"/>
                    </a:lnTo>
                    <a:cubicBezTo>
                      <a:pt x="604" y="34"/>
                      <a:pt x="585" y="11"/>
                      <a:pt x="575" y="6"/>
                    </a:cubicBezTo>
                    <a:cubicBezTo>
                      <a:pt x="565" y="1"/>
                      <a:pt x="553" y="1"/>
                      <a:pt x="544" y="1"/>
                    </a:cubicBezTo>
                    <a:cubicBezTo>
                      <a:pt x="535" y="1"/>
                      <a:pt x="528" y="0"/>
                      <a:pt x="519" y="6"/>
                    </a:cubicBezTo>
                    <a:cubicBezTo>
                      <a:pt x="496" y="17"/>
                      <a:pt x="490" y="34"/>
                      <a:pt x="490" y="34"/>
                    </a:cubicBezTo>
                    <a:lnTo>
                      <a:pt x="8" y="913"/>
                    </a:lnTo>
                    <a:cubicBezTo>
                      <a:pt x="8" y="913"/>
                      <a:pt x="0" y="928"/>
                      <a:pt x="8" y="941"/>
                    </a:cubicBezTo>
                    <a:cubicBezTo>
                      <a:pt x="19" y="962"/>
                      <a:pt x="37" y="969"/>
                      <a:pt x="37" y="969"/>
                    </a:cubicBezTo>
                    <a:cubicBezTo>
                      <a:pt x="292" y="969"/>
                      <a:pt x="547" y="969"/>
                      <a:pt x="547" y="969"/>
                    </a:cubicBezTo>
                    <a:lnTo>
                      <a:pt x="547" y="913"/>
                    </a:lnTo>
                    <a:lnTo>
                      <a:pt x="65" y="913"/>
                    </a:lnTo>
                    <a:lnTo>
                      <a:pt x="519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2575440" y="2452680"/>
              <a:ext cx="976680" cy="785160"/>
              <a:chOff x="2575440" y="2452680"/>
              <a:chExt cx="976680" cy="785160"/>
            </a:xfrm>
          </p:grpSpPr>
          <p:sp>
            <p:nvSpPr>
              <p:cNvPr id="1214" name=""/>
              <p:cNvSpPr/>
              <p:nvPr/>
            </p:nvSpPr>
            <p:spPr>
              <a:xfrm>
                <a:off x="2792520" y="2452680"/>
                <a:ext cx="565560" cy="522000"/>
              </a:xfrm>
              <a:prstGeom prst="donut">
                <a:avLst>
                  <a:gd name="adj" fmla="val 5453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rot="10800000">
                <a:off x="2877840" y="2782080"/>
                <a:ext cx="394560" cy="340920"/>
              </a:xfrm>
              <a:prstGeom prst="blockArc">
                <a:avLst>
                  <a:gd name="adj1" fmla="val 9691480"/>
                  <a:gd name="adj2" fmla="val 1108520"/>
                  <a:gd name="adj3" fmla="val 844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036600" y="2833920"/>
                <a:ext cx="33840" cy="76320"/>
              </a:xfrm>
              <a:custGeom>
                <a:avLst/>
                <a:gdLst/>
                <a:ahLst/>
                <a:rect l="l" t="t" r="r" b="b"/>
                <a:pathLst>
                  <a:path w="104" h="264">
                    <a:moveTo>
                      <a:pt x="90" y="5"/>
                    </a:moveTo>
                    <a:cubicBezTo>
                      <a:pt x="104" y="10"/>
                      <a:pt x="104" y="198"/>
                      <a:pt x="90" y="231"/>
                    </a:cubicBezTo>
                    <a:cubicBezTo>
                      <a:pt x="76" y="264"/>
                      <a:pt x="10" y="241"/>
                      <a:pt x="5" y="203"/>
                    </a:cubicBezTo>
                    <a:cubicBezTo>
                      <a:pt x="0" y="165"/>
                      <a:pt x="76" y="0"/>
                      <a:pt x="90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flipH="1">
                <a:off x="3080880" y="2835720"/>
                <a:ext cx="33840" cy="76320"/>
              </a:xfrm>
              <a:custGeom>
                <a:avLst/>
                <a:gdLst/>
                <a:ahLst/>
                <a:rect l="l" t="t" r="r" b="b"/>
                <a:pathLst>
                  <a:path w="104" h="264">
                    <a:moveTo>
                      <a:pt x="90" y="5"/>
                    </a:moveTo>
                    <a:cubicBezTo>
                      <a:pt x="104" y="10"/>
                      <a:pt x="104" y="198"/>
                      <a:pt x="90" y="231"/>
                    </a:cubicBezTo>
                    <a:cubicBezTo>
                      <a:pt x="76" y="264"/>
                      <a:pt x="10" y="241"/>
                      <a:pt x="5" y="203"/>
                    </a:cubicBezTo>
                    <a:cubicBezTo>
                      <a:pt x="0" y="165"/>
                      <a:pt x="76" y="0"/>
                      <a:pt x="90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rot="16200000">
                <a:off x="2808720" y="2595240"/>
                <a:ext cx="394200" cy="341280"/>
              </a:xfrm>
              <a:prstGeom prst="blockArc">
                <a:avLst>
                  <a:gd name="adj1" fmla="val 13926246"/>
                  <a:gd name="adj2" fmla="val 18473754"/>
                  <a:gd name="adj3" fmla="val 6616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flipH="1" rot="5400000">
                <a:off x="2947320" y="2595240"/>
                <a:ext cx="394200" cy="341280"/>
              </a:xfrm>
              <a:prstGeom prst="blockArc">
                <a:avLst>
                  <a:gd name="adj1" fmla="val 13926246"/>
                  <a:gd name="adj2" fmla="val 18473754"/>
                  <a:gd name="adj3" fmla="val 6616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rot="10800000">
                <a:off x="2941560" y="2824920"/>
                <a:ext cx="266760" cy="230400"/>
              </a:xfrm>
              <a:prstGeom prst="blockArc">
                <a:avLst>
                  <a:gd name="adj1" fmla="val 10585157"/>
                  <a:gd name="adj2" fmla="val 214843"/>
                  <a:gd name="adj3" fmla="val 12199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rot="20700000">
                <a:off x="2900160" y="2730240"/>
                <a:ext cx="138600" cy="114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flipH="1" rot="900000">
                <a:off x="3101040" y="2729160"/>
                <a:ext cx="138960" cy="114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rot="10800000">
                <a:off x="3005640" y="2867760"/>
                <a:ext cx="138600" cy="138960"/>
              </a:xfrm>
              <a:prstGeom prst="blockArc">
                <a:avLst>
                  <a:gd name="adj1" fmla="val 11249267"/>
                  <a:gd name="adj2" fmla="val 21150733"/>
                  <a:gd name="adj3" fmla="val 8009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4" name=""/>
              <p:cNvGrpSpPr/>
              <p:nvPr/>
            </p:nvGrpSpPr>
            <p:grpSpPr>
              <a:xfrm>
                <a:off x="3236400" y="2715120"/>
                <a:ext cx="315720" cy="268560"/>
                <a:chOff x="3236400" y="2715120"/>
                <a:chExt cx="315720" cy="268560"/>
              </a:xfrm>
            </p:grpSpPr>
            <p:sp>
              <p:nvSpPr>
                <p:cNvPr id="1225" name=""/>
                <p:cNvSpPr/>
                <p:nvPr/>
              </p:nvSpPr>
              <p:spPr>
                <a:xfrm rot="3600000">
                  <a:off x="3304080" y="2783160"/>
                  <a:ext cx="20160" cy="168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 rot="20700000">
                  <a:off x="3358440" y="2729160"/>
                  <a:ext cx="127440" cy="1357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 flipH="1" rot="8100000">
                  <a:off x="3394800" y="2794680"/>
                  <a:ext cx="127440" cy="1360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 rot="3600000">
                  <a:off x="3462480" y="2798640"/>
                  <a:ext cx="30600" cy="20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 rot="3600000">
                  <a:off x="3323520" y="2829960"/>
                  <a:ext cx="19800" cy="193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"/>
              <p:cNvGrpSpPr/>
              <p:nvPr/>
            </p:nvGrpSpPr>
            <p:grpSpPr>
              <a:xfrm>
                <a:off x="3225960" y="2975400"/>
                <a:ext cx="315000" cy="262440"/>
                <a:chOff x="3225960" y="2975400"/>
                <a:chExt cx="315000" cy="262440"/>
              </a:xfrm>
            </p:grpSpPr>
            <p:sp>
              <p:nvSpPr>
                <p:cNvPr id="1231" name=""/>
                <p:cNvSpPr/>
                <p:nvPr/>
              </p:nvSpPr>
              <p:spPr>
                <a:xfrm flipV="1" rot="18000000">
                  <a:off x="3293640" y="3000600"/>
                  <a:ext cx="20160" cy="168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 flipV="1" rot="900000">
                  <a:off x="3348000" y="3087000"/>
                  <a:ext cx="127440" cy="1360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flipH="1" flipV="1" rot="13500000">
                  <a:off x="3383640" y="3022560"/>
                  <a:ext cx="127440" cy="1360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 flipV="1" rot="18000000">
                  <a:off x="3451680" y="3134520"/>
                  <a:ext cx="30960" cy="201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 flipV="1" rot="18000000">
                  <a:off x="3317040" y="2938680"/>
                  <a:ext cx="20880" cy="182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6" name=""/>
              <p:cNvGrpSpPr/>
              <p:nvPr/>
            </p:nvGrpSpPr>
            <p:grpSpPr>
              <a:xfrm>
                <a:off x="2585880" y="2715120"/>
                <a:ext cx="315360" cy="269640"/>
                <a:chOff x="2585880" y="2715120"/>
                <a:chExt cx="315360" cy="269640"/>
              </a:xfrm>
            </p:grpSpPr>
            <p:sp>
              <p:nvSpPr>
                <p:cNvPr id="1237" name=""/>
                <p:cNvSpPr/>
                <p:nvPr/>
              </p:nvSpPr>
              <p:spPr>
                <a:xfrm flipH="1" rot="18000000">
                  <a:off x="2812680" y="2783520"/>
                  <a:ext cx="20160" cy="168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 flipH="1" rot="900000">
                  <a:off x="2651760" y="2729160"/>
                  <a:ext cx="127440" cy="1360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 rot="13500000">
                  <a:off x="2615040" y="2794680"/>
                  <a:ext cx="127440" cy="1360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 flipH="1" rot="18000000">
                  <a:off x="2644200" y="2798640"/>
                  <a:ext cx="30960" cy="20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 flipH="1" rot="18000000">
                  <a:off x="2793600" y="2830320"/>
                  <a:ext cx="20160" cy="1936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2" name=""/>
              <p:cNvGrpSpPr/>
              <p:nvPr/>
            </p:nvGrpSpPr>
            <p:grpSpPr>
              <a:xfrm>
                <a:off x="2575440" y="2975040"/>
                <a:ext cx="315000" cy="262800"/>
                <a:chOff x="2575440" y="2975040"/>
                <a:chExt cx="315000" cy="262800"/>
              </a:xfrm>
            </p:grpSpPr>
            <p:sp>
              <p:nvSpPr>
                <p:cNvPr id="1243" name=""/>
                <p:cNvSpPr/>
                <p:nvPr/>
              </p:nvSpPr>
              <p:spPr>
                <a:xfrm flipH="1" flipV="1" rot="3600000">
                  <a:off x="2801880" y="2999880"/>
                  <a:ext cx="20160" cy="168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 flipH="1" flipV="1" rot="20700000">
                  <a:off x="2640960" y="3087000"/>
                  <a:ext cx="127440" cy="1360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 flipV="1" rot="8100000">
                  <a:off x="2604600" y="3021840"/>
                  <a:ext cx="127440" cy="1360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 flipH="1" flipV="1" rot="3600000">
                  <a:off x="2633040" y="3134520"/>
                  <a:ext cx="30960" cy="201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 flipH="1" flipV="1" rot="3600000">
                  <a:off x="2778480" y="2937960"/>
                  <a:ext cx="20880" cy="182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48" name=""/>
          <p:cNvGrpSpPr/>
          <p:nvPr/>
        </p:nvGrpSpPr>
        <p:grpSpPr>
          <a:xfrm>
            <a:off x="4098960" y="1865160"/>
            <a:ext cx="1738440" cy="1538280"/>
            <a:chOff x="4098960" y="1865160"/>
            <a:chExt cx="1738440" cy="1538280"/>
          </a:xfrm>
        </p:grpSpPr>
        <p:grpSp>
          <p:nvGrpSpPr>
            <p:cNvPr id="1249" name=""/>
            <p:cNvGrpSpPr/>
            <p:nvPr/>
          </p:nvGrpSpPr>
          <p:grpSpPr>
            <a:xfrm>
              <a:off x="4098960" y="1865160"/>
              <a:ext cx="1738440" cy="1538280"/>
              <a:chOff x="4098960" y="1865160"/>
              <a:chExt cx="1738440" cy="1538280"/>
            </a:xfrm>
          </p:grpSpPr>
          <p:sp>
            <p:nvSpPr>
              <p:cNvPr id="1250" name=""/>
              <p:cNvSpPr/>
              <p:nvPr/>
            </p:nvSpPr>
            <p:spPr>
              <a:xfrm>
                <a:off x="4132440" y="1889280"/>
                <a:ext cx="1670040" cy="149040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98960" y="1865160"/>
                <a:ext cx="1738440" cy="1538280"/>
              </a:xfrm>
              <a:custGeom>
                <a:avLst/>
                <a:gdLst/>
                <a:ahLst/>
                <a:rect l="l" t="t" r="r" b="b"/>
                <a:pathLst>
                  <a:path w="1095" h="969">
                    <a:moveTo>
                      <a:pt x="519" y="91"/>
                    </a:moveTo>
                    <a:cubicBezTo>
                      <a:pt x="519" y="91"/>
                      <a:pt x="529" y="64"/>
                      <a:pt x="547" y="62"/>
                    </a:cubicBezTo>
                    <a:cubicBezTo>
                      <a:pt x="564" y="61"/>
                      <a:pt x="575" y="91"/>
                      <a:pt x="575" y="91"/>
                    </a:cubicBezTo>
                    <a:lnTo>
                      <a:pt x="1029" y="913"/>
                    </a:lnTo>
                    <a:lnTo>
                      <a:pt x="547" y="913"/>
                    </a:lnTo>
                    <a:lnTo>
                      <a:pt x="547" y="969"/>
                    </a:lnTo>
                    <a:lnTo>
                      <a:pt x="1057" y="969"/>
                    </a:lnTo>
                    <a:cubicBezTo>
                      <a:pt x="1057" y="969"/>
                      <a:pt x="1075" y="956"/>
                      <a:pt x="1086" y="941"/>
                    </a:cubicBezTo>
                    <a:cubicBezTo>
                      <a:pt x="1095" y="929"/>
                      <a:pt x="1086" y="913"/>
                      <a:pt x="1086" y="913"/>
                    </a:cubicBezTo>
                    <a:lnTo>
                      <a:pt x="604" y="34"/>
                    </a:lnTo>
                    <a:cubicBezTo>
                      <a:pt x="604" y="34"/>
                      <a:pt x="585" y="11"/>
                      <a:pt x="575" y="6"/>
                    </a:cubicBezTo>
                    <a:cubicBezTo>
                      <a:pt x="565" y="1"/>
                      <a:pt x="553" y="1"/>
                      <a:pt x="544" y="1"/>
                    </a:cubicBezTo>
                    <a:cubicBezTo>
                      <a:pt x="535" y="1"/>
                      <a:pt x="528" y="0"/>
                      <a:pt x="519" y="6"/>
                    </a:cubicBezTo>
                    <a:cubicBezTo>
                      <a:pt x="496" y="17"/>
                      <a:pt x="490" y="34"/>
                      <a:pt x="490" y="34"/>
                    </a:cubicBezTo>
                    <a:lnTo>
                      <a:pt x="8" y="913"/>
                    </a:lnTo>
                    <a:cubicBezTo>
                      <a:pt x="8" y="913"/>
                      <a:pt x="0" y="928"/>
                      <a:pt x="8" y="941"/>
                    </a:cubicBezTo>
                    <a:cubicBezTo>
                      <a:pt x="19" y="962"/>
                      <a:pt x="37" y="969"/>
                      <a:pt x="37" y="969"/>
                    </a:cubicBezTo>
                    <a:cubicBezTo>
                      <a:pt x="292" y="969"/>
                      <a:pt x="547" y="969"/>
                      <a:pt x="547" y="969"/>
                    </a:cubicBezTo>
                    <a:lnTo>
                      <a:pt x="547" y="913"/>
                    </a:lnTo>
                    <a:lnTo>
                      <a:pt x="65" y="913"/>
                    </a:lnTo>
                    <a:lnTo>
                      <a:pt x="519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2" name=""/>
            <p:cNvGrpSpPr/>
            <p:nvPr/>
          </p:nvGrpSpPr>
          <p:grpSpPr>
            <a:xfrm>
              <a:off x="4470840" y="2452680"/>
              <a:ext cx="977040" cy="785160"/>
              <a:chOff x="4470840" y="2452680"/>
              <a:chExt cx="977040" cy="785160"/>
            </a:xfrm>
          </p:grpSpPr>
          <p:sp>
            <p:nvSpPr>
              <p:cNvPr id="1253" name=""/>
              <p:cNvSpPr/>
              <p:nvPr/>
            </p:nvSpPr>
            <p:spPr>
              <a:xfrm>
                <a:off x="4687920" y="2452680"/>
                <a:ext cx="565920" cy="522000"/>
              </a:xfrm>
              <a:prstGeom prst="donut">
                <a:avLst>
                  <a:gd name="adj" fmla="val 5453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rot="10800000">
                <a:off x="4773240" y="2782080"/>
                <a:ext cx="394920" cy="340920"/>
              </a:xfrm>
              <a:prstGeom prst="blockArc">
                <a:avLst>
                  <a:gd name="adj1" fmla="val 9691480"/>
                  <a:gd name="adj2" fmla="val 1108520"/>
                  <a:gd name="adj3" fmla="val 844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4932000" y="2833920"/>
                <a:ext cx="33840" cy="76320"/>
              </a:xfrm>
              <a:custGeom>
                <a:avLst/>
                <a:gdLst/>
                <a:ahLst/>
                <a:rect l="l" t="t" r="r" b="b"/>
                <a:pathLst>
                  <a:path w="104" h="264">
                    <a:moveTo>
                      <a:pt x="90" y="5"/>
                    </a:moveTo>
                    <a:cubicBezTo>
                      <a:pt x="104" y="10"/>
                      <a:pt x="104" y="198"/>
                      <a:pt x="90" y="231"/>
                    </a:cubicBezTo>
                    <a:cubicBezTo>
                      <a:pt x="76" y="264"/>
                      <a:pt x="10" y="241"/>
                      <a:pt x="5" y="203"/>
                    </a:cubicBezTo>
                    <a:cubicBezTo>
                      <a:pt x="0" y="165"/>
                      <a:pt x="76" y="0"/>
                      <a:pt x="90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H="1">
                <a:off x="4976280" y="2835720"/>
                <a:ext cx="33840" cy="76320"/>
              </a:xfrm>
              <a:custGeom>
                <a:avLst/>
                <a:gdLst/>
                <a:ahLst/>
                <a:rect l="l" t="t" r="r" b="b"/>
                <a:pathLst>
                  <a:path w="104" h="264">
                    <a:moveTo>
                      <a:pt x="90" y="5"/>
                    </a:moveTo>
                    <a:cubicBezTo>
                      <a:pt x="104" y="10"/>
                      <a:pt x="104" y="198"/>
                      <a:pt x="90" y="231"/>
                    </a:cubicBezTo>
                    <a:cubicBezTo>
                      <a:pt x="76" y="264"/>
                      <a:pt x="10" y="241"/>
                      <a:pt x="5" y="203"/>
                    </a:cubicBezTo>
                    <a:cubicBezTo>
                      <a:pt x="0" y="165"/>
                      <a:pt x="76" y="0"/>
                      <a:pt x="90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rot="16200000">
                <a:off x="4704120" y="2595240"/>
                <a:ext cx="394200" cy="341280"/>
              </a:xfrm>
              <a:prstGeom prst="blockArc">
                <a:avLst>
                  <a:gd name="adj1" fmla="val 13926246"/>
                  <a:gd name="adj2" fmla="val 18473754"/>
                  <a:gd name="adj3" fmla="val 6616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H="1" rot="5400000">
                <a:off x="4842720" y="2595240"/>
                <a:ext cx="394200" cy="341280"/>
              </a:xfrm>
              <a:prstGeom prst="blockArc">
                <a:avLst>
                  <a:gd name="adj1" fmla="val 13926246"/>
                  <a:gd name="adj2" fmla="val 18473754"/>
                  <a:gd name="adj3" fmla="val 6616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rot="10800000">
                <a:off x="4836960" y="2824920"/>
                <a:ext cx="266760" cy="230400"/>
              </a:xfrm>
              <a:prstGeom prst="blockArc">
                <a:avLst>
                  <a:gd name="adj1" fmla="val 10585157"/>
                  <a:gd name="adj2" fmla="val 214843"/>
                  <a:gd name="adj3" fmla="val 12199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rot="20700000">
                <a:off x="4795560" y="2730240"/>
                <a:ext cx="138960" cy="114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H="1" rot="900000">
                <a:off x="4996440" y="2729160"/>
                <a:ext cx="138960" cy="114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rot="10800000">
                <a:off x="4901400" y="2867760"/>
                <a:ext cx="138960" cy="138960"/>
              </a:xfrm>
              <a:prstGeom prst="blockArc">
                <a:avLst>
                  <a:gd name="adj1" fmla="val 11249267"/>
                  <a:gd name="adj2" fmla="val 21150733"/>
                  <a:gd name="adj3" fmla="val 8009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3" name=""/>
              <p:cNvGrpSpPr/>
              <p:nvPr/>
            </p:nvGrpSpPr>
            <p:grpSpPr>
              <a:xfrm>
                <a:off x="5132160" y="2715120"/>
                <a:ext cx="315720" cy="268560"/>
                <a:chOff x="5132160" y="2715120"/>
                <a:chExt cx="315720" cy="268560"/>
              </a:xfrm>
            </p:grpSpPr>
            <p:sp>
              <p:nvSpPr>
                <p:cNvPr id="1264" name=""/>
                <p:cNvSpPr/>
                <p:nvPr/>
              </p:nvSpPr>
              <p:spPr>
                <a:xfrm rot="3600000">
                  <a:off x="5199840" y="2783160"/>
                  <a:ext cx="20160" cy="168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 rot="20700000">
                  <a:off x="5254200" y="2729160"/>
                  <a:ext cx="127440" cy="1357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 flipH="1" rot="8100000">
                  <a:off x="5290560" y="2794680"/>
                  <a:ext cx="127440" cy="1360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 rot="3600000">
                  <a:off x="5358240" y="2798640"/>
                  <a:ext cx="30600" cy="20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 rot="3600000">
                  <a:off x="5219280" y="2829960"/>
                  <a:ext cx="19800" cy="193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9" name=""/>
              <p:cNvGrpSpPr/>
              <p:nvPr/>
            </p:nvGrpSpPr>
            <p:grpSpPr>
              <a:xfrm>
                <a:off x="5121720" y="2975400"/>
                <a:ext cx="315000" cy="262440"/>
                <a:chOff x="5121720" y="2975400"/>
                <a:chExt cx="315000" cy="262440"/>
              </a:xfrm>
            </p:grpSpPr>
            <p:sp>
              <p:nvSpPr>
                <p:cNvPr id="1270" name=""/>
                <p:cNvSpPr/>
                <p:nvPr/>
              </p:nvSpPr>
              <p:spPr>
                <a:xfrm flipV="1" rot="18000000">
                  <a:off x="5189400" y="3000600"/>
                  <a:ext cx="20160" cy="168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 flipV="1" rot="900000">
                  <a:off x="5243760" y="3087000"/>
                  <a:ext cx="127440" cy="1360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 flipH="1" flipV="1" rot="13500000">
                  <a:off x="5279400" y="3022560"/>
                  <a:ext cx="127440" cy="1360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 flipV="1" rot="18000000">
                  <a:off x="5347440" y="3134520"/>
                  <a:ext cx="30960" cy="201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 flipV="1" rot="18000000">
                  <a:off x="5212800" y="2938680"/>
                  <a:ext cx="20880" cy="182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5" name=""/>
              <p:cNvGrpSpPr/>
              <p:nvPr/>
            </p:nvGrpSpPr>
            <p:grpSpPr>
              <a:xfrm>
                <a:off x="4481280" y="2715120"/>
                <a:ext cx="315360" cy="269640"/>
                <a:chOff x="4481280" y="2715120"/>
                <a:chExt cx="315360" cy="269640"/>
              </a:xfrm>
            </p:grpSpPr>
            <p:sp>
              <p:nvSpPr>
                <p:cNvPr id="1276" name=""/>
                <p:cNvSpPr/>
                <p:nvPr/>
              </p:nvSpPr>
              <p:spPr>
                <a:xfrm flipH="1" rot="18000000">
                  <a:off x="4708080" y="2783520"/>
                  <a:ext cx="20160" cy="168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 flipH="1" rot="900000">
                  <a:off x="4547160" y="2729160"/>
                  <a:ext cx="127440" cy="1360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 rot="13500000">
                  <a:off x="4510440" y="2794680"/>
                  <a:ext cx="127440" cy="1360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 flipH="1" rot="18000000">
                  <a:off x="4539600" y="2798640"/>
                  <a:ext cx="30960" cy="20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 flipH="1" rot="18000000">
                  <a:off x="4689000" y="2830320"/>
                  <a:ext cx="20160" cy="1936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1" name=""/>
              <p:cNvGrpSpPr/>
              <p:nvPr/>
            </p:nvGrpSpPr>
            <p:grpSpPr>
              <a:xfrm>
                <a:off x="4470840" y="2975040"/>
                <a:ext cx="315000" cy="262800"/>
                <a:chOff x="4470840" y="2975040"/>
                <a:chExt cx="315000" cy="262800"/>
              </a:xfrm>
            </p:grpSpPr>
            <p:sp>
              <p:nvSpPr>
                <p:cNvPr id="1282" name=""/>
                <p:cNvSpPr/>
                <p:nvPr/>
              </p:nvSpPr>
              <p:spPr>
                <a:xfrm flipH="1" flipV="1" rot="3600000">
                  <a:off x="4697280" y="2999880"/>
                  <a:ext cx="20160" cy="168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 flipH="1" flipV="1" rot="20700000">
                  <a:off x="4536360" y="3087000"/>
                  <a:ext cx="127440" cy="1360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 flipV="1" rot="8100000">
                  <a:off x="4500000" y="3021840"/>
                  <a:ext cx="127440" cy="1360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 flipH="1" flipV="1" rot="3600000">
                  <a:off x="4528440" y="3134520"/>
                  <a:ext cx="30960" cy="201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 flipH="1" flipV="1" rot="3600000">
                  <a:off x="4673880" y="2937960"/>
                  <a:ext cx="20880" cy="182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87" name=""/>
          <p:cNvGrpSpPr/>
          <p:nvPr/>
        </p:nvGrpSpPr>
        <p:grpSpPr>
          <a:xfrm>
            <a:off x="5964120" y="1847880"/>
            <a:ext cx="1738440" cy="1538280"/>
            <a:chOff x="5964120" y="1847880"/>
            <a:chExt cx="1738440" cy="1538280"/>
          </a:xfrm>
        </p:grpSpPr>
        <p:grpSp>
          <p:nvGrpSpPr>
            <p:cNvPr id="1288" name=""/>
            <p:cNvGrpSpPr/>
            <p:nvPr/>
          </p:nvGrpSpPr>
          <p:grpSpPr>
            <a:xfrm>
              <a:off x="5964120" y="1847880"/>
              <a:ext cx="1738440" cy="1538280"/>
              <a:chOff x="5964120" y="1847880"/>
              <a:chExt cx="1738440" cy="1538280"/>
            </a:xfrm>
          </p:grpSpPr>
          <p:sp>
            <p:nvSpPr>
              <p:cNvPr id="1289" name=""/>
              <p:cNvSpPr/>
              <p:nvPr/>
            </p:nvSpPr>
            <p:spPr>
              <a:xfrm>
                <a:off x="5997600" y="187164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964120" y="1847880"/>
                <a:ext cx="1738440" cy="1538280"/>
              </a:xfrm>
              <a:custGeom>
                <a:avLst/>
                <a:gdLst/>
                <a:ahLst/>
                <a:rect l="l" t="t" r="r" b="b"/>
                <a:pathLst>
                  <a:path w="1095" h="969">
                    <a:moveTo>
                      <a:pt x="519" y="91"/>
                    </a:moveTo>
                    <a:cubicBezTo>
                      <a:pt x="519" y="91"/>
                      <a:pt x="529" y="64"/>
                      <a:pt x="547" y="62"/>
                    </a:cubicBezTo>
                    <a:cubicBezTo>
                      <a:pt x="564" y="61"/>
                      <a:pt x="575" y="91"/>
                      <a:pt x="575" y="91"/>
                    </a:cubicBezTo>
                    <a:lnTo>
                      <a:pt x="1029" y="913"/>
                    </a:lnTo>
                    <a:lnTo>
                      <a:pt x="547" y="913"/>
                    </a:lnTo>
                    <a:lnTo>
                      <a:pt x="547" y="969"/>
                    </a:lnTo>
                    <a:lnTo>
                      <a:pt x="1057" y="969"/>
                    </a:lnTo>
                    <a:cubicBezTo>
                      <a:pt x="1057" y="969"/>
                      <a:pt x="1075" y="956"/>
                      <a:pt x="1086" y="941"/>
                    </a:cubicBezTo>
                    <a:cubicBezTo>
                      <a:pt x="1095" y="929"/>
                      <a:pt x="1086" y="913"/>
                      <a:pt x="1086" y="913"/>
                    </a:cubicBezTo>
                    <a:lnTo>
                      <a:pt x="604" y="34"/>
                    </a:lnTo>
                    <a:cubicBezTo>
                      <a:pt x="604" y="34"/>
                      <a:pt x="585" y="11"/>
                      <a:pt x="575" y="6"/>
                    </a:cubicBezTo>
                    <a:cubicBezTo>
                      <a:pt x="565" y="1"/>
                      <a:pt x="553" y="1"/>
                      <a:pt x="544" y="1"/>
                    </a:cubicBezTo>
                    <a:cubicBezTo>
                      <a:pt x="535" y="1"/>
                      <a:pt x="528" y="0"/>
                      <a:pt x="519" y="6"/>
                    </a:cubicBezTo>
                    <a:cubicBezTo>
                      <a:pt x="496" y="17"/>
                      <a:pt x="490" y="34"/>
                      <a:pt x="490" y="34"/>
                    </a:cubicBezTo>
                    <a:lnTo>
                      <a:pt x="8" y="913"/>
                    </a:lnTo>
                    <a:cubicBezTo>
                      <a:pt x="8" y="913"/>
                      <a:pt x="0" y="928"/>
                      <a:pt x="8" y="941"/>
                    </a:cubicBezTo>
                    <a:cubicBezTo>
                      <a:pt x="19" y="962"/>
                      <a:pt x="37" y="969"/>
                      <a:pt x="37" y="969"/>
                    </a:cubicBezTo>
                    <a:cubicBezTo>
                      <a:pt x="292" y="969"/>
                      <a:pt x="547" y="969"/>
                      <a:pt x="547" y="969"/>
                    </a:cubicBezTo>
                    <a:lnTo>
                      <a:pt x="547" y="913"/>
                    </a:lnTo>
                    <a:lnTo>
                      <a:pt x="65" y="913"/>
                    </a:lnTo>
                    <a:lnTo>
                      <a:pt x="519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"/>
            <p:cNvGrpSpPr/>
            <p:nvPr/>
          </p:nvGrpSpPr>
          <p:grpSpPr>
            <a:xfrm>
              <a:off x="6328440" y="2452680"/>
              <a:ext cx="976680" cy="785160"/>
              <a:chOff x="6328440" y="2452680"/>
              <a:chExt cx="976680" cy="785160"/>
            </a:xfrm>
          </p:grpSpPr>
          <p:sp>
            <p:nvSpPr>
              <p:cNvPr id="1292" name=""/>
              <p:cNvSpPr/>
              <p:nvPr/>
            </p:nvSpPr>
            <p:spPr>
              <a:xfrm>
                <a:off x="6545520" y="2452680"/>
                <a:ext cx="565560" cy="522000"/>
              </a:xfrm>
              <a:prstGeom prst="donut">
                <a:avLst>
                  <a:gd name="adj" fmla="val 5453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rot="10800000">
                <a:off x="6630840" y="2782080"/>
                <a:ext cx="394560" cy="340920"/>
              </a:xfrm>
              <a:prstGeom prst="blockArc">
                <a:avLst>
                  <a:gd name="adj1" fmla="val 9691480"/>
                  <a:gd name="adj2" fmla="val 1108520"/>
                  <a:gd name="adj3" fmla="val 844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789600" y="2833920"/>
                <a:ext cx="33840" cy="76320"/>
              </a:xfrm>
              <a:custGeom>
                <a:avLst/>
                <a:gdLst/>
                <a:ahLst/>
                <a:rect l="l" t="t" r="r" b="b"/>
                <a:pathLst>
                  <a:path w="104" h="264">
                    <a:moveTo>
                      <a:pt x="90" y="5"/>
                    </a:moveTo>
                    <a:cubicBezTo>
                      <a:pt x="104" y="10"/>
                      <a:pt x="104" y="198"/>
                      <a:pt x="90" y="231"/>
                    </a:cubicBezTo>
                    <a:cubicBezTo>
                      <a:pt x="76" y="264"/>
                      <a:pt x="10" y="241"/>
                      <a:pt x="5" y="203"/>
                    </a:cubicBezTo>
                    <a:cubicBezTo>
                      <a:pt x="0" y="165"/>
                      <a:pt x="76" y="0"/>
                      <a:pt x="90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flipH="1">
                <a:off x="6833880" y="2835720"/>
                <a:ext cx="33840" cy="76320"/>
              </a:xfrm>
              <a:custGeom>
                <a:avLst/>
                <a:gdLst/>
                <a:ahLst/>
                <a:rect l="l" t="t" r="r" b="b"/>
                <a:pathLst>
                  <a:path w="104" h="264">
                    <a:moveTo>
                      <a:pt x="90" y="5"/>
                    </a:moveTo>
                    <a:cubicBezTo>
                      <a:pt x="104" y="10"/>
                      <a:pt x="104" y="198"/>
                      <a:pt x="90" y="231"/>
                    </a:cubicBezTo>
                    <a:cubicBezTo>
                      <a:pt x="76" y="264"/>
                      <a:pt x="10" y="241"/>
                      <a:pt x="5" y="203"/>
                    </a:cubicBezTo>
                    <a:cubicBezTo>
                      <a:pt x="0" y="165"/>
                      <a:pt x="76" y="0"/>
                      <a:pt x="90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rot="16200000">
                <a:off x="6561720" y="2595240"/>
                <a:ext cx="394200" cy="341280"/>
              </a:xfrm>
              <a:prstGeom prst="blockArc">
                <a:avLst>
                  <a:gd name="adj1" fmla="val 13926246"/>
                  <a:gd name="adj2" fmla="val 18473754"/>
                  <a:gd name="adj3" fmla="val 6616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H="1" rot="5400000">
                <a:off x="6700320" y="2595240"/>
                <a:ext cx="394200" cy="341280"/>
              </a:xfrm>
              <a:prstGeom prst="blockArc">
                <a:avLst>
                  <a:gd name="adj1" fmla="val 13926246"/>
                  <a:gd name="adj2" fmla="val 18473754"/>
                  <a:gd name="adj3" fmla="val 6616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rot="10800000">
                <a:off x="6694560" y="2824920"/>
                <a:ext cx="266760" cy="230400"/>
              </a:xfrm>
              <a:prstGeom prst="blockArc">
                <a:avLst>
                  <a:gd name="adj1" fmla="val 10585157"/>
                  <a:gd name="adj2" fmla="val 214843"/>
                  <a:gd name="adj3" fmla="val 12199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rot="20700000">
                <a:off x="6653160" y="2730240"/>
                <a:ext cx="138600" cy="114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H="1" rot="900000">
                <a:off x="6854040" y="2729160"/>
                <a:ext cx="138960" cy="114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rot="10800000">
                <a:off x="6758640" y="2867760"/>
                <a:ext cx="138600" cy="138960"/>
              </a:xfrm>
              <a:prstGeom prst="blockArc">
                <a:avLst>
                  <a:gd name="adj1" fmla="val 11249267"/>
                  <a:gd name="adj2" fmla="val 21150733"/>
                  <a:gd name="adj3" fmla="val 8009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2" name=""/>
              <p:cNvGrpSpPr/>
              <p:nvPr/>
            </p:nvGrpSpPr>
            <p:grpSpPr>
              <a:xfrm>
                <a:off x="6989400" y="2715120"/>
                <a:ext cx="315720" cy="268560"/>
                <a:chOff x="6989400" y="2715120"/>
                <a:chExt cx="315720" cy="268560"/>
              </a:xfrm>
            </p:grpSpPr>
            <p:sp>
              <p:nvSpPr>
                <p:cNvPr id="1303" name=""/>
                <p:cNvSpPr/>
                <p:nvPr/>
              </p:nvSpPr>
              <p:spPr>
                <a:xfrm rot="3600000">
                  <a:off x="7057080" y="2783160"/>
                  <a:ext cx="20160" cy="168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 rot="20700000">
                  <a:off x="7111440" y="2729160"/>
                  <a:ext cx="127440" cy="1357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 flipH="1" rot="8100000">
                  <a:off x="7147800" y="2794680"/>
                  <a:ext cx="127440" cy="1360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 rot="3600000">
                  <a:off x="7215480" y="2798640"/>
                  <a:ext cx="30600" cy="20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 rot="3600000">
                  <a:off x="7076520" y="2829960"/>
                  <a:ext cx="19800" cy="193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8" name=""/>
              <p:cNvGrpSpPr/>
              <p:nvPr/>
            </p:nvGrpSpPr>
            <p:grpSpPr>
              <a:xfrm>
                <a:off x="6978960" y="2975400"/>
                <a:ext cx="315000" cy="262440"/>
                <a:chOff x="6978960" y="2975400"/>
                <a:chExt cx="315000" cy="262440"/>
              </a:xfrm>
            </p:grpSpPr>
            <p:sp>
              <p:nvSpPr>
                <p:cNvPr id="1309" name=""/>
                <p:cNvSpPr/>
                <p:nvPr/>
              </p:nvSpPr>
              <p:spPr>
                <a:xfrm flipV="1" rot="18000000">
                  <a:off x="7046640" y="3000600"/>
                  <a:ext cx="20160" cy="168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 flipV="1" rot="900000">
                  <a:off x="7101000" y="3087000"/>
                  <a:ext cx="127440" cy="1360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 flipH="1" flipV="1" rot="13500000">
                  <a:off x="7136640" y="3022560"/>
                  <a:ext cx="127440" cy="1360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 flipV="1" rot="18000000">
                  <a:off x="7204680" y="3134520"/>
                  <a:ext cx="30960" cy="201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 flipV="1" rot="18000000">
                  <a:off x="7070040" y="2938680"/>
                  <a:ext cx="20880" cy="182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4" name=""/>
              <p:cNvGrpSpPr/>
              <p:nvPr/>
            </p:nvGrpSpPr>
            <p:grpSpPr>
              <a:xfrm>
                <a:off x="6338880" y="2715120"/>
                <a:ext cx="315360" cy="269640"/>
                <a:chOff x="6338880" y="2715120"/>
                <a:chExt cx="315360" cy="269640"/>
              </a:xfrm>
            </p:grpSpPr>
            <p:sp>
              <p:nvSpPr>
                <p:cNvPr id="1315" name=""/>
                <p:cNvSpPr/>
                <p:nvPr/>
              </p:nvSpPr>
              <p:spPr>
                <a:xfrm flipH="1" rot="18000000">
                  <a:off x="6565680" y="2783520"/>
                  <a:ext cx="20160" cy="168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 flipH="1" rot="900000">
                  <a:off x="6404760" y="2729160"/>
                  <a:ext cx="127440" cy="1360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 rot="13500000">
                  <a:off x="6368040" y="2794680"/>
                  <a:ext cx="127440" cy="1360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 flipH="1" rot="18000000">
                  <a:off x="6397200" y="2798640"/>
                  <a:ext cx="30960" cy="20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 flipH="1" rot="18000000">
                  <a:off x="6546600" y="2830320"/>
                  <a:ext cx="20160" cy="1936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0" name=""/>
              <p:cNvGrpSpPr/>
              <p:nvPr/>
            </p:nvGrpSpPr>
            <p:grpSpPr>
              <a:xfrm>
                <a:off x="6328440" y="2975040"/>
                <a:ext cx="315000" cy="262800"/>
                <a:chOff x="6328440" y="2975040"/>
                <a:chExt cx="315000" cy="262800"/>
              </a:xfrm>
            </p:grpSpPr>
            <p:sp>
              <p:nvSpPr>
                <p:cNvPr id="1321" name=""/>
                <p:cNvSpPr/>
                <p:nvPr/>
              </p:nvSpPr>
              <p:spPr>
                <a:xfrm flipH="1" flipV="1" rot="3600000">
                  <a:off x="6554880" y="2999880"/>
                  <a:ext cx="20160" cy="168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 flipH="1" flipV="1" rot="20700000">
                  <a:off x="6393960" y="3087000"/>
                  <a:ext cx="127440" cy="1360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 flipV="1" rot="8100000">
                  <a:off x="6357600" y="3021840"/>
                  <a:ext cx="127440" cy="1360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 flipH="1" flipV="1" rot="3600000">
                  <a:off x="6386040" y="3134520"/>
                  <a:ext cx="30960" cy="201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 flipH="1" flipV="1" rot="3600000">
                  <a:off x="6531480" y="2937960"/>
                  <a:ext cx="20880" cy="182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26" name=""/>
          <p:cNvGrpSpPr/>
          <p:nvPr/>
        </p:nvGrpSpPr>
        <p:grpSpPr>
          <a:xfrm>
            <a:off x="7850160" y="1846440"/>
            <a:ext cx="1738440" cy="1538280"/>
            <a:chOff x="7850160" y="1846440"/>
            <a:chExt cx="1738440" cy="1538280"/>
          </a:xfrm>
        </p:grpSpPr>
        <p:grpSp>
          <p:nvGrpSpPr>
            <p:cNvPr id="1327" name=""/>
            <p:cNvGrpSpPr/>
            <p:nvPr/>
          </p:nvGrpSpPr>
          <p:grpSpPr>
            <a:xfrm>
              <a:off x="7850160" y="1846440"/>
              <a:ext cx="1738440" cy="1538280"/>
              <a:chOff x="7850160" y="1846440"/>
              <a:chExt cx="1738440" cy="1538280"/>
            </a:xfrm>
          </p:grpSpPr>
          <p:sp>
            <p:nvSpPr>
              <p:cNvPr id="1328" name=""/>
              <p:cNvSpPr/>
              <p:nvPr/>
            </p:nvSpPr>
            <p:spPr>
              <a:xfrm>
                <a:off x="7883640" y="1870200"/>
                <a:ext cx="1670040" cy="149040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7850160" y="1846440"/>
                <a:ext cx="1738440" cy="1538280"/>
              </a:xfrm>
              <a:custGeom>
                <a:avLst/>
                <a:gdLst/>
                <a:ahLst/>
                <a:rect l="l" t="t" r="r" b="b"/>
                <a:pathLst>
                  <a:path w="1095" h="969">
                    <a:moveTo>
                      <a:pt x="519" y="91"/>
                    </a:moveTo>
                    <a:cubicBezTo>
                      <a:pt x="519" y="91"/>
                      <a:pt x="529" y="64"/>
                      <a:pt x="547" y="62"/>
                    </a:cubicBezTo>
                    <a:cubicBezTo>
                      <a:pt x="564" y="61"/>
                      <a:pt x="575" y="91"/>
                      <a:pt x="575" y="91"/>
                    </a:cubicBezTo>
                    <a:lnTo>
                      <a:pt x="1029" y="913"/>
                    </a:lnTo>
                    <a:lnTo>
                      <a:pt x="547" y="913"/>
                    </a:lnTo>
                    <a:lnTo>
                      <a:pt x="547" y="969"/>
                    </a:lnTo>
                    <a:lnTo>
                      <a:pt x="1057" y="969"/>
                    </a:lnTo>
                    <a:cubicBezTo>
                      <a:pt x="1057" y="969"/>
                      <a:pt x="1075" y="956"/>
                      <a:pt x="1086" y="941"/>
                    </a:cubicBezTo>
                    <a:cubicBezTo>
                      <a:pt x="1095" y="929"/>
                      <a:pt x="1086" y="913"/>
                      <a:pt x="1086" y="913"/>
                    </a:cubicBezTo>
                    <a:lnTo>
                      <a:pt x="604" y="34"/>
                    </a:lnTo>
                    <a:cubicBezTo>
                      <a:pt x="604" y="34"/>
                      <a:pt x="585" y="11"/>
                      <a:pt x="575" y="6"/>
                    </a:cubicBezTo>
                    <a:cubicBezTo>
                      <a:pt x="565" y="1"/>
                      <a:pt x="553" y="1"/>
                      <a:pt x="544" y="1"/>
                    </a:cubicBezTo>
                    <a:cubicBezTo>
                      <a:pt x="535" y="1"/>
                      <a:pt x="528" y="0"/>
                      <a:pt x="519" y="6"/>
                    </a:cubicBezTo>
                    <a:cubicBezTo>
                      <a:pt x="496" y="17"/>
                      <a:pt x="490" y="34"/>
                      <a:pt x="490" y="34"/>
                    </a:cubicBezTo>
                    <a:lnTo>
                      <a:pt x="8" y="913"/>
                    </a:lnTo>
                    <a:cubicBezTo>
                      <a:pt x="8" y="913"/>
                      <a:pt x="0" y="928"/>
                      <a:pt x="8" y="941"/>
                    </a:cubicBezTo>
                    <a:cubicBezTo>
                      <a:pt x="19" y="962"/>
                      <a:pt x="37" y="969"/>
                      <a:pt x="37" y="969"/>
                    </a:cubicBezTo>
                    <a:cubicBezTo>
                      <a:pt x="292" y="969"/>
                      <a:pt x="547" y="969"/>
                      <a:pt x="547" y="969"/>
                    </a:cubicBezTo>
                    <a:lnTo>
                      <a:pt x="547" y="913"/>
                    </a:lnTo>
                    <a:lnTo>
                      <a:pt x="65" y="913"/>
                    </a:lnTo>
                    <a:lnTo>
                      <a:pt x="519" y="9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"/>
            <p:cNvGrpSpPr/>
            <p:nvPr/>
          </p:nvGrpSpPr>
          <p:grpSpPr>
            <a:xfrm>
              <a:off x="8223840" y="2452680"/>
              <a:ext cx="976680" cy="785160"/>
              <a:chOff x="8223840" y="2452680"/>
              <a:chExt cx="976680" cy="785160"/>
            </a:xfrm>
          </p:grpSpPr>
          <p:sp>
            <p:nvSpPr>
              <p:cNvPr id="1331" name=""/>
              <p:cNvSpPr/>
              <p:nvPr/>
            </p:nvSpPr>
            <p:spPr>
              <a:xfrm>
                <a:off x="8440920" y="2452680"/>
                <a:ext cx="565560" cy="522000"/>
              </a:xfrm>
              <a:prstGeom prst="donut">
                <a:avLst>
                  <a:gd name="adj" fmla="val 5453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rot="10800000">
                <a:off x="8526240" y="2782080"/>
                <a:ext cx="394560" cy="340920"/>
              </a:xfrm>
              <a:prstGeom prst="blockArc">
                <a:avLst>
                  <a:gd name="adj1" fmla="val 9691480"/>
                  <a:gd name="adj2" fmla="val 1108520"/>
                  <a:gd name="adj3" fmla="val 844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8685000" y="2833920"/>
                <a:ext cx="33840" cy="76320"/>
              </a:xfrm>
              <a:custGeom>
                <a:avLst/>
                <a:gdLst/>
                <a:ahLst/>
                <a:rect l="l" t="t" r="r" b="b"/>
                <a:pathLst>
                  <a:path w="104" h="264">
                    <a:moveTo>
                      <a:pt x="90" y="5"/>
                    </a:moveTo>
                    <a:cubicBezTo>
                      <a:pt x="104" y="10"/>
                      <a:pt x="104" y="198"/>
                      <a:pt x="90" y="231"/>
                    </a:cubicBezTo>
                    <a:cubicBezTo>
                      <a:pt x="76" y="264"/>
                      <a:pt x="10" y="241"/>
                      <a:pt x="5" y="203"/>
                    </a:cubicBezTo>
                    <a:cubicBezTo>
                      <a:pt x="0" y="165"/>
                      <a:pt x="76" y="0"/>
                      <a:pt x="90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H="1">
                <a:off x="8729280" y="2835720"/>
                <a:ext cx="33840" cy="76320"/>
              </a:xfrm>
              <a:custGeom>
                <a:avLst/>
                <a:gdLst/>
                <a:ahLst/>
                <a:rect l="l" t="t" r="r" b="b"/>
                <a:pathLst>
                  <a:path w="104" h="264">
                    <a:moveTo>
                      <a:pt x="90" y="5"/>
                    </a:moveTo>
                    <a:cubicBezTo>
                      <a:pt x="104" y="10"/>
                      <a:pt x="104" y="198"/>
                      <a:pt x="90" y="231"/>
                    </a:cubicBezTo>
                    <a:cubicBezTo>
                      <a:pt x="76" y="264"/>
                      <a:pt x="10" y="241"/>
                      <a:pt x="5" y="203"/>
                    </a:cubicBezTo>
                    <a:cubicBezTo>
                      <a:pt x="0" y="165"/>
                      <a:pt x="76" y="0"/>
                      <a:pt x="90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rot="16200000">
                <a:off x="8457120" y="2595240"/>
                <a:ext cx="394200" cy="341280"/>
              </a:xfrm>
              <a:prstGeom prst="blockArc">
                <a:avLst>
                  <a:gd name="adj1" fmla="val 13926246"/>
                  <a:gd name="adj2" fmla="val 18473754"/>
                  <a:gd name="adj3" fmla="val 6616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flipH="1" rot="5400000">
                <a:off x="8595720" y="2595240"/>
                <a:ext cx="394200" cy="341280"/>
              </a:xfrm>
              <a:prstGeom prst="blockArc">
                <a:avLst>
                  <a:gd name="adj1" fmla="val 13926246"/>
                  <a:gd name="adj2" fmla="val 18473754"/>
                  <a:gd name="adj3" fmla="val 6616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rot="10800000">
                <a:off x="8589960" y="2824920"/>
                <a:ext cx="266760" cy="230400"/>
              </a:xfrm>
              <a:prstGeom prst="blockArc">
                <a:avLst>
                  <a:gd name="adj1" fmla="val 10585157"/>
                  <a:gd name="adj2" fmla="val 214843"/>
                  <a:gd name="adj3" fmla="val 12199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rot="20700000">
                <a:off x="8548560" y="2730240"/>
                <a:ext cx="138600" cy="114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H="1" rot="900000">
                <a:off x="8749440" y="2729160"/>
                <a:ext cx="138960" cy="114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rot="10800000">
                <a:off x="8654040" y="2867760"/>
                <a:ext cx="138600" cy="138960"/>
              </a:xfrm>
              <a:prstGeom prst="blockArc">
                <a:avLst>
                  <a:gd name="adj1" fmla="val 11249267"/>
                  <a:gd name="adj2" fmla="val 21150733"/>
                  <a:gd name="adj3" fmla="val 8009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1" name=""/>
              <p:cNvGrpSpPr/>
              <p:nvPr/>
            </p:nvGrpSpPr>
            <p:grpSpPr>
              <a:xfrm>
                <a:off x="8884800" y="2715120"/>
                <a:ext cx="315720" cy="268560"/>
                <a:chOff x="8884800" y="2715120"/>
                <a:chExt cx="315720" cy="268560"/>
              </a:xfrm>
            </p:grpSpPr>
            <p:sp>
              <p:nvSpPr>
                <p:cNvPr id="1342" name=""/>
                <p:cNvSpPr/>
                <p:nvPr/>
              </p:nvSpPr>
              <p:spPr>
                <a:xfrm rot="3600000">
                  <a:off x="8952480" y="2783160"/>
                  <a:ext cx="20160" cy="168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 rot="20700000">
                  <a:off x="9006840" y="2729160"/>
                  <a:ext cx="127440" cy="1357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 flipH="1" rot="8100000">
                  <a:off x="9043200" y="2794680"/>
                  <a:ext cx="127440" cy="1360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 rot="3600000">
                  <a:off x="9110880" y="2798640"/>
                  <a:ext cx="30600" cy="20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 rot="3600000">
                  <a:off x="8971920" y="2829960"/>
                  <a:ext cx="19800" cy="193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7" name=""/>
              <p:cNvGrpSpPr/>
              <p:nvPr/>
            </p:nvGrpSpPr>
            <p:grpSpPr>
              <a:xfrm>
                <a:off x="8874360" y="2975400"/>
                <a:ext cx="315000" cy="262440"/>
                <a:chOff x="8874360" y="2975400"/>
                <a:chExt cx="315000" cy="262440"/>
              </a:xfrm>
            </p:grpSpPr>
            <p:sp>
              <p:nvSpPr>
                <p:cNvPr id="1348" name=""/>
                <p:cNvSpPr/>
                <p:nvPr/>
              </p:nvSpPr>
              <p:spPr>
                <a:xfrm flipV="1" rot="18000000">
                  <a:off x="8942040" y="3000600"/>
                  <a:ext cx="20160" cy="168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 flipV="1" rot="900000">
                  <a:off x="8996400" y="3087000"/>
                  <a:ext cx="127440" cy="1360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 flipH="1" flipV="1" rot="13500000">
                  <a:off x="9032040" y="3022560"/>
                  <a:ext cx="127440" cy="1360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 flipV="1" rot="18000000">
                  <a:off x="9100080" y="3134520"/>
                  <a:ext cx="30960" cy="201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 flipV="1" rot="18000000">
                  <a:off x="8965440" y="2938680"/>
                  <a:ext cx="20880" cy="182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8234280" y="2715120"/>
                <a:ext cx="315360" cy="269640"/>
                <a:chOff x="8234280" y="2715120"/>
                <a:chExt cx="315360" cy="269640"/>
              </a:xfrm>
            </p:grpSpPr>
            <p:sp>
              <p:nvSpPr>
                <p:cNvPr id="1354" name=""/>
                <p:cNvSpPr/>
                <p:nvPr/>
              </p:nvSpPr>
              <p:spPr>
                <a:xfrm flipH="1" rot="18000000">
                  <a:off x="8461080" y="2783520"/>
                  <a:ext cx="20160" cy="168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 flipH="1" rot="900000">
                  <a:off x="8300160" y="2729160"/>
                  <a:ext cx="127440" cy="1360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 rot="13500000">
                  <a:off x="8263440" y="2794680"/>
                  <a:ext cx="127440" cy="1360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 flipH="1" rot="18000000">
                  <a:off x="8292600" y="2798640"/>
                  <a:ext cx="30960" cy="20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 flipH="1" rot="18000000">
                  <a:off x="8442000" y="2830320"/>
                  <a:ext cx="20160" cy="1936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9" name=""/>
              <p:cNvGrpSpPr/>
              <p:nvPr/>
            </p:nvGrpSpPr>
            <p:grpSpPr>
              <a:xfrm>
                <a:off x="8223840" y="2975040"/>
                <a:ext cx="315000" cy="262800"/>
                <a:chOff x="8223840" y="2975040"/>
                <a:chExt cx="315000" cy="262800"/>
              </a:xfrm>
            </p:grpSpPr>
            <p:sp>
              <p:nvSpPr>
                <p:cNvPr id="1360" name=""/>
                <p:cNvSpPr/>
                <p:nvPr/>
              </p:nvSpPr>
              <p:spPr>
                <a:xfrm flipH="1" flipV="1" rot="3600000">
                  <a:off x="8450280" y="2999880"/>
                  <a:ext cx="20160" cy="168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 flipH="1" flipV="1" rot="20700000">
                  <a:off x="8289360" y="3087000"/>
                  <a:ext cx="127440" cy="1360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 flipV="1" rot="8100000">
                  <a:off x="8253000" y="3021840"/>
                  <a:ext cx="127440" cy="1360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 flipH="1" flipV="1" rot="3600000">
                  <a:off x="8281440" y="3134520"/>
                  <a:ext cx="30960" cy="201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 flipH="1" flipV="1" rot="3600000">
                  <a:off x="8426880" y="2937960"/>
                  <a:ext cx="20880" cy="182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65" name=""/>
          <p:cNvGrpSpPr/>
          <p:nvPr/>
        </p:nvGrpSpPr>
        <p:grpSpPr>
          <a:xfrm>
            <a:off x="317520" y="1854360"/>
            <a:ext cx="1738440" cy="1550880"/>
            <a:chOff x="317520" y="1854360"/>
            <a:chExt cx="1738440" cy="1550880"/>
          </a:xfrm>
        </p:grpSpPr>
        <p:grpSp>
          <p:nvGrpSpPr>
            <p:cNvPr id="1366" name=""/>
            <p:cNvGrpSpPr/>
            <p:nvPr/>
          </p:nvGrpSpPr>
          <p:grpSpPr>
            <a:xfrm>
              <a:off x="317520" y="1854360"/>
              <a:ext cx="1738440" cy="1550880"/>
              <a:chOff x="317520" y="1854360"/>
              <a:chExt cx="1738440" cy="1550880"/>
            </a:xfrm>
          </p:grpSpPr>
          <p:sp>
            <p:nvSpPr>
              <p:cNvPr id="1367" name=""/>
              <p:cNvSpPr/>
              <p:nvPr/>
            </p:nvSpPr>
            <p:spPr>
              <a:xfrm>
                <a:off x="351000" y="191448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317520" y="1854360"/>
                <a:ext cx="1738440" cy="1538280"/>
              </a:xfrm>
              <a:custGeom>
                <a:avLst/>
                <a:gdLst/>
                <a:ahLst/>
                <a:rect l="l" t="t" r="r" b="b"/>
                <a:pathLst>
                  <a:path w="1095" h="969">
                    <a:moveTo>
                      <a:pt x="519" y="91"/>
                    </a:moveTo>
                    <a:cubicBezTo>
                      <a:pt x="519" y="91"/>
                      <a:pt x="529" y="64"/>
                      <a:pt x="547" y="62"/>
                    </a:cubicBezTo>
                    <a:cubicBezTo>
                      <a:pt x="564" y="61"/>
                      <a:pt x="575" y="91"/>
                      <a:pt x="575" y="91"/>
                    </a:cubicBezTo>
                    <a:lnTo>
                      <a:pt x="1029" y="913"/>
                    </a:lnTo>
                    <a:lnTo>
                      <a:pt x="547" y="913"/>
                    </a:lnTo>
                    <a:lnTo>
                      <a:pt x="547" y="969"/>
                    </a:lnTo>
                    <a:lnTo>
                      <a:pt x="1057" y="969"/>
                    </a:lnTo>
                    <a:cubicBezTo>
                      <a:pt x="1057" y="969"/>
                      <a:pt x="1075" y="956"/>
                      <a:pt x="1086" y="941"/>
                    </a:cubicBezTo>
                    <a:cubicBezTo>
                      <a:pt x="1095" y="929"/>
                      <a:pt x="1086" y="913"/>
                      <a:pt x="1086" y="913"/>
                    </a:cubicBezTo>
                    <a:lnTo>
                      <a:pt x="604" y="34"/>
                    </a:lnTo>
                    <a:cubicBezTo>
                      <a:pt x="604" y="34"/>
                      <a:pt x="585" y="11"/>
                      <a:pt x="575" y="6"/>
                    </a:cubicBezTo>
                    <a:cubicBezTo>
                      <a:pt x="565" y="1"/>
                      <a:pt x="553" y="1"/>
                      <a:pt x="544" y="1"/>
                    </a:cubicBezTo>
                    <a:cubicBezTo>
                      <a:pt x="535" y="1"/>
                      <a:pt x="528" y="0"/>
                      <a:pt x="519" y="6"/>
                    </a:cubicBezTo>
                    <a:cubicBezTo>
                      <a:pt x="496" y="17"/>
                      <a:pt x="490" y="34"/>
                      <a:pt x="490" y="34"/>
                    </a:cubicBezTo>
                    <a:lnTo>
                      <a:pt x="8" y="913"/>
                    </a:lnTo>
                    <a:cubicBezTo>
                      <a:pt x="8" y="913"/>
                      <a:pt x="0" y="928"/>
                      <a:pt x="8" y="941"/>
                    </a:cubicBezTo>
                    <a:cubicBezTo>
                      <a:pt x="19" y="962"/>
                      <a:pt x="37" y="969"/>
                      <a:pt x="37" y="969"/>
                    </a:cubicBezTo>
                    <a:cubicBezTo>
                      <a:pt x="292" y="969"/>
                      <a:pt x="547" y="969"/>
                      <a:pt x="547" y="969"/>
                    </a:cubicBezTo>
                    <a:lnTo>
                      <a:pt x="547" y="913"/>
                    </a:lnTo>
                    <a:lnTo>
                      <a:pt x="65" y="913"/>
                    </a:lnTo>
                    <a:lnTo>
                      <a:pt x="519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680040" y="2452680"/>
              <a:ext cx="976680" cy="785160"/>
              <a:chOff x="680040" y="2452680"/>
              <a:chExt cx="976680" cy="785160"/>
            </a:xfrm>
          </p:grpSpPr>
          <p:sp>
            <p:nvSpPr>
              <p:cNvPr id="1370" name=""/>
              <p:cNvSpPr/>
              <p:nvPr/>
            </p:nvSpPr>
            <p:spPr>
              <a:xfrm>
                <a:off x="897120" y="2452680"/>
                <a:ext cx="565560" cy="522000"/>
              </a:xfrm>
              <a:prstGeom prst="donut">
                <a:avLst>
                  <a:gd name="adj" fmla="val 5453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rot="10800000">
                <a:off x="982440" y="2782080"/>
                <a:ext cx="394560" cy="340920"/>
              </a:xfrm>
              <a:prstGeom prst="blockArc">
                <a:avLst>
                  <a:gd name="adj1" fmla="val 9691480"/>
                  <a:gd name="adj2" fmla="val 1108520"/>
                  <a:gd name="adj3" fmla="val 844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1141200" y="2833920"/>
                <a:ext cx="33840" cy="76320"/>
              </a:xfrm>
              <a:custGeom>
                <a:avLst/>
                <a:gdLst/>
                <a:ahLst/>
                <a:rect l="l" t="t" r="r" b="b"/>
                <a:pathLst>
                  <a:path w="104" h="264">
                    <a:moveTo>
                      <a:pt x="90" y="5"/>
                    </a:moveTo>
                    <a:cubicBezTo>
                      <a:pt x="104" y="10"/>
                      <a:pt x="104" y="198"/>
                      <a:pt x="90" y="231"/>
                    </a:cubicBezTo>
                    <a:cubicBezTo>
                      <a:pt x="76" y="264"/>
                      <a:pt x="10" y="241"/>
                      <a:pt x="5" y="203"/>
                    </a:cubicBezTo>
                    <a:cubicBezTo>
                      <a:pt x="0" y="165"/>
                      <a:pt x="76" y="0"/>
                      <a:pt x="90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>
                <a:off x="1185480" y="2835720"/>
                <a:ext cx="33840" cy="76320"/>
              </a:xfrm>
              <a:custGeom>
                <a:avLst/>
                <a:gdLst/>
                <a:ahLst/>
                <a:rect l="l" t="t" r="r" b="b"/>
                <a:pathLst>
                  <a:path w="104" h="264">
                    <a:moveTo>
                      <a:pt x="90" y="5"/>
                    </a:moveTo>
                    <a:cubicBezTo>
                      <a:pt x="104" y="10"/>
                      <a:pt x="104" y="198"/>
                      <a:pt x="90" y="231"/>
                    </a:cubicBezTo>
                    <a:cubicBezTo>
                      <a:pt x="76" y="264"/>
                      <a:pt x="10" y="241"/>
                      <a:pt x="5" y="203"/>
                    </a:cubicBezTo>
                    <a:cubicBezTo>
                      <a:pt x="0" y="165"/>
                      <a:pt x="76" y="0"/>
                      <a:pt x="90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rot="16200000">
                <a:off x="913320" y="2595240"/>
                <a:ext cx="394200" cy="341280"/>
              </a:xfrm>
              <a:prstGeom prst="blockArc">
                <a:avLst>
                  <a:gd name="adj1" fmla="val 13926246"/>
                  <a:gd name="adj2" fmla="val 18473754"/>
                  <a:gd name="adj3" fmla="val 6616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flipH="1" rot="5400000">
                <a:off x="1051920" y="2595240"/>
                <a:ext cx="394200" cy="341280"/>
              </a:xfrm>
              <a:prstGeom prst="blockArc">
                <a:avLst>
                  <a:gd name="adj1" fmla="val 13926246"/>
                  <a:gd name="adj2" fmla="val 18473754"/>
                  <a:gd name="adj3" fmla="val 6616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rot="10800000">
                <a:off x="1046160" y="2824920"/>
                <a:ext cx="266760" cy="230400"/>
              </a:xfrm>
              <a:prstGeom prst="blockArc">
                <a:avLst>
                  <a:gd name="adj1" fmla="val 10585157"/>
                  <a:gd name="adj2" fmla="val 214843"/>
                  <a:gd name="adj3" fmla="val 12199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rot="20700000">
                <a:off x="1004760" y="2730240"/>
                <a:ext cx="138600" cy="114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H="1" rot="900000">
                <a:off x="1205640" y="2729160"/>
                <a:ext cx="138960" cy="114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rot="10800000">
                <a:off x="1110240" y="2867760"/>
                <a:ext cx="138600" cy="138960"/>
              </a:xfrm>
              <a:prstGeom prst="blockArc">
                <a:avLst>
                  <a:gd name="adj1" fmla="val 11249267"/>
                  <a:gd name="adj2" fmla="val 21150733"/>
                  <a:gd name="adj3" fmla="val 8009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0" name=""/>
              <p:cNvGrpSpPr/>
              <p:nvPr/>
            </p:nvGrpSpPr>
            <p:grpSpPr>
              <a:xfrm>
                <a:off x="1341000" y="2715120"/>
                <a:ext cx="315720" cy="268560"/>
                <a:chOff x="1341000" y="2715120"/>
                <a:chExt cx="315720" cy="268560"/>
              </a:xfrm>
            </p:grpSpPr>
            <p:sp>
              <p:nvSpPr>
                <p:cNvPr id="1381" name=""/>
                <p:cNvSpPr/>
                <p:nvPr/>
              </p:nvSpPr>
              <p:spPr>
                <a:xfrm rot="3600000">
                  <a:off x="1408680" y="2783160"/>
                  <a:ext cx="20160" cy="168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 rot="20700000">
                  <a:off x="1463040" y="2729160"/>
                  <a:ext cx="127440" cy="1357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 flipH="1" rot="8100000">
                  <a:off x="1499400" y="2794680"/>
                  <a:ext cx="127440" cy="1360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 rot="3600000">
                  <a:off x="1567080" y="2798640"/>
                  <a:ext cx="30600" cy="20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 rot="3600000">
                  <a:off x="1428120" y="2829960"/>
                  <a:ext cx="19800" cy="193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6" name=""/>
              <p:cNvGrpSpPr/>
              <p:nvPr/>
            </p:nvGrpSpPr>
            <p:grpSpPr>
              <a:xfrm>
                <a:off x="1330560" y="2975400"/>
                <a:ext cx="315000" cy="262440"/>
                <a:chOff x="1330560" y="2975400"/>
                <a:chExt cx="315000" cy="262440"/>
              </a:xfrm>
            </p:grpSpPr>
            <p:sp>
              <p:nvSpPr>
                <p:cNvPr id="1387" name=""/>
                <p:cNvSpPr/>
                <p:nvPr/>
              </p:nvSpPr>
              <p:spPr>
                <a:xfrm flipV="1" rot="18000000">
                  <a:off x="1398240" y="3000600"/>
                  <a:ext cx="20160" cy="168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 flipV="1" rot="900000">
                  <a:off x="1452600" y="3087000"/>
                  <a:ext cx="127440" cy="1360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 flipH="1" flipV="1" rot="13500000">
                  <a:off x="1488240" y="3022560"/>
                  <a:ext cx="127440" cy="1360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 flipV="1" rot="18000000">
                  <a:off x="1556280" y="3134520"/>
                  <a:ext cx="30960" cy="201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 flipV="1" rot="18000000">
                  <a:off x="1421640" y="2938680"/>
                  <a:ext cx="20880" cy="182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2" name=""/>
              <p:cNvGrpSpPr/>
              <p:nvPr/>
            </p:nvGrpSpPr>
            <p:grpSpPr>
              <a:xfrm>
                <a:off x="690480" y="2715120"/>
                <a:ext cx="315360" cy="269640"/>
                <a:chOff x="690480" y="2715120"/>
                <a:chExt cx="315360" cy="269640"/>
              </a:xfrm>
            </p:grpSpPr>
            <p:sp>
              <p:nvSpPr>
                <p:cNvPr id="1393" name=""/>
                <p:cNvSpPr/>
                <p:nvPr/>
              </p:nvSpPr>
              <p:spPr>
                <a:xfrm flipH="1" rot="18000000">
                  <a:off x="917280" y="2783520"/>
                  <a:ext cx="20160" cy="168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 flipH="1" rot="900000">
                  <a:off x="756360" y="2729160"/>
                  <a:ext cx="127440" cy="1360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 rot="13500000">
                  <a:off x="719640" y="2794680"/>
                  <a:ext cx="127440" cy="1360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 flipH="1" rot="18000000">
                  <a:off x="748800" y="2798640"/>
                  <a:ext cx="30960" cy="20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 flipH="1" rot="18000000">
                  <a:off x="898200" y="2830320"/>
                  <a:ext cx="20160" cy="1936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8" name=""/>
              <p:cNvGrpSpPr/>
              <p:nvPr/>
            </p:nvGrpSpPr>
            <p:grpSpPr>
              <a:xfrm>
                <a:off x="680040" y="2975040"/>
                <a:ext cx="315000" cy="262800"/>
                <a:chOff x="680040" y="2975040"/>
                <a:chExt cx="315000" cy="262800"/>
              </a:xfrm>
            </p:grpSpPr>
            <p:sp>
              <p:nvSpPr>
                <p:cNvPr id="1399" name=""/>
                <p:cNvSpPr/>
                <p:nvPr/>
              </p:nvSpPr>
              <p:spPr>
                <a:xfrm flipH="1" flipV="1" rot="3600000">
                  <a:off x="906480" y="2999880"/>
                  <a:ext cx="20160" cy="168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 flipH="1" flipV="1" rot="20700000">
                  <a:off x="745560" y="3087000"/>
                  <a:ext cx="127440" cy="1360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 flipV="1" rot="8100000">
                  <a:off x="709200" y="3021840"/>
                  <a:ext cx="127440" cy="13608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 flipH="1" flipV="1" rot="3600000">
                  <a:off x="737640" y="3134520"/>
                  <a:ext cx="30960" cy="201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 flipH="1" flipV="1" rot="3600000">
                  <a:off x="883080" y="2937960"/>
                  <a:ext cx="20880" cy="182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04" name=""/>
          <p:cNvGrpSpPr/>
          <p:nvPr/>
        </p:nvGrpSpPr>
        <p:grpSpPr>
          <a:xfrm>
            <a:off x="2220840" y="258840"/>
            <a:ext cx="1711440" cy="1528560"/>
            <a:chOff x="2220840" y="258840"/>
            <a:chExt cx="1711440" cy="1528560"/>
          </a:xfrm>
        </p:grpSpPr>
        <p:grpSp>
          <p:nvGrpSpPr>
            <p:cNvPr id="1405" name=""/>
            <p:cNvGrpSpPr/>
            <p:nvPr/>
          </p:nvGrpSpPr>
          <p:grpSpPr>
            <a:xfrm>
              <a:off x="2220840" y="258840"/>
              <a:ext cx="1711440" cy="1528560"/>
              <a:chOff x="2220840" y="258840"/>
              <a:chExt cx="1711440" cy="1528560"/>
            </a:xfrm>
          </p:grpSpPr>
          <p:sp>
            <p:nvSpPr>
              <p:cNvPr id="1406" name=""/>
              <p:cNvSpPr/>
              <p:nvPr/>
            </p:nvSpPr>
            <p:spPr>
              <a:xfrm>
                <a:off x="2241720" y="277920"/>
                <a:ext cx="1670040" cy="149040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2220840" y="258840"/>
                <a:ext cx="1711440" cy="15285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49" y="936"/>
                    </a:moveTo>
                    <a:lnTo>
                      <a:pt x="539" y="935"/>
                    </a:lnTo>
                    <a:lnTo>
                      <a:pt x="539" y="963"/>
                    </a:lnTo>
                    <a:lnTo>
                      <a:pt x="29" y="963"/>
                    </a:lnTo>
                    <a:cubicBezTo>
                      <a:pt x="29" y="963"/>
                      <a:pt x="10" y="952"/>
                      <a:pt x="0" y="935"/>
                    </a:cubicBezTo>
                    <a:cubicBezTo>
                      <a:pt x="0" y="921"/>
                      <a:pt x="0" y="907"/>
                      <a:pt x="0" y="907"/>
                    </a:cubicBezTo>
                    <a:lnTo>
                      <a:pt x="511" y="28"/>
                    </a:lnTo>
                    <a:cubicBezTo>
                      <a:pt x="511" y="28"/>
                      <a:pt x="519" y="1"/>
                      <a:pt x="539" y="0"/>
                    </a:cubicBezTo>
                    <a:cubicBezTo>
                      <a:pt x="562" y="0"/>
                      <a:pt x="567" y="28"/>
                      <a:pt x="567" y="28"/>
                    </a:cubicBezTo>
                    <a:lnTo>
                      <a:pt x="1078" y="907"/>
                    </a:lnTo>
                    <a:cubicBezTo>
                      <a:pt x="1078" y="907"/>
                      <a:pt x="1078" y="921"/>
                      <a:pt x="1078" y="935"/>
                    </a:cubicBezTo>
                    <a:cubicBezTo>
                      <a:pt x="1068" y="955"/>
                      <a:pt x="1049" y="963"/>
                      <a:pt x="1049" y="963"/>
                    </a:cubicBezTo>
                    <a:lnTo>
                      <a:pt x="539" y="963"/>
                    </a:lnTo>
                    <a:lnTo>
                      <a:pt x="539" y="935"/>
                    </a:lnTo>
                    <a:lnTo>
                      <a:pt x="1024" y="936"/>
                    </a:lnTo>
                    <a:lnTo>
                      <a:pt x="1044" y="930"/>
                    </a:lnTo>
                    <a:lnTo>
                      <a:pt x="1048" y="918"/>
                    </a:lnTo>
                    <a:lnTo>
                      <a:pt x="1044" y="907"/>
                    </a:lnTo>
                    <a:lnTo>
                      <a:pt x="550" y="49"/>
                    </a:lnTo>
                    <a:cubicBezTo>
                      <a:pt x="550" y="49"/>
                      <a:pt x="547" y="40"/>
                      <a:pt x="538" y="37"/>
                    </a:cubicBezTo>
                    <a:cubicBezTo>
                      <a:pt x="526" y="42"/>
                      <a:pt x="526" y="52"/>
                      <a:pt x="526" y="52"/>
                    </a:cubicBezTo>
                    <a:lnTo>
                      <a:pt x="40" y="900"/>
                    </a:lnTo>
                    <a:lnTo>
                      <a:pt x="34" y="910"/>
                    </a:lnTo>
                    <a:lnTo>
                      <a:pt x="34" y="925"/>
                    </a:lnTo>
                    <a:lnTo>
                      <a:pt x="49" y="9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8" name=""/>
            <p:cNvGrpSpPr/>
            <p:nvPr/>
          </p:nvGrpSpPr>
          <p:grpSpPr>
            <a:xfrm>
              <a:off x="2538360" y="814320"/>
              <a:ext cx="1050480" cy="843480"/>
              <a:chOff x="2538360" y="814320"/>
              <a:chExt cx="1050480" cy="843480"/>
            </a:xfrm>
          </p:grpSpPr>
          <p:sp>
            <p:nvSpPr>
              <p:cNvPr id="1409" name=""/>
              <p:cNvSpPr/>
              <p:nvPr/>
            </p:nvSpPr>
            <p:spPr>
              <a:xfrm>
                <a:off x="2772000" y="814320"/>
                <a:ext cx="608400" cy="560520"/>
              </a:xfrm>
              <a:prstGeom prst="donut">
                <a:avLst>
                  <a:gd name="adj" fmla="val 5453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rot="10800000">
                <a:off x="2863800" y="1168200"/>
                <a:ext cx="424440" cy="366120"/>
              </a:xfrm>
              <a:prstGeom prst="blockArc">
                <a:avLst>
                  <a:gd name="adj1" fmla="val 9691480"/>
                  <a:gd name="adj2" fmla="val 1108520"/>
                  <a:gd name="adj3" fmla="val 844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3034440" y="1224000"/>
                <a:ext cx="36360" cy="81720"/>
              </a:xfrm>
              <a:custGeom>
                <a:avLst/>
                <a:gdLst/>
                <a:ahLst/>
                <a:rect l="l" t="t" r="r" b="b"/>
                <a:pathLst>
                  <a:path w="104" h="264">
                    <a:moveTo>
                      <a:pt x="90" y="5"/>
                    </a:moveTo>
                    <a:cubicBezTo>
                      <a:pt x="104" y="10"/>
                      <a:pt x="104" y="198"/>
                      <a:pt x="90" y="231"/>
                    </a:cubicBezTo>
                    <a:cubicBezTo>
                      <a:pt x="76" y="264"/>
                      <a:pt x="10" y="241"/>
                      <a:pt x="5" y="203"/>
                    </a:cubicBezTo>
                    <a:cubicBezTo>
                      <a:pt x="0" y="165"/>
                      <a:pt x="76" y="0"/>
                      <a:pt x="90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H="1">
                <a:off x="3081600" y="1225800"/>
                <a:ext cx="36360" cy="81720"/>
              </a:xfrm>
              <a:custGeom>
                <a:avLst/>
                <a:gdLst/>
                <a:ahLst/>
                <a:rect l="l" t="t" r="r" b="b"/>
                <a:pathLst>
                  <a:path w="104" h="264">
                    <a:moveTo>
                      <a:pt x="90" y="5"/>
                    </a:moveTo>
                    <a:cubicBezTo>
                      <a:pt x="104" y="10"/>
                      <a:pt x="104" y="198"/>
                      <a:pt x="90" y="231"/>
                    </a:cubicBezTo>
                    <a:cubicBezTo>
                      <a:pt x="76" y="264"/>
                      <a:pt x="10" y="241"/>
                      <a:pt x="5" y="203"/>
                    </a:cubicBezTo>
                    <a:cubicBezTo>
                      <a:pt x="0" y="165"/>
                      <a:pt x="76" y="0"/>
                      <a:pt x="90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rot="16200000">
                <a:off x="2790000" y="967680"/>
                <a:ext cx="423360" cy="367200"/>
              </a:xfrm>
              <a:prstGeom prst="blockArc">
                <a:avLst>
                  <a:gd name="adj1" fmla="val 13926246"/>
                  <a:gd name="adj2" fmla="val 18473754"/>
                  <a:gd name="adj3" fmla="val 6616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flipH="1" rot="5400000">
                <a:off x="2939040" y="967680"/>
                <a:ext cx="423360" cy="367200"/>
              </a:xfrm>
              <a:prstGeom prst="blockArc">
                <a:avLst>
                  <a:gd name="adj1" fmla="val 13926246"/>
                  <a:gd name="adj2" fmla="val 18473754"/>
                  <a:gd name="adj3" fmla="val 6616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rot="10800000">
                <a:off x="2932560" y="1213920"/>
                <a:ext cx="286920" cy="247320"/>
              </a:xfrm>
              <a:prstGeom prst="blockArc">
                <a:avLst>
                  <a:gd name="adj1" fmla="val 10585157"/>
                  <a:gd name="adj2" fmla="val 214843"/>
                  <a:gd name="adj3" fmla="val 12199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rot="20700000">
                <a:off x="2888280" y="1112400"/>
                <a:ext cx="149040" cy="123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flipH="1" rot="900000">
                <a:off x="3104640" y="1111320"/>
                <a:ext cx="149400" cy="123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rot="10800000">
                <a:off x="3001680" y="1260000"/>
                <a:ext cx="149040" cy="149400"/>
              </a:xfrm>
              <a:prstGeom prst="blockArc">
                <a:avLst>
                  <a:gd name="adj1" fmla="val 11249267"/>
                  <a:gd name="adj2" fmla="val 21150733"/>
                  <a:gd name="adj3" fmla="val 8009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"/>
              <p:cNvGrpSpPr/>
              <p:nvPr/>
            </p:nvGrpSpPr>
            <p:grpSpPr>
              <a:xfrm>
                <a:off x="3249720" y="1096200"/>
                <a:ext cx="339120" cy="288360"/>
                <a:chOff x="3249720" y="1096200"/>
                <a:chExt cx="339120" cy="288360"/>
              </a:xfrm>
            </p:grpSpPr>
            <p:sp>
              <p:nvSpPr>
                <p:cNvPr id="1420" name=""/>
                <p:cNvSpPr/>
                <p:nvPr/>
              </p:nvSpPr>
              <p:spPr>
                <a:xfrm rot="3600000">
                  <a:off x="3322440" y="1169280"/>
                  <a:ext cx="21960" cy="18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 rot="20700000">
                  <a:off x="3380760" y="1111320"/>
                  <a:ext cx="137160" cy="14580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 flipH="1" rot="8100000">
                  <a:off x="3420360" y="1181520"/>
                  <a:ext cx="136800" cy="14616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 rot="3600000">
                  <a:off x="3492000" y="1185840"/>
                  <a:ext cx="33120" cy="219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 rot="3600000">
                  <a:off x="3343680" y="1219320"/>
                  <a:ext cx="21240" cy="208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5" name=""/>
              <p:cNvGrpSpPr/>
              <p:nvPr/>
            </p:nvGrpSpPr>
            <p:grpSpPr>
              <a:xfrm>
                <a:off x="3237480" y="1376280"/>
                <a:ext cx="339480" cy="281520"/>
                <a:chOff x="3237480" y="1376280"/>
                <a:chExt cx="339480" cy="281520"/>
              </a:xfrm>
            </p:grpSpPr>
            <p:sp>
              <p:nvSpPr>
                <p:cNvPr id="1426" name=""/>
                <p:cNvSpPr/>
                <p:nvPr/>
              </p:nvSpPr>
              <p:spPr>
                <a:xfrm flipV="1" rot="18000000">
                  <a:off x="3310560" y="1403280"/>
                  <a:ext cx="21600" cy="18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 flipV="1" rot="900000">
                  <a:off x="3369240" y="1495800"/>
                  <a:ext cx="137160" cy="1465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 flipH="1" flipV="1" rot="13500000">
                  <a:off x="3407760" y="1425600"/>
                  <a:ext cx="136800" cy="1465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 flipV="1" rot="18000000">
                  <a:off x="3480480" y="1545840"/>
                  <a:ext cx="33840" cy="216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 flipV="1" rot="18000000">
                  <a:off x="3335400" y="1336320"/>
                  <a:ext cx="22320" cy="196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1" name=""/>
              <p:cNvGrpSpPr/>
              <p:nvPr/>
            </p:nvGrpSpPr>
            <p:grpSpPr>
              <a:xfrm>
                <a:off x="2549880" y="1096200"/>
                <a:ext cx="338760" cy="289800"/>
                <a:chOff x="2549880" y="1096200"/>
                <a:chExt cx="338760" cy="289800"/>
              </a:xfrm>
            </p:grpSpPr>
            <p:sp>
              <p:nvSpPr>
                <p:cNvPr id="1432" name=""/>
                <p:cNvSpPr/>
                <p:nvPr/>
              </p:nvSpPr>
              <p:spPr>
                <a:xfrm flipH="1" rot="18000000">
                  <a:off x="2793600" y="1169640"/>
                  <a:ext cx="21960" cy="18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 flipH="1" rot="900000">
                  <a:off x="2620080" y="1111320"/>
                  <a:ext cx="137160" cy="14616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 rot="13500000">
                  <a:off x="2581560" y="1181520"/>
                  <a:ext cx="136800" cy="14616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 flipH="1" rot="18000000">
                  <a:off x="2612880" y="1185840"/>
                  <a:ext cx="33120" cy="219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 flipH="1" rot="18000000">
                  <a:off x="2772720" y="1219680"/>
                  <a:ext cx="21240" cy="208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7" name=""/>
              <p:cNvGrpSpPr/>
              <p:nvPr/>
            </p:nvGrpSpPr>
            <p:grpSpPr>
              <a:xfrm>
                <a:off x="2538360" y="1375920"/>
                <a:ext cx="339480" cy="281880"/>
                <a:chOff x="2538360" y="1375920"/>
                <a:chExt cx="339480" cy="281880"/>
              </a:xfrm>
            </p:grpSpPr>
            <p:sp>
              <p:nvSpPr>
                <p:cNvPr id="1438" name=""/>
                <p:cNvSpPr/>
                <p:nvPr/>
              </p:nvSpPr>
              <p:spPr>
                <a:xfrm flipH="1" flipV="1" rot="3600000">
                  <a:off x="2782440" y="1403280"/>
                  <a:ext cx="21600" cy="18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 flipH="1" flipV="1" rot="20700000">
                  <a:off x="2608560" y="1495800"/>
                  <a:ext cx="137160" cy="1465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 flipV="1" rot="8100000">
                  <a:off x="2570040" y="1425600"/>
                  <a:ext cx="136800" cy="1465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 flipH="1" flipV="1" rot="3600000">
                  <a:off x="2600280" y="1545840"/>
                  <a:ext cx="33840" cy="216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 flipH="1" flipV="1" rot="3600000">
                  <a:off x="2757240" y="1335960"/>
                  <a:ext cx="22320" cy="196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"/>
          <p:cNvGrpSpPr/>
          <p:nvPr/>
        </p:nvGrpSpPr>
        <p:grpSpPr>
          <a:xfrm>
            <a:off x="4111560" y="252360"/>
            <a:ext cx="1711440" cy="1528920"/>
            <a:chOff x="4111560" y="252360"/>
            <a:chExt cx="1711440" cy="1528920"/>
          </a:xfrm>
        </p:grpSpPr>
        <p:grpSp>
          <p:nvGrpSpPr>
            <p:cNvPr id="1444" name=""/>
            <p:cNvGrpSpPr/>
            <p:nvPr/>
          </p:nvGrpSpPr>
          <p:grpSpPr>
            <a:xfrm>
              <a:off x="4111560" y="252360"/>
              <a:ext cx="1711440" cy="1528920"/>
              <a:chOff x="4111560" y="252360"/>
              <a:chExt cx="1711440" cy="1528920"/>
            </a:xfrm>
          </p:grpSpPr>
          <p:sp>
            <p:nvSpPr>
              <p:cNvPr id="1445" name=""/>
              <p:cNvSpPr/>
              <p:nvPr/>
            </p:nvSpPr>
            <p:spPr>
              <a:xfrm>
                <a:off x="4132440" y="27144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111560" y="252360"/>
                <a:ext cx="1711440" cy="152892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49" y="936"/>
                    </a:moveTo>
                    <a:lnTo>
                      <a:pt x="539" y="935"/>
                    </a:lnTo>
                    <a:lnTo>
                      <a:pt x="539" y="963"/>
                    </a:lnTo>
                    <a:lnTo>
                      <a:pt x="29" y="963"/>
                    </a:lnTo>
                    <a:cubicBezTo>
                      <a:pt x="29" y="963"/>
                      <a:pt x="10" y="952"/>
                      <a:pt x="0" y="935"/>
                    </a:cubicBezTo>
                    <a:cubicBezTo>
                      <a:pt x="0" y="921"/>
                      <a:pt x="0" y="907"/>
                      <a:pt x="0" y="907"/>
                    </a:cubicBezTo>
                    <a:lnTo>
                      <a:pt x="511" y="28"/>
                    </a:lnTo>
                    <a:cubicBezTo>
                      <a:pt x="511" y="28"/>
                      <a:pt x="519" y="1"/>
                      <a:pt x="539" y="0"/>
                    </a:cubicBezTo>
                    <a:cubicBezTo>
                      <a:pt x="562" y="0"/>
                      <a:pt x="567" y="28"/>
                      <a:pt x="567" y="28"/>
                    </a:cubicBezTo>
                    <a:lnTo>
                      <a:pt x="1078" y="907"/>
                    </a:lnTo>
                    <a:cubicBezTo>
                      <a:pt x="1078" y="907"/>
                      <a:pt x="1078" y="921"/>
                      <a:pt x="1078" y="935"/>
                    </a:cubicBezTo>
                    <a:cubicBezTo>
                      <a:pt x="1068" y="955"/>
                      <a:pt x="1049" y="963"/>
                      <a:pt x="1049" y="963"/>
                    </a:cubicBezTo>
                    <a:lnTo>
                      <a:pt x="539" y="963"/>
                    </a:lnTo>
                    <a:lnTo>
                      <a:pt x="539" y="935"/>
                    </a:lnTo>
                    <a:lnTo>
                      <a:pt x="1024" y="936"/>
                    </a:lnTo>
                    <a:lnTo>
                      <a:pt x="1044" y="930"/>
                    </a:lnTo>
                    <a:lnTo>
                      <a:pt x="1048" y="918"/>
                    </a:lnTo>
                    <a:lnTo>
                      <a:pt x="1044" y="907"/>
                    </a:lnTo>
                    <a:lnTo>
                      <a:pt x="550" y="49"/>
                    </a:lnTo>
                    <a:cubicBezTo>
                      <a:pt x="550" y="49"/>
                      <a:pt x="547" y="40"/>
                      <a:pt x="538" y="37"/>
                    </a:cubicBezTo>
                    <a:cubicBezTo>
                      <a:pt x="526" y="42"/>
                      <a:pt x="526" y="52"/>
                      <a:pt x="526" y="52"/>
                    </a:cubicBezTo>
                    <a:lnTo>
                      <a:pt x="40" y="900"/>
                    </a:lnTo>
                    <a:lnTo>
                      <a:pt x="34" y="910"/>
                    </a:lnTo>
                    <a:lnTo>
                      <a:pt x="34" y="925"/>
                    </a:lnTo>
                    <a:lnTo>
                      <a:pt x="49" y="9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7" name=""/>
            <p:cNvGrpSpPr/>
            <p:nvPr/>
          </p:nvGrpSpPr>
          <p:grpSpPr>
            <a:xfrm>
              <a:off x="4433760" y="814320"/>
              <a:ext cx="1050840" cy="843480"/>
              <a:chOff x="4433760" y="814320"/>
              <a:chExt cx="1050840" cy="843480"/>
            </a:xfrm>
          </p:grpSpPr>
          <p:sp>
            <p:nvSpPr>
              <p:cNvPr id="1448" name=""/>
              <p:cNvSpPr/>
              <p:nvPr/>
            </p:nvSpPr>
            <p:spPr>
              <a:xfrm>
                <a:off x="4667760" y="814320"/>
                <a:ext cx="608400" cy="560520"/>
              </a:xfrm>
              <a:prstGeom prst="donut">
                <a:avLst>
                  <a:gd name="adj" fmla="val 5453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rot="10800000">
                <a:off x="4759200" y="1168200"/>
                <a:ext cx="424440" cy="366120"/>
              </a:xfrm>
              <a:prstGeom prst="blockArc">
                <a:avLst>
                  <a:gd name="adj1" fmla="val 9691480"/>
                  <a:gd name="adj2" fmla="val 1108520"/>
                  <a:gd name="adj3" fmla="val 844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4929840" y="1224000"/>
                <a:ext cx="36360" cy="81720"/>
              </a:xfrm>
              <a:custGeom>
                <a:avLst/>
                <a:gdLst/>
                <a:ahLst/>
                <a:rect l="l" t="t" r="r" b="b"/>
                <a:pathLst>
                  <a:path w="104" h="264">
                    <a:moveTo>
                      <a:pt x="90" y="5"/>
                    </a:moveTo>
                    <a:cubicBezTo>
                      <a:pt x="104" y="10"/>
                      <a:pt x="104" y="198"/>
                      <a:pt x="90" y="231"/>
                    </a:cubicBezTo>
                    <a:cubicBezTo>
                      <a:pt x="76" y="264"/>
                      <a:pt x="10" y="241"/>
                      <a:pt x="5" y="203"/>
                    </a:cubicBezTo>
                    <a:cubicBezTo>
                      <a:pt x="0" y="165"/>
                      <a:pt x="76" y="0"/>
                      <a:pt x="90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flipH="1">
                <a:off x="4977000" y="1225800"/>
                <a:ext cx="36360" cy="81720"/>
              </a:xfrm>
              <a:custGeom>
                <a:avLst/>
                <a:gdLst/>
                <a:ahLst/>
                <a:rect l="l" t="t" r="r" b="b"/>
                <a:pathLst>
                  <a:path w="104" h="264">
                    <a:moveTo>
                      <a:pt x="90" y="5"/>
                    </a:moveTo>
                    <a:cubicBezTo>
                      <a:pt x="104" y="10"/>
                      <a:pt x="104" y="198"/>
                      <a:pt x="90" y="231"/>
                    </a:cubicBezTo>
                    <a:cubicBezTo>
                      <a:pt x="76" y="264"/>
                      <a:pt x="10" y="241"/>
                      <a:pt x="5" y="203"/>
                    </a:cubicBezTo>
                    <a:cubicBezTo>
                      <a:pt x="0" y="165"/>
                      <a:pt x="76" y="0"/>
                      <a:pt x="90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rot="16200000">
                <a:off x="4685760" y="967680"/>
                <a:ext cx="423360" cy="367200"/>
              </a:xfrm>
              <a:prstGeom prst="blockArc">
                <a:avLst>
                  <a:gd name="adj1" fmla="val 13926246"/>
                  <a:gd name="adj2" fmla="val 18473754"/>
                  <a:gd name="adj3" fmla="val 6616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flipH="1" rot="5400000">
                <a:off x="4834800" y="967680"/>
                <a:ext cx="423360" cy="367200"/>
              </a:xfrm>
              <a:prstGeom prst="blockArc">
                <a:avLst>
                  <a:gd name="adj1" fmla="val 13926246"/>
                  <a:gd name="adj2" fmla="val 18473754"/>
                  <a:gd name="adj3" fmla="val 6616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rot="10800000">
                <a:off x="4827960" y="1213920"/>
                <a:ext cx="286920" cy="247320"/>
              </a:xfrm>
              <a:prstGeom prst="blockArc">
                <a:avLst>
                  <a:gd name="adj1" fmla="val 10585157"/>
                  <a:gd name="adj2" fmla="val 214843"/>
                  <a:gd name="adj3" fmla="val 12199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 rot="20700000">
                <a:off x="4783680" y="1112400"/>
                <a:ext cx="149400" cy="123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flipH="1" rot="900000">
                <a:off x="5000400" y="1111320"/>
                <a:ext cx="149400" cy="123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rot="10800000">
                <a:off x="4896720" y="1260000"/>
                <a:ext cx="149400" cy="149400"/>
              </a:xfrm>
              <a:prstGeom prst="blockArc">
                <a:avLst>
                  <a:gd name="adj1" fmla="val 11249267"/>
                  <a:gd name="adj2" fmla="val 21150733"/>
                  <a:gd name="adj3" fmla="val 8009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8" name=""/>
              <p:cNvGrpSpPr/>
              <p:nvPr/>
            </p:nvGrpSpPr>
            <p:grpSpPr>
              <a:xfrm>
                <a:off x="5145480" y="1096200"/>
                <a:ext cx="339120" cy="288360"/>
                <a:chOff x="5145480" y="1096200"/>
                <a:chExt cx="339120" cy="288360"/>
              </a:xfrm>
            </p:grpSpPr>
            <p:sp>
              <p:nvSpPr>
                <p:cNvPr id="1459" name=""/>
                <p:cNvSpPr/>
                <p:nvPr/>
              </p:nvSpPr>
              <p:spPr>
                <a:xfrm rot="3600000">
                  <a:off x="5218200" y="1169280"/>
                  <a:ext cx="21960" cy="18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 rot="20700000">
                  <a:off x="5276520" y="1111320"/>
                  <a:ext cx="137160" cy="14580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 flipH="1" rot="8100000">
                  <a:off x="5316120" y="1181520"/>
                  <a:ext cx="136800" cy="14616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 rot="3600000">
                  <a:off x="5387760" y="1185840"/>
                  <a:ext cx="33120" cy="219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 rot="3600000">
                  <a:off x="5239440" y="1219320"/>
                  <a:ext cx="21240" cy="208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4" name=""/>
              <p:cNvGrpSpPr/>
              <p:nvPr/>
            </p:nvGrpSpPr>
            <p:grpSpPr>
              <a:xfrm>
                <a:off x="5133240" y="1376280"/>
                <a:ext cx="339480" cy="281520"/>
                <a:chOff x="5133240" y="1376280"/>
                <a:chExt cx="339480" cy="281520"/>
              </a:xfrm>
            </p:grpSpPr>
            <p:sp>
              <p:nvSpPr>
                <p:cNvPr id="1465" name=""/>
                <p:cNvSpPr/>
                <p:nvPr/>
              </p:nvSpPr>
              <p:spPr>
                <a:xfrm flipV="1" rot="18000000">
                  <a:off x="5206320" y="1403280"/>
                  <a:ext cx="21600" cy="18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 flipV="1" rot="900000">
                  <a:off x="5265000" y="1495800"/>
                  <a:ext cx="137160" cy="1465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 flipH="1" flipV="1" rot="13500000">
                  <a:off x="5303520" y="1425600"/>
                  <a:ext cx="136800" cy="1465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 flipV="1" rot="18000000">
                  <a:off x="5376240" y="1545840"/>
                  <a:ext cx="33840" cy="216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 flipV="1" rot="18000000">
                  <a:off x="5231160" y="1336320"/>
                  <a:ext cx="22320" cy="196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0" name=""/>
              <p:cNvGrpSpPr/>
              <p:nvPr/>
            </p:nvGrpSpPr>
            <p:grpSpPr>
              <a:xfrm>
                <a:off x="4445280" y="1096200"/>
                <a:ext cx="338760" cy="289800"/>
                <a:chOff x="4445280" y="1096200"/>
                <a:chExt cx="338760" cy="289800"/>
              </a:xfrm>
            </p:grpSpPr>
            <p:sp>
              <p:nvSpPr>
                <p:cNvPr id="1471" name=""/>
                <p:cNvSpPr/>
                <p:nvPr/>
              </p:nvSpPr>
              <p:spPr>
                <a:xfrm flipH="1" rot="18000000">
                  <a:off x="4689000" y="1169640"/>
                  <a:ext cx="21960" cy="18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 flipH="1" rot="900000">
                  <a:off x="4515480" y="1111320"/>
                  <a:ext cx="137160" cy="14616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 rot="13500000">
                  <a:off x="4476960" y="1181520"/>
                  <a:ext cx="136800" cy="14616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 flipH="1" rot="18000000">
                  <a:off x="4508280" y="1185840"/>
                  <a:ext cx="33120" cy="219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 flipH="1" rot="18000000">
                  <a:off x="4668120" y="1219680"/>
                  <a:ext cx="21240" cy="208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6" name=""/>
              <p:cNvGrpSpPr/>
              <p:nvPr/>
            </p:nvGrpSpPr>
            <p:grpSpPr>
              <a:xfrm>
                <a:off x="4433760" y="1375920"/>
                <a:ext cx="339480" cy="281880"/>
                <a:chOff x="4433760" y="1375920"/>
                <a:chExt cx="339480" cy="281880"/>
              </a:xfrm>
            </p:grpSpPr>
            <p:sp>
              <p:nvSpPr>
                <p:cNvPr id="1477" name=""/>
                <p:cNvSpPr/>
                <p:nvPr/>
              </p:nvSpPr>
              <p:spPr>
                <a:xfrm flipH="1" flipV="1" rot="3600000">
                  <a:off x="4677840" y="1403280"/>
                  <a:ext cx="21600" cy="18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 flipH="1" flipV="1" rot="20700000">
                  <a:off x="4503960" y="1495800"/>
                  <a:ext cx="137160" cy="1465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 flipV="1" rot="8100000">
                  <a:off x="4465440" y="1425600"/>
                  <a:ext cx="136800" cy="1465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 flipH="1" flipV="1" rot="3600000">
                  <a:off x="4495680" y="1545840"/>
                  <a:ext cx="33840" cy="216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 flipH="1" flipV="1" rot="3600000">
                  <a:off x="4652640" y="1335960"/>
                  <a:ext cx="22320" cy="196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82" name=""/>
          <p:cNvGrpSpPr/>
          <p:nvPr/>
        </p:nvGrpSpPr>
        <p:grpSpPr>
          <a:xfrm>
            <a:off x="5977080" y="235080"/>
            <a:ext cx="1711080" cy="1528560"/>
            <a:chOff x="5977080" y="235080"/>
            <a:chExt cx="1711080" cy="1528560"/>
          </a:xfrm>
        </p:grpSpPr>
        <p:grpSp>
          <p:nvGrpSpPr>
            <p:cNvPr id="1483" name=""/>
            <p:cNvGrpSpPr/>
            <p:nvPr/>
          </p:nvGrpSpPr>
          <p:grpSpPr>
            <a:xfrm>
              <a:off x="5977080" y="235080"/>
              <a:ext cx="1711080" cy="1528560"/>
              <a:chOff x="5977080" y="235080"/>
              <a:chExt cx="1711080" cy="1528560"/>
            </a:xfrm>
          </p:grpSpPr>
          <p:sp>
            <p:nvSpPr>
              <p:cNvPr id="1484" name=""/>
              <p:cNvSpPr/>
              <p:nvPr/>
            </p:nvSpPr>
            <p:spPr>
              <a:xfrm>
                <a:off x="5997600" y="254160"/>
                <a:ext cx="1670040" cy="149040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5977080" y="235080"/>
                <a:ext cx="1711080" cy="15285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49" y="936"/>
                    </a:moveTo>
                    <a:lnTo>
                      <a:pt x="539" y="935"/>
                    </a:lnTo>
                    <a:lnTo>
                      <a:pt x="539" y="963"/>
                    </a:lnTo>
                    <a:lnTo>
                      <a:pt x="29" y="963"/>
                    </a:lnTo>
                    <a:cubicBezTo>
                      <a:pt x="29" y="963"/>
                      <a:pt x="10" y="952"/>
                      <a:pt x="0" y="935"/>
                    </a:cubicBezTo>
                    <a:cubicBezTo>
                      <a:pt x="0" y="921"/>
                      <a:pt x="0" y="907"/>
                      <a:pt x="0" y="907"/>
                    </a:cubicBezTo>
                    <a:lnTo>
                      <a:pt x="511" y="28"/>
                    </a:lnTo>
                    <a:cubicBezTo>
                      <a:pt x="511" y="28"/>
                      <a:pt x="519" y="1"/>
                      <a:pt x="539" y="0"/>
                    </a:cubicBezTo>
                    <a:cubicBezTo>
                      <a:pt x="562" y="0"/>
                      <a:pt x="567" y="28"/>
                      <a:pt x="567" y="28"/>
                    </a:cubicBezTo>
                    <a:lnTo>
                      <a:pt x="1078" y="907"/>
                    </a:lnTo>
                    <a:cubicBezTo>
                      <a:pt x="1078" y="907"/>
                      <a:pt x="1078" y="921"/>
                      <a:pt x="1078" y="935"/>
                    </a:cubicBezTo>
                    <a:cubicBezTo>
                      <a:pt x="1068" y="955"/>
                      <a:pt x="1049" y="963"/>
                      <a:pt x="1049" y="963"/>
                    </a:cubicBezTo>
                    <a:lnTo>
                      <a:pt x="539" y="963"/>
                    </a:lnTo>
                    <a:lnTo>
                      <a:pt x="539" y="935"/>
                    </a:lnTo>
                    <a:lnTo>
                      <a:pt x="1024" y="936"/>
                    </a:lnTo>
                    <a:lnTo>
                      <a:pt x="1044" y="930"/>
                    </a:lnTo>
                    <a:lnTo>
                      <a:pt x="1048" y="918"/>
                    </a:lnTo>
                    <a:lnTo>
                      <a:pt x="1044" y="907"/>
                    </a:lnTo>
                    <a:lnTo>
                      <a:pt x="550" y="49"/>
                    </a:lnTo>
                    <a:cubicBezTo>
                      <a:pt x="550" y="49"/>
                      <a:pt x="547" y="40"/>
                      <a:pt x="538" y="37"/>
                    </a:cubicBezTo>
                    <a:cubicBezTo>
                      <a:pt x="526" y="42"/>
                      <a:pt x="526" y="52"/>
                      <a:pt x="526" y="52"/>
                    </a:cubicBezTo>
                    <a:lnTo>
                      <a:pt x="40" y="900"/>
                    </a:lnTo>
                    <a:lnTo>
                      <a:pt x="34" y="910"/>
                    </a:lnTo>
                    <a:lnTo>
                      <a:pt x="34" y="925"/>
                    </a:lnTo>
                    <a:lnTo>
                      <a:pt x="49" y="9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6" name=""/>
            <p:cNvGrpSpPr/>
            <p:nvPr/>
          </p:nvGrpSpPr>
          <p:grpSpPr>
            <a:xfrm>
              <a:off x="6291360" y="814320"/>
              <a:ext cx="1050480" cy="843480"/>
              <a:chOff x="6291360" y="814320"/>
              <a:chExt cx="1050480" cy="843480"/>
            </a:xfrm>
          </p:grpSpPr>
          <p:sp>
            <p:nvSpPr>
              <p:cNvPr id="1487" name=""/>
              <p:cNvSpPr/>
              <p:nvPr/>
            </p:nvSpPr>
            <p:spPr>
              <a:xfrm>
                <a:off x="6525000" y="814320"/>
                <a:ext cx="608400" cy="560520"/>
              </a:xfrm>
              <a:prstGeom prst="donut">
                <a:avLst>
                  <a:gd name="adj" fmla="val 5453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rot="10800000">
                <a:off x="6616800" y="1168200"/>
                <a:ext cx="424440" cy="366120"/>
              </a:xfrm>
              <a:prstGeom prst="blockArc">
                <a:avLst>
                  <a:gd name="adj1" fmla="val 9691480"/>
                  <a:gd name="adj2" fmla="val 1108520"/>
                  <a:gd name="adj3" fmla="val 844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6787440" y="1224000"/>
                <a:ext cx="36360" cy="81720"/>
              </a:xfrm>
              <a:custGeom>
                <a:avLst/>
                <a:gdLst/>
                <a:ahLst/>
                <a:rect l="l" t="t" r="r" b="b"/>
                <a:pathLst>
                  <a:path w="104" h="264">
                    <a:moveTo>
                      <a:pt x="90" y="5"/>
                    </a:moveTo>
                    <a:cubicBezTo>
                      <a:pt x="104" y="10"/>
                      <a:pt x="104" y="198"/>
                      <a:pt x="90" y="231"/>
                    </a:cubicBezTo>
                    <a:cubicBezTo>
                      <a:pt x="76" y="264"/>
                      <a:pt x="10" y="241"/>
                      <a:pt x="5" y="203"/>
                    </a:cubicBezTo>
                    <a:cubicBezTo>
                      <a:pt x="0" y="165"/>
                      <a:pt x="76" y="0"/>
                      <a:pt x="90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H="1">
                <a:off x="6834600" y="1225800"/>
                <a:ext cx="36360" cy="81720"/>
              </a:xfrm>
              <a:custGeom>
                <a:avLst/>
                <a:gdLst/>
                <a:ahLst/>
                <a:rect l="l" t="t" r="r" b="b"/>
                <a:pathLst>
                  <a:path w="104" h="264">
                    <a:moveTo>
                      <a:pt x="90" y="5"/>
                    </a:moveTo>
                    <a:cubicBezTo>
                      <a:pt x="104" y="10"/>
                      <a:pt x="104" y="198"/>
                      <a:pt x="90" y="231"/>
                    </a:cubicBezTo>
                    <a:cubicBezTo>
                      <a:pt x="76" y="264"/>
                      <a:pt x="10" y="241"/>
                      <a:pt x="5" y="203"/>
                    </a:cubicBezTo>
                    <a:cubicBezTo>
                      <a:pt x="0" y="165"/>
                      <a:pt x="76" y="0"/>
                      <a:pt x="90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rot="16200000">
                <a:off x="6543000" y="967680"/>
                <a:ext cx="423360" cy="367200"/>
              </a:xfrm>
              <a:prstGeom prst="blockArc">
                <a:avLst>
                  <a:gd name="adj1" fmla="val 13926246"/>
                  <a:gd name="adj2" fmla="val 18473754"/>
                  <a:gd name="adj3" fmla="val 6616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flipH="1" rot="5400000">
                <a:off x="6692040" y="967680"/>
                <a:ext cx="423360" cy="367200"/>
              </a:xfrm>
              <a:prstGeom prst="blockArc">
                <a:avLst>
                  <a:gd name="adj1" fmla="val 13926246"/>
                  <a:gd name="adj2" fmla="val 18473754"/>
                  <a:gd name="adj3" fmla="val 6616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 rot="10800000">
                <a:off x="6685560" y="1213920"/>
                <a:ext cx="286920" cy="247320"/>
              </a:xfrm>
              <a:prstGeom prst="blockArc">
                <a:avLst>
                  <a:gd name="adj1" fmla="val 10585157"/>
                  <a:gd name="adj2" fmla="val 214843"/>
                  <a:gd name="adj3" fmla="val 12199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rot="20700000">
                <a:off x="6641280" y="1112400"/>
                <a:ext cx="149040" cy="123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H="1" rot="900000">
                <a:off x="6857640" y="1111320"/>
                <a:ext cx="149400" cy="123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rot="10800000">
                <a:off x="6754680" y="1260000"/>
                <a:ext cx="149040" cy="149400"/>
              </a:xfrm>
              <a:prstGeom prst="blockArc">
                <a:avLst>
                  <a:gd name="adj1" fmla="val 11249267"/>
                  <a:gd name="adj2" fmla="val 21150733"/>
                  <a:gd name="adj3" fmla="val 8009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7" name=""/>
              <p:cNvGrpSpPr/>
              <p:nvPr/>
            </p:nvGrpSpPr>
            <p:grpSpPr>
              <a:xfrm>
                <a:off x="7002720" y="1096200"/>
                <a:ext cx="339120" cy="288360"/>
                <a:chOff x="7002720" y="1096200"/>
                <a:chExt cx="339120" cy="288360"/>
              </a:xfrm>
            </p:grpSpPr>
            <p:sp>
              <p:nvSpPr>
                <p:cNvPr id="1498" name=""/>
                <p:cNvSpPr/>
                <p:nvPr/>
              </p:nvSpPr>
              <p:spPr>
                <a:xfrm rot="3600000">
                  <a:off x="7075440" y="1169280"/>
                  <a:ext cx="21960" cy="18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 rot="20700000">
                  <a:off x="7133760" y="1111320"/>
                  <a:ext cx="137160" cy="14580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 flipH="1" rot="8100000">
                  <a:off x="7173360" y="1181520"/>
                  <a:ext cx="136800" cy="14616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 rot="3600000">
                  <a:off x="7245000" y="1185840"/>
                  <a:ext cx="33120" cy="219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 rot="3600000">
                  <a:off x="7096680" y="1219320"/>
                  <a:ext cx="21240" cy="208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3" name=""/>
              <p:cNvGrpSpPr/>
              <p:nvPr/>
            </p:nvGrpSpPr>
            <p:grpSpPr>
              <a:xfrm>
                <a:off x="6990480" y="1376280"/>
                <a:ext cx="339480" cy="281520"/>
                <a:chOff x="6990480" y="1376280"/>
                <a:chExt cx="339480" cy="281520"/>
              </a:xfrm>
            </p:grpSpPr>
            <p:sp>
              <p:nvSpPr>
                <p:cNvPr id="1504" name=""/>
                <p:cNvSpPr/>
                <p:nvPr/>
              </p:nvSpPr>
              <p:spPr>
                <a:xfrm flipV="1" rot="18000000">
                  <a:off x="7063560" y="1403280"/>
                  <a:ext cx="21600" cy="18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 flipV="1" rot="900000">
                  <a:off x="7122240" y="1495800"/>
                  <a:ext cx="137160" cy="1465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 flipH="1" flipV="1" rot="13500000">
                  <a:off x="7160760" y="1425600"/>
                  <a:ext cx="136800" cy="1465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 flipV="1" rot="18000000">
                  <a:off x="7233480" y="1545840"/>
                  <a:ext cx="33840" cy="216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 flipV="1" rot="18000000">
                  <a:off x="7088400" y="1336320"/>
                  <a:ext cx="22320" cy="196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9" name=""/>
              <p:cNvGrpSpPr/>
              <p:nvPr/>
            </p:nvGrpSpPr>
            <p:grpSpPr>
              <a:xfrm>
                <a:off x="6302880" y="1096200"/>
                <a:ext cx="338760" cy="289800"/>
                <a:chOff x="6302880" y="1096200"/>
                <a:chExt cx="338760" cy="289800"/>
              </a:xfrm>
            </p:grpSpPr>
            <p:sp>
              <p:nvSpPr>
                <p:cNvPr id="1510" name=""/>
                <p:cNvSpPr/>
                <p:nvPr/>
              </p:nvSpPr>
              <p:spPr>
                <a:xfrm flipH="1" rot="18000000">
                  <a:off x="6546600" y="1169640"/>
                  <a:ext cx="21960" cy="18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 flipH="1" rot="900000">
                  <a:off x="6373080" y="1111320"/>
                  <a:ext cx="137160" cy="14616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 rot="13500000">
                  <a:off x="6334560" y="1181520"/>
                  <a:ext cx="136800" cy="14616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 flipH="1" rot="18000000">
                  <a:off x="6365880" y="1185840"/>
                  <a:ext cx="33120" cy="219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 flipH="1" rot="18000000">
                  <a:off x="6525720" y="1219680"/>
                  <a:ext cx="21240" cy="208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5" name=""/>
              <p:cNvGrpSpPr/>
              <p:nvPr/>
            </p:nvGrpSpPr>
            <p:grpSpPr>
              <a:xfrm>
                <a:off x="6291360" y="1375920"/>
                <a:ext cx="339480" cy="281880"/>
                <a:chOff x="6291360" y="1375920"/>
                <a:chExt cx="339480" cy="281880"/>
              </a:xfrm>
            </p:grpSpPr>
            <p:sp>
              <p:nvSpPr>
                <p:cNvPr id="1516" name=""/>
                <p:cNvSpPr/>
                <p:nvPr/>
              </p:nvSpPr>
              <p:spPr>
                <a:xfrm flipH="1" flipV="1" rot="3600000">
                  <a:off x="6535440" y="1403280"/>
                  <a:ext cx="21600" cy="18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 flipH="1" flipV="1" rot="20700000">
                  <a:off x="6361560" y="1495800"/>
                  <a:ext cx="137160" cy="1465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 flipV="1" rot="8100000">
                  <a:off x="6323040" y="1425600"/>
                  <a:ext cx="136800" cy="1465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 flipH="1" flipV="1" rot="3600000">
                  <a:off x="6353280" y="1545840"/>
                  <a:ext cx="33840" cy="216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 flipH="1" flipV="1" rot="3600000">
                  <a:off x="6510240" y="1335960"/>
                  <a:ext cx="22320" cy="196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21" name=""/>
          <p:cNvGrpSpPr/>
          <p:nvPr/>
        </p:nvGrpSpPr>
        <p:grpSpPr>
          <a:xfrm>
            <a:off x="7862760" y="233280"/>
            <a:ext cx="1711440" cy="1528920"/>
            <a:chOff x="7862760" y="233280"/>
            <a:chExt cx="1711440" cy="1528920"/>
          </a:xfrm>
        </p:grpSpPr>
        <p:grpSp>
          <p:nvGrpSpPr>
            <p:cNvPr id="1522" name=""/>
            <p:cNvGrpSpPr/>
            <p:nvPr/>
          </p:nvGrpSpPr>
          <p:grpSpPr>
            <a:xfrm>
              <a:off x="7862760" y="233280"/>
              <a:ext cx="1711440" cy="1528920"/>
              <a:chOff x="7862760" y="233280"/>
              <a:chExt cx="1711440" cy="1528920"/>
            </a:xfrm>
          </p:grpSpPr>
          <p:sp>
            <p:nvSpPr>
              <p:cNvPr id="1523" name=""/>
              <p:cNvSpPr/>
              <p:nvPr/>
            </p:nvSpPr>
            <p:spPr>
              <a:xfrm>
                <a:off x="7883640" y="252360"/>
                <a:ext cx="1670040" cy="14907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7862760" y="233280"/>
                <a:ext cx="1711440" cy="152892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49" y="936"/>
                    </a:moveTo>
                    <a:lnTo>
                      <a:pt x="539" y="935"/>
                    </a:lnTo>
                    <a:lnTo>
                      <a:pt x="539" y="963"/>
                    </a:lnTo>
                    <a:lnTo>
                      <a:pt x="29" y="963"/>
                    </a:lnTo>
                    <a:cubicBezTo>
                      <a:pt x="29" y="963"/>
                      <a:pt x="10" y="952"/>
                      <a:pt x="0" y="935"/>
                    </a:cubicBezTo>
                    <a:cubicBezTo>
                      <a:pt x="0" y="921"/>
                      <a:pt x="0" y="907"/>
                      <a:pt x="0" y="907"/>
                    </a:cubicBezTo>
                    <a:lnTo>
                      <a:pt x="511" y="28"/>
                    </a:lnTo>
                    <a:cubicBezTo>
                      <a:pt x="511" y="28"/>
                      <a:pt x="519" y="1"/>
                      <a:pt x="539" y="0"/>
                    </a:cubicBezTo>
                    <a:cubicBezTo>
                      <a:pt x="562" y="0"/>
                      <a:pt x="567" y="28"/>
                      <a:pt x="567" y="28"/>
                    </a:cubicBezTo>
                    <a:lnTo>
                      <a:pt x="1078" y="907"/>
                    </a:lnTo>
                    <a:cubicBezTo>
                      <a:pt x="1078" y="907"/>
                      <a:pt x="1078" y="921"/>
                      <a:pt x="1078" y="935"/>
                    </a:cubicBezTo>
                    <a:cubicBezTo>
                      <a:pt x="1068" y="955"/>
                      <a:pt x="1049" y="963"/>
                      <a:pt x="1049" y="963"/>
                    </a:cubicBezTo>
                    <a:lnTo>
                      <a:pt x="539" y="963"/>
                    </a:lnTo>
                    <a:lnTo>
                      <a:pt x="539" y="935"/>
                    </a:lnTo>
                    <a:lnTo>
                      <a:pt x="1024" y="936"/>
                    </a:lnTo>
                    <a:lnTo>
                      <a:pt x="1044" y="930"/>
                    </a:lnTo>
                    <a:lnTo>
                      <a:pt x="1048" y="918"/>
                    </a:lnTo>
                    <a:lnTo>
                      <a:pt x="1044" y="907"/>
                    </a:lnTo>
                    <a:lnTo>
                      <a:pt x="550" y="49"/>
                    </a:lnTo>
                    <a:cubicBezTo>
                      <a:pt x="550" y="49"/>
                      <a:pt x="547" y="40"/>
                      <a:pt x="538" y="37"/>
                    </a:cubicBezTo>
                    <a:cubicBezTo>
                      <a:pt x="526" y="42"/>
                      <a:pt x="526" y="52"/>
                      <a:pt x="526" y="52"/>
                    </a:cubicBezTo>
                    <a:lnTo>
                      <a:pt x="40" y="900"/>
                    </a:lnTo>
                    <a:lnTo>
                      <a:pt x="34" y="910"/>
                    </a:lnTo>
                    <a:lnTo>
                      <a:pt x="34" y="925"/>
                    </a:lnTo>
                    <a:lnTo>
                      <a:pt x="49" y="9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5" name=""/>
            <p:cNvGrpSpPr/>
            <p:nvPr/>
          </p:nvGrpSpPr>
          <p:grpSpPr>
            <a:xfrm>
              <a:off x="8186760" y="814320"/>
              <a:ext cx="1050480" cy="843480"/>
              <a:chOff x="8186760" y="814320"/>
              <a:chExt cx="1050480" cy="843480"/>
            </a:xfrm>
          </p:grpSpPr>
          <p:sp>
            <p:nvSpPr>
              <p:cNvPr id="1526" name=""/>
              <p:cNvSpPr/>
              <p:nvPr/>
            </p:nvSpPr>
            <p:spPr>
              <a:xfrm>
                <a:off x="8420400" y="814320"/>
                <a:ext cx="608400" cy="560520"/>
              </a:xfrm>
              <a:prstGeom prst="donut">
                <a:avLst>
                  <a:gd name="adj" fmla="val 5453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rot="10800000">
                <a:off x="8512200" y="1168200"/>
                <a:ext cx="424440" cy="366120"/>
              </a:xfrm>
              <a:prstGeom prst="blockArc">
                <a:avLst>
                  <a:gd name="adj1" fmla="val 9691480"/>
                  <a:gd name="adj2" fmla="val 1108520"/>
                  <a:gd name="adj3" fmla="val 844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8682840" y="1224000"/>
                <a:ext cx="36360" cy="81720"/>
              </a:xfrm>
              <a:custGeom>
                <a:avLst/>
                <a:gdLst/>
                <a:ahLst/>
                <a:rect l="l" t="t" r="r" b="b"/>
                <a:pathLst>
                  <a:path w="104" h="264">
                    <a:moveTo>
                      <a:pt x="90" y="5"/>
                    </a:moveTo>
                    <a:cubicBezTo>
                      <a:pt x="104" y="10"/>
                      <a:pt x="104" y="198"/>
                      <a:pt x="90" y="231"/>
                    </a:cubicBezTo>
                    <a:cubicBezTo>
                      <a:pt x="76" y="264"/>
                      <a:pt x="10" y="241"/>
                      <a:pt x="5" y="203"/>
                    </a:cubicBezTo>
                    <a:cubicBezTo>
                      <a:pt x="0" y="165"/>
                      <a:pt x="76" y="0"/>
                      <a:pt x="90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flipH="1">
                <a:off x="8730000" y="1225800"/>
                <a:ext cx="36360" cy="81720"/>
              </a:xfrm>
              <a:custGeom>
                <a:avLst/>
                <a:gdLst/>
                <a:ahLst/>
                <a:rect l="l" t="t" r="r" b="b"/>
                <a:pathLst>
                  <a:path w="104" h="264">
                    <a:moveTo>
                      <a:pt x="90" y="5"/>
                    </a:moveTo>
                    <a:cubicBezTo>
                      <a:pt x="104" y="10"/>
                      <a:pt x="104" y="198"/>
                      <a:pt x="90" y="231"/>
                    </a:cubicBezTo>
                    <a:cubicBezTo>
                      <a:pt x="76" y="264"/>
                      <a:pt x="10" y="241"/>
                      <a:pt x="5" y="203"/>
                    </a:cubicBezTo>
                    <a:cubicBezTo>
                      <a:pt x="0" y="165"/>
                      <a:pt x="76" y="0"/>
                      <a:pt x="90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rot="16200000">
                <a:off x="8438400" y="967680"/>
                <a:ext cx="423360" cy="367200"/>
              </a:xfrm>
              <a:prstGeom prst="blockArc">
                <a:avLst>
                  <a:gd name="adj1" fmla="val 13926246"/>
                  <a:gd name="adj2" fmla="val 18473754"/>
                  <a:gd name="adj3" fmla="val 6616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H="1" rot="5400000">
                <a:off x="8587440" y="967680"/>
                <a:ext cx="423360" cy="367200"/>
              </a:xfrm>
              <a:prstGeom prst="blockArc">
                <a:avLst>
                  <a:gd name="adj1" fmla="val 13926246"/>
                  <a:gd name="adj2" fmla="val 18473754"/>
                  <a:gd name="adj3" fmla="val 6616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rot="10800000">
                <a:off x="8580960" y="1213920"/>
                <a:ext cx="286920" cy="247320"/>
              </a:xfrm>
              <a:prstGeom prst="blockArc">
                <a:avLst>
                  <a:gd name="adj1" fmla="val 10585157"/>
                  <a:gd name="adj2" fmla="val 214843"/>
                  <a:gd name="adj3" fmla="val 12199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rot="20700000">
                <a:off x="8536680" y="1112400"/>
                <a:ext cx="149040" cy="123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H="1" rot="900000">
                <a:off x="8753040" y="1111320"/>
                <a:ext cx="149400" cy="123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rot="10800000">
                <a:off x="8650080" y="1260000"/>
                <a:ext cx="149040" cy="149400"/>
              </a:xfrm>
              <a:prstGeom prst="blockArc">
                <a:avLst>
                  <a:gd name="adj1" fmla="val 11249267"/>
                  <a:gd name="adj2" fmla="val 21150733"/>
                  <a:gd name="adj3" fmla="val 8009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6" name=""/>
              <p:cNvGrpSpPr/>
              <p:nvPr/>
            </p:nvGrpSpPr>
            <p:grpSpPr>
              <a:xfrm>
                <a:off x="8898120" y="1096200"/>
                <a:ext cx="339120" cy="288360"/>
                <a:chOff x="8898120" y="1096200"/>
                <a:chExt cx="339120" cy="288360"/>
              </a:xfrm>
            </p:grpSpPr>
            <p:sp>
              <p:nvSpPr>
                <p:cNvPr id="1537" name=""/>
                <p:cNvSpPr/>
                <p:nvPr/>
              </p:nvSpPr>
              <p:spPr>
                <a:xfrm rot="3600000">
                  <a:off x="8970840" y="1169280"/>
                  <a:ext cx="21960" cy="18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 rot="20700000">
                  <a:off x="9029160" y="1111320"/>
                  <a:ext cx="137160" cy="14580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 flipH="1" rot="8100000">
                  <a:off x="9068760" y="1181520"/>
                  <a:ext cx="136800" cy="14616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 rot="3600000">
                  <a:off x="9140400" y="1185840"/>
                  <a:ext cx="33120" cy="219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 rot="3600000">
                  <a:off x="8992080" y="1219320"/>
                  <a:ext cx="21240" cy="208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2" name=""/>
              <p:cNvGrpSpPr/>
              <p:nvPr/>
            </p:nvGrpSpPr>
            <p:grpSpPr>
              <a:xfrm>
                <a:off x="8885880" y="1376280"/>
                <a:ext cx="339480" cy="281520"/>
                <a:chOff x="8885880" y="1376280"/>
                <a:chExt cx="339480" cy="281520"/>
              </a:xfrm>
            </p:grpSpPr>
            <p:sp>
              <p:nvSpPr>
                <p:cNvPr id="1543" name=""/>
                <p:cNvSpPr/>
                <p:nvPr/>
              </p:nvSpPr>
              <p:spPr>
                <a:xfrm flipV="1" rot="18000000">
                  <a:off x="8958960" y="1403280"/>
                  <a:ext cx="21600" cy="18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 flipV="1" rot="900000">
                  <a:off x="9017640" y="1495800"/>
                  <a:ext cx="137160" cy="1465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 flipH="1" flipV="1" rot="13500000">
                  <a:off x="9056160" y="1425600"/>
                  <a:ext cx="136800" cy="1465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 flipV="1" rot="18000000">
                  <a:off x="9128880" y="1545840"/>
                  <a:ext cx="33840" cy="216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 flipV="1" rot="18000000">
                  <a:off x="8983800" y="1336320"/>
                  <a:ext cx="22320" cy="196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8" name=""/>
              <p:cNvGrpSpPr/>
              <p:nvPr/>
            </p:nvGrpSpPr>
            <p:grpSpPr>
              <a:xfrm>
                <a:off x="8198280" y="1096200"/>
                <a:ext cx="338760" cy="289800"/>
                <a:chOff x="8198280" y="1096200"/>
                <a:chExt cx="338760" cy="289800"/>
              </a:xfrm>
            </p:grpSpPr>
            <p:sp>
              <p:nvSpPr>
                <p:cNvPr id="1549" name=""/>
                <p:cNvSpPr/>
                <p:nvPr/>
              </p:nvSpPr>
              <p:spPr>
                <a:xfrm flipH="1" rot="18000000">
                  <a:off x="8442000" y="1169640"/>
                  <a:ext cx="21960" cy="18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 flipH="1" rot="900000">
                  <a:off x="8268480" y="1111320"/>
                  <a:ext cx="137160" cy="14616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 rot="13500000">
                  <a:off x="8229960" y="1181520"/>
                  <a:ext cx="136800" cy="14616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 flipH="1" rot="18000000">
                  <a:off x="8261280" y="1185840"/>
                  <a:ext cx="33120" cy="219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 flipH="1" rot="18000000">
                  <a:off x="8421120" y="1219680"/>
                  <a:ext cx="21240" cy="208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4" name=""/>
              <p:cNvGrpSpPr/>
              <p:nvPr/>
            </p:nvGrpSpPr>
            <p:grpSpPr>
              <a:xfrm>
                <a:off x="8186760" y="1375920"/>
                <a:ext cx="339480" cy="281880"/>
                <a:chOff x="8186760" y="1375920"/>
                <a:chExt cx="339480" cy="281880"/>
              </a:xfrm>
            </p:grpSpPr>
            <p:sp>
              <p:nvSpPr>
                <p:cNvPr id="1555" name=""/>
                <p:cNvSpPr/>
                <p:nvPr/>
              </p:nvSpPr>
              <p:spPr>
                <a:xfrm flipH="1" flipV="1" rot="3600000">
                  <a:off x="8430840" y="1403280"/>
                  <a:ext cx="21600" cy="18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 flipH="1" flipV="1" rot="20700000">
                  <a:off x="8256960" y="1495800"/>
                  <a:ext cx="137160" cy="1465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 flipV="1" rot="8100000">
                  <a:off x="8218440" y="1425600"/>
                  <a:ext cx="136800" cy="1465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 flipH="1" flipV="1" rot="3600000">
                  <a:off x="8248680" y="1545840"/>
                  <a:ext cx="33840" cy="216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 flipH="1" flipV="1" rot="3600000">
                  <a:off x="8405640" y="1335960"/>
                  <a:ext cx="22320" cy="196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60" name=""/>
          <p:cNvGrpSpPr/>
          <p:nvPr/>
        </p:nvGrpSpPr>
        <p:grpSpPr>
          <a:xfrm>
            <a:off x="330120" y="277920"/>
            <a:ext cx="1711440" cy="1528560"/>
            <a:chOff x="330120" y="277920"/>
            <a:chExt cx="1711440" cy="1528560"/>
          </a:xfrm>
        </p:grpSpPr>
        <p:grpSp>
          <p:nvGrpSpPr>
            <p:cNvPr id="1561" name=""/>
            <p:cNvGrpSpPr/>
            <p:nvPr/>
          </p:nvGrpSpPr>
          <p:grpSpPr>
            <a:xfrm>
              <a:off x="330120" y="277920"/>
              <a:ext cx="1711440" cy="1528560"/>
              <a:chOff x="330120" y="277920"/>
              <a:chExt cx="1711440" cy="1528560"/>
            </a:xfrm>
          </p:grpSpPr>
          <p:sp>
            <p:nvSpPr>
              <p:cNvPr id="1562" name=""/>
              <p:cNvSpPr/>
              <p:nvPr/>
            </p:nvSpPr>
            <p:spPr>
              <a:xfrm>
                <a:off x="351000" y="297000"/>
                <a:ext cx="1670040" cy="149040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0" y="935"/>
                    </a:moveTo>
                    <a:lnTo>
                      <a:pt x="0" y="907"/>
                    </a:lnTo>
                    <a:lnTo>
                      <a:pt x="511" y="28"/>
                    </a:lnTo>
                    <a:lnTo>
                      <a:pt x="539" y="0"/>
                    </a:lnTo>
                    <a:lnTo>
                      <a:pt x="567" y="28"/>
                    </a:lnTo>
                    <a:lnTo>
                      <a:pt x="1078" y="907"/>
                    </a:lnTo>
                    <a:lnTo>
                      <a:pt x="1078" y="935"/>
                    </a:lnTo>
                    <a:lnTo>
                      <a:pt x="1049" y="963"/>
                    </a:lnTo>
                    <a:lnTo>
                      <a:pt x="29" y="963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330120" y="277920"/>
                <a:ext cx="1711440" cy="1528560"/>
              </a:xfrm>
              <a:custGeom>
                <a:avLst/>
                <a:gdLst/>
                <a:ahLst/>
                <a:rect l="l" t="t" r="r" b="b"/>
                <a:pathLst>
                  <a:path w="1078" h="963">
                    <a:moveTo>
                      <a:pt x="49" y="936"/>
                    </a:moveTo>
                    <a:lnTo>
                      <a:pt x="539" y="935"/>
                    </a:lnTo>
                    <a:lnTo>
                      <a:pt x="539" y="963"/>
                    </a:lnTo>
                    <a:lnTo>
                      <a:pt x="29" y="963"/>
                    </a:lnTo>
                    <a:cubicBezTo>
                      <a:pt x="29" y="963"/>
                      <a:pt x="10" y="952"/>
                      <a:pt x="0" y="935"/>
                    </a:cubicBezTo>
                    <a:cubicBezTo>
                      <a:pt x="0" y="921"/>
                      <a:pt x="0" y="907"/>
                      <a:pt x="0" y="907"/>
                    </a:cubicBezTo>
                    <a:lnTo>
                      <a:pt x="511" y="28"/>
                    </a:lnTo>
                    <a:cubicBezTo>
                      <a:pt x="511" y="28"/>
                      <a:pt x="519" y="1"/>
                      <a:pt x="539" y="0"/>
                    </a:cubicBezTo>
                    <a:cubicBezTo>
                      <a:pt x="562" y="0"/>
                      <a:pt x="567" y="28"/>
                      <a:pt x="567" y="28"/>
                    </a:cubicBezTo>
                    <a:lnTo>
                      <a:pt x="1078" y="907"/>
                    </a:lnTo>
                    <a:cubicBezTo>
                      <a:pt x="1078" y="907"/>
                      <a:pt x="1078" y="921"/>
                      <a:pt x="1078" y="935"/>
                    </a:cubicBezTo>
                    <a:cubicBezTo>
                      <a:pt x="1068" y="955"/>
                      <a:pt x="1049" y="963"/>
                      <a:pt x="1049" y="963"/>
                    </a:cubicBezTo>
                    <a:lnTo>
                      <a:pt x="539" y="963"/>
                    </a:lnTo>
                    <a:lnTo>
                      <a:pt x="539" y="935"/>
                    </a:lnTo>
                    <a:lnTo>
                      <a:pt x="1024" y="936"/>
                    </a:lnTo>
                    <a:lnTo>
                      <a:pt x="1044" y="930"/>
                    </a:lnTo>
                    <a:lnTo>
                      <a:pt x="1048" y="918"/>
                    </a:lnTo>
                    <a:lnTo>
                      <a:pt x="1044" y="907"/>
                    </a:lnTo>
                    <a:lnTo>
                      <a:pt x="550" y="49"/>
                    </a:lnTo>
                    <a:cubicBezTo>
                      <a:pt x="550" y="49"/>
                      <a:pt x="547" y="40"/>
                      <a:pt x="538" y="37"/>
                    </a:cubicBezTo>
                    <a:cubicBezTo>
                      <a:pt x="526" y="42"/>
                      <a:pt x="526" y="52"/>
                      <a:pt x="526" y="52"/>
                    </a:cubicBezTo>
                    <a:lnTo>
                      <a:pt x="40" y="900"/>
                    </a:lnTo>
                    <a:lnTo>
                      <a:pt x="34" y="910"/>
                    </a:lnTo>
                    <a:lnTo>
                      <a:pt x="34" y="925"/>
                    </a:lnTo>
                    <a:lnTo>
                      <a:pt x="49" y="9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"/>
            <p:cNvGrpSpPr/>
            <p:nvPr/>
          </p:nvGrpSpPr>
          <p:grpSpPr>
            <a:xfrm>
              <a:off x="642960" y="814320"/>
              <a:ext cx="1050480" cy="843480"/>
              <a:chOff x="642960" y="814320"/>
              <a:chExt cx="1050480" cy="843480"/>
            </a:xfrm>
          </p:grpSpPr>
          <p:sp>
            <p:nvSpPr>
              <p:cNvPr id="1565" name=""/>
              <p:cNvSpPr/>
              <p:nvPr/>
            </p:nvSpPr>
            <p:spPr>
              <a:xfrm>
                <a:off x="876600" y="814320"/>
                <a:ext cx="608400" cy="560520"/>
              </a:xfrm>
              <a:prstGeom prst="donut">
                <a:avLst>
                  <a:gd name="adj" fmla="val 5453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 rot="10800000">
                <a:off x="968400" y="1168200"/>
                <a:ext cx="424440" cy="366120"/>
              </a:xfrm>
              <a:prstGeom prst="blockArc">
                <a:avLst>
                  <a:gd name="adj1" fmla="val 9691480"/>
                  <a:gd name="adj2" fmla="val 1108520"/>
                  <a:gd name="adj3" fmla="val 844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1139040" y="1224000"/>
                <a:ext cx="36360" cy="81720"/>
              </a:xfrm>
              <a:custGeom>
                <a:avLst/>
                <a:gdLst/>
                <a:ahLst/>
                <a:rect l="l" t="t" r="r" b="b"/>
                <a:pathLst>
                  <a:path w="104" h="264">
                    <a:moveTo>
                      <a:pt x="90" y="5"/>
                    </a:moveTo>
                    <a:cubicBezTo>
                      <a:pt x="104" y="10"/>
                      <a:pt x="104" y="198"/>
                      <a:pt x="90" y="231"/>
                    </a:cubicBezTo>
                    <a:cubicBezTo>
                      <a:pt x="76" y="264"/>
                      <a:pt x="10" y="241"/>
                      <a:pt x="5" y="203"/>
                    </a:cubicBezTo>
                    <a:cubicBezTo>
                      <a:pt x="0" y="165"/>
                      <a:pt x="76" y="0"/>
                      <a:pt x="90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flipH="1">
                <a:off x="1186200" y="1225800"/>
                <a:ext cx="36360" cy="81720"/>
              </a:xfrm>
              <a:custGeom>
                <a:avLst/>
                <a:gdLst/>
                <a:ahLst/>
                <a:rect l="l" t="t" r="r" b="b"/>
                <a:pathLst>
                  <a:path w="104" h="264">
                    <a:moveTo>
                      <a:pt x="90" y="5"/>
                    </a:moveTo>
                    <a:cubicBezTo>
                      <a:pt x="104" y="10"/>
                      <a:pt x="104" y="198"/>
                      <a:pt x="90" y="231"/>
                    </a:cubicBezTo>
                    <a:cubicBezTo>
                      <a:pt x="76" y="264"/>
                      <a:pt x="10" y="241"/>
                      <a:pt x="5" y="203"/>
                    </a:cubicBezTo>
                    <a:cubicBezTo>
                      <a:pt x="0" y="165"/>
                      <a:pt x="76" y="0"/>
                      <a:pt x="90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rot="16200000">
                <a:off x="894600" y="967680"/>
                <a:ext cx="423360" cy="367200"/>
              </a:xfrm>
              <a:prstGeom prst="blockArc">
                <a:avLst>
                  <a:gd name="adj1" fmla="val 13926246"/>
                  <a:gd name="adj2" fmla="val 18473754"/>
                  <a:gd name="adj3" fmla="val 6616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flipH="1" rot="5400000">
                <a:off x="1043640" y="967680"/>
                <a:ext cx="423360" cy="367200"/>
              </a:xfrm>
              <a:prstGeom prst="blockArc">
                <a:avLst>
                  <a:gd name="adj1" fmla="val 13926246"/>
                  <a:gd name="adj2" fmla="val 18473754"/>
                  <a:gd name="adj3" fmla="val 6616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rot="10800000">
                <a:off x="1037160" y="1213920"/>
                <a:ext cx="286920" cy="247320"/>
              </a:xfrm>
              <a:prstGeom prst="blockArc">
                <a:avLst>
                  <a:gd name="adj1" fmla="val 10585157"/>
                  <a:gd name="adj2" fmla="val 214843"/>
                  <a:gd name="adj3" fmla="val 12199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rot="20700000">
                <a:off x="992880" y="1112400"/>
                <a:ext cx="149040" cy="123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H="1" rot="900000">
                <a:off x="1209240" y="1111320"/>
                <a:ext cx="149400" cy="123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rot="10800000">
                <a:off x="1106280" y="1260000"/>
                <a:ext cx="149040" cy="149400"/>
              </a:xfrm>
              <a:prstGeom prst="blockArc">
                <a:avLst>
                  <a:gd name="adj1" fmla="val 11249267"/>
                  <a:gd name="adj2" fmla="val 21150733"/>
                  <a:gd name="adj3" fmla="val 8009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5" name=""/>
              <p:cNvGrpSpPr/>
              <p:nvPr/>
            </p:nvGrpSpPr>
            <p:grpSpPr>
              <a:xfrm>
                <a:off x="1354320" y="1096200"/>
                <a:ext cx="339120" cy="288360"/>
                <a:chOff x="1354320" y="1096200"/>
                <a:chExt cx="339120" cy="288360"/>
              </a:xfrm>
            </p:grpSpPr>
            <p:sp>
              <p:nvSpPr>
                <p:cNvPr id="1576" name=""/>
                <p:cNvSpPr/>
                <p:nvPr/>
              </p:nvSpPr>
              <p:spPr>
                <a:xfrm rot="3600000">
                  <a:off x="1427040" y="1169280"/>
                  <a:ext cx="21960" cy="18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 rot="20700000">
                  <a:off x="1485360" y="1111320"/>
                  <a:ext cx="137160" cy="14580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 flipH="1" rot="8100000">
                  <a:off x="1524960" y="1181520"/>
                  <a:ext cx="136800" cy="14616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 rot="3600000">
                  <a:off x="1596600" y="1185840"/>
                  <a:ext cx="33120" cy="219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 rot="3600000">
                  <a:off x="1448280" y="1219320"/>
                  <a:ext cx="21240" cy="208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1" name=""/>
              <p:cNvGrpSpPr/>
              <p:nvPr/>
            </p:nvGrpSpPr>
            <p:grpSpPr>
              <a:xfrm>
                <a:off x="1342080" y="1376280"/>
                <a:ext cx="339480" cy="281520"/>
                <a:chOff x="1342080" y="1376280"/>
                <a:chExt cx="339480" cy="281520"/>
              </a:xfrm>
            </p:grpSpPr>
            <p:sp>
              <p:nvSpPr>
                <p:cNvPr id="1582" name=""/>
                <p:cNvSpPr/>
                <p:nvPr/>
              </p:nvSpPr>
              <p:spPr>
                <a:xfrm flipV="1" rot="18000000">
                  <a:off x="1415160" y="1403280"/>
                  <a:ext cx="21600" cy="18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 flipV="1" rot="900000">
                  <a:off x="1473840" y="1495800"/>
                  <a:ext cx="137160" cy="1465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 flipH="1" flipV="1" rot="13500000">
                  <a:off x="1512360" y="1425600"/>
                  <a:ext cx="136800" cy="1465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 flipV="1" rot="18000000">
                  <a:off x="1585080" y="1545840"/>
                  <a:ext cx="33840" cy="216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 flipV="1" rot="18000000">
                  <a:off x="1440000" y="1336320"/>
                  <a:ext cx="22320" cy="196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7" name=""/>
              <p:cNvGrpSpPr/>
              <p:nvPr/>
            </p:nvGrpSpPr>
            <p:grpSpPr>
              <a:xfrm>
                <a:off x="654480" y="1096200"/>
                <a:ext cx="338760" cy="289800"/>
                <a:chOff x="654480" y="1096200"/>
                <a:chExt cx="338760" cy="289800"/>
              </a:xfrm>
            </p:grpSpPr>
            <p:sp>
              <p:nvSpPr>
                <p:cNvPr id="1588" name=""/>
                <p:cNvSpPr/>
                <p:nvPr/>
              </p:nvSpPr>
              <p:spPr>
                <a:xfrm flipH="1" rot="18000000">
                  <a:off x="898200" y="1169640"/>
                  <a:ext cx="21960" cy="18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 flipH="1" rot="900000">
                  <a:off x="724680" y="1111320"/>
                  <a:ext cx="137160" cy="14616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 rot="13500000">
                  <a:off x="686160" y="1181520"/>
                  <a:ext cx="136800" cy="14616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 flipH="1" rot="18000000">
                  <a:off x="717480" y="1185840"/>
                  <a:ext cx="33120" cy="219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 flipH="1" rot="18000000">
                  <a:off x="877320" y="1219680"/>
                  <a:ext cx="21240" cy="208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3" name=""/>
              <p:cNvGrpSpPr/>
              <p:nvPr/>
            </p:nvGrpSpPr>
            <p:grpSpPr>
              <a:xfrm>
                <a:off x="642960" y="1375920"/>
                <a:ext cx="339480" cy="281880"/>
                <a:chOff x="642960" y="1375920"/>
                <a:chExt cx="339480" cy="281880"/>
              </a:xfrm>
            </p:grpSpPr>
            <p:sp>
              <p:nvSpPr>
                <p:cNvPr id="1594" name=""/>
                <p:cNvSpPr/>
                <p:nvPr/>
              </p:nvSpPr>
              <p:spPr>
                <a:xfrm flipH="1" flipV="1" rot="3600000">
                  <a:off x="887040" y="1403280"/>
                  <a:ext cx="21600" cy="18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 flipH="1" flipV="1" rot="20700000">
                  <a:off x="713160" y="1495800"/>
                  <a:ext cx="137160" cy="1465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 flipV="1" rot="8100000">
                  <a:off x="674640" y="1425600"/>
                  <a:ext cx="136800" cy="146520"/>
                </a:xfrm>
                <a:prstGeom prst="blockArc">
                  <a:avLst>
                    <a:gd name="adj1" fmla="val 9306632"/>
                    <a:gd name="adj2" fmla="val 1493368"/>
                    <a:gd name="adj3" fmla="val 1353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 flipH="1" flipV="1" rot="3600000">
                  <a:off x="704880" y="1545840"/>
                  <a:ext cx="33840" cy="216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 flipH="1" flipV="1" rot="3600000">
                  <a:off x="861840" y="1335960"/>
                  <a:ext cx="22320" cy="196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1:13:58Z</dcterms:created>
  <dc:creator>http://www.digipot.net</dc:creator>
  <dc:description/>
  <dc:language>en-US</dc:language>
  <cp:lastModifiedBy>http://www.digipot.net</cp:lastModifiedBy>
  <dcterms:modified xsi:type="dcterms:W3CDTF">2013-04-02T01:15:56Z</dcterms:modified>
  <cp:revision>1</cp:revision>
  <dc:subject>PPT225_警告マーク</dc:subject>
  <dc:title>PPT225_警告マーク</dc:title>
</cp:coreProperties>
</file>